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42.png" ContentType="image/png"/>
  <Override PartName="/ppt/media/image43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10.png" ContentType="image/png"/>
  <Override PartName="/ppt/media/image27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7FFA-07AE-4CF6-9014-D9FF7CA711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s: Adorable but Threaten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inel Species at Risk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Pollution and Over-fish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Jim Fidde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bury HS &amp; PNWBOCES, Yorktown, N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s: Adorable but Threat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inel Species at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Pollution and Over-f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Jim Fid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bury HS &amp; PNWBOCES, Yorktown, 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Ecology 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gged coastli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shore contou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 collects run-of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Ecology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gged coast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shore cont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 collects run-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lluted Food--eat hearty &amp; die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ellfish concentrate pollutants, which accumulate in otters, &amp; otter milk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urchins eat kelp holdfasts, but also are a cash crop; abalone are expensive--fishermen complain: otters eat bot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chins destroy kelp forest--clear-cut = habitat los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lluted Food--eat hearty &amp; di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ellfish concentrate pollutants, which accumulate in otters, &amp; otter mi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urchins eat kelp holdfasts, but also are a cash crop; abalone are expensive--fishermen complain: otters eat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chins destroy kelp forest--clear-cut = habitat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ers &amp; Diseases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ants weaken immune syste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ylin is a biocide in anti-fouling boat pai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s of DDT &amp; PCB correlate with diseases in ott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ers &amp; Diseas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ants weaken immun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ylin is a biocide in anti-fouling boat pa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s of DDT &amp; PCB correlate with diseases in o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images/seaott99.gi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images/seaott99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: Part of the Proble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 hunters nearly wiped out sea otters; 1911 law stopped sea otter fur trad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-fishing reduces prey fish species in Alaska; Orcas eat ott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 shark population increases, otters now on menu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: Part of 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 hunters nearly wiped out sea otters; 1911 law stopped sea otter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-fishing reduces prey fish species in Alaska; Orcas eat o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 shark population increases, otters now on men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Otter Problems &amp; Peri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injured during mat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tough work, being an otter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: 17 to 38 % foraging - 50 to 68 % rest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chitka Island, AK: 51 to 58 % time foraging - 32 to 34% rest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nfant mortali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,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Otter Problems &amp; Per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injured during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tough work, being an ot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: 17 to 38 % foraging - 50 to 68 % r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chitka Island, AK: 51 to 58 % time foraging - 32 to 34% r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nfant mort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,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Fix This: Ways to Hel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rey Bay Aq.’s orphan otter recovery &amp; rehab progra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feral cats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upport &amp; contribu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Fix This: Ways to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rey Bay Aq.’s orphan otter recovery &amp; rehab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feral ca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upport &amp; con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the-scientist.com/yr2001/feb/research_010219.ht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ails toxoplasmosis &amp; protozoal meningococcus infections from feral cats &amp; opossums--good details &amp; pi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efenders.org/wildlife/new/marine/otters/images/dowil_sea-otter_even-more-final.htm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te animation on otter problems w/links to Defenders of Wildlif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iscovery.com/stories/nature/otters/otters.htm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site w/live cams &amp; recovery program  profiles, sounds &amp; video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books: Sea Otters Wildlife Education, Ltd. 0-937934-70-4 c.199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illus. &amp; photos; detailed text, interesting, inexpensiv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bayaq.org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site w/live otter cam; detailed info, interesting, authoritativ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fso.or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iends of the Sea Otter--pix, history, videos, &amp;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the-scientist.com/yr2001/feb/research_010219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ails toxoplasmosis &amp; protozoal meningococcus infections from feral cats &amp; opossums--good details &amp; p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efenders.org/wildlife/new/marine/otters/images/dowil_sea-otter_even-more-fina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te animation on otter problems w/links to Defenders of Wild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iscovery.com/stories/nature/otters/otter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site w/live cams &amp; recovery program  profiles, sounds &amp; vide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books: Sea Otters Wildlife Education, Ltd. 0-937934-70-4 c.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illus. &amp; photos; detailed text, interesting, inexpens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bayaq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site w/live otter cam; detailed info, interesting, authorit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fso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iends of the Sea Otter--pix, history, videos, &amp;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 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otterproject.or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ful &amp; interesting site, with good links to scientific studies, char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researc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df article &amp; some pix , plus good links, &amp; scientists to ca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arinemammalcenter.org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 &amp; articles on all marine mammals; colorful, easy, searchab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ponse.restoration.noaa.gov/ bat/im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nsive database &amp; analysis of Exxon Valdez oil spill; lots of links, images, charts &amp; graphs; NOAA site is great resource itself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otterprojec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ful &amp; interesting site, with good links to scientific studies, ch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df article &amp; some pix , plus good links, &amp; scientists to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arinemammalcenter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 &amp; articles on all marine mammals; colorful, easy, sear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ponse.restoration.noaa.gov/ bat/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nsive database &amp; analysis of Exxon Valdez oil spill; lots of links, images, charts &amp; graphs; NOAA site is great resource itself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your help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&amp; take care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--the Quiz!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your help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&amp; take c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--the Quiz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ats to Sea Otter Popul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ease : EPM &amp; toxoplasmo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aminants: in water &amp; in pre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vation: hi food ne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tanglement &amp; Entrapment: lines/ne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il Spills: ExValdez 5K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icult Environme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ats to Sea Otter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ease : EPM &amp; toxopla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aminants: in water &amp; in p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vation: hi food n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tanglement &amp; Entrapment: lines/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il Spills: ExValdez 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icult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Screen Quiz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 Name &amp; describe at least three things making sea otters sic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List &amp; describe two ways sea otters keep war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Describe at least two other adaptations of the sea otter that enable it to live successfully in the ocea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What is the sea otter’s role in the ecology of the kelp forest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Three reasons people should concern themselves with the sea otter. (one hint: define “sentinel species”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at feces &amp; litter, possum feces, oil, insecticides, pollutants in food &amp; wa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ir bubbles in fur, fur density, high metabolism &amp; lots of foo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rasping  front claws, 2x lungs, spine &amp; rear feet adapted for swimming, frequent naps, wraps in kelp…et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redator, control urchins to preserve kel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entinel species-”canaries”; preserve important ecosystem; bring in lots of cash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eeking, Now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Screen Quiz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 Name &amp; describe at least three things making sea otters s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List &amp; describe two ways sea otters keep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Describe at least two other adaptations of the sea otter that enable it to live successfully in the oce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What is the sea otter’s role in the ecology of the kelp fore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Three reasons people should concern themselves with the sea otter. (one hint: define “sentinel species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at feces &amp; litter, possum feces, oil, insecticides, pollutants in food &amp;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ir bubbles in fur, fur density, high metabolism &amp; lots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rasping  front claws, 2x lungs, spine &amp; rear feet adapted for swimming, frequent naps, wraps in kelp…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redator, control urchins to preserve k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entinel species-”canaries”; preserve important ecosystem; bring in lots of cas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eeking, Now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ydra lutris; Mustelida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0K Alaska; 1.3K Calif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60 lbs; &gt;20 years; &gt;4’ lo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etabolism: 20% body weight in food daily; 3x huma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nse fur: ~100K/sq in; grooming critical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mi-retractable claws; rear outside toe is long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ngs 2x : other mammal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iskers locate prey, feel vibr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ydra lutris; Mustelid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0K Alaska; 1.3K Cali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60 lbs; &gt;20 years; &gt;4’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etabolism: 20% body weight in food daily; 3x 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nse fur: ~100K/sq in; grooming crit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mi-retractable claws; rear outside toe is lon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ngs 2x : other mamm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iskers locate prey, feel vi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Anatom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s for grasping &amp; swimming; side to side on back, verti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xible spine, longer outer toe; hips hold legs for swimming, more than walk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Anat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s for grasping &amp; swimming; side to side on back, 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xible spine, longer outer toe; hips hold legs for swimming, more than wal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Biology 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: 100 F. hold paws &amp; feet up to conserve hea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flexible spine; can reach all body to groom-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lubber, oils &amp; bubbles in fur insula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ches near back feet to store foo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 user: breaks shells with rock, on sternu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ive to 300’; 4 minut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Biology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: 100 F. hold paws &amp; feet up to conserve he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flexible spine; can reach all body to groom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lubber, oils &amp; bubbles in fur ins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ches near back feet to store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 user: breaks shells with rock, on ster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ive to 300’; 4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lated to weasels &amp; skunk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cial learning: mother teaches pup foraging skills; recognizes unique pup’s ca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yful &amp; intelligent as dog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ft” = group of sea ott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ong jaws &amp; sharp teeth:   canines to break, incisors to scoop meat from shel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quent short naps, feed day &amp; n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lated to weasels &amp; sku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cial learning: mother teaches pup foraging skills; recognizes unique pup’s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yful &amp; intelligent as d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ft” = group of sea o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ong jaws &amp; sharp teeth:   canines to break, incisors to scoop meat from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quent short naps, feed day &amp;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181A-B314-4D29-A09A-BE7F04C8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5807-AB64-4691-8DFF-22B64E30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5106-E8F7-4B13-B456-34E0AB96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D77-D07E-45CA-9687-3CEF1599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5B55-51C3-4C16-B951-69347B36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2867-BAB8-4DB7-B745-92FBEC4B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86C6-5C96-4C9C-BE83-A3C17DDC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6875-FCBF-4AE9-A846-5193CAE2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819F-B720-463A-B8D3-6F4E765A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C1CF-FBC1-4198-8A91-025B1EC7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A053-0CFD-434F-AF11-4FC3362B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6DEB-9250-4646-8D58-79C700D5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909E-CDEE-47EA-839B-787B84298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hyperlink" Target="http://www.the-scientist.com/yr2001/feb/research_010219.html" TargetMode="External"/><Relationship Id="rId3" Type="http://schemas.openxmlformats.org/officeDocument/2006/relationships/hyperlink" Target="http://www.enn.com/news/enn-stories/1999/06/062499/seaotter_3930.asp" TargetMode="External"/><Relationship Id="rId4" Type="http://schemas.openxmlformats.org/officeDocument/2006/relationships/hyperlink" Target="http://www.defenders.org/wildlife/new/marine/otters/images/dowil_sea-otter_even-more-final.html" TargetMode="External"/><Relationship Id="rId5" Type="http://schemas.openxmlformats.org/officeDocument/2006/relationships/hyperlink" Target="http://www.discovery.com/stories/nature/otters/otters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2880" y="609480"/>
            <a:ext cx="3810240" cy="3200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Sea Otters: Adorable but Threate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78168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entinel Species at Risk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ue to Pollution and Over-fi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3962520" cy="30812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51" name="Text Box 5"/>
          <p:cNvSpPr/>
          <p:nvPr/>
        </p:nvSpPr>
        <p:spPr>
          <a:xfrm>
            <a:off x="1143000" y="5562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y Jim Fidde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nbury HS &amp; PNWBOCES, Yorktown, N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27432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3429000" cy="318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5257800" y="914400"/>
            <a:ext cx="3500280" cy="53341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990720" y="1752480"/>
            <a:ext cx="283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gged coast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ep shore contou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y collects run-of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olluted Food--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at hearty &amp; di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038120" y="129492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llfish concentrate pollutants, which accumulate in otters, &amp; otter mi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a urchins eat kelp holdfasts, but also are a cash crop; abalone are expensive--fishermen complain: otters eat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rchins destroy kelp forest--clear-cut = habitat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200400" cy="23968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3200400" cy="2600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609588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tters &amp; Diseases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95680" y="990360"/>
            <a:ext cx="4267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lutants weaken immun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tylin is a biocide in anti-fouling boat p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ntrations of DDT &amp; PCB correlate with diseases in o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657600" cy="314352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71785" dir="2700000" blurRad="0" rotWithShape="0">
              <a:srgbClr val="ff6600"/>
            </a:outerShdw>
          </a:effectLst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457200" y="3276720"/>
            <a:ext cx="4114800" cy="329220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4191120" cy="297972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110" name="Picture 11" descr=""/>
          <p:cNvPicPr/>
          <p:nvPr/>
        </p:nvPicPr>
        <p:blipFill>
          <a:blip r:embed="rId4"/>
          <a:stretch/>
        </p:blipFill>
        <p:spPr>
          <a:xfrm>
            <a:off x="5410080" y="4267080"/>
            <a:ext cx="2590920" cy="210024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115400" cy="54943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113" name="Text Box 4"/>
          <p:cNvSpPr/>
          <p:nvPr/>
        </p:nvSpPr>
        <p:spPr>
          <a:xfrm>
            <a:off x="2036880" y="59850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nwhc.usgs.gov/images/seaott99.gi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609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redators: Part of 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14800" y="1295280"/>
            <a:ext cx="4648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r hunters nearly wiped out sea otters; 1911 law stopped sea otter fur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-fishing reduces prey fish species in Alaska; Orcas eat o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ifornia shark population increases, otters now on men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shark-teeth-CBU2"/>
          <p:cNvPicPr/>
          <p:nvPr/>
        </p:nvPicPr>
        <p:blipFill>
          <a:blip r:embed="rId1"/>
          <a:stretch/>
        </p:blipFill>
        <p:spPr>
          <a:xfrm>
            <a:off x="914400" y="1463760"/>
            <a:ext cx="2895480" cy="231624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3124080" cy="202104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ther Otter Problems &amp; Per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1640" y="114264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male injured during m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3647880" cy="2438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25751" dir="2700000" blurRad="0" rotWithShape="0">
              <a:srgbClr val="ff6600"/>
            </a:outerShdw>
          </a:effectLst>
        </p:spPr>
      </p:pic>
      <p:sp>
        <p:nvSpPr>
          <p:cNvPr id="123" name="Rectangle 6"/>
          <p:cNvSpPr/>
          <p:nvPr/>
        </p:nvSpPr>
        <p:spPr>
          <a:xfrm>
            <a:off x="4572000" y="2133720"/>
            <a:ext cx="3962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’s tough work, being an otter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fornia: 17 to 38 % foraging - 50 to 68 % rest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chitka Island, AK: 51 to 58 % time foraging - 32 to 34% rest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572000" y="441972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infant morta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80880" y="4800600"/>
            <a:ext cx="381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her, 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3429000" cy="24004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pic>
        <p:nvPicPr>
          <p:cNvPr id="127" name="Picture 10" descr=""/>
          <p:cNvPicPr/>
          <p:nvPr/>
        </p:nvPicPr>
        <p:blipFill>
          <a:blip r:embed="rId3"/>
          <a:stretch/>
        </p:blipFill>
        <p:spPr>
          <a:xfrm>
            <a:off x="6400800" y="4983120"/>
            <a:ext cx="2057400" cy="1646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e Can Fix This: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Ways to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1640" y="9140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nterey Bay Aq.’s orphan otter recovery &amp; rehab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wer feral cat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lic support &amp; con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648240" cy="2438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3114720" cy="2438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228600" y="4648320"/>
            <a:ext cx="2514600" cy="1981080"/>
          </a:xfrm>
          <a:prstGeom prst="rect">
            <a:avLst/>
          </a:prstGeom>
          <a:ln w="3816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4" name="Picture 8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3276720" cy="19810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5" name="Picture 9" descr=""/>
          <p:cNvPicPr/>
          <p:nvPr/>
        </p:nvPicPr>
        <p:blipFill>
          <a:blip r:embed="rId5"/>
          <a:stretch/>
        </p:blipFill>
        <p:spPr>
          <a:xfrm>
            <a:off x="2819520" y="4572000"/>
            <a:ext cx="2909880" cy="20145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71785" dir="2700000" blurRad="0" rotWithShape="0">
              <a:srgbClr val="ff6600"/>
            </a:outerShdw>
          </a:effectLst>
        </p:spPr>
      </p:pic>
      <p:pic>
        <p:nvPicPr>
          <p:cNvPr id="136" name="Picture 10" descr=""/>
          <p:cNvPicPr/>
          <p:nvPr/>
        </p:nvPicPr>
        <p:blipFill>
          <a:blip r:embed="rId6"/>
          <a:stretch/>
        </p:blipFill>
        <p:spPr>
          <a:xfrm>
            <a:off x="2590920" y="2971800"/>
            <a:ext cx="1904760" cy="21430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7" name="Picture 11" descr=""/>
          <p:cNvPicPr/>
          <p:nvPr/>
        </p:nvPicPr>
        <p:blipFill>
          <a:blip r:embed="rId7"/>
          <a:stretch/>
        </p:blipFill>
        <p:spPr>
          <a:xfrm>
            <a:off x="5410080" y="3886200"/>
            <a:ext cx="2467080" cy="1708200"/>
          </a:xfrm>
          <a:prstGeom prst="rect">
            <a:avLst/>
          </a:prstGeom>
          <a:ln w="936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8" name="Picture 12" descr=""/>
          <p:cNvPicPr/>
          <p:nvPr/>
        </p:nvPicPr>
        <p:blipFill>
          <a:blip r:embed="rId8"/>
          <a:stretch/>
        </p:blipFill>
        <p:spPr>
          <a:xfrm>
            <a:off x="5943600" y="3848040"/>
            <a:ext cx="2847960" cy="30099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0" descr=""/>
          <p:cNvPicPr/>
          <p:nvPr/>
        </p:nvPicPr>
        <p:blipFill>
          <a:blip r:embed="rId1">
            <a:lum bright="70000" contrast="-70000"/>
          </a:blip>
          <a:srcRect l="0" t="0" r="17713" b="0"/>
          <a:stretch/>
        </p:blipFill>
        <p:spPr>
          <a:xfrm>
            <a:off x="3124080" y="1568520"/>
            <a:ext cx="6019920" cy="4964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a Otters Threatened”--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nnotated Works C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685800" y="990720"/>
            <a:ext cx="7010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www.the-scientist.com/yr2001/feb/research_010219.ht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914400" y="1371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ails toxoplasmosis &amp; protozoal meningococcus infections from feral cats &amp; opossums--good details &amp; pi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89680" y="1995480"/>
            <a:ext cx="8011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www.enn.com/news/enn-stories/1999/06/062499/seaotter_3930.as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898560" y="2362320"/>
            <a:ext cx="69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609480" y="2757600"/>
            <a:ext cx="7788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http://www.defenders.org/wildlife/new/marine/otters/images/dowil_sea-otter_even-more-final.htm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883080" y="3443400"/>
            <a:ext cx="74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te animation on otter problems w/links to Defenders of Wildlif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5080" y="3747960"/>
            <a:ext cx="6557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http://www.discovery.com/stories/nature/otters/otters.htm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898200" y="4052880"/>
            <a:ext cx="77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od site w/live cams &amp; recovery program  profiles, sounds &amp; vide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650520" y="4357800"/>
            <a:ext cx="74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Zoobooks: Sea Otter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Wildlife Education, Ltd. 0-937934-70-4 c.199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973080" y="4730760"/>
            <a:ext cx="78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ellent illus. &amp; photos; detailed text, interesting, inexpensiv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680760" y="5029200"/>
            <a:ext cx="2859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ttp://www.mbayaq.or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896760" y="5410080"/>
            <a:ext cx="786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ellent site w/live otter cam; detailed info, interesting, authoritativ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668160" y="5805360"/>
            <a:ext cx="1543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fso.or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2121120" y="5851440"/>
            <a:ext cx="55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iends of the Sea Otter--pix, history, videos, &amp;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7" descr=""/>
          <p:cNvPicPr/>
          <p:nvPr/>
        </p:nvPicPr>
        <p:blipFill>
          <a:blip r:embed="rId1">
            <a:lum bright="70000" contrast="-70000"/>
          </a:blip>
          <a:srcRect l="0" t="0" r="13252" b="0"/>
          <a:stretch/>
        </p:blipFill>
        <p:spPr>
          <a:xfrm>
            <a:off x="3429000" y="2362320"/>
            <a:ext cx="5486400" cy="42940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38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a Otters Threatened”--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nnotated Works Cited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85800" y="990720"/>
            <a:ext cx="7010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otterproject.or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914400" y="1295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orful &amp; interesting site, with good links to scientific studies, char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5800" y="1600200"/>
            <a:ext cx="815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898560" y="1981080"/>
            <a:ext cx="69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690120" y="2259000"/>
            <a:ext cx="4041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nwhc.usgs.gov/researc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899640" y="2590920"/>
            <a:ext cx="66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df article &amp; some pix , plus good links, &amp; scientists to cal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678600" y="289548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marinemammalcenter.org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899640" y="3276720"/>
            <a:ext cx="75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ks &amp; articles on all marine mammals; colorful, easy, searchabl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674640" y="3581280"/>
            <a:ext cx="47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ponse.restoration.noaa.gov/ bat/imag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914400" y="38862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ensive database &amp; analysis of Exxon Valdez oil spill; lots of links, images, charts &amp; graphs; NOAA site is great resource itself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61722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e need your help!!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ank you &amp; take ca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otters"/>
          <p:cNvPicPr/>
          <p:nvPr/>
        </p:nvPicPr>
        <p:blipFill>
          <a:blip r:embed="rId1"/>
          <a:stretch/>
        </p:blipFill>
        <p:spPr>
          <a:xfrm>
            <a:off x="914400" y="1981080"/>
            <a:ext cx="7639200" cy="480060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71785" dir="2700000" blurRad="0" rotWithShape="0">
              <a:srgbClr val="ff6600"/>
            </a:outerShdw>
          </a:effectLst>
        </p:spPr>
      </p:pic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1219320" y="304920"/>
            <a:ext cx="1344600" cy="14475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73" name="Text Box 5"/>
          <p:cNvSpPr/>
          <p:nvPr/>
        </p:nvSpPr>
        <p:spPr>
          <a:xfrm>
            <a:off x="4419720" y="2286000"/>
            <a:ext cx="3581280" cy="581400"/>
          </a:xfrm>
          <a:prstGeom prst="rect">
            <a:avLst/>
          </a:prstGeom>
          <a:solidFill>
            <a:srgbClr val="cc0099"/>
          </a:solidFill>
          <a:ln w="57240">
            <a:solidFill>
              <a:srgbClr val="000000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w--the Quiz!!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reats to Sea Otter Pop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21932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ease : EPM &amp; toxoplasm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aminants: in water &amp; in pr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rvation: hi food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anglement &amp; Entrapment: lines/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il Spills: ExValdez 5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fficult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30" descr=""/>
          <p:cNvPicPr/>
          <p:nvPr/>
        </p:nvPicPr>
        <p:blipFill>
          <a:blip r:embed="rId1"/>
          <a:stretch/>
        </p:blipFill>
        <p:spPr>
          <a:xfrm>
            <a:off x="1447920" y="2895480"/>
            <a:ext cx="3047760" cy="2286000"/>
          </a:xfrm>
          <a:prstGeom prst="rect">
            <a:avLst/>
          </a:prstGeom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56" name="Picture 1031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2971800" cy="2113200"/>
          </a:xfrm>
          <a:prstGeom prst="rect">
            <a:avLst/>
          </a:prstGeom>
          <a:ln w="1908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57" name="Picture 1033" descr=""/>
          <p:cNvPicPr/>
          <p:nvPr/>
        </p:nvPicPr>
        <p:blipFill>
          <a:blip r:embed="rId3"/>
          <a:stretch/>
        </p:blipFill>
        <p:spPr>
          <a:xfrm>
            <a:off x="304920" y="4876920"/>
            <a:ext cx="3333600" cy="16668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914400" y="457200"/>
            <a:ext cx="49528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a Otter Screen Quiz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6477120" y="304920"/>
            <a:ext cx="2438280" cy="2041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685800" y="1066680"/>
            <a:ext cx="53341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Name &amp; describe at least three things making sea otters sic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List &amp; describe two ways sea otters keep war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Describe at least two other adaptations of the sea otter that enable it to live successfully in the ocea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What is the sea otter’s role in the ecology of the kelp fores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Three reasons people should concern themselves with the sea otter. (one hint: define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tinel spec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6172200" y="3048120"/>
            <a:ext cx="2590920" cy="3030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1. Cat feces &amp; litter, possum feces, oil, insecticides, pollutants in food &amp; wa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2. Air bubbles in fur, fur density, high metabolism &amp; lots of foo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3. Grasping  front claws, 2x lungs, spine &amp; rear feet adapted for swimming, frequent naps, wraps in kelp…et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4. Predator, control urchins to preserve kel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5. Sentinel species-”canaries”; preserve important ecosystem; bring in lots of cash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095880" y="2438280"/>
            <a:ext cx="2819520" cy="45972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Peeking, Now!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57600" y="228600"/>
            <a:ext cx="4572000" cy="38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B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81280" y="68580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nhydra lutris; Mustelid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K Alaska; 1.3K Cali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60 lbs; &gt;20 years; &gt;4’ 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metabolism: 20% body weight in food daily; 3x hu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nse fur: ~100K/sq in; grooming crit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i-retractable claws; rear outside toe is long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ngs 2x : other mamm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skers locate prey, feel vib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30" descr=""/>
          <p:cNvPicPr/>
          <p:nvPr/>
        </p:nvPicPr>
        <p:blipFill>
          <a:blip r:embed="rId1"/>
          <a:stretch/>
        </p:blipFill>
        <p:spPr>
          <a:xfrm>
            <a:off x="380880" y="581040"/>
            <a:ext cx="3124440" cy="26193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pic>
        <p:nvPicPr>
          <p:cNvPr id="62" name="Picture 1033" descr=""/>
          <p:cNvPicPr/>
          <p:nvPr/>
        </p:nvPicPr>
        <p:blipFill>
          <a:blip r:embed="rId2"/>
          <a:stretch/>
        </p:blipFill>
        <p:spPr>
          <a:xfrm>
            <a:off x="380880" y="3581280"/>
            <a:ext cx="3162600" cy="236232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240080" cy="472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3895560" cy="5334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624852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Anat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422440" y="1143000"/>
            <a:ext cx="428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cles for grasping &amp; swimming; side to side on back, vertic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le spine, longer outer toe; hips hold legs for swimming, more than walk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7600" y="380880"/>
            <a:ext cx="495288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Biology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9520" y="990360"/>
            <a:ext cx="4953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dy temp: 100 F. hold paws &amp; feet up to conserve he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tremely flexible spine; can reach all body to groom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blubber, oils &amp; bubbles in fur insu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uches near back feet to store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ol user: breaks shells with rock, on stern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dive to 300’; 4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2971800" cy="17290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2" name="Picture 9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2790720" cy="23338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3" name="Picture 10" descr=""/>
          <p:cNvPicPr/>
          <p:nvPr/>
        </p:nvPicPr>
        <p:blipFill>
          <a:blip r:embed="rId3"/>
          <a:stretch/>
        </p:blipFill>
        <p:spPr>
          <a:xfrm>
            <a:off x="533520" y="4419720"/>
            <a:ext cx="2790720" cy="22096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57600" y="380880"/>
            <a:ext cx="495288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Biology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9520" y="990360"/>
            <a:ext cx="4953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ed to weasels &amp; sku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cial learning: mother teaches pup foraging skills; recognizes unique pup’s 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yful &amp; intelligent as d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ft” = group of sea o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029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3124440" cy="2076480"/>
          </a:xfrm>
          <a:prstGeom prst="rect">
            <a:avLst/>
          </a:prstGeom>
          <a:ln w="936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8" name="Picture 1030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3048120" cy="2632320"/>
          </a:xfrm>
          <a:prstGeom prst="rect">
            <a:avLst/>
          </a:prstGeom>
          <a:ln w="1908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9" name="Picture 1031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2667240" cy="262872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80" name="Rectangle 1033"/>
          <p:cNvSpPr/>
          <p:nvPr/>
        </p:nvSpPr>
        <p:spPr>
          <a:xfrm>
            <a:off x="3809880" y="3886200"/>
            <a:ext cx="4953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ong jaws &amp; sharp teeth:   canines to break, incisors to scoop meat from shel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equent short naps, feed day &amp; nigh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324240" y="304920"/>
            <a:ext cx="5457960" cy="5943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2590920" cy="2210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380880" y="2362320"/>
            <a:ext cx="2863800" cy="35049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3100320" y="380880"/>
            <a:ext cx="5605560" cy="6153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27432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2739960" cy="33526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27432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191120" y="304920"/>
            <a:ext cx="4647960" cy="3184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228600" y="3476520"/>
            <a:ext cx="5486400" cy="2981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6095880" y="3581280"/>
            <a:ext cx="2914920" cy="27082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8T16:51:36Z</dcterms:created>
  <dc:creator>Technology Services</dc:creator>
  <dc:description/>
  <dc:language>en-US</dc:language>
  <cp:lastModifiedBy>LEGION2</cp:lastModifiedBy>
  <dcterms:modified xsi:type="dcterms:W3CDTF">2016-01-13T10:06:24Z</dcterms:modified>
  <cp:revision>69</cp:revision>
  <dc:subject/>
  <dc:title>Sea Otters: Adorable but Threatened</dc:title>
</cp:coreProperties>
</file>