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png" ContentType="image/pn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499EA-8534-4260-AD07-3192CE8C9A2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es of Angi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yledonae (Mono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Very few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lies, grasses, cattails, palms, yuccas, orchids, iri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yledonae (Dico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primative, 1/6 are annu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most all kinds of trees and shru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napdragons, mints, peas, sunflow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no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cot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omes the fr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ve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up of stigma, style and anthers in a tuli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ary P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ue- green alg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synth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he marked increase in Oxygen 2000 m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anobacteria Evid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shows the first green plants evolved from prokaryotes between 2500 and 1000 million year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chlorophyll in algae and land plant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ification of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ingdom - Plant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vision (-phyt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ass (-ops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bclass (-id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der (-a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mily (-acea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enu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es (Genus + specific epithe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 grandifl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tae--includes all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hyta--flowering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opsida--dic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idae--subclass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les--order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ceae--family for Magnolia-like pl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olia--genus that includes all Magnoli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andiflora--specific epith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scription of F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 condition is added at each step to set up a category that is MOST speci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gs with wheels = buses, cars, bicycles, skates, airplanes, trains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is ground transport = buses, cars, bicycle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carry more than one person = buses, cars,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runs on rails = trai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sdl.tamu.edu/FLORA/tfplab/lab1a.htm#taxono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ur major line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n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ck xylem &amp; phloem &amp;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ess vascula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ave xylem &amp; phloem, lack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ymnosp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have seeds, but not en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giosp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enclosed s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ess 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vascul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ymn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io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7FB5-2C4B-48DA-9F14-2EDD1310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FB92-6A3C-4BC5-BFC8-D1A81BD1E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A7B0-AE9B-4003-AA78-2A55F572C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4087-35DC-44CD-8D19-2F7F8744A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1D12A-7FD9-4AD8-BC26-2AAC83032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484E-0800-4794-9B04-91DEA5A4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B0EA5-3675-45E0-AEB0-E282E483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D6E8-F96F-4378-90BB-87DA84C3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1129B-1B5B-46F9-A1F4-D0060D0A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81C00-F72F-46D1-8FBA-050337F2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D617-4783-46C9-8B6D-EB01552D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51CE-6469-4432-ACE0-A66DC1787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63095-A54F-4383-96B4-76B6B3A1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BB5B4-3533-4C23-98EC-12C78A997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D8B3B-1CBA-41EE-AF35-B937D6E62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21E8-D932-41FB-ACFC-6B0A9D32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B7FF-C58D-480F-A5CC-01A461DF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A619-4E89-456C-9132-D427D314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CCA8-4E4C-4277-894A-18ACE592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500-658E-41FD-ABC3-F8F549F22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9985-83F8-4558-93E4-B3CAF6675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4D16-92FD-4E1A-8FD7-337D156A1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8206-D36A-44E8-BF77-66ABF69D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188E-CB30-4029-A90E-16B614FE7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1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79FCC-E3E0-4030-9220-8A17FBBADFC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75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71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3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Rectangle 4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" name="Rectangle 5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" name="Rectangle 6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Rectangle 7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Rectangle 8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2" name="Rectangle 9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Rectangle 11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Rectangle 12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6" name="Rectangle 13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7" name="Rectangle 14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8" name="Rectangle 15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9" name="Rectangle 16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0" name="Rectangle 17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1" name="Rectangle 18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2" name="Rectangle 19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3" name="Rectangle 20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4" name="Rectangle 21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5" name="Rectangle 22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6" name="Rectangle 23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7" name="Rectangle 24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8" name="Rectangle 25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9" name="Rectangle 26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0" name="Rectangle 27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1" name="Rectangle 28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2" name="Rectangle 29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3" name="Rectangle 30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4" name="Rectangle 31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5" name="Rectangle 32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6" name="Rectangle 33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7" name="Rectangle 34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8" name="Rectangle 35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39" name="Rectangle 36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0" name="Rectangle 37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1" name="Rectangle 38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2" name="Rectangle 39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3" name="Rectangle 40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4" name="Rectangle 41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5" name="Rectangle 42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6" name="Rectangle 43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7" name="Rectangle 44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8" name="Rectangle 45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Rectangle 46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0" name="Rectangle 47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1" name="Rectangle 48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2" name="Rectangle 49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3" name="Rectangle 50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4" name="Rectangle 51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5" name="Rectangle 52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6" name="Rectangle 53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7" name="Rectangle 54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Rectangle 55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9" name="Rectangle 56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0" name="Rectangle 57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1" name="Rectangle 58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2" name="Rectangle 59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Rectangle 60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4" name="Rectangle 61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5" name="Rectangle 62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6" name="Rectangle 63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7" name="Rectangle 64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8" name="Rectangle 65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B10C7-E207-4ABB-996B-5B7E614D0A5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rXh22REsA8AgxtXNyoA;_ylu=X3oDMTBqcDRrdjU5BGNvbG8DdwRzZWMDc2MEdnRpZAM-/SIG=1lkosj560/EXP=1147546977/**http%3A//images.search.yahoo.com/search/images/view%3Fback=http%253A%252F%252Fsearch.yahoo.com%252Fsearch%253Fei%253DUTF-8%2526p%253Dlichen%252Bimage%26h=467%26w=547%26imgcurl=botit.botany.wisc.edu%252Fimages%252F332%252FLichens%252FFoliose_lichen_130_d.gif%26imgurl=botit.botany.wisc.edu%252Fimages%252F332%252FLichens%252FFoliose_lichen_130_d.gif%26size=262.0kB%26name=Foliose_lichen_130_d.gif%26rcurl=http%253A%252F%252Fbotit.botany.wisc.edu%252Fimages%252F332%252FLichens%252FFoliose_lichen_130_d.html%26rurl=http%253A%252F%252Fbotit.botany.wisc.edu%252Fimages%252F332%252FLichens%252FFoliose_lichen_130_d.html%26p=lichen%26type=gif%26no=2%26tt=55%252C615%26fr=slv1-adbe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ds.yahoo.com/_ylt=A0Je5VGF32RE0RoB25BXNyoA;_ylu=X3oDMTBqcDRrdjU5BGNvbG8DdwRzZWMDc2MEdnRpZAM-/SIG=1lep58bm6/EXP=1147547909/**http%3A//images.search.yahoo.com/search/images/view%3Fback=http%253A%252F%252Fsearch.yahoo.com%252Fsearch%253Fei%253DUTF-8%2526p%253Deukaryotic%252Bfossil%252Bimage%26h=318%26w=600%26imgcurl=athene.as.arizona.edu%252F%257Elclose%252Fteaching%252Fa202%252Fmicrofossils.jpg%26imgurl=athene.as.arizona.edu%252F%257Elclose%252Fteaching%252Fa202%252Fmicrofossils.jpg%26size=48.2kB%26name=microfossils.jpg%26rcurl=http%253A%252F%252Fathene.as.arizona.edu%252F%257Elclose%252Fteaching%252Fa202%252Flect9.html%26rurl=http%253A%252F%252Fathene.as.arizona.edu%252F%257Elclose%252Fteaching%252Fa202%252Flect9.html%26p=eukaryotic%2Bfossil%26type=jpeg%26no=3%26tt=16%26fr=slv1-adbe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rds.yahoo.com/_ylt=A0Je5VGF32RE0RoB2pBXNyoA;_ylu=X3oDMTBqcDRrdjU5BGNvbG8DdwRzZWMDc2MEdnRpZAM-/SIG=1igihduo9/EXP=1147547909/**http%3A//images.search.yahoo.com/search/images/view%3Fback=http%253A%252F%252Fsearch.yahoo.com%252Fsearch%253Fei%253DUTF-8%2526p%253Deukaryotic%252Bfossil%252Bimage%26h=1670%26w=1792%26imgcurl=trc.ucdavis.edu%252Fdjbegun%252FfossilEucarya.jpg%26imgurl=trc.ucdavis.edu%252Fdjbegun%252FfossilEucarya.jpg%26size=516.6kB%26name=fossilEucarya.jpg%26rcurl=http%253A%252F%252Ftrc.ucdavis.edu%252Fdjbegun%252FLect_paleo%2526homo.html%26rurl=http%253A%252F%252Ftrc.ucdavis.edu%252Fdjbegun%252FLect_paleo%2526homo.html%26p=eukaryotic%2Bfossil%26type=jpeg%26no=2%26tt=16%26fr=slv1-adbe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ick5.pick.uga.edu/mp/20p?see=I_JP1824&amp;res=640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botany.cs.tamu.edu/FLORA/dcs420/fa01/fa01004.jpg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images.google.com/imgres?imgurl=http://www.visualparadox.com/images/no_linking_allowed/strawberry1600.jpg&amp;imgrefurl=http://www.visualparadox.com/wallpapers/strawberry1600.htm&amp;h=1200&amp;w=1600&amp;sz=144&amp;tbnid=sbWGjy5MU9VJoM:&amp;tbnh=112&amp;tbnw=150&amp;hl=en&amp;ei=t6ZqRLKhAbT8JKeH9cAJ&amp;sig2=Zx7LJYJgqgtUuzLtAr6ZpA&amp;start=415&amp;prev=/images%3Fq%3Dseeds%2Bfruit%2Bimage%26start%3D400%26svnum%3D10%26hl%3Den%26lr%3D%26rls%3DGGLG,GGLG:2005-42,GGLG:en%26sa%3DN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images.google.com/imgres?imgurl=http://www.hiltonpond.org/images/SycamoreFruit01.jpg&amp;imgrefurl=http://www.hiltonpond.org/ThisWeek001208.html&amp;h=178&amp;w=170&amp;sz=4&amp;tbnid=qDZSf7RkDhRDOM:&amp;tbnh=95&amp;tbnw=90&amp;hl=en&amp;ei=XKZqRLmgMK_UJPGgkfcJ&amp;sig2=3vK3tTHjT-Vx7-1LNmNwRA&amp;start=398&amp;prev=/images%3Fq%3Dseeds%2Bfruit%2Bimage%26start%3D380%26svnum%3D10%26hl%3Den%26lr%3D%26rls%3DGGLG,GGLG:2005-42,GGLG:en%26sa%3DN" TargetMode="External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hyperlink" Target="http://images.google.com/imgres?imgurl=http://ludlow.dns2go.com/cribbage/desktops/dsk_apple_blossum.jpg&amp;imgrefurl=http://ludlow.dns2go.com/cribbage/desktops/dsk_photos.html&amp;h=1024&amp;w=1280&amp;sz=341&amp;tbnid=U_qa4xmSlQpGgM:&amp;tbnh=120&amp;tbnw=150&amp;hl=en&amp;ei=DaBqRISNDJLOJJPSmPAJ&amp;sig2=SdxMMiO9bB90oT6tmPxj0A&amp;start=3&amp;prev=/images%3Fq%3Dapple%2Btree%2Bblossoms%2Bimage%26svnum%3D10%26hl%3Den%26lr%3D%26rls%3DGGLG,GGLG:2005-42,GGLG:en" TargetMode="External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hyperlink" Target="http://images.google.com/imgres?imgurl=http://jhphotos.stevenhasty.com/photos/K_Iki/08%2520Kilauea%2520Iki%252006%2520Fern%252020020930%2520(9).jpg&amp;imgrefurl=http://jhphotos.stevenhasty.com/photos/K_Iki/&amp;h=536&amp;w=800&amp;sz=23&amp;tbnid=Lux8oorXoC17tM:&amp;tbnh=95&amp;tbnw=142&amp;hl=en&amp;ei=c59qRLiTOK7aJN7h_PwJ&amp;sig2=qWPLsyVTVz8sLwaDF4Jm_Q&amp;start=10&amp;prev=/images%3Fq%3Dfern%2Bimage%26svnum%3D10%26hl%3Den%26lr%3D%26rls%3DGGLG,GGLG:2005-42,GGLG:en" TargetMode="External"/><Relationship Id="rId12" Type="http://schemas.openxmlformats.org/officeDocument/2006/relationships/image" Target="../media/image14.jpeg"/><Relationship Id="rId13" Type="http://schemas.openxmlformats.org/officeDocument/2006/relationships/hyperlink" Target="http://images.google.com/imgres?imgurl=http://www.hkflora.com/v2/gymnosperm/images/Keteleeria_fortunei.jpg&amp;imgrefurl=http://www.hkflora.com/v2/gymnosperm/what_are_gymnosperms.htm&amp;h=150&amp;w=225&amp;sz=28&amp;tbnid=i8E7L2CXIavy0M:&amp;tbnh=68&amp;tbnw=102&amp;hl=en&amp;ei=EJ9qRIWmEZHWJIXMnPkJ&amp;sig2=hzBVj8OI7osnUWKQ2dr5Rw&amp;start=15&amp;prev=/images%3Fq%3Dgymnosperm%2Bimage%26svnum%3D10%26hl%3Den%26lr%3D%26rls%3DGGLG,GGLG:2005-42,GGLG:en%26sa%3DX" TargetMode="External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slideLayout" Target="../slideLayouts/slideLayout1.xml"/><Relationship Id="rId2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18" name="Picture 4" descr="Interior Plant - Kentia Ivy - Indoor Plant"/>
          <p:cNvPicPr/>
          <p:nvPr/>
        </p:nvPicPr>
        <p:blipFill>
          <a:blip r:embed="rId1"/>
          <a:stretch/>
        </p:blipFill>
        <p:spPr>
          <a:xfrm>
            <a:off x="3352680" y="1905120"/>
            <a:ext cx="3614760" cy="434340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Non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4" name="Picture 9" descr="moss_life_cycle"/>
          <p:cNvPicPr/>
          <p:nvPr/>
        </p:nvPicPr>
        <p:blipFill>
          <a:blip r:embed="rId1"/>
          <a:stretch/>
        </p:blipFill>
        <p:spPr>
          <a:xfrm>
            <a:off x="1219320" y="1905120"/>
            <a:ext cx="6781680" cy="4724280"/>
          </a:xfrm>
          <a:prstGeom prst="rect">
            <a:avLst/>
          </a:prstGeom>
          <a:ln w="0">
            <a:noFill/>
          </a:ln>
        </p:spPr>
      </p:pic>
      <p:sp>
        <p:nvSpPr>
          <p:cNvPr id="275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Seedless vascular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8" name="Picture 5" descr="test"/>
          <p:cNvPicPr/>
          <p:nvPr/>
        </p:nvPicPr>
        <p:blipFill>
          <a:blip r:embed="rId1"/>
          <a:stretch/>
        </p:blipFill>
        <p:spPr>
          <a:xfrm>
            <a:off x="914400" y="1905120"/>
            <a:ext cx="7315200" cy="4419360"/>
          </a:xfrm>
          <a:prstGeom prst="rect">
            <a:avLst/>
          </a:prstGeom>
          <a:ln w="0">
            <a:noFill/>
          </a:ln>
        </p:spPr>
      </p:pic>
      <p:sp>
        <p:nvSpPr>
          <p:cNvPr id="27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Gymn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2" name="Picture 5" descr="gymnospermlifecycle"/>
          <p:cNvPicPr/>
          <p:nvPr/>
        </p:nvPicPr>
        <p:blipFill>
          <a:blip r:embed="rId1"/>
          <a:stretch/>
        </p:blipFill>
        <p:spPr>
          <a:xfrm>
            <a:off x="1143000" y="1905120"/>
            <a:ext cx="7315200" cy="458136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Angiosperm lifecycl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6" name="Picture 5" descr="angiospermlifecycle"/>
          <p:cNvPicPr/>
          <p:nvPr/>
        </p:nvPicPr>
        <p:blipFill>
          <a:blip r:embed="rId1"/>
          <a:stretch/>
        </p:blipFill>
        <p:spPr>
          <a:xfrm>
            <a:off x="1219320" y="1828800"/>
            <a:ext cx="6933960" cy="4648320"/>
          </a:xfrm>
          <a:prstGeom prst="rect">
            <a:avLst/>
          </a:prstGeom>
          <a:ln w="0">
            <a:noFill/>
          </a:ln>
        </p:spPr>
      </p:pic>
      <p:sp>
        <p:nvSpPr>
          <p:cNvPr id="287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es of Angiosperm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ocotyledonae (Mono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few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ilies, grasses, cattails, palms, yuccas, orchids, iri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cotyledonae (Dicots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primative, 1/6 are annu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most all kinds of trees and shrub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napdragons, mints, peas, sunflow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Mono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" name="Picture 5" descr="monocots_1"/>
          <p:cNvPicPr/>
          <p:nvPr/>
        </p:nvPicPr>
        <p:blipFill>
          <a:blip r:embed="rId1"/>
          <a:stretch/>
        </p:blipFill>
        <p:spPr>
          <a:xfrm>
            <a:off x="685800" y="1905120"/>
            <a:ext cx="7391520" cy="3962160"/>
          </a:xfrm>
          <a:prstGeom prst="rect">
            <a:avLst/>
          </a:prstGeom>
          <a:ln w="0">
            <a:noFill/>
          </a:ln>
        </p:spPr>
      </p:pic>
      <p:sp>
        <p:nvSpPr>
          <p:cNvPr id="29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Dicot characteristic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7" name="Picture 5" descr="DICOTS"/>
          <p:cNvPicPr/>
          <p:nvPr/>
        </p:nvPicPr>
        <p:blipFill>
          <a:blip r:embed="rId1"/>
          <a:stretch/>
        </p:blipFill>
        <p:spPr>
          <a:xfrm>
            <a:off x="762120" y="1905120"/>
            <a:ext cx="7391160" cy="3809880"/>
          </a:xfrm>
          <a:prstGeom prst="rect">
            <a:avLst/>
          </a:prstGeom>
          <a:ln w="0">
            <a:noFill/>
          </a:ln>
        </p:spPr>
      </p:pic>
      <p:sp>
        <p:nvSpPr>
          <p:cNvPr id="29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Parts of the flower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STI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y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va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TA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th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a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flower parts"/>
          <p:cNvPicPr/>
          <p:nvPr/>
        </p:nvPicPr>
        <p:blipFill>
          <a:blip r:embed="rId1"/>
          <a:stretch/>
        </p:blipFill>
        <p:spPr>
          <a:xfrm>
            <a:off x="3352680" y="1981080"/>
            <a:ext cx="5562720" cy="3934080"/>
          </a:xfrm>
          <a:prstGeom prst="rect">
            <a:avLst/>
          </a:prstGeom>
          <a:ln w="0">
            <a:noFill/>
          </a:ln>
        </p:spPr>
      </p:pic>
      <p:sp>
        <p:nvSpPr>
          <p:cNvPr id="302" name="WordArt 8"/>
          <p:cNvSpPr txBox="1"/>
          <p:nvPr/>
        </p:nvSpPr>
        <p:spPr>
          <a:xfrm>
            <a:off x="6934320" y="4572000"/>
            <a:ext cx="183816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seed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3" name="WordArt 9"/>
          <p:cNvSpPr txBox="1"/>
          <p:nvPr/>
        </p:nvSpPr>
        <p:spPr>
          <a:xfrm>
            <a:off x="7010280" y="3505320"/>
            <a:ext cx="177192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ecomes the fruit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Reproductive Organ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ose up of stigma, style and anthers in a tuli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7" name="Picture 5" descr="tulip%20anther%201"/>
          <p:cNvPicPr/>
          <p:nvPr/>
        </p:nvPicPr>
        <p:blipFill>
          <a:blip r:embed="rId1"/>
          <a:stretch/>
        </p:blipFill>
        <p:spPr>
          <a:xfrm>
            <a:off x="3809880" y="3048120"/>
            <a:ext cx="5029200" cy="335268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9" descr="tulip%20flower"/>
          <p:cNvPicPr/>
          <p:nvPr/>
        </p:nvPicPr>
        <p:blipFill>
          <a:blip r:embed="rId2"/>
          <a:stretch/>
        </p:blipFill>
        <p:spPr>
          <a:xfrm>
            <a:off x="685800" y="304812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309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volutionary Pas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yanobacter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lue- green alga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hotosyntheti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sponsible for the marked increase in Oxygen 2000 million years ag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5" descr="botit.botany.wisc.edu/images/332/Lichens/Foliose_lichen_130_d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43600" y="2563920"/>
            <a:ext cx="3979800" cy="2873160"/>
          </a:xfrm>
          <a:prstGeom prst="rect">
            <a:avLst/>
          </a:prstGeom>
          <a:ln w="0">
            <a:noFill/>
          </a:ln>
        </p:spPr>
      </p:pic>
      <p:sp>
        <p:nvSpPr>
          <p:cNvPr id="22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yanobacteria Evidence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NA shows the first green plants evolved from prokaryotes between 2500 and 1000 million years ago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ame chlorophyll in algae and land plant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7" descr="athene.as.arizona.edu/~lclose/teaching/a202/microfossil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3581280"/>
            <a:ext cx="3980160" cy="20448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9" descr="trc.ucdavis.edu/djbegun/fossilEucarya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38680" y="1828800"/>
            <a:ext cx="2590920" cy="166860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Endosymbiosi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960" y="1904760"/>
            <a:ext cx="3978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symbiotic relationship between two organisms in which one of the two organisms (the endosymbiont) lives inside the body of the other one (the host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6"/>
          <p:cNvSpPr/>
          <p:nvPr/>
        </p:nvSpPr>
        <p:spPr>
          <a:xfrm>
            <a:off x="2190600" y="179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2" name="Picture 7" descr="endosymbiosis"/>
          <p:cNvPicPr/>
          <p:nvPr/>
        </p:nvPicPr>
        <p:blipFill>
          <a:blip r:embed="rId1"/>
          <a:stretch/>
        </p:blipFill>
        <p:spPr>
          <a:xfrm>
            <a:off x="5043600" y="1981080"/>
            <a:ext cx="3979800" cy="38102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assification of Plant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Kingdom - Planta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vision (-phyt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ss (-opsid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bclass (-id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der (-ale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mily (-aceae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enu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ecies (Genus + specific epithe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          </a:t>
            </a:r>
            <a:r>
              <a:rPr b="0" i="1" lang="en-US" sz="4400" spc="-1" strike="noStrike">
                <a:solidFill>
                  <a:srgbClr val="003366"/>
                </a:solidFill>
                <a:latin typeface="Verdana"/>
              </a:rPr>
              <a:t>Magnolia grandiflora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pic>
        <p:nvPicPr>
          <p:cNvPr id="238" name="Picture 5" descr="Magnolia_grandiflora,I_JP182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6040" y="46080"/>
            <a:ext cx="2400480" cy="30481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nt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ae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-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s all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gnolio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phyt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lowering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psid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dico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d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ubclass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le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order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gnoli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acea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family for Magnolia-like plant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Magnol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genus that includes all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Magnolias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grandiflor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--specific epithe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ircumscription of Featur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new condition is added at each step to set up a category that is MOST specific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ngs with wheels = buses, cars, bicycles, skates, airplanes, trains, etc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is ground transport = buses, cars, bicycle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an carry more than one person = buses, cars,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uns on rails = train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http://www.csdl.tamu.edu/FLORA/tfplab/lab1a.htm#taxonomy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Four major lineag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n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ck xylem &amp; phloem &amp;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edless vascula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ve xylem &amp; phloem, lack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ymnosper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have seeds, but not enclos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giosperm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- enclosed see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41" descr="CLUBMOSS"/>
          <p:cNvPicPr/>
          <p:nvPr/>
        </p:nvPicPr>
        <p:blipFill>
          <a:blip r:embed="rId1"/>
          <a:stretch/>
        </p:blipFill>
        <p:spPr>
          <a:xfrm>
            <a:off x="6353280" y="0"/>
            <a:ext cx="2790720" cy="2857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9" descr="strawberry16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0"/>
            <a:ext cx="1524240" cy="16002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7" descr="SycamoreFruit01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857160" cy="120960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20" descr="01%20sidemarchantia"/>
          <p:cNvPicPr/>
          <p:nvPr/>
        </p:nvPicPr>
        <p:blipFill>
          <a:blip r:embed="rId6"/>
          <a:stretch/>
        </p:blipFill>
        <p:spPr>
          <a:xfrm>
            <a:off x="6219720" y="838080"/>
            <a:ext cx="2924280" cy="13716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1" descr="EQUIS"/>
          <p:cNvPicPr/>
          <p:nvPr/>
        </p:nvPicPr>
        <p:blipFill>
          <a:blip r:embed="rId7"/>
          <a:stretch/>
        </p:blipFill>
        <p:spPr>
          <a:xfrm>
            <a:off x="2362320" y="0"/>
            <a:ext cx="1838160" cy="2362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29" descr="dsk_apple_blossum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0" y="1219320"/>
            <a:ext cx="971640" cy="9903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4" descr="[photo Goldback Fern sporophyte]"/>
          <p:cNvPicPr/>
          <p:nvPr/>
        </p:nvPicPr>
        <p:blipFill>
          <a:blip r:embed="rId10"/>
          <a:stretch/>
        </p:blipFill>
        <p:spPr>
          <a:xfrm>
            <a:off x="3886200" y="0"/>
            <a:ext cx="2362320" cy="210672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27" descr="08%2520Kilauea%2520Iki%252006%2520Fern%252020020930%2520(9)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6095880" y="0"/>
            <a:ext cx="1352520" cy="905040"/>
          </a:xfrm>
          <a:prstGeom prst="rect">
            <a:avLst/>
          </a:prstGeom>
          <a:ln w="0">
            <a:noFill/>
          </a:ln>
        </p:spPr>
      </p:pic>
      <p:sp>
        <p:nvSpPr>
          <p:cNvPr id="255" name="WordArt 15"/>
          <p:cNvSpPr txBox="1"/>
          <p:nvPr/>
        </p:nvSpPr>
        <p:spPr>
          <a:xfrm>
            <a:off x="4038480" y="914400"/>
            <a:ext cx="2019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edless 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56" name="Picture 25" descr="Keteleeria_fortunei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7315200" y="0"/>
            <a:ext cx="914400" cy="838080"/>
          </a:xfrm>
          <a:prstGeom prst="rect">
            <a:avLst/>
          </a:prstGeom>
          <a:ln w="0">
            <a:noFill/>
          </a:ln>
        </p:spPr>
      </p:pic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Examples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61760" y="228600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Picture 5" descr="Sanguinaria_canadensis"/>
          <p:cNvPicPr/>
          <p:nvPr/>
        </p:nvPicPr>
        <p:blipFill>
          <a:blip r:embed="rId15"/>
          <a:stretch/>
        </p:blipFill>
        <p:spPr>
          <a:xfrm>
            <a:off x="0" y="2209680"/>
            <a:ext cx="2486160" cy="180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monocot_flower"/>
          <p:cNvPicPr/>
          <p:nvPr/>
        </p:nvPicPr>
        <p:blipFill>
          <a:blip r:embed="rId16"/>
          <a:stretch/>
        </p:blipFill>
        <p:spPr>
          <a:xfrm>
            <a:off x="0" y="4038480"/>
            <a:ext cx="3743280" cy="2819520"/>
          </a:xfrm>
          <a:prstGeom prst="rect">
            <a:avLst/>
          </a:prstGeom>
          <a:ln w="0">
            <a:noFill/>
          </a:ln>
        </p:spPr>
      </p:pic>
      <p:sp>
        <p:nvSpPr>
          <p:cNvPr id="261" name="WordArt 8"/>
          <p:cNvSpPr txBox="1"/>
          <p:nvPr/>
        </p:nvSpPr>
        <p:spPr>
          <a:xfrm>
            <a:off x="1752480" y="5638680"/>
            <a:ext cx="9432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ono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WordArt 9"/>
          <p:cNvSpPr txBox="1"/>
          <p:nvPr/>
        </p:nvSpPr>
        <p:spPr>
          <a:xfrm>
            <a:off x="380880" y="3505320"/>
            <a:ext cx="57168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o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3" name="Picture 17" descr="mosssporo"/>
          <p:cNvPicPr/>
          <p:nvPr/>
        </p:nvPicPr>
        <p:blipFill>
          <a:blip r:embed="rId17"/>
          <a:stretch/>
        </p:blipFill>
        <p:spPr>
          <a:xfrm>
            <a:off x="6400800" y="2209680"/>
            <a:ext cx="2743200" cy="1676520"/>
          </a:xfrm>
          <a:prstGeom prst="rect">
            <a:avLst/>
          </a:prstGeom>
          <a:ln w="0">
            <a:noFill/>
          </a:ln>
        </p:spPr>
      </p:pic>
      <p:sp>
        <p:nvSpPr>
          <p:cNvPr id="264" name="WordArt 18"/>
          <p:cNvSpPr txBox="1"/>
          <p:nvPr/>
        </p:nvSpPr>
        <p:spPr>
          <a:xfrm>
            <a:off x="6858000" y="1981080"/>
            <a:ext cx="137160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nvascula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5" name="Picture 33" descr="wpipo--wplook-up13989"/>
          <p:cNvPicPr/>
          <p:nvPr/>
        </p:nvPicPr>
        <p:blipFill>
          <a:blip r:embed="rId18"/>
          <a:stretch/>
        </p:blipFill>
        <p:spPr>
          <a:xfrm>
            <a:off x="3733920" y="2057400"/>
            <a:ext cx="2666880" cy="48006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1" descr="stam%26ovucones"/>
          <p:cNvPicPr/>
          <p:nvPr/>
        </p:nvPicPr>
        <p:blipFill>
          <a:blip r:embed="rId19"/>
          <a:stretch/>
        </p:blipFill>
        <p:spPr>
          <a:xfrm>
            <a:off x="5257800" y="3886200"/>
            <a:ext cx="3886200" cy="2971800"/>
          </a:xfrm>
          <a:prstGeom prst="rect">
            <a:avLst/>
          </a:prstGeom>
          <a:ln w="0">
            <a:noFill/>
          </a:ln>
        </p:spPr>
      </p:pic>
      <p:sp>
        <p:nvSpPr>
          <p:cNvPr id="267" name="WordArt 12"/>
          <p:cNvSpPr txBox="1"/>
          <p:nvPr/>
        </p:nvSpPr>
        <p:spPr>
          <a:xfrm>
            <a:off x="4876920" y="3962520"/>
            <a:ext cx="1438200" cy="28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ymn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68" name="Picture 22" descr="Chrysanthemum_leucanthemum"/>
          <p:cNvPicPr/>
          <p:nvPr/>
        </p:nvPicPr>
        <p:blipFill>
          <a:blip r:embed="rId20"/>
          <a:stretch/>
        </p:blipFill>
        <p:spPr>
          <a:xfrm>
            <a:off x="2438280" y="2057400"/>
            <a:ext cx="2381400" cy="1981080"/>
          </a:xfrm>
          <a:prstGeom prst="rect">
            <a:avLst/>
          </a:prstGeom>
          <a:ln w="0">
            <a:noFill/>
          </a:ln>
        </p:spPr>
      </p:pic>
      <p:sp>
        <p:nvSpPr>
          <p:cNvPr id="269" name="WordArt 23"/>
          <p:cNvSpPr txBox="1"/>
          <p:nvPr/>
        </p:nvSpPr>
        <p:spPr>
          <a:xfrm>
            <a:off x="1981080" y="3886200"/>
            <a:ext cx="1295640" cy="28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ngiosperm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270" name="Picture 35" descr="strawberry_development"/>
          <p:cNvPicPr/>
          <p:nvPr/>
        </p:nvPicPr>
        <p:blipFill>
          <a:blip r:embed="rId21"/>
          <a:stretch/>
        </p:blipFill>
        <p:spPr>
          <a:xfrm>
            <a:off x="914400" y="1600200"/>
            <a:ext cx="1514520" cy="74304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59100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2T18:58:52Z</dcterms:created>
  <dc:creator>ICOE</dc:creator>
  <dc:description/>
  <dc:language>en-US</dc:language>
  <cp:lastModifiedBy>LEGION2</cp:lastModifiedBy>
  <dcterms:modified xsi:type="dcterms:W3CDTF">2016-01-13T09:51:38Z</dcterms:modified>
  <cp:revision>11</cp:revision>
  <dc:subject/>
  <dc:title>Plants</dc:title>
</cp:coreProperties>
</file>