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63CD-5F90-495A-AA15-B3A58CB703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vascu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ess vascu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ymnosperm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giosperm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es of 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yledonae (Monoco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ery few are annu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lies, grasses, cattails, palms, yuccas, orchids, iri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yledonae (Dico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re primative, 1/6 are annu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most all kinds of trees and shrub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napdragons, mints, peas, sunflow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es of 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otyledonae (Monoc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few are ann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lies, grasses, cattails, palms, yuccas, orchids, i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otyledonae (Dic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primative, 1/6 are ann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most all kinds of trees and shr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apdragons, mints, peas, sun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 characterist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o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 characterist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o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rts of the 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s the se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s the fr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the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the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productive Org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ose up of stigma, style and anthers in a tuli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up of stigma, style and anthers in a tu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volutionary Pa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ue- 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otosynthet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sible for the marked increase in Oxygen 2000 million years ag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ary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- 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he marked increase in Oxygen 2000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yanobacteria Evid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NA shows the first green plants evolved from prokaryotes between 2500 and 1000 million years ago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me chlorophyll in algae and land plant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hows the first green plants evolved from prokaryotes between 2500 and 100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hlorophyll in algae and land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dosymbios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ymbiotic relationship between two organisms in which one of the two organisms (the endosymbiont) lives inside the body of the other one (the host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ymbiotic relationship between two organisms in which one of the two organisms (the endosymbiont) lives inside the body of the other one (the ho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ification of Pl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ingdom - Plant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vision (-phyt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 (-opsid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class (-ida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der (-al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mily (-acea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enu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cies (Genus + specific epithe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 - Plant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 (-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 (-opsi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class (-id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(-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 (-ace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 (Genus + specific epith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 grandiflor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ae--includes all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ophyta--flowering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opsida--dico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idae--subclass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les--order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ceae--family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--genus that includes all Magnolia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ndiflora--specific epithe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 grandifl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ae--includes all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ophyta--flowering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opsida--dic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idae--subclass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les--order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ceae--family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--genus that includes all Magnoli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ndiflora--specific epith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ircumscription of Featu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new condition is added at each step to set up a category that is MOST specifi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ngs with wheels = buses, cars, bicycles, skates, airplanes, trains, et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is ground transport = buses, cars, bicycles,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can carry more than one person = buses, cars,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runs on rails =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csdl.tamu.edu/FLORA/tfplab/lab1a.htm#tax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scription of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condition is added at each step to set up a category that is MOST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with wheels = buses, cars, bicycles, skates, airplanes, trains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s ground transport = buses, cars, bicycles,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carry more than one person = buses, cars,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uns on rails =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sdl.tamu.edu/FLORA/tfplab/lab1a.htm#tax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 major line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ck xylem &amp; phloem &amp;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ve xylem &amp; phloem, lack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have seeds, but not enclo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enclosed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major line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vasc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k xylem &amp; phloem &amp;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ess vasc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ve xylem &amp; phloem, lack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ve seeds, but not en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giosp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nclosed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less 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DCC7-C5CE-478E-962F-928C3955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60BD-83DB-4878-94A8-96B36C0E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C83-D149-4F6C-8B24-0343B1D4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2A4D-90E9-446B-A8B6-30E3603E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17C2-C04C-442F-8400-2E88353B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A23B-0343-45C0-A7E7-5E6A1B08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D0D3-258E-4775-B292-772306F5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3808-4E40-4BC4-A03E-37F1106E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2D2B-CB29-416C-97A6-08ED8735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D07F-B269-4215-BCCA-81E9E20A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81DF-3272-4ADA-9CA1-5BC613E0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8262-3146-449C-A0B0-2674C17C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4AEB-A3A8-4658-9BDF-89A73AAD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26A3-D6B3-4AEE-BF11-79FBE374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270C-0CD7-40C6-B8C9-D44BE051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395E-9C0C-40B3-955E-18CD62FC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3A07-24C2-4BDD-8714-7087D9BC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55E-3E67-46C3-B2BE-E3898FFE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84A-39CD-4ADC-A62F-5F32195C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E55-B2D7-499B-AF75-DE102F62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F673-7B7A-4F58-98CC-70C42D16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ADC-BE5C-4D05-A6AC-C1EBD2E4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E15-2B0A-490B-8257-BC9BDEF6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8C2-F803-4286-8008-0235E736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EFD5-4834-45FE-A0FC-2D875EBD710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2B0D-5E9E-403E-986D-1454AC79972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rXh22REsA8AgxtXNyoA;_ylu=X3oDMTBqcDRrdjU5BGNvbG8DdwRzZWMDc2MEdnRpZAM-/SIG=1lkosj560/EXP=1147546977/**http%3A//images.search.yahoo.com/search/images/view%3Fback=http%253A%252F%252Fsearch.yahoo.com%252Fsearch%253Fei%253DUTF-8%2526p%253Dlichen%252Bimage%26h=467%26w=547%26imgcurl=botit.botany.wisc.edu%252Fimages%252F332%252FLichens%252FFoliose_lichen_130_d.gif%26imgurl=botit.botany.wisc.edu%252Fimages%252F332%252FLichens%252FFoliose_lichen_130_d.gif%26size=262.0kB%26name=Foliose_lichen_130_d.gif%26rcurl=http%253A%252F%252Fbotit.botany.wisc.edu%252Fimages%252F332%252FLichens%252FFoliose_lichen_130_d.html%26rurl=http%253A%252F%252Fbotit.botany.wisc.edu%252Fimages%252F332%252FLichens%252FFoliose_lichen_130_d.html%26p=lichen%26type=gif%26no=2%26tt=55%252C615%26fr=slv1-adb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VGF32RE0RoB25BXNyoA;_ylu=X3oDMTBqcDRrdjU5BGNvbG8DdwRzZWMDc2MEdnRpZAM-/SIG=1lep58bm6/EXP=1147547909/**http%3A//images.search.yahoo.com/search/images/view%3Fback=http%253A%252F%252Fsearch.yahoo.com%252Fsearch%253Fei%253DUTF-8%2526p%253Deukaryotic%252Bfossil%252Bimage%26h=318%26w=600%26imgcurl=athene.as.arizona.edu%252F%257Elclose%252Fteaching%252Fa202%252Fmicrofossils.jpg%26imgurl=athene.as.arizona.edu%252F%257Elclose%252Fteaching%252Fa202%252Fmicrofossils.jpg%26size=48.2kB%26name=microfossils.jpg%26rcurl=http%253A%252F%252Fathene.as.arizona.edu%252F%257Elclose%252Fteaching%252Fa202%252Flect9.html%26rurl=http%253A%252F%252Fathene.as.arizona.edu%252F%257Elclose%252Fteaching%252Fa202%252Flect9.html%26p=eukaryotic%2Bfossil%26type=jpeg%26no=3%26tt=16%26fr=slv1-adb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ds.yahoo.com/_ylt=A0Je5VGF32RE0RoB2pBXNyoA;_ylu=X3oDMTBqcDRrdjU5BGNvbG8DdwRzZWMDc2MEdnRpZAM-/SIG=1igihduo9/EXP=1147547909/**http%3A//images.search.yahoo.com/search/images/view%3Fback=http%253A%252F%252Fsearch.yahoo.com%252Fsearch%253Fei%253DUTF-8%2526p%253Deukaryotic%252Bfossil%252Bimage%26h=1670%26w=1792%26imgcurl=trc.ucdavis.edu%252Fdjbegun%252FfossilEucarya.jpg%26imgurl=trc.ucdavis.edu%252Fdjbegun%252FfossilEucarya.jpg%26size=516.6kB%26name=fossilEucarya.jpg%26rcurl=http%253A%252F%252Ftrc.ucdavis.edu%252Fdjbegun%252FLect_paleo%2526homo.html%26rurl=http%253A%252F%252Ftrc.ucdavis.edu%252Fdjbegun%252FLect_paleo%2526homo.html%26p=eukaryotic%2Bfossil%26type=jpeg%26no=2%26tt=16%26fr=slv1-adb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ick5.pick.uga.edu/mp/20p?see=I_JP1824&amp;res=640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botany.cs.tamu.edu/FLORA/dcs420/fa01/fa01004.jp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://www.visualparadox.com/images/no_linking_allowed/strawberry1600.jpg&amp;imgrefurl=http://www.visualparadox.com/wallpapers/strawberry1600.htm&amp;h=1200&amp;w=1600&amp;sz=144&amp;tbnid=sbWGjy5MU9VJoM:&amp;tbnh=112&amp;tbnw=150&amp;hl=en&amp;ei=t6ZqRLKhAbT8JKeH9cAJ&amp;sig2=Zx7LJYJgqgtUuzLtAr6ZpA&amp;start=415&amp;prev=/images%3Fq%3Dseeds%2Bfruit%2Bimage%26start%3D400%26svnum%3D10%26hl%3Den%26lr%3D%26rls%3DGGLG,GGLG:2005-42,GGLG:en%26sa%3DN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www.hiltonpond.org/images/SycamoreFruit01.jpg&amp;imgrefurl=http://www.hiltonpond.org/ThisWeek001208.html&amp;h=178&amp;w=170&amp;sz=4&amp;tbnid=qDZSf7RkDhRDOM:&amp;tbnh=95&amp;tbnw=90&amp;hl=en&amp;ei=XKZqRLmgMK_UJPGgkfcJ&amp;sig2=3vK3tTHjT-Vx7-1LNmNwRA&amp;start=398&amp;prev=/images%3Fq%3Dseeds%2Bfruit%2Bimage%26start%3D380%26svnum%3D10%26hl%3Den%26lr%3D%26rls%3DGGLG,GGLG:2005-42,GGLG:en%26sa%3DN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ludlow.dns2go.com/cribbage/desktops/dsk_apple_blossum.jpg&amp;imgrefurl=http://ludlow.dns2go.com/cribbage/desktops/dsk_photos.html&amp;h=1024&amp;w=1280&amp;sz=341&amp;tbnid=U_qa4xmSlQpGgM:&amp;tbnh=120&amp;tbnw=150&amp;hl=en&amp;ei=DaBqRISNDJLOJJPSmPAJ&amp;sig2=SdxMMiO9bB90oT6tmPxj0A&amp;start=3&amp;prev=/images%3Fq%3Dapple%2Btree%2Bblossoms%2Bimage%26svnum%3D10%26hl%3Den%26lr%3D%26rls%3DGGLG,GGLG:2005-42,GGLG:en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hyperlink" Target="http://images.google.com/imgres?imgurl=http://jhphotos.stevenhasty.com/photos/K_Iki/08%2520Kilauea%2520Iki%252006%2520Fern%252020020930%2520(9).jpg&amp;imgrefurl=http://jhphotos.stevenhasty.com/photos/K_Iki/&amp;h=536&amp;w=800&amp;sz=23&amp;tbnid=Lux8oorXoC17tM:&amp;tbnh=95&amp;tbnw=142&amp;hl=en&amp;ei=c59qRLiTOK7aJN7h_PwJ&amp;sig2=qWPLsyVTVz8sLwaDF4Jm_Q&amp;start=10&amp;prev=/images%3Fq%3Dfern%2Bimage%26svnum%3D10%26hl%3Den%26lr%3D%26rls%3DGGLG,GGLG:2005-42,GGLG:en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images.google.com/imgres?imgurl=http://www.hkflora.com/v2/gymnosperm/images/Keteleeria_fortunei.jpg&amp;imgrefurl=http://www.hkflora.com/v2/gymnosperm/what_are_gymnosperms.htm&amp;h=150&amp;w=225&amp;sz=28&amp;tbnid=i8E7L2CXIavy0M:&amp;tbnh=68&amp;tbnw=102&amp;hl=en&amp;ei=EJ9qRIWmEZHWJIXMnPkJ&amp;sig2=hzBVj8OI7osnUWKQ2dr5Rw&amp;start=15&amp;prev=/images%3Fq%3Dgymnosperm%2Bimage%26svnum%3D10%26hl%3Den%26lr%3D%26rls%3DGGLG,GGLG:2005-42,GGLG:en%26sa%3DX" TargetMode="External"/><Relationship Id="rId14" Type="http://schemas.openxmlformats.org/officeDocument/2006/relationships/image" Target="../media/image15.jpe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la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8" name="Picture 4" descr="Interior Plant - Kentia Ivy - Indoor Plant"/>
          <p:cNvPicPr/>
          <p:nvPr/>
        </p:nvPicPr>
        <p:blipFill>
          <a:blip r:embed="rId1"/>
          <a:stretch/>
        </p:blipFill>
        <p:spPr>
          <a:xfrm>
            <a:off x="3352680" y="1905120"/>
            <a:ext cx="3614760" cy="43434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onvascular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9" descr="moss_life_cycle"/>
          <p:cNvPicPr/>
          <p:nvPr/>
        </p:nvPicPr>
        <p:blipFill>
          <a:blip r:embed="rId1"/>
          <a:stretch/>
        </p:blipFill>
        <p:spPr>
          <a:xfrm>
            <a:off x="1219320" y="1905120"/>
            <a:ext cx="678168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edless vascular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5" descr="test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44193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ymnosperm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5" descr="gymnospermlifecycle"/>
          <p:cNvPicPr/>
          <p:nvPr/>
        </p:nvPicPr>
        <p:blipFill>
          <a:blip r:embed="rId1"/>
          <a:stretch/>
        </p:blipFill>
        <p:spPr>
          <a:xfrm>
            <a:off x="1143000" y="1905120"/>
            <a:ext cx="7315200" cy="458136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ngiosperm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5" descr="angiospermlifecycle"/>
          <p:cNvPicPr/>
          <p:nvPr/>
        </p:nvPicPr>
        <p:blipFill>
          <a:blip r:embed="rId1"/>
          <a:stretch/>
        </p:blipFill>
        <p:spPr>
          <a:xfrm>
            <a:off x="1219320" y="18288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asses of Angiosper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ocotyledonae (Monoco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few are ann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lies, grasses, cattails, palms, yuccas, orchids, iri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cotyledonae (Dico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primative, 1/6 are ann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most all kinds of trees and shru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napdragons, mints, peas, sunfl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onocot characteristic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5" descr="monocots_1"/>
          <p:cNvPicPr/>
          <p:nvPr/>
        </p:nvPicPr>
        <p:blipFill>
          <a:blip r:embed="rId1"/>
          <a:stretch/>
        </p:blipFill>
        <p:spPr>
          <a:xfrm>
            <a:off x="685800" y="1905120"/>
            <a:ext cx="7391520" cy="39621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cot characteristic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5" descr="DICOTS"/>
          <p:cNvPicPr/>
          <p:nvPr/>
        </p:nvPicPr>
        <p:blipFill>
          <a:blip r:embed="rId1"/>
          <a:stretch/>
        </p:blipFill>
        <p:spPr>
          <a:xfrm>
            <a:off x="762120" y="1905120"/>
            <a:ext cx="7391160" cy="380988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arts of the flowe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ST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y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flower parts"/>
          <p:cNvPicPr/>
          <p:nvPr/>
        </p:nvPicPr>
        <p:blipFill>
          <a:blip r:embed="rId1"/>
          <a:stretch/>
        </p:blipFill>
        <p:spPr>
          <a:xfrm>
            <a:off x="3352680" y="1981080"/>
            <a:ext cx="5562720" cy="3934080"/>
          </a:xfrm>
          <a:prstGeom prst="rect">
            <a:avLst/>
          </a:prstGeom>
          <a:ln w="0">
            <a:noFill/>
          </a:ln>
        </p:spPr>
      </p:pic>
      <p:sp>
        <p:nvSpPr>
          <p:cNvPr id="302" name="WordArt 8"/>
          <p:cNvSpPr txBox="1"/>
          <p:nvPr/>
        </p:nvSpPr>
        <p:spPr>
          <a:xfrm>
            <a:off x="6934320" y="4572000"/>
            <a:ext cx="18381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comes the seed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3" name="WordArt 9"/>
          <p:cNvSpPr txBox="1"/>
          <p:nvPr/>
        </p:nvSpPr>
        <p:spPr>
          <a:xfrm>
            <a:off x="7010280" y="3505320"/>
            <a:ext cx="1771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comes the fruit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productive Orga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ose up of stigma, style and anthers in a tul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5" descr="tulip%20anther%201"/>
          <p:cNvPicPr/>
          <p:nvPr/>
        </p:nvPicPr>
        <p:blipFill>
          <a:blip r:embed="rId1"/>
          <a:stretch/>
        </p:blipFill>
        <p:spPr>
          <a:xfrm>
            <a:off x="3809880" y="304812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9" descr="tulip%20flower"/>
          <p:cNvPicPr/>
          <p:nvPr/>
        </p:nvPicPr>
        <p:blipFill>
          <a:blip r:embed="rId2"/>
          <a:stretch/>
        </p:blipFill>
        <p:spPr>
          <a:xfrm>
            <a:off x="685800" y="304812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volutionary Pas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yanobacte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- green 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tosynthet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ponsible for the marked increase in Oxygen 2000 million years a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botit.botany.wisc.edu/images/332/Lichens/Foliose_lichen_130_d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43600" y="2563920"/>
            <a:ext cx="3979800" cy="287316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yanobacteria Eviden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A shows the first green plants evolved from prokaryotes between 2500 and 1000 million years ago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ame chlorophyll in algae and land plant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7" descr="athene.as.arizona.edu/~lclose/teaching/a202/microfossil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581280"/>
            <a:ext cx="3980160" cy="2044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trc.ucdavis.edu/djbegun/fossilEucary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1828800"/>
            <a:ext cx="2590920" cy="16686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ndosymbio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symbiotic relationship between two organisms in which one of the two organisms (the endosymbiont) lives inside the body of the other one (the hos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19060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7" descr="endosymbiosis"/>
          <p:cNvPicPr/>
          <p:nvPr/>
        </p:nvPicPr>
        <p:blipFill>
          <a:blip r:embed="rId1"/>
          <a:stretch/>
        </p:blipFill>
        <p:spPr>
          <a:xfrm>
            <a:off x="5043600" y="1981080"/>
            <a:ext cx="3979800" cy="38102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assification of Pla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ingdom - Plant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sion (-phyt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(-opsid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class (-ida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der (-al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ily (-acea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 (Genus + specific epith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Magnolia grandiflor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8" name="Picture 5" descr="Magnolia_grandiflora,I_JP18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040" y="46080"/>
            <a:ext cx="2400480" cy="30481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an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all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gnolio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yt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flowering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psid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dico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a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subclass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l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order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ea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family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agno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genus that includes all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Magnolia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randiflo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specific epithe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ircumscription of Fe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condition is added at each step to set up a category that is MOST specifi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ngs with wheels = buses, cars, bicycles, skates, airplanes, trains, etc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ground transport = buses, cars, bicycles,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n carry more than one person = buses, cars,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uns on rails =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csdl.tamu.edu/FLORA/tfplab/lab1a.htm#taxonom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our major lineag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vascul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ck xylem &amp; phloem &amp;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edless vascul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ve xylem &amp; phloem, lack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ymn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have seeds, but not enclos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enclosed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1" descr="CLUBMOSS"/>
          <p:cNvPicPr/>
          <p:nvPr/>
        </p:nvPicPr>
        <p:blipFill>
          <a:blip r:embed="rId1"/>
          <a:stretch/>
        </p:blipFill>
        <p:spPr>
          <a:xfrm>
            <a:off x="6353280" y="0"/>
            <a:ext cx="2790720" cy="2857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9" descr="strawberry16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0"/>
            <a:ext cx="1524240" cy="1600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7" descr="SycamoreFruit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857160" cy="1209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0" descr="01%20sidemarchantia"/>
          <p:cNvPicPr/>
          <p:nvPr/>
        </p:nvPicPr>
        <p:blipFill>
          <a:blip r:embed="rId6"/>
          <a:stretch/>
        </p:blipFill>
        <p:spPr>
          <a:xfrm>
            <a:off x="6219720" y="838080"/>
            <a:ext cx="292428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1" descr="EQUIS"/>
          <p:cNvPicPr/>
          <p:nvPr/>
        </p:nvPicPr>
        <p:blipFill>
          <a:blip r:embed="rId7"/>
          <a:stretch/>
        </p:blipFill>
        <p:spPr>
          <a:xfrm>
            <a:off x="2362320" y="0"/>
            <a:ext cx="1838160" cy="2362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dsk_apple_blossum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1219320"/>
            <a:ext cx="971640" cy="990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[photo Goldback Fern sporophyte]"/>
          <p:cNvPicPr/>
          <p:nvPr/>
        </p:nvPicPr>
        <p:blipFill>
          <a:blip r:embed="rId10"/>
          <a:stretch/>
        </p:blipFill>
        <p:spPr>
          <a:xfrm>
            <a:off x="3886200" y="0"/>
            <a:ext cx="2362320" cy="2106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7" descr="08%2520Kilauea%2520Iki%252006%2520Fern%252020020930%2520(9)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95880" y="0"/>
            <a:ext cx="1352520" cy="905040"/>
          </a:xfrm>
          <a:prstGeom prst="rect">
            <a:avLst/>
          </a:prstGeom>
          <a:ln w="0">
            <a:noFill/>
          </a:ln>
        </p:spPr>
      </p:pic>
      <p:sp>
        <p:nvSpPr>
          <p:cNvPr id="255" name="WordArt 15"/>
          <p:cNvSpPr txBox="1"/>
          <p:nvPr/>
        </p:nvSpPr>
        <p:spPr>
          <a:xfrm>
            <a:off x="4038480" y="914400"/>
            <a:ext cx="2019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edless Vascul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56" name="Picture 25" descr="Keteleeria_fortunei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315200" y="0"/>
            <a:ext cx="914400" cy="838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Sanguinaria_canadensis"/>
          <p:cNvPicPr/>
          <p:nvPr/>
        </p:nvPicPr>
        <p:blipFill>
          <a:blip r:embed="rId15"/>
          <a:stretch/>
        </p:blipFill>
        <p:spPr>
          <a:xfrm>
            <a:off x="0" y="2209680"/>
            <a:ext cx="2486160" cy="1809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monocot_flower"/>
          <p:cNvPicPr/>
          <p:nvPr/>
        </p:nvPicPr>
        <p:blipFill>
          <a:blip r:embed="rId16"/>
          <a:stretch/>
        </p:blipFill>
        <p:spPr>
          <a:xfrm>
            <a:off x="0" y="4038480"/>
            <a:ext cx="3743280" cy="2819520"/>
          </a:xfrm>
          <a:prstGeom prst="rect">
            <a:avLst/>
          </a:prstGeom>
          <a:ln w="0">
            <a:noFill/>
          </a:ln>
        </p:spPr>
      </p:pic>
      <p:sp>
        <p:nvSpPr>
          <p:cNvPr id="261" name="WordArt 8"/>
          <p:cNvSpPr txBox="1"/>
          <p:nvPr/>
        </p:nvSpPr>
        <p:spPr>
          <a:xfrm>
            <a:off x="1752480" y="5638680"/>
            <a:ext cx="943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noco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2" name="WordArt 9"/>
          <p:cNvSpPr txBox="1"/>
          <p:nvPr/>
        </p:nvSpPr>
        <p:spPr>
          <a:xfrm>
            <a:off x="380880" y="3505320"/>
            <a:ext cx="57168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o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3" name="Picture 17" descr="mosssporo"/>
          <p:cNvPicPr/>
          <p:nvPr/>
        </p:nvPicPr>
        <p:blipFill>
          <a:blip r:embed="rId17"/>
          <a:stretch/>
        </p:blipFill>
        <p:spPr>
          <a:xfrm>
            <a:off x="6400800" y="2209680"/>
            <a:ext cx="2743200" cy="1676520"/>
          </a:xfrm>
          <a:prstGeom prst="rect">
            <a:avLst/>
          </a:prstGeom>
          <a:ln w="0">
            <a:noFill/>
          </a:ln>
        </p:spPr>
      </p:pic>
      <p:sp>
        <p:nvSpPr>
          <p:cNvPr id="264" name="WordArt 18"/>
          <p:cNvSpPr txBox="1"/>
          <p:nvPr/>
        </p:nvSpPr>
        <p:spPr>
          <a:xfrm>
            <a:off x="6858000" y="1981080"/>
            <a:ext cx="1371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nvascul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5" name="Picture 33" descr="wpipo--wplook-up13989"/>
          <p:cNvPicPr/>
          <p:nvPr/>
        </p:nvPicPr>
        <p:blipFill>
          <a:blip r:embed="rId18"/>
          <a:stretch/>
        </p:blipFill>
        <p:spPr>
          <a:xfrm>
            <a:off x="3733920" y="2057400"/>
            <a:ext cx="2666880" cy="4800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stam%26ovucones"/>
          <p:cNvPicPr/>
          <p:nvPr/>
        </p:nvPicPr>
        <p:blipFill>
          <a:blip r:embed="rId19"/>
          <a:stretch/>
        </p:blipFill>
        <p:spPr>
          <a:xfrm>
            <a:off x="5257800" y="388620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12"/>
          <p:cNvSpPr txBox="1"/>
          <p:nvPr/>
        </p:nvSpPr>
        <p:spPr>
          <a:xfrm>
            <a:off x="4876920" y="3962520"/>
            <a:ext cx="143820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ymnosper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8" name="Picture 22" descr="Chrysanthemum_leucanthemum"/>
          <p:cNvPicPr/>
          <p:nvPr/>
        </p:nvPicPr>
        <p:blipFill>
          <a:blip r:embed="rId20"/>
          <a:stretch/>
        </p:blipFill>
        <p:spPr>
          <a:xfrm>
            <a:off x="2438280" y="2057400"/>
            <a:ext cx="2381400" cy="1981080"/>
          </a:xfrm>
          <a:prstGeom prst="rect">
            <a:avLst/>
          </a:prstGeom>
          <a:ln w="0">
            <a:noFill/>
          </a:ln>
        </p:spPr>
      </p:pic>
      <p:sp>
        <p:nvSpPr>
          <p:cNvPr id="269" name="WordArt 23"/>
          <p:cNvSpPr txBox="1"/>
          <p:nvPr/>
        </p:nvSpPr>
        <p:spPr>
          <a:xfrm>
            <a:off x="1981080" y="3886200"/>
            <a:ext cx="12956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iosper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70" name="Picture 35" descr="strawberry_development"/>
          <p:cNvPicPr/>
          <p:nvPr/>
        </p:nvPicPr>
        <p:blipFill>
          <a:blip r:embed="rId21"/>
          <a:stretch/>
        </p:blipFill>
        <p:spPr>
          <a:xfrm>
            <a:off x="914400" y="1600200"/>
            <a:ext cx="1514520" cy="74304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8:58:52Z</dcterms:created>
  <dc:creator>ICOE</dc:creator>
  <dc:description/>
  <dc:language>en-US</dc:language>
  <cp:lastModifiedBy>LEGION2</cp:lastModifiedBy>
  <dcterms:modified xsi:type="dcterms:W3CDTF">2016-01-13T09:51:38Z</dcterms:modified>
  <cp:revision>11</cp:revision>
  <dc:subject/>
  <dc:title>Plants</dc:title>
</cp:coreProperties>
</file>