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E7C7-BD7F-4A12-8581-4D925EABAC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 other plants, a plantlet develops at the base of each mature leaf where it meets the leaf stalk.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Piggy-Back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plants, a plantlet develops at the base of each mature leaf where it meets the leaf s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Piggy-Back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Piggyback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gyback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3.  PRODUCTION OF PLANTLETS FROM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offset is a tiny plantlet that develops as a side shoot at the base of the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times different offsets are produced and these then form a clump at the base of the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Mother-in-law’s Tongue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PRODUCTION OF PLANTLETS FROM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ffset is a tiny plantlet that develops as a side shoot at the base of the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different offsets are produced and these then form a clump at the base of the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Mother-in-law’s Tongu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Mother-In-Law’s Tongue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-In-Law’s Tongu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METHODS OF PROPAGATING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 plant with offsets can be propagated by divis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is means separating the offsets from the parent, normally using a sharp knif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offsets can then be planted in new location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S OF PROPAGATING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with offsets can be propagated by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separating the offsets from the parent, normally using a sharp kn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ffsets can then be planted in new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Offsets of Mother-In-Law’s Tongu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ets of Mother-In-Law’s Ton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dvantages of Vegetative Propaga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Exact copies of parent plants can be produced in most cases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Often simple and relatively quick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Large plants can sometimes be produced in a short period of tim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Good quality and uniformity among plants produced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ct copies of parent plants can be produced in most c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simple and relatively qui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lants can sometimes be produced in a short period of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quality and uniformity among plants produ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Disadvantages of Vegetative Propaga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ll offspring share common susceptibility to diseas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ot suitable if variation is desired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fspring share common susceptibility to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uitable if variation is desi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 plantlet is a tiny version of a plant still attached somewhere to its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plantlets obtain food from the parent plant until they are established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let is a tiny version of a plant still attached somewhere to its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lets obtain food from the parent plant until they are esta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OBTAINING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lantlets can be obtained by different methods: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leaf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ING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lets can be obtained by different metho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leaf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1.  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 types of plants produce plantlets at the end of ‘horizontal’ stems called runners.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ypes of plants produce plantlets at the end of ‘horizontal’ stems called run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Spider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METHOD OF OBTANING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plantlet can be ‘pegged down’ into a small pot of compost using wir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When the roots are established, the runner is cut close to the new plant and the wire removed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OF OBTANING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let can be ‘pegged down’ into a small pot of compost using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roots are established, the runner is cut close to the new plant and the wire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2.  PRODUCTION OF LEAF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 types of plant develop plantlets on the edges of mature leave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se can be detached from the leaf and grown in small pots of compos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Mexican Ha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PRODUCTION OF LEAF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ypes of plant develop plantlets on the edges of mature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detached from the leaf and grown in small pots of com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Mexican Ha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Mexican Ha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an Ha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573-1703-498F-8A4A-D724F57B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B12-0853-4370-B107-63857278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D1E-60F5-447E-AE6B-D5B1E4C8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0C80-852D-48E3-B82E-9CA5AC50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E29C-E6AA-473D-911C-379FB8BC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5DC4-E632-4518-B5FB-EFDD2EF5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CEC7-1DDA-43CC-B1EE-7344F26F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C211-7007-4420-95CD-125981F0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DB40-5390-468F-A34A-D53466FA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9C5B-2210-4434-AE2A-67F9B07D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8A79-9400-40D3-982C-2C6B4548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22E-DD9D-4FA2-929B-CA271F73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3340-7E40-4CA1-B796-3C059F03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EEFB-D183-4BCD-9D15-46DE3989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E9F3-C9C2-4752-B870-27DDDDF5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8B00-1218-4847-9E72-FCD6B118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809A-A70B-4469-8474-6FDA9195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A24-D691-473D-8E14-21ED7AF1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7FF-883E-49A3-9CD8-0EB755F4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08B-195D-4EF5-AA9E-B87E5BA0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902-8C6B-4C3A-BD6E-7B8EC8B5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845-4E01-42D7-9B22-F377857B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7ED-BCB5-40E3-BFA6-4AA30E14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B524-00EB-4C3C-ACF4-9FB53469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8390-F6EB-4890-98EA-0D9D8E20A7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Line 7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D545-1344-4DB6-8935-3C82CED10503}" type="slidenum"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PLANTLE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ntermediate 1 Biology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n other plants, a plantlet develops at the base of each mature leaf where it meets the leaf stalk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n example of this is the Piggy-Back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384137837037037Tolmiea_menziesii-09cm"/>
          <p:cNvPicPr/>
          <p:nvPr/>
        </p:nvPicPr>
        <p:blipFill>
          <a:blip r:embed="rId1"/>
          <a:stretch/>
        </p:blipFill>
        <p:spPr>
          <a:xfrm>
            <a:off x="2124000" y="170028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755640" y="404640"/>
            <a:ext cx="6337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imes New Roman"/>
              </a:rPr>
              <a:t>Piggyback Plan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3.  PRODUCTION OF PLANTLETS FROM OFFS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An offset is a tiny plantlet that develops as a side shoot at the base of the parent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Sometimes different offsets are produced and these then form a clump at the base of the parent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An example of this is the Mother-in-law’s Tongue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92360" y="2276280"/>
            <a:ext cx="2987640" cy="29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Times New Roman"/>
              </a:rPr>
              <a:t>Mother-In-Law’s Tongue Plan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5" descr="mediaget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THODS OF PROPAGATING OFFS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 plant with offsets can be propagated by divisi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is means separating the offsets from the parent, normally using a sharp knif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offsets can then be planted in new location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imes New Roman"/>
              </a:rPr>
              <a:t>Offsets of Mother-In-Law’s Tongu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087"/>
          <p:cNvPicPr/>
          <p:nvPr/>
        </p:nvPicPr>
        <p:blipFill>
          <a:blip r:embed="rId1"/>
          <a:stretch/>
        </p:blipFill>
        <p:spPr>
          <a:xfrm>
            <a:off x="0" y="2874960"/>
            <a:ext cx="4572000" cy="3292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Rooted_leaf_cutting_use"/>
          <p:cNvPicPr/>
          <p:nvPr/>
        </p:nvPicPr>
        <p:blipFill>
          <a:blip r:embed="rId2"/>
          <a:stretch/>
        </p:blipFill>
        <p:spPr>
          <a:xfrm>
            <a:off x="4643280" y="2905200"/>
            <a:ext cx="4246560" cy="329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Advantages of Vegetative Propag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Exact copies of parent plants can be produced in most case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Often simple and relatively quick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Large plants can sometimes be produced in a short period of time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Good quality and uniformity among plants produced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Disadvantages of Vegetative Propag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ll offspring share common susceptibility to disease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Not suitable if variation is desired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plantlet </a:t>
            </a: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s a tiny version of a plant still attached somewhere to its parent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plantlets obtain food from the parent plant until they are establish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7" name="Picture 5" descr="img"/>
          <p:cNvPicPr/>
          <p:nvPr/>
        </p:nvPicPr>
        <p:blipFill>
          <a:blip r:embed="rId1"/>
          <a:stretch/>
        </p:blipFill>
        <p:spPr>
          <a:xfrm>
            <a:off x="3995640" y="4653000"/>
            <a:ext cx="4762440" cy="18097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OBTAINING PLANTLE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lantlets can be obtained by different methods: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 plantlets from 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runner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 leaf plantle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 plantlets from 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offse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1.  PRODUCTION OF PLANTLETS FROM RUNNER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Some types of plants produce plantlets at the end of ‘horizontal’ stems called </a:t>
            </a: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runners</a:t>
            </a: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9180"/>
          <p:cNvPicPr/>
          <p:nvPr/>
        </p:nvPicPr>
        <p:blipFill>
          <a:blip r:embed="rId1"/>
          <a:stretch/>
        </p:blipFill>
        <p:spPr>
          <a:xfrm>
            <a:off x="971640" y="476280"/>
            <a:ext cx="4181400" cy="5904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5292720" y="620640"/>
            <a:ext cx="3851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300"/>
                </a:solidFill>
                <a:latin typeface="Times New Roman"/>
              </a:rPr>
              <a:t>Spider plant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THOD OF OBTANING PLANTLETS FROM RUNNER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plantlet can be ‘pegged down’ into a small pot of compost using wir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When the roots are established, the runner is cut close to the new plant and the wire remov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runners"/>
          <p:cNvPicPr/>
          <p:nvPr/>
        </p:nvPicPr>
        <p:blipFill>
          <a:blip r:embed="rId1"/>
          <a:stretch/>
        </p:blipFill>
        <p:spPr>
          <a:xfrm>
            <a:off x="826920" y="1916280"/>
            <a:ext cx="7777440" cy="4375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55640" y="47628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11280" y="26028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PRODUCTION OF PLANTLETS FROM RUNNERS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2.  PRODUCTION OF LEAF PLANTL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Some types of plant develop plantlets on the edges of mature leav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se can be detached from the leaf and grown in small pots of compos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n example of this is the Mexican Hat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Bryophyllum daigremontianum plantlets"/>
          <p:cNvPicPr/>
          <p:nvPr/>
        </p:nvPicPr>
        <p:blipFill>
          <a:blip r:embed="rId1"/>
          <a:stretch/>
        </p:blipFill>
        <p:spPr>
          <a:xfrm>
            <a:off x="1619280" y="1557360"/>
            <a:ext cx="6191280" cy="4352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755640" y="4762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xican Hat Plan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8:27:59Z</dcterms:created>
  <dc:creator>Education</dc:creator>
  <dc:description/>
  <dc:language>en-US</dc:language>
  <cp:lastModifiedBy>LEGION2</cp:lastModifiedBy>
  <dcterms:modified xsi:type="dcterms:W3CDTF">2016-01-13T09:48:31Z</dcterms:modified>
  <cp:revision>25</cp:revision>
  <dc:subject/>
  <dc:title>PLANTLETS</dc:title>
</cp:coreProperties>
</file>