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943C-C526-4013-AC80-98DE3E9D9B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CCD-9B27-4251-851F-1FCFB5C0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14F7-27ED-4398-A411-F2AC799F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0A6-0CD8-421F-ABFA-7132A6C2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9FA-E2DE-4125-9F2F-1CBC33F4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301E-3AEB-45A8-9C6B-14CACF04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B750-A9AC-4F51-8F7C-E003C0CF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0382-2D68-41FA-A51B-4D143DFA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416D-9016-443B-8FB4-2EC87513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3575-89FA-4A82-ADF2-C83475ED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FDC6-82C9-433A-9EBA-3903867F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6693-8D68-4937-8DF7-7DD305A9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3E39-AB51-4899-8FD4-694F455A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A655-329F-4C4B-B939-3C1CD737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C034-5CDE-475E-B093-725232DF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6E4C-48D8-4D4B-AD2A-EE1A154D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60CE-253E-4195-968D-C740567E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9DEF-4D29-4360-8AC7-E6024B8A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3F8-F4D7-4B08-B24F-B19CDFFB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C92-BC56-4BE8-909E-99AF0F6C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783-1BF8-4E7C-80A0-3280466B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AB6-C60E-4740-8C6E-FEF64FC6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D6A-E200-43AE-82EF-3C40A727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78C-832A-47C5-AC0E-A8DF0258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CD8-487F-4BD5-956B-057A293C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398A-4001-4303-9A12-A86CD9F347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ACEA-7C57-4342-BC41-F5A4D3A5C661}" type="slidenum"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termediate 1 Biology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 other plants, a plantlet develops at the base of each mature leaf where it meets the leaf stalk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Piggy-Back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384137837037037Tolmiea_menziesii-09cm"/>
          <p:cNvPicPr/>
          <p:nvPr/>
        </p:nvPicPr>
        <p:blipFill>
          <a:blip r:embed="rId1"/>
          <a:stretch/>
        </p:blipFill>
        <p:spPr>
          <a:xfrm>
            <a:off x="2124000" y="170028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755640" y="404640"/>
            <a:ext cx="63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Piggyback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3.  PRODUCTION OF PLANTLETS FROM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offset is a tiny plantlet that develops as a side shoot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Sometimes different offsets are produced and these then form a clump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example of this is the Mother-in-law’s Tongue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92360" y="2276280"/>
            <a:ext cx="298764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imes New Roman"/>
              </a:rPr>
              <a:t>Mother-In-Law’s Tongue Plan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mediaget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S OF PROPAGATING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plant with offsets can be propagated by divis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is means separating the offsets from the parent, normally using a sharp knif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offsets can then be planted in new location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Offsets of Mother-In-Law’s Tongu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087"/>
          <p:cNvPicPr/>
          <p:nvPr/>
        </p:nvPicPr>
        <p:blipFill>
          <a:blip r:embed="rId1"/>
          <a:stretch/>
        </p:blipFill>
        <p:spPr>
          <a:xfrm>
            <a:off x="0" y="2874960"/>
            <a:ext cx="4572000" cy="329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Rooted_leaf_cutting_use"/>
          <p:cNvPicPr/>
          <p:nvPr/>
        </p:nvPicPr>
        <p:blipFill>
          <a:blip r:embed="rId2"/>
          <a:stretch/>
        </p:blipFill>
        <p:spPr>
          <a:xfrm>
            <a:off x="4643280" y="2905200"/>
            <a:ext cx="4246560" cy="329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Exact copies of parent plants can be produced in most case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Often simple and relatively quick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Large plants can sometimes be produced in a short period of time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Good quality and uniformity among plants produced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Dis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ll offspring share common susceptibility to diseas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Not suitable if variation is desired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plantlet 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s a tiny version of a plant still attached somewhere to its paren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s obtain food from the parent plant until they are establish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7" name="Picture 5" descr="img"/>
          <p:cNvPicPr/>
          <p:nvPr/>
        </p:nvPicPr>
        <p:blipFill>
          <a:blip r:embed="rId1"/>
          <a:stretch/>
        </p:blipFill>
        <p:spPr>
          <a:xfrm>
            <a:off x="3995640" y="4653000"/>
            <a:ext cx="4762440" cy="1809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OBTAINING 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lantlets can be obtained by different method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 leaf plantl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offs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1.  PRODUCTION OF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s produce plantlets at the end of ‘horizontal’ stems called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9180"/>
          <p:cNvPicPr/>
          <p:nvPr/>
        </p:nvPicPr>
        <p:blipFill>
          <a:blip r:embed="rId1"/>
          <a:stretch/>
        </p:blipFill>
        <p:spPr>
          <a:xfrm>
            <a:off x="971640" y="476280"/>
            <a:ext cx="4181400" cy="590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292720" y="620640"/>
            <a:ext cx="3851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300"/>
                </a:solidFill>
                <a:latin typeface="Times New Roman"/>
              </a:rPr>
              <a:t>Spider plant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 OF OBTANING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 can be ‘pegged down’ into a small pot of compost using wir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When the roots are established, the runner is cut close to the new plant and the wire remov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runners"/>
          <p:cNvPicPr/>
          <p:nvPr/>
        </p:nvPicPr>
        <p:blipFill>
          <a:blip r:embed="rId1"/>
          <a:stretch/>
        </p:blipFill>
        <p:spPr>
          <a:xfrm>
            <a:off x="826920" y="1916280"/>
            <a:ext cx="7777440" cy="4375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5640" y="47628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11280" y="2602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PRODUCTION OF PLANTLETS FROM RUNNER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2.  PRODUCTION OF LEAF PLANTL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 develop plantlets on the edges of mature leav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se can be detached from the leaf and grown in small pots of compo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Mexican Ha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Bryophyllum daigremontianum plantlets"/>
          <p:cNvPicPr/>
          <p:nvPr/>
        </p:nvPicPr>
        <p:blipFill>
          <a:blip r:embed="rId1"/>
          <a:stretch/>
        </p:blipFill>
        <p:spPr>
          <a:xfrm>
            <a:off x="1619280" y="1557360"/>
            <a:ext cx="6191280" cy="4352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755640" y="476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xican Hat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8:27:59Z</dcterms:created>
  <dc:creator>Education</dc:creator>
  <dc:description/>
  <dc:language>en-US</dc:language>
  <cp:lastModifiedBy>LEGION2</cp:lastModifiedBy>
  <dcterms:modified xsi:type="dcterms:W3CDTF">2016-01-13T09:48:31Z</dcterms:modified>
  <cp:revision>25</cp:revision>
  <dc:subject/>
  <dc:title>PLANTLETS</dc:title>
</cp:coreProperties>
</file>