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1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9F41-972F-4D7A-859E-1759364EC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otomicrograph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t Tiss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micro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lamydomonas sp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amydomonas s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uglena gracili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e cell with flagell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glena graci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 with flag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ies of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lothrix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y cells in 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othrix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 in 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olvox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undreds of cells in hollow sphe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lls have flagell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vox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ndreds of cells in hollow 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have flag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diastrum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up of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diastrum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cot roo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nter of roo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ylem form “X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loem at tip of xyl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ot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 form “X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 at tip of 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lix root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scular bund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ix root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bu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adopho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veral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dopho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anunculus root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scular bund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unculus root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bu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E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rangement of bund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ngement of bund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ndle in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loem (top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mbium (midd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ylem (bottom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which is interio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ndle in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 (to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bium (midd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 (botto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ich is interi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th ring (xyl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lia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swood tre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th ring (xyl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lia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swood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leus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 of bund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ylem -- ins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loem -- outs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eus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 of bu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 -- in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 -- out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edicago stem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scular bundles in r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go stem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bundles in 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em, composi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ft tiss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m, compo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lls in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ickened xyl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in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ened 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mboo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mboo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etabula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abula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ylem cells in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ngitudinal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nular rings (lef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iral rings (righ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ngs reinforce the cell wa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 cells in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itudinal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ular rings (lef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rings (r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ngs reinforce the cell 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lia, 3-year stem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lia, 3-year stem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lia stem, 3-year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lia stem, 3-year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stalia lea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loating water pla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ir spa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ali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water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sp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gonia lea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ir spa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uard cells (stomat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oni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rd cells (stoma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rface vie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about 50X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ce the chloropla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bout 50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e chloropl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ough central ve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rough central v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tion through small ve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through small v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edogonium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edogonium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yringa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ringa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Zea mays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af ve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ea mays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f v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leander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it to reduce water los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eander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 to reduce water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lodea  meristem (rapidly dividing cell regio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ngitudinal section, l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dea  meristem (rapidly dividing cell reg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itudinal section, l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tus bud, l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e (pedunc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us bud, l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(pedun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lower peta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ower p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ous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jugation (sexual reproductio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amentous 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gation (sexual reprodu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ores:  union of 2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:  union of 2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D72A-7858-46A9-9D39-2F2FF1821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C81B-0B23-4980-820E-20452E49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7AD1-392C-4E21-9E36-516182BDA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760B-5CD5-4B59-B748-0782CFE52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5D8C-EB95-4B7D-9478-50A644E4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F2EA-55F9-44B7-935C-CF3E6B0F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41F6-A1FF-4FC6-A5FF-83DA1108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9328-11E0-4E05-ADFB-E836F2C2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DE60-1F98-4327-B44F-F4D2C949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39D1-E8DE-4CC4-8A67-FF100F9B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E655-D3CF-4419-A4F0-0A82BFAB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8B0F-3B06-4917-A1D3-2FC19AD8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A7C0-18A5-4F85-84BD-EC5F948D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F0DC-C38A-426D-83B7-A3F1BAF8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DB19-EC20-4CD6-AC78-BB1EFF8E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EFC22-D70B-4AAC-9C4F-4B6A0A184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4704-C5A3-4A22-A245-FBB7EDDC2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45B7-DE34-4AE5-954B-F23BF676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1011-847D-4B0E-AEE9-4126485C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5154-98B1-4FEE-BB77-95B41B31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9DD8-251B-425D-AA2F-FECBE2C5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1B7F-52DE-4A66-8DF5-C2D334A2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4988-B1CD-4199-A58A-B6A8BD3A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C782-68A5-455F-857E-03C83C50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B809-A3CA-4B84-95C8-28E69B01F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8BF0-C1C5-45B1-A97B-2392E452B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79400" y="1757160"/>
            <a:ext cx="7678800" cy="771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hotomicrograph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t Tiss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181480" y="3124080"/>
            <a:ext cx="3657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lamydomona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c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5" descr="chlamy"/>
          <p:cNvPicPr/>
          <p:nvPr/>
        </p:nvPicPr>
        <p:blipFill>
          <a:blip r:embed="rId1"/>
          <a:stretch/>
        </p:blipFill>
        <p:spPr>
          <a:xfrm>
            <a:off x="195120" y="1752480"/>
            <a:ext cx="4751640" cy="5105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48280" y="1905120"/>
            <a:ext cx="3975120" cy="19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uglen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gracil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cell with flag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Picture 5" descr="Euglena"/>
          <p:cNvPicPr/>
          <p:nvPr/>
        </p:nvPicPr>
        <p:blipFill>
          <a:blip r:embed="rId1"/>
          <a:stretch/>
        </p:blipFill>
        <p:spPr>
          <a:xfrm>
            <a:off x="1673280" y="1905120"/>
            <a:ext cx="2454120" cy="4190760"/>
          </a:xfrm>
          <a:prstGeom prst="rect">
            <a:avLst/>
          </a:prstGeom>
          <a:ln w="0">
            <a:noFill/>
          </a:ln>
        </p:spPr>
      </p:pic>
      <p:sp>
        <p:nvSpPr>
          <p:cNvPr id="256" name="Line 6"/>
          <p:cNvSpPr/>
          <p:nvPr/>
        </p:nvSpPr>
        <p:spPr>
          <a:xfrm flipH="1">
            <a:off x="2437920" y="3200400"/>
            <a:ext cx="22100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scillato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es of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5" descr="Oscilla"/>
          <p:cNvPicPr/>
          <p:nvPr/>
        </p:nvPicPr>
        <p:blipFill>
          <a:blip r:embed="rId1"/>
          <a:stretch/>
        </p:blipFill>
        <p:spPr>
          <a:xfrm>
            <a:off x="1963800" y="1905120"/>
            <a:ext cx="1874880" cy="4190760"/>
          </a:xfrm>
          <a:prstGeom prst="rect">
            <a:avLst/>
          </a:prstGeom>
          <a:ln w="0">
            <a:noFill/>
          </a:ln>
        </p:spPr>
      </p:pic>
      <p:sp>
        <p:nvSpPr>
          <p:cNvPr id="260" name="Line 6"/>
          <p:cNvSpPr/>
          <p:nvPr/>
        </p:nvSpPr>
        <p:spPr>
          <a:xfrm flipH="1" flipV="1">
            <a:off x="2971440" y="3580920"/>
            <a:ext cx="160020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Line 7"/>
          <p:cNvSpPr/>
          <p:nvPr/>
        </p:nvSpPr>
        <p:spPr>
          <a:xfrm flipH="1">
            <a:off x="2895120" y="3886200"/>
            <a:ext cx="17528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438280" y="4800600"/>
            <a:ext cx="38102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Ulothri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 in fila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5" descr="Ulothrix"/>
          <p:cNvPicPr/>
          <p:nvPr/>
        </p:nvPicPr>
        <p:blipFill>
          <a:blip r:embed="rId1"/>
          <a:stretch/>
        </p:blipFill>
        <p:spPr>
          <a:xfrm>
            <a:off x="1523880" y="1523880"/>
            <a:ext cx="5639040" cy="3354480"/>
          </a:xfrm>
          <a:prstGeom prst="rect">
            <a:avLst/>
          </a:prstGeom>
          <a:ln w="0">
            <a:noFill/>
          </a:ln>
        </p:spPr>
      </p:pic>
      <p:sp>
        <p:nvSpPr>
          <p:cNvPr id="265" name="Line 6"/>
          <p:cNvSpPr/>
          <p:nvPr/>
        </p:nvSpPr>
        <p:spPr>
          <a:xfrm flipV="1">
            <a:off x="4038480" y="3581280"/>
            <a:ext cx="0" cy="24386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7"/>
          <p:cNvSpPr/>
          <p:nvPr/>
        </p:nvSpPr>
        <p:spPr>
          <a:xfrm flipV="1">
            <a:off x="4267080" y="3428640"/>
            <a:ext cx="762120" cy="25909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800240" y="2437920"/>
            <a:ext cx="38098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Volvo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undreds of cells in hollow sphe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lls have flag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Picture 5" descr="volvox01"/>
          <p:cNvPicPr/>
          <p:nvPr/>
        </p:nvPicPr>
        <p:blipFill>
          <a:blip r:embed="rId1"/>
          <a:stretch/>
        </p:blipFill>
        <p:spPr>
          <a:xfrm>
            <a:off x="912960" y="2173320"/>
            <a:ext cx="3975120" cy="3654360"/>
          </a:xfrm>
          <a:prstGeom prst="rect">
            <a:avLst/>
          </a:prstGeom>
          <a:ln w="0">
            <a:noFill/>
          </a:ln>
        </p:spPr>
      </p:pic>
      <p:sp>
        <p:nvSpPr>
          <p:cNvPr id="270" name="Line 6"/>
          <p:cNvSpPr/>
          <p:nvPr/>
        </p:nvSpPr>
        <p:spPr>
          <a:xfrm flipH="1">
            <a:off x="2057040" y="5715000"/>
            <a:ext cx="289548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4952880" y="556272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pirogyr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pec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888080" y="2447640"/>
            <a:ext cx="39765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en 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ediastru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of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1029" descr="Pedias"/>
          <p:cNvPicPr/>
          <p:nvPr/>
        </p:nvPicPr>
        <p:blipFill>
          <a:blip r:embed="rId1"/>
          <a:stretch/>
        </p:blipFill>
        <p:spPr>
          <a:xfrm>
            <a:off x="912960" y="2252520"/>
            <a:ext cx="3975120" cy="3495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48280" y="2292120"/>
            <a:ext cx="39751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scillato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Oscillatoria_130"/>
          <p:cNvPicPr/>
          <p:nvPr/>
        </p:nvPicPr>
        <p:blipFill>
          <a:blip r:embed="rId1"/>
          <a:stretch/>
        </p:blipFill>
        <p:spPr>
          <a:xfrm>
            <a:off x="1406520" y="1905120"/>
            <a:ext cx="2987640" cy="4190760"/>
          </a:xfrm>
          <a:prstGeom prst="rect">
            <a:avLst/>
          </a:prstGeom>
          <a:ln w="0">
            <a:noFill/>
          </a:ln>
        </p:spPr>
      </p:pic>
      <p:sp>
        <p:nvSpPr>
          <p:cNvPr id="278" name="Line 6"/>
          <p:cNvSpPr/>
          <p:nvPr/>
        </p:nvSpPr>
        <p:spPr>
          <a:xfrm flipH="1">
            <a:off x="3200040" y="3657600"/>
            <a:ext cx="152388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Line 8"/>
          <p:cNvSpPr/>
          <p:nvPr/>
        </p:nvSpPr>
        <p:spPr>
          <a:xfrm flipH="1">
            <a:off x="3123720" y="3657600"/>
            <a:ext cx="160020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O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cot ro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ter of ro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ylem form “X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loem at tip of xy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5" descr="DICO021B"/>
          <p:cNvPicPr/>
          <p:nvPr/>
        </p:nvPicPr>
        <p:blipFill>
          <a:blip r:embed="rId1"/>
          <a:stretch/>
        </p:blipFill>
        <p:spPr>
          <a:xfrm>
            <a:off x="1017720" y="1905120"/>
            <a:ext cx="3767040" cy="4190760"/>
          </a:xfrm>
          <a:prstGeom prst="rect">
            <a:avLst/>
          </a:prstGeom>
          <a:ln w="0">
            <a:noFill/>
          </a:ln>
        </p:spPr>
      </p:pic>
      <p:sp>
        <p:nvSpPr>
          <p:cNvPr id="285" name="Line 6"/>
          <p:cNvSpPr/>
          <p:nvPr/>
        </p:nvSpPr>
        <p:spPr>
          <a:xfrm flipH="1" flipV="1">
            <a:off x="2743200" y="3809880"/>
            <a:ext cx="2362320" cy="4572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Line 7"/>
          <p:cNvSpPr/>
          <p:nvPr/>
        </p:nvSpPr>
        <p:spPr>
          <a:xfrm flipH="1" flipV="1">
            <a:off x="2666880" y="4571640"/>
            <a:ext cx="236232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68720" y="2603160"/>
            <a:ext cx="3975120" cy="24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ali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oot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scular bund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Picture 5" descr="Salixroot"/>
          <p:cNvPicPr/>
          <p:nvPr/>
        </p:nvPicPr>
        <p:blipFill>
          <a:blip r:embed="rId1"/>
          <a:stretch/>
        </p:blipFill>
        <p:spPr>
          <a:xfrm>
            <a:off x="912960" y="2144880"/>
            <a:ext cx="3975120" cy="3711240"/>
          </a:xfrm>
          <a:prstGeom prst="rect">
            <a:avLst/>
          </a:prstGeom>
          <a:ln w="0">
            <a:noFill/>
          </a:ln>
        </p:spPr>
      </p:pic>
      <p:sp>
        <p:nvSpPr>
          <p:cNvPr id="290" name="Line 6"/>
          <p:cNvSpPr/>
          <p:nvPr/>
        </p:nvSpPr>
        <p:spPr>
          <a:xfrm flipH="1">
            <a:off x="2819520" y="3962520"/>
            <a:ext cx="213336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48280" y="2603160"/>
            <a:ext cx="39751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ladophora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ral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5" descr="Cladophora_100x"/>
          <p:cNvPicPr/>
          <p:nvPr/>
        </p:nvPicPr>
        <p:blipFill>
          <a:blip r:embed="rId1"/>
          <a:stretch/>
        </p:blipFill>
        <p:spPr>
          <a:xfrm>
            <a:off x="912960" y="2530440"/>
            <a:ext cx="3975120" cy="2938320"/>
          </a:xfrm>
          <a:prstGeom prst="rect">
            <a:avLst/>
          </a:prstGeom>
          <a:ln w="0">
            <a:noFill/>
          </a:ln>
        </p:spPr>
      </p:pic>
      <p:sp>
        <p:nvSpPr>
          <p:cNvPr id="222" name="Line 6"/>
          <p:cNvSpPr/>
          <p:nvPr/>
        </p:nvSpPr>
        <p:spPr>
          <a:xfrm flipH="1">
            <a:off x="4495680" y="4419720"/>
            <a:ext cx="1526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7"/>
          <p:cNvSpPr/>
          <p:nvPr/>
        </p:nvSpPr>
        <p:spPr>
          <a:xfrm flipH="1" flipV="1">
            <a:off x="3505320" y="3733560"/>
            <a:ext cx="121896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48280" y="2680920"/>
            <a:ext cx="397512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nunculus root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scular bund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Picture 5" descr="Ranunculusroot"/>
          <p:cNvPicPr/>
          <p:nvPr/>
        </p:nvPicPr>
        <p:blipFill>
          <a:blip r:embed="rId1"/>
          <a:stretch/>
        </p:blipFill>
        <p:spPr>
          <a:xfrm>
            <a:off x="912960" y="2222640"/>
            <a:ext cx="3975120" cy="3555720"/>
          </a:xfrm>
          <a:prstGeom prst="rect">
            <a:avLst/>
          </a:prstGeom>
          <a:ln w="0">
            <a:noFill/>
          </a:ln>
        </p:spPr>
      </p:pic>
      <p:sp>
        <p:nvSpPr>
          <p:cNvPr id="294" name="Line 6"/>
          <p:cNvSpPr/>
          <p:nvPr/>
        </p:nvSpPr>
        <p:spPr>
          <a:xfrm flipH="1">
            <a:off x="2514240" y="4038480"/>
            <a:ext cx="243828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rangement of bund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5" descr="DICO026B"/>
          <p:cNvPicPr/>
          <p:nvPr/>
        </p:nvPicPr>
        <p:blipFill>
          <a:blip r:embed="rId1"/>
          <a:stretch/>
        </p:blipFill>
        <p:spPr>
          <a:xfrm>
            <a:off x="1611360" y="1905120"/>
            <a:ext cx="2576520" cy="4190760"/>
          </a:xfrm>
          <a:prstGeom prst="rect">
            <a:avLst/>
          </a:prstGeom>
          <a:ln w="0">
            <a:noFill/>
          </a:ln>
        </p:spPr>
      </p:pic>
      <p:sp>
        <p:nvSpPr>
          <p:cNvPr id="300" name="Line 6"/>
          <p:cNvSpPr/>
          <p:nvPr/>
        </p:nvSpPr>
        <p:spPr>
          <a:xfrm flipH="1" flipV="1">
            <a:off x="2437920" y="2743200"/>
            <a:ext cx="2514600" cy="4572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ndle in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loem (to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mbium (middl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ylem (bottom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which is interio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Picture 5" descr="DICO022B"/>
          <p:cNvPicPr/>
          <p:nvPr/>
        </p:nvPicPr>
        <p:blipFill>
          <a:blip r:embed="rId1"/>
          <a:stretch/>
        </p:blipFill>
        <p:spPr>
          <a:xfrm>
            <a:off x="1386000" y="1905120"/>
            <a:ext cx="3027240" cy="4190760"/>
          </a:xfrm>
          <a:prstGeom prst="rect">
            <a:avLst/>
          </a:prstGeom>
          <a:ln w="0">
            <a:noFill/>
          </a:ln>
        </p:spPr>
      </p:pic>
      <p:sp>
        <p:nvSpPr>
          <p:cNvPr id="304" name="Line 6"/>
          <p:cNvSpPr/>
          <p:nvPr/>
        </p:nvSpPr>
        <p:spPr>
          <a:xfrm flipH="1">
            <a:off x="2971440" y="3809880"/>
            <a:ext cx="1981080" cy="1526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Line 7"/>
          <p:cNvSpPr/>
          <p:nvPr/>
        </p:nvSpPr>
        <p:spPr>
          <a:xfrm flipH="1" flipV="1">
            <a:off x="3047760" y="2895120"/>
            <a:ext cx="1981080" cy="3812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Line 8"/>
          <p:cNvSpPr/>
          <p:nvPr/>
        </p:nvSpPr>
        <p:spPr>
          <a:xfrm flipH="1">
            <a:off x="2286000" y="4343400"/>
            <a:ext cx="2743200" cy="1522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800240" y="251460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ring (xylem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il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swood tr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9" name="Picture 5" descr="Growth_ring"/>
          <p:cNvPicPr/>
          <p:nvPr/>
        </p:nvPicPr>
        <p:blipFill>
          <a:blip r:embed="rId1"/>
          <a:stretch/>
        </p:blipFill>
        <p:spPr>
          <a:xfrm>
            <a:off x="912960" y="2470320"/>
            <a:ext cx="3975120" cy="306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724280" y="2514240"/>
            <a:ext cx="3810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eus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 of bund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ylem -- ins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loem -- outs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Picture 5" descr="coleus"/>
          <p:cNvPicPr/>
          <p:nvPr/>
        </p:nvPicPr>
        <p:blipFill>
          <a:blip r:embed="rId1"/>
          <a:stretch/>
        </p:blipFill>
        <p:spPr>
          <a:xfrm>
            <a:off x="912960" y="2448000"/>
            <a:ext cx="3975120" cy="3105000"/>
          </a:xfrm>
          <a:prstGeom prst="rect">
            <a:avLst/>
          </a:prstGeom>
          <a:ln w="0">
            <a:noFill/>
          </a:ln>
        </p:spPr>
      </p:pic>
      <p:sp>
        <p:nvSpPr>
          <p:cNvPr id="313" name="Line 6"/>
          <p:cNvSpPr/>
          <p:nvPr/>
        </p:nvSpPr>
        <p:spPr>
          <a:xfrm flipH="1" flipV="1">
            <a:off x="2666520" y="3505320"/>
            <a:ext cx="2514600" cy="12189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Line 7"/>
          <p:cNvSpPr/>
          <p:nvPr/>
        </p:nvSpPr>
        <p:spPr>
          <a:xfrm flipH="1" flipV="1">
            <a:off x="2437920" y="3962520"/>
            <a:ext cx="2667240" cy="12952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724280" y="2742840"/>
            <a:ext cx="38102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dicago stem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scular bundles in 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7" name="Picture 1029" descr="Medicagostem"/>
          <p:cNvPicPr/>
          <p:nvPr/>
        </p:nvPicPr>
        <p:blipFill>
          <a:blip r:embed="rId1"/>
          <a:stretch/>
        </p:blipFill>
        <p:spPr>
          <a:xfrm>
            <a:off x="912960" y="2359080"/>
            <a:ext cx="3975120" cy="3282840"/>
          </a:xfrm>
          <a:prstGeom prst="rect">
            <a:avLst/>
          </a:prstGeom>
          <a:ln w="0">
            <a:noFill/>
          </a:ln>
        </p:spPr>
      </p:pic>
      <p:sp>
        <p:nvSpPr>
          <p:cNvPr id="318" name="Line 1030"/>
          <p:cNvSpPr/>
          <p:nvPr/>
        </p:nvSpPr>
        <p:spPr>
          <a:xfrm flipH="1" flipV="1">
            <a:off x="3657600" y="3504960"/>
            <a:ext cx="1371600" cy="759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Line 1031"/>
          <p:cNvSpPr/>
          <p:nvPr/>
        </p:nvSpPr>
        <p:spPr>
          <a:xfrm flipH="1">
            <a:off x="3885840" y="3581280"/>
            <a:ext cx="1143000" cy="9144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800240" y="27428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m, compos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2" name="Picture 5" descr="Composistem"/>
          <p:cNvPicPr/>
          <p:nvPr/>
        </p:nvPicPr>
        <p:blipFill>
          <a:blip r:embed="rId1"/>
          <a:stretch/>
        </p:blipFill>
        <p:spPr>
          <a:xfrm>
            <a:off x="912960" y="2271600"/>
            <a:ext cx="3975120" cy="345600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6"/>
          <p:cNvSpPr/>
          <p:nvPr/>
        </p:nvSpPr>
        <p:spPr>
          <a:xfrm>
            <a:off x="2057400" y="37339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 tiss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48280" y="2138040"/>
            <a:ext cx="3975120" cy="31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lls in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ckened xy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Picture 5" descr="BOTA003B"/>
          <p:cNvPicPr/>
          <p:nvPr/>
        </p:nvPicPr>
        <p:blipFill>
          <a:blip r:embed="rId1"/>
          <a:stretch/>
        </p:blipFill>
        <p:spPr>
          <a:xfrm>
            <a:off x="938160" y="1905120"/>
            <a:ext cx="3925800" cy="4190760"/>
          </a:xfrm>
          <a:prstGeom prst="rect">
            <a:avLst/>
          </a:prstGeom>
          <a:ln w="0">
            <a:noFill/>
          </a:ln>
        </p:spPr>
      </p:pic>
      <p:sp>
        <p:nvSpPr>
          <p:cNvPr id="327" name="Line 6"/>
          <p:cNvSpPr/>
          <p:nvPr/>
        </p:nvSpPr>
        <p:spPr>
          <a:xfrm flipH="1">
            <a:off x="3733920" y="3276720"/>
            <a:ext cx="137160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724280" y="2666880"/>
            <a:ext cx="38102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mboo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Picture 5" descr="bamboo10x"/>
          <p:cNvPicPr/>
          <p:nvPr/>
        </p:nvPicPr>
        <p:blipFill>
          <a:blip r:embed="rId1"/>
          <a:stretch/>
        </p:blipFill>
        <p:spPr>
          <a:xfrm>
            <a:off x="912960" y="2600280"/>
            <a:ext cx="3975120" cy="2800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800240" y="2362320"/>
            <a:ext cx="3809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cetabula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5" descr="acetab"/>
          <p:cNvPicPr/>
          <p:nvPr/>
        </p:nvPicPr>
        <p:blipFill>
          <a:blip r:embed="rId1"/>
          <a:stretch/>
        </p:blipFill>
        <p:spPr>
          <a:xfrm>
            <a:off x="912960" y="1922400"/>
            <a:ext cx="3975120" cy="4156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ylem cells in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ngitudinal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nular rings (lef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iral rings (righ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" name="Picture 5" descr="Annular_helical"/>
          <p:cNvPicPr/>
          <p:nvPr/>
        </p:nvPicPr>
        <p:blipFill>
          <a:blip r:embed="rId1"/>
          <a:stretch/>
        </p:blipFill>
        <p:spPr>
          <a:xfrm>
            <a:off x="992160" y="1982880"/>
            <a:ext cx="3976560" cy="3089160"/>
          </a:xfrm>
          <a:prstGeom prst="rect">
            <a:avLst/>
          </a:prstGeom>
          <a:ln w="0">
            <a:noFill/>
          </a:ln>
        </p:spPr>
      </p:pic>
      <p:sp>
        <p:nvSpPr>
          <p:cNvPr id="334" name="Line 6"/>
          <p:cNvSpPr/>
          <p:nvPr/>
        </p:nvSpPr>
        <p:spPr>
          <a:xfrm flipH="1" flipV="1">
            <a:off x="2133360" y="3276720"/>
            <a:ext cx="297180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7"/>
          <p:cNvSpPr/>
          <p:nvPr/>
        </p:nvSpPr>
        <p:spPr>
          <a:xfrm flipH="1" flipV="1">
            <a:off x="3200400" y="4190760"/>
            <a:ext cx="1905120" cy="759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4800600" y="56386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ngs reinforce the cell wal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800240" y="2819520"/>
            <a:ext cx="38098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lia, 3-year stem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9" name="Picture 1029" descr="Tilia3yr"/>
          <p:cNvPicPr/>
          <p:nvPr/>
        </p:nvPicPr>
        <p:blipFill>
          <a:blip r:embed="rId1"/>
          <a:stretch/>
        </p:blipFill>
        <p:spPr>
          <a:xfrm>
            <a:off x="912960" y="2544840"/>
            <a:ext cx="3975120" cy="2911320"/>
          </a:xfrm>
          <a:prstGeom prst="rect">
            <a:avLst/>
          </a:prstGeom>
          <a:ln w="0">
            <a:noFill/>
          </a:ln>
        </p:spPr>
      </p:pic>
      <p:sp>
        <p:nvSpPr>
          <p:cNvPr id="340" name="Line 1030"/>
          <p:cNvSpPr/>
          <p:nvPr/>
        </p:nvSpPr>
        <p:spPr>
          <a:xfrm flipH="1">
            <a:off x="1143000" y="4114800"/>
            <a:ext cx="4038480" cy="6858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Line 1031"/>
          <p:cNvSpPr/>
          <p:nvPr/>
        </p:nvSpPr>
        <p:spPr>
          <a:xfrm>
            <a:off x="4343400" y="3048120"/>
            <a:ext cx="838080" cy="3808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48280" y="3223800"/>
            <a:ext cx="3975120" cy="28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lia stem, 3-year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4" name="Picture 1029" descr="tiliastemabbe"/>
          <p:cNvPicPr/>
          <p:nvPr/>
        </p:nvPicPr>
        <p:blipFill>
          <a:blip r:embed="rId1"/>
          <a:stretch/>
        </p:blipFill>
        <p:spPr>
          <a:xfrm>
            <a:off x="912960" y="2538360"/>
            <a:ext cx="3975120" cy="2922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A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724280" y="2895120"/>
            <a:ext cx="38102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astal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lea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loating water pl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ir spa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9" name="Picture 5" descr="Castalialeaf"/>
          <p:cNvPicPr/>
          <p:nvPr/>
        </p:nvPicPr>
        <p:blipFill>
          <a:blip r:embed="rId1"/>
          <a:stretch/>
        </p:blipFill>
        <p:spPr>
          <a:xfrm>
            <a:off x="912960" y="2666880"/>
            <a:ext cx="3975120" cy="2667240"/>
          </a:xfrm>
          <a:prstGeom prst="rect">
            <a:avLst/>
          </a:prstGeom>
          <a:ln w="0">
            <a:noFill/>
          </a:ln>
        </p:spPr>
      </p:pic>
      <p:sp>
        <p:nvSpPr>
          <p:cNvPr id="350" name="Line 6"/>
          <p:cNvSpPr/>
          <p:nvPr/>
        </p:nvSpPr>
        <p:spPr>
          <a:xfrm flipH="1" flipV="1">
            <a:off x="3733920" y="3886200"/>
            <a:ext cx="1218960" cy="8380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Line 7"/>
          <p:cNvSpPr/>
          <p:nvPr/>
        </p:nvSpPr>
        <p:spPr>
          <a:xfrm flipH="1" flipV="1">
            <a:off x="3048120" y="3962520"/>
            <a:ext cx="1828800" cy="7617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800240" y="3276360"/>
            <a:ext cx="38098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Begon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ea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ir s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ard cells (stomat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4" name="Picture 5" descr="Begonialeaf"/>
          <p:cNvPicPr/>
          <p:nvPr/>
        </p:nvPicPr>
        <p:blipFill>
          <a:blip r:embed="rId1"/>
          <a:stretch/>
        </p:blipFill>
        <p:spPr>
          <a:xfrm>
            <a:off x="912960" y="2787480"/>
            <a:ext cx="3975120" cy="2426040"/>
          </a:xfrm>
          <a:prstGeom prst="rect">
            <a:avLst/>
          </a:prstGeom>
          <a:ln w="0">
            <a:noFill/>
          </a:ln>
        </p:spPr>
      </p:pic>
      <p:sp>
        <p:nvSpPr>
          <p:cNvPr id="355" name="Line 6"/>
          <p:cNvSpPr/>
          <p:nvPr/>
        </p:nvSpPr>
        <p:spPr>
          <a:xfrm flipH="1">
            <a:off x="2286000" y="4419720"/>
            <a:ext cx="281952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Line 7"/>
          <p:cNvSpPr/>
          <p:nvPr/>
        </p:nvSpPr>
        <p:spPr>
          <a:xfrm flipH="1">
            <a:off x="2362320" y="4876920"/>
            <a:ext cx="27432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a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rface 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about 50X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ice the chloropla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5" descr="Chloroplasts"/>
          <p:cNvPicPr/>
          <p:nvPr/>
        </p:nvPicPr>
        <p:blipFill>
          <a:blip r:embed="rId1"/>
          <a:stretch/>
        </p:blipFill>
        <p:spPr>
          <a:xfrm>
            <a:off x="992160" y="1982880"/>
            <a:ext cx="3976560" cy="2658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724280" y="2743200"/>
            <a:ext cx="38102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2" name="Picture 5" descr="mangroveleaf"/>
          <p:cNvPicPr/>
          <p:nvPr/>
        </p:nvPicPr>
        <p:blipFill>
          <a:blip r:embed="rId1"/>
          <a:stretch/>
        </p:blipFill>
        <p:spPr>
          <a:xfrm>
            <a:off x="912960" y="2600280"/>
            <a:ext cx="3975120" cy="2800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48280" y="2447640"/>
            <a:ext cx="397512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rough central ve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lo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yl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5" name="Picture 5" descr="mangroveleaf2"/>
          <p:cNvPicPr/>
          <p:nvPr/>
        </p:nvPicPr>
        <p:blipFill>
          <a:blip r:embed="rId1"/>
          <a:stretch/>
        </p:blipFill>
        <p:spPr>
          <a:xfrm>
            <a:off x="912960" y="2600280"/>
            <a:ext cx="3975120" cy="2800440"/>
          </a:xfrm>
          <a:prstGeom prst="rect">
            <a:avLst/>
          </a:prstGeom>
          <a:ln w="0">
            <a:noFill/>
          </a:ln>
        </p:spPr>
      </p:pic>
      <p:sp>
        <p:nvSpPr>
          <p:cNvPr id="366" name="Line 6"/>
          <p:cNvSpPr/>
          <p:nvPr/>
        </p:nvSpPr>
        <p:spPr>
          <a:xfrm flipH="1" flipV="1">
            <a:off x="2971440" y="3580920"/>
            <a:ext cx="198108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Line 7"/>
          <p:cNvSpPr/>
          <p:nvPr/>
        </p:nvSpPr>
        <p:spPr>
          <a:xfrm flipH="1" flipV="1">
            <a:off x="2895120" y="3809880"/>
            <a:ext cx="2057400" cy="4572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Rectangle 8"/>
          <p:cNvSpPr/>
          <p:nvPr/>
        </p:nvSpPr>
        <p:spPr>
          <a:xfrm>
            <a:off x="5184720" y="5029200"/>
            <a:ext cx="186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724280" y="3123720"/>
            <a:ext cx="38102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tion through small ve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1" name="Picture 5" descr="mangroveleaf3"/>
          <p:cNvPicPr/>
          <p:nvPr/>
        </p:nvPicPr>
        <p:blipFill>
          <a:blip r:embed="rId1"/>
          <a:stretch/>
        </p:blipFill>
        <p:spPr>
          <a:xfrm>
            <a:off x="912960" y="2600280"/>
            <a:ext cx="3975120" cy="2800440"/>
          </a:xfrm>
          <a:prstGeom prst="rect">
            <a:avLst/>
          </a:prstGeom>
          <a:ln w="0">
            <a:noFill/>
          </a:ln>
        </p:spPr>
      </p:pic>
      <p:sp>
        <p:nvSpPr>
          <p:cNvPr id="372" name="Line 6"/>
          <p:cNvSpPr/>
          <p:nvPr/>
        </p:nvSpPr>
        <p:spPr>
          <a:xfrm flipH="1">
            <a:off x="2133360" y="4419720"/>
            <a:ext cx="2819160" cy="0"/>
          </a:xfrm>
          <a:prstGeom prst="line">
            <a:avLst/>
          </a:prstGeom>
          <a:ln w="9360">
            <a:solidFill>
              <a:srgbClr val="9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5413320" y="4876920"/>
            <a:ext cx="186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742840" y="487656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edogoniu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1029" descr="algae25"/>
          <p:cNvPicPr/>
          <p:nvPr/>
        </p:nvPicPr>
        <p:blipFill>
          <a:blip r:embed="rId1"/>
          <a:stretch/>
        </p:blipFill>
        <p:spPr>
          <a:xfrm>
            <a:off x="2025720" y="2216160"/>
            <a:ext cx="6519960" cy="1781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800240" y="3123720"/>
            <a:ext cx="380988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ringa leaf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Picture 5" descr="syringaleaf"/>
          <p:cNvPicPr/>
          <p:nvPr/>
        </p:nvPicPr>
        <p:blipFill>
          <a:blip r:embed="rId1"/>
          <a:stretch/>
        </p:blipFill>
        <p:spPr>
          <a:xfrm>
            <a:off x="912960" y="2909880"/>
            <a:ext cx="3975120" cy="2182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647960" y="312372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Zea may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leaf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af ve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5" descr="zealeaf"/>
          <p:cNvPicPr/>
          <p:nvPr/>
        </p:nvPicPr>
        <p:blipFill>
          <a:blip r:embed="rId1"/>
          <a:stretch/>
        </p:blipFill>
        <p:spPr>
          <a:xfrm>
            <a:off x="912960" y="2787480"/>
            <a:ext cx="3975120" cy="2426040"/>
          </a:xfrm>
          <a:prstGeom prst="rect">
            <a:avLst/>
          </a:prstGeom>
          <a:ln w="0">
            <a:noFill/>
          </a:ln>
        </p:spPr>
      </p:pic>
      <p:sp>
        <p:nvSpPr>
          <p:cNvPr id="380" name="Line 6"/>
          <p:cNvSpPr/>
          <p:nvPr/>
        </p:nvSpPr>
        <p:spPr>
          <a:xfrm flipH="1">
            <a:off x="3733920" y="3962520"/>
            <a:ext cx="121896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48280" y="3068280"/>
            <a:ext cx="3975120" cy="27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leander leaf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it to reduce water lo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5" descr="oleanderleaf"/>
          <p:cNvPicPr/>
          <p:nvPr/>
        </p:nvPicPr>
        <p:blipFill>
          <a:blip r:embed="rId1"/>
          <a:stretch/>
        </p:blipFill>
        <p:spPr>
          <a:xfrm>
            <a:off x="912960" y="2600280"/>
            <a:ext cx="3975120" cy="2800440"/>
          </a:xfrm>
          <a:prstGeom prst="rect">
            <a:avLst/>
          </a:prstGeom>
          <a:ln w="0">
            <a:noFill/>
          </a:ln>
        </p:spPr>
      </p:pic>
      <p:sp>
        <p:nvSpPr>
          <p:cNvPr id="384" name="Line 6"/>
          <p:cNvSpPr/>
          <p:nvPr/>
        </p:nvSpPr>
        <p:spPr>
          <a:xfrm flipH="1">
            <a:off x="2514600" y="4114800"/>
            <a:ext cx="2743200" cy="763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Line 7"/>
          <p:cNvSpPr/>
          <p:nvPr/>
        </p:nvSpPr>
        <p:spPr>
          <a:xfrm flipH="1">
            <a:off x="2590560" y="4267080"/>
            <a:ext cx="2361960" cy="304920"/>
          </a:xfrm>
          <a:prstGeom prst="line">
            <a:avLst/>
          </a:prstGeom>
          <a:ln w="9360">
            <a:solidFill>
              <a:srgbClr val="9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48280" y="2603160"/>
            <a:ext cx="3975120" cy="27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lode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meristem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rapidly dividing cell reg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ngitudinal section, l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8" name="Picture 5" descr="Elodeaapicalmeristem"/>
          <p:cNvPicPr/>
          <p:nvPr/>
        </p:nvPicPr>
        <p:blipFill>
          <a:blip r:embed="rId1"/>
          <a:stretch/>
        </p:blipFill>
        <p:spPr>
          <a:xfrm>
            <a:off x="912960" y="2544840"/>
            <a:ext cx="3975120" cy="2911320"/>
          </a:xfrm>
          <a:prstGeom prst="rect">
            <a:avLst/>
          </a:prstGeom>
          <a:ln w="0">
            <a:noFill/>
          </a:ln>
        </p:spPr>
      </p:pic>
      <p:sp>
        <p:nvSpPr>
          <p:cNvPr id="389" name="Line 6"/>
          <p:cNvSpPr/>
          <p:nvPr/>
        </p:nvSpPr>
        <p:spPr>
          <a:xfrm flipH="1">
            <a:off x="3809520" y="3048120"/>
            <a:ext cx="2514600" cy="11430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LOW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724280" y="2285640"/>
            <a:ext cx="38102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us bud, l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 (peduncl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low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4" name="Picture 5" descr="lotusbud"/>
          <p:cNvPicPr/>
          <p:nvPr/>
        </p:nvPicPr>
        <p:blipFill>
          <a:blip r:embed="rId1"/>
          <a:stretch/>
        </p:blipFill>
        <p:spPr>
          <a:xfrm>
            <a:off x="912960" y="2589120"/>
            <a:ext cx="3975120" cy="2822760"/>
          </a:xfrm>
          <a:prstGeom prst="rect">
            <a:avLst/>
          </a:prstGeom>
          <a:ln w="0">
            <a:noFill/>
          </a:ln>
        </p:spPr>
      </p:pic>
      <p:sp>
        <p:nvSpPr>
          <p:cNvPr id="395" name="Line 6"/>
          <p:cNvSpPr/>
          <p:nvPr/>
        </p:nvSpPr>
        <p:spPr>
          <a:xfrm flipH="1" flipV="1">
            <a:off x="2590560" y="3429000"/>
            <a:ext cx="2361960" cy="763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Line 7"/>
          <p:cNvSpPr/>
          <p:nvPr/>
        </p:nvSpPr>
        <p:spPr>
          <a:xfrm flipH="1">
            <a:off x="2514240" y="3505320"/>
            <a:ext cx="2438280" cy="9903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Line 8"/>
          <p:cNvSpPr/>
          <p:nvPr/>
        </p:nvSpPr>
        <p:spPr>
          <a:xfrm>
            <a:off x="6705720" y="3200400"/>
            <a:ext cx="0" cy="152388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Line 9"/>
          <p:cNvSpPr/>
          <p:nvPr/>
        </p:nvSpPr>
        <p:spPr>
          <a:xfrm flipH="1">
            <a:off x="2590560" y="4724280"/>
            <a:ext cx="419076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32432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400" name="Picture 3" descr="flowerpetal"/>
          <p:cNvPicPr/>
          <p:nvPr/>
        </p:nvPicPr>
        <p:blipFill>
          <a:blip r:embed="rId1"/>
          <a:stretch/>
        </p:blipFill>
        <p:spPr>
          <a:xfrm>
            <a:off x="609480" y="1778040"/>
            <a:ext cx="5079960" cy="507996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4"/>
          <p:cNvSpPr/>
          <p:nvPr/>
        </p:nvSpPr>
        <p:spPr>
          <a:xfrm>
            <a:off x="5943600" y="3505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ower pet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Line 5"/>
          <p:cNvSpPr/>
          <p:nvPr/>
        </p:nvSpPr>
        <p:spPr>
          <a:xfrm flipH="1">
            <a:off x="2971800" y="3962520"/>
            <a:ext cx="31240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Line 6"/>
          <p:cNvSpPr/>
          <p:nvPr/>
        </p:nvSpPr>
        <p:spPr>
          <a:xfrm flipH="1">
            <a:off x="2133720" y="3962520"/>
            <a:ext cx="396216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19160" y="4267080"/>
            <a:ext cx="38098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1029" descr="algae27"/>
          <p:cNvPicPr/>
          <p:nvPr/>
        </p:nvPicPr>
        <p:blipFill>
          <a:blip r:embed="rId1"/>
          <a:stretch/>
        </p:blipFill>
        <p:spPr>
          <a:xfrm>
            <a:off x="1628640" y="1905120"/>
            <a:ext cx="6361200" cy="2297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48280" y="2447640"/>
            <a:ext cx="397512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ous 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jugation (sexual reproducti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5" descr="spirocong"/>
          <p:cNvPicPr/>
          <p:nvPr/>
        </p:nvPicPr>
        <p:blipFill>
          <a:blip r:embed="rId1"/>
          <a:stretch/>
        </p:blipFill>
        <p:spPr>
          <a:xfrm>
            <a:off x="912960" y="2589120"/>
            <a:ext cx="3975120" cy="2822760"/>
          </a:xfrm>
          <a:prstGeom prst="rect">
            <a:avLst/>
          </a:prstGeom>
          <a:ln w="0">
            <a:noFill/>
          </a:ln>
        </p:spPr>
      </p:pic>
      <p:sp>
        <p:nvSpPr>
          <p:cNvPr id="236" name="Line 6"/>
          <p:cNvSpPr/>
          <p:nvPr/>
        </p:nvSpPr>
        <p:spPr>
          <a:xfrm flipH="1">
            <a:off x="3580920" y="3962520"/>
            <a:ext cx="12193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5108760" y="5257800"/>
            <a:ext cx="186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ores:  union of 2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5" descr="Spiro"/>
          <p:cNvPicPr/>
          <p:nvPr/>
        </p:nvPicPr>
        <p:blipFill>
          <a:blip r:embed="rId1"/>
          <a:stretch/>
        </p:blipFill>
        <p:spPr>
          <a:xfrm>
            <a:off x="0" y="21337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241" name="Line 6"/>
          <p:cNvSpPr/>
          <p:nvPr/>
        </p:nvSpPr>
        <p:spPr>
          <a:xfrm flipH="1">
            <a:off x="914400" y="2971800"/>
            <a:ext cx="36576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Line 7"/>
          <p:cNvSpPr/>
          <p:nvPr/>
        </p:nvSpPr>
        <p:spPr>
          <a:xfrm flipH="1">
            <a:off x="3580920" y="3505320"/>
            <a:ext cx="1143000" cy="5331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Line 8"/>
          <p:cNvSpPr/>
          <p:nvPr/>
        </p:nvSpPr>
        <p:spPr>
          <a:xfrm flipH="1">
            <a:off x="2895120" y="4038480"/>
            <a:ext cx="1752840" cy="19814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819160" y="54860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5" descr="algae69"/>
          <p:cNvPicPr/>
          <p:nvPr/>
        </p:nvPicPr>
        <p:blipFill>
          <a:blip r:embed="rId1"/>
          <a:stretch/>
        </p:blipFill>
        <p:spPr>
          <a:xfrm>
            <a:off x="1905120" y="160020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19920" y="2895120"/>
            <a:ext cx="26668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ar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5" descr="chara"/>
          <p:cNvPicPr/>
          <p:nvPr/>
        </p:nvPicPr>
        <p:blipFill>
          <a:blip r:embed="rId1"/>
          <a:stretch/>
        </p:blipFill>
        <p:spPr>
          <a:xfrm>
            <a:off x="762120" y="1905120"/>
            <a:ext cx="4595760" cy="4952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19:09:49Z</dcterms:created>
  <dc:creator>School of Business Admin</dc:creator>
  <dc:description/>
  <dc:language>en-US</dc:language>
  <cp:lastModifiedBy>RomaK</cp:lastModifiedBy>
  <dcterms:modified xsi:type="dcterms:W3CDTF">2015-09-04T12:12:15Z</dcterms:modified>
  <cp:revision>52</cp:revision>
  <dc:subject/>
  <dc:title>BOTANY</dc:title>
</cp:coreProperties>
</file>