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41.jpeg" ContentType="image/jpe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8"/>
          </p:nvPr>
        </p:nvSpPr>
        <p:spPr>
          <a:xfrm>
            <a:off x="-36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9"/>
          </p:nvPr>
        </p:nvSpPr>
        <p:spPr>
          <a:xfrm>
            <a:off x="388584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4713A-4614-4280-B2C4-6D588DDC8F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otomicrograph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ant Tiss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tomicro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nt T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lamydomonas sp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ne ce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lamydomonas s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e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uglena gracili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ne cell with flagell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glena graci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ell with flage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cillatori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ies of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cillatori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of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lothrix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y cells in fila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othrix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 in fila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olvox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undreds of cells in hollow sphe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ells have flagell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vox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ndreds of cells in hollow 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have flage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een 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diastrum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oup of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diastrum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of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cillatori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cillatori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O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cot roo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enter of roo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Xylem form “X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loem at tip of xyl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ot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ylem form “X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loem at tip of xy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alix root, x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scular bund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ix root, x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cular bun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adopho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veral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dopho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anunculus root, x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scular bund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unculus root, x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cular bun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E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rangement of bundl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ngement of bund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undle in 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loem (top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mbium (middl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Xylem (bottom)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which is interior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ndle in 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loem (to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bium (midd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ylem (bottom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ich is interi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owth ring (xyle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lia 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sswood tre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th ring (xyl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lia 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swood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leus 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oss section of bund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Xylem -- insi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loem -- outsi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eus 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 of bun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ylem -- in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loem -- out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edicago stem, x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scular bundles in r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ago stem, x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cular bundles in 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em, composi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ft tiss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m, compos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t t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ells in 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ickened xyl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in 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ckened xy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mboo 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mboo 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etabulari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etabulari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Xylem cells in 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ngitudinal se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nular rings (left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piral rings (right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ings reinforce the cell wal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ylem cells in 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itudinal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ular rings (lef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al rings (r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ngs reinforce the cell w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lia, 3-year stem, x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lia, 3-year stem, x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lia stem, 3-year, x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lia stem, 3-year, x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AF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stalia leaf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loating water pla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ir spac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talia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ing water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sp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gonia leaf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ir spa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uard cells (stomata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onia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ard cells (stomat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af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urface view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about 50X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ce the chloroplas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bout 50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e chloropla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grove leaf, x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ase contrast phot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grove leaf, x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contrast pho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grove leaf, x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ough central ve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lo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Xyl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ase contrast phot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ngrove leaf, x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rough central v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l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y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ase contrast pho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grove leaf, x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ction through small ve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ase contrast phot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grove leaf, x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ion through small v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contrast pho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edogonium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edogonium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yringa leaf, x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ringa leaf, x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Zea mays leaf, x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af ve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Zea mays leaf, x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f v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leander leaf, x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it to reduce water los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ase contrast phot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eander leaf, x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t to reduce water 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contrast pho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lodea  meristem (rapidly dividing cell region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ngitudinal section, l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odea  meristem (rapidly dividing cell reg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itudinal section, l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LOW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L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tus bud, l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se (peduncl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low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tus bud, l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(pedunc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lower peta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lower p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amentous 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jugation (sexual reproduction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ase contrast phot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lamentous 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jugation (sexual reproduc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ase contrast pho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pores:  union of 2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rid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res:  union of 2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E68A-D90D-47C3-8D2F-66F395778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D97B-C47A-4E13-8C78-BDF52E3D4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28D1-7CE4-4495-BE6E-6A00AF7AE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19BB-46EE-4E69-A79B-6A209BAC6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5FAB3-CE60-4978-94D4-450CECAF9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7ECB5-5B3F-4F66-B696-47A24455A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F3DF8-A1AC-4B2F-B616-668518CD8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004EA-DA10-4435-82AF-05A1FE574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F1D65-A94C-4774-9364-A63A3858A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03907-138C-4B59-A11B-5F3A221FA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C8906-F85A-46F4-8E3D-BA18D5E1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54C7-6241-4658-ABC7-EEAFCBB26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5EBCB-8462-4A81-9002-550BFEC6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1C338-9EAA-46BF-AFE3-B4C6D068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F9356-1A58-43CE-A13F-67D3E17BC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31719-590C-47BE-B39E-C4E0FDC6E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71A6D-DB67-4717-A38A-4E5FA3C55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0945-96DA-4E61-92B1-72CAB1EEF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34D5-0963-4E9E-9F7F-9A158458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A352-9D35-437C-B7FD-B8E63E8FD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5C23-7B96-4A07-9E33-FB2612949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D743-36D8-44F5-95B2-E92DDE68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CC54-73C1-4C4E-8EE6-B65E0E22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AA25-3AA6-472A-9BED-00A0D600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CD701-DCA8-4C29-8080-67392B9FE9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3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4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5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6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7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8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9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10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Rectangle 11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2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3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4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15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Rectangle 16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Rectangle 17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18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Rectangle 19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Rectangle 20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Rectangle 21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Rectangle 22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23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24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Rectangle 25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Rectangle 26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Rectangle 27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28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Rectangle 29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Rectangle 30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31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Rectangle 32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Rectangle 33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34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Rectangle 35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Rectangle 36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37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38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Rectangle 39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Rectangle 40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Rectangle 41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42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43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44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Rectangle 45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46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47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Rectangle 48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Rectangle 49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50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Rectangle 51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52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Rectangle 53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Rectangle 54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Rectangle 55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Rectangle 56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Rectangle 57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Rectangle 58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Rectangle 59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60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Rectangle 61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Rectangle 62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Rectangle 63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" name="Rectangle 64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Rectangle 65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" name="Rectangle 66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B4CE3-4341-4F09-8106-F586C46033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79400" y="1757160"/>
            <a:ext cx="7678800" cy="771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Photomicrograph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t Tissu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181480" y="3124080"/>
            <a:ext cx="3657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hlamydomona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cel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2" name="Picture 5" descr="chlamy"/>
          <p:cNvPicPr/>
          <p:nvPr/>
        </p:nvPicPr>
        <p:blipFill>
          <a:blip r:embed="rId1"/>
          <a:stretch/>
        </p:blipFill>
        <p:spPr>
          <a:xfrm>
            <a:off x="195120" y="1752480"/>
            <a:ext cx="4751640" cy="5105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48280" y="1905120"/>
            <a:ext cx="3975120" cy="193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Euglen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gracil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e cell with flagel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5" name="Picture 5" descr="Euglena"/>
          <p:cNvPicPr/>
          <p:nvPr/>
        </p:nvPicPr>
        <p:blipFill>
          <a:blip r:embed="rId1"/>
          <a:stretch/>
        </p:blipFill>
        <p:spPr>
          <a:xfrm>
            <a:off x="1673280" y="1905120"/>
            <a:ext cx="2454120" cy="4190760"/>
          </a:xfrm>
          <a:prstGeom prst="rect">
            <a:avLst/>
          </a:prstGeom>
          <a:ln w="0">
            <a:noFill/>
          </a:ln>
        </p:spPr>
      </p:pic>
      <p:sp>
        <p:nvSpPr>
          <p:cNvPr id="256" name="Line 6"/>
          <p:cNvSpPr/>
          <p:nvPr/>
        </p:nvSpPr>
        <p:spPr>
          <a:xfrm flipH="1">
            <a:off x="2437920" y="3200400"/>
            <a:ext cx="221004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4828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Oscillator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 in for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es of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Picture 5" descr="Oscilla"/>
          <p:cNvPicPr/>
          <p:nvPr/>
        </p:nvPicPr>
        <p:blipFill>
          <a:blip r:embed="rId1"/>
          <a:stretch/>
        </p:blipFill>
        <p:spPr>
          <a:xfrm>
            <a:off x="1963800" y="1905120"/>
            <a:ext cx="1874880" cy="4190760"/>
          </a:xfrm>
          <a:prstGeom prst="rect">
            <a:avLst/>
          </a:prstGeom>
          <a:ln w="0">
            <a:noFill/>
          </a:ln>
        </p:spPr>
      </p:pic>
      <p:sp>
        <p:nvSpPr>
          <p:cNvPr id="260" name="Line 6"/>
          <p:cNvSpPr/>
          <p:nvPr/>
        </p:nvSpPr>
        <p:spPr>
          <a:xfrm flipH="1" flipV="1">
            <a:off x="2971440" y="3580920"/>
            <a:ext cx="1600200" cy="2286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Line 7"/>
          <p:cNvSpPr/>
          <p:nvPr/>
        </p:nvSpPr>
        <p:spPr>
          <a:xfrm flipH="1">
            <a:off x="2895120" y="3886200"/>
            <a:ext cx="175284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438280" y="4800600"/>
            <a:ext cx="381024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Ulothri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y cells in fila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4" name="Picture 5" descr="Ulothrix"/>
          <p:cNvPicPr/>
          <p:nvPr/>
        </p:nvPicPr>
        <p:blipFill>
          <a:blip r:embed="rId1"/>
          <a:stretch/>
        </p:blipFill>
        <p:spPr>
          <a:xfrm>
            <a:off x="1523880" y="1523880"/>
            <a:ext cx="5639040" cy="3354480"/>
          </a:xfrm>
          <a:prstGeom prst="rect">
            <a:avLst/>
          </a:prstGeom>
          <a:ln w="0">
            <a:noFill/>
          </a:ln>
        </p:spPr>
      </p:pic>
      <p:sp>
        <p:nvSpPr>
          <p:cNvPr id="265" name="Line 6"/>
          <p:cNvSpPr/>
          <p:nvPr/>
        </p:nvSpPr>
        <p:spPr>
          <a:xfrm flipV="1">
            <a:off x="4038480" y="3581280"/>
            <a:ext cx="0" cy="243864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Line 7"/>
          <p:cNvSpPr/>
          <p:nvPr/>
        </p:nvSpPr>
        <p:spPr>
          <a:xfrm flipV="1">
            <a:off x="4267080" y="3428640"/>
            <a:ext cx="762120" cy="259092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800240" y="2437920"/>
            <a:ext cx="38098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Volvo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undreds of cells in hollow sphe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lls have flagel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9" name="Picture 5" descr="volvox01"/>
          <p:cNvPicPr/>
          <p:nvPr/>
        </p:nvPicPr>
        <p:blipFill>
          <a:blip r:embed="rId1"/>
          <a:stretch/>
        </p:blipFill>
        <p:spPr>
          <a:xfrm>
            <a:off x="912960" y="2173320"/>
            <a:ext cx="3975120" cy="3654360"/>
          </a:xfrm>
          <a:prstGeom prst="rect">
            <a:avLst/>
          </a:prstGeom>
          <a:ln w="0">
            <a:noFill/>
          </a:ln>
        </p:spPr>
      </p:pic>
      <p:sp>
        <p:nvSpPr>
          <p:cNvPr id="270" name="Line 6"/>
          <p:cNvSpPr/>
          <p:nvPr/>
        </p:nvSpPr>
        <p:spPr>
          <a:xfrm flipH="1">
            <a:off x="2057040" y="5715000"/>
            <a:ext cx="289548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ext Box 7"/>
          <p:cNvSpPr/>
          <p:nvPr/>
        </p:nvSpPr>
        <p:spPr>
          <a:xfrm>
            <a:off x="4952880" y="5562720"/>
            <a:ext cx="31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pirogyr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peci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888080" y="2447640"/>
            <a:ext cx="397656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en 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Pediastru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of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4" name="Picture 1029" descr="Pedias"/>
          <p:cNvPicPr/>
          <p:nvPr/>
        </p:nvPicPr>
        <p:blipFill>
          <a:blip r:embed="rId1"/>
          <a:stretch/>
        </p:blipFill>
        <p:spPr>
          <a:xfrm>
            <a:off x="912960" y="2252520"/>
            <a:ext cx="3975120" cy="3495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48280" y="2292120"/>
            <a:ext cx="397512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Oscillator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y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Oscillatoria_130"/>
          <p:cNvPicPr/>
          <p:nvPr/>
        </p:nvPicPr>
        <p:blipFill>
          <a:blip r:embed="rId1"/>
          <a:stretch/>
        </p:blipFill>
        <p:spPr>
          <a:xfrm>
            <a:off x="1406520" y="1905120"/>
            <a:ext cx="2987640" cy="4190760"/>
          </a:xfrm>
          <a:prstGeom prst="rect">
            <a:avLst/>
          </a:prstGeom>
          <a:ln w="0">
            <a:noFill/>
          </a:ln>
        </p:spPr>
      </p:pic>
      <p:sp>
        <p:nvSpPr>
          <p:cNvPr id="278" name="Line 6"/>
          <p:cNvSpPr/>
          <p:nvPr/>
        </p:nvSpPr>
        <p:spPr>
          <a:xfrm flipH="1">
            <a:off x="3200040" y="3657600"/>
            <a:ext cx="152388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Line 8"/>
          <p:cNvSpPr/>
          <p:nvPr/>
        </p:nvSpPr>
        <p:spPr>
          <a:xfrm flipH="1">
            <a:off x="3123720" y="3657600"/>
            <a:ext cx="1600200" cy="60948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79400" y="1766520"/>
            <a:ext cx="76788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O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04828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cot roo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nter of roo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ylem form “X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loem at tip of xy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Picture 5" descr="DICO021B"/>
          <p:cNvPicPr/>
          <p:nvPr/>
        </p:nvPicPr>
        <p:blipFill>
          <a:blip r:embed="rId1"/>
          <a:stretch/>
        </p:blipFill>
        <p:spPr>
          <a:xfrm>
            <a:off x="1017720" y="1905120"/>
            <a:ext cx="3767040" cy="4190760"/>
          </a:xfrm>
          <a:prstGeom prst="rect">
            <a:avLst/>
          </a:prstGeom>
          <a:ln w="0">
            <a:noFill/>
          </a:ln>
        </p:spPr>
      </p:pic>
      <p:sp>
        <p:nvSpPr>
          <p:cNvPr id="285" name="Line 6"/>
          <p:cNvSpPr/>
          <p:nvPr/>
        </p:nvSpPr>
        <p:spPr>
          <a:xfrm flipH="1" flipV="1">
            <a:off x="2743200" y="3809880"/>
            <a:ext cx="2362320" cy="4572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Line 7"/>
          <p:cNvSpPr/>
          <p:nvPr/>
        </p:nvSpPr>
        <p:spPr>
          <a:xfrm flipH="1" flipV="1">
            <a:off x="2666880" y="4571640"/>
            <a:ext cx="2362320" cy="2286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968720" y="2603160"/>
            <a:ext cx="3975120" cy="24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ali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root, x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scular bund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9" name="Picture 5" descr="Salixroot"/>
          <p:cNvPicPr/>
          <p:nvPr/>
        </p:nvPicPr>
        <p:blipFill>
          <a:blip r:embed="rId1"/>
          <a:stretch/>
        </p:blipFill>
        <p:spPr>
          <a:xfrm>
            <a:off x="912960" y="2144880"/>
            <a:ext cx="3975120" cy="3711240"/>
          </a:xfrm>
          <a:prstGeom prst="rect">
            <a:avLst/>
          </a:prstGeom>
          <a:ln w="0">
            <a:noFill/>
          </a:ln>
        </p:spPr>
      </p:pic>
      <p:sp>
        <p:nvSpPr>
          <p:cNvPr id="290" name="Line 6"/>
          <p:cNvSpPr/>
          <p:nvPr/>
        </p:nvSpPr>
        <p:spPr>
          <a:xfrm flipH="1">
            <a:off x="2819520" y="3962520"/>
            <a:ext cx="213336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48280" y="2603160"/>
            <a:ext cx="397512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Cladophora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 in for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ral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Picture 5" descr="Cladophora_100x"/>
          <p:cNvPicPr/>
          <p:nvPr/>
        </p:nvPicPr>
        <p:blipFill>
          <a:blip r:embed="rId1"/>
          <a:stretch/>
        </p:blipFill>
        <p:spPr>
          <a:xfrm>
            <a:off x="912960" y="2530440"/>
            <a:ext cx="3975120" cy="2938320"/>
          </a:xfrm>
          <a:prstGeom prst="rect">
            <a:avLst/>
          </a:prstGeom>
          <a:ln w="0">
            <a:noFill/>
          </a:ln>
        </p:spPr>
      </p:pic>
      <p:sp>
        <p:nvSpPr>
          <p:cNvPr id="222" name="Line 6"/>
          <p:cNvSpPr/>
          <p:nvPr/>
        </p:nvSpPr>
        <p:spPr>
          <a:xfrm flipH="1">
            <a:off x="4495680" y="4419720"/>
            <a:ext cx="15264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Line 7"/>
          <p:cNvSpPr/>
          <p:nvPr/>
        </p:nvSpPr>
        <p:spPr>
          <a:xfrm flipH="1" flipV="1">
            <a:off x="3505320" y="3733560"/>
            <a:ext cx="1218960" cy="60948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48280" y="2680920"/>
            <a:ext cx="3975120" cy="34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nunculus root, x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scular bund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3" name="Picture 5" descr="Ranunculusroot"/>
          <p:cNvPicPr/>
          <p:nvPr/>
        </p:nvPicPr>
        <p:blipFill>
          <a:blip r:embed="rId1"/>
          <a:stretch/>
        </p:blipFill>
        <p:spPr>
          <a:xfrm>
            <a:off x="912960" y="2222640"/>
            <a:ext cx="3975120" cy="3555720"/>
          </a:xfrm>
          <a:prstGeom prst="rect">
            <a:avLst/>
          </a:prstGeom>
          <a:ln w="0">
            <a:noFill/>
          </a:ln>
        </p:spPr>
      </p:pic>
      <p:sp>
        <p:nvSpPr>
          <p:cNvPr id="294" name="Line 6"/>
          <p:cNvSpPr/>
          <p:nvPr/>
        </p:nvSpPr>
        <p:spPr>
          <a:xfrm flipH="1">
            <a:off x="2514240" y="4038480"/>
            <a:ext cx="243828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79400" y="1766520"/>
            <a:ext cx="76788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4828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rangement of bund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Picture 5" descr="DICO026B"/>
          <p:cNvPicPr/>
          <p:nvPr/>
        </p:nvPicPr>
        <p:blipFill>
          <a:blip r:embed="rId1"/>
          <a:stretch/>
        </p:blipFill>
        <p:spPr>
          <a:xfrm>
            <a:off x="1611360" y="1905120"/>
            <a:ext cx="2576520" cy="4190760"/>
          </a:xfrm>
          <a:prstGeom prst="rect">
            <a:avLst/>
          </a:prstGeom>
          <a:ln w="0">
            <a:noFill/>
          </a:ln>
        </p:spPr>
      </p:pic>
      <p:sp>
        <p:nvSpPr>
          <p:cNvPr id="300" name="Line 6"/>
          <p:cNvSpPr/>
          <p:nvPr/>
        </p:nvSpPr>
        <p:spPr>
          <a:xfrm flipH="1" flipV="1">
            <a:off x="2437920" y="2743200"/>
            <a:ext cx="2514600" cy="4572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4828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undle in 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loem (top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mbium (middl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ylem (bottom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which is interio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3" name="Picture 5" descr="DICO022B"/>
          <p:cNvPicPr/>
          <p:nvPr/>
        </p:nvPicPr>
        <p:blipFill>
          <a:blip r:embed="rId1"/>
          <a:stretch/>
        </p:blipFill>
        <p:spPr>
          <a:xfrm>
            <a:off x="1386000" y="1905120"/>
            <a:ext cx="3027240" cy="4190760"/>
          </a:xfrm>
          <a:prstGeom prst="rect">
            <a:avLst/>
          </a:prstGeom>
          <a:ln w="0">
            <a:noFill/>
          </a:ln>
        </p:spPr>
      </p:pic>
      <p:sp>
        <p:nvSpPr>
          <p:cNvPr id="304" name="Line 6"/>
          <p:cNvSpPr/>
          <p:nvPr/>
        </p:nvSpPr>
        <p:spPr>
          <a:xfrm flipH="1">
            <a:off x="2971440" y="3809880"/>
            <a:ext cx="1981080" cy="15264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Line 7"/>
          <p:cNvSpPr/>
          <p:nvPr/>
        </p:nvSpPr>
        <p:spPr>
          <a:xfrm flipH="1" flipV="1">
            <a:off x="3047760" y="2895120"/>
            <a:ext cx="1981080" cy="38124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Line 8"/>
          <p:cNvSpPr/>
          <p:nvPr/>
        </p:nvSpPr>
        <p:spPr>
          <a:xfrm flipH="1">
            <a:off x="2286000" y="4343400"/>
            <a:ext cx="2743200" cy="15228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800240" y="2514600"/>
            <a:ext cx="38098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ring (xylem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il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swood tr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9" name="Picture 5" descr="Growth_ring"/>
          <p:cNvPicPr/>
          <p:nvPr/>
        </p:nvPicPr>
        <p:blipFill>
          <a:blip r:embed="rId1"/>
          <a:stretch/>
        </p:blipFill>
        <p:spPr>
          <a:xfrm>
            <a:off x="912960" y="2470320"/>
            <a:ext cx="3975120" cy="3060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724280" y="2514240"/>
            <a:ext cx="3810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eus 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oss section of bund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ylem -- insi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loem -- outsi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Picture 5" descr="coleus"/>
          <p:cNvPicPr/>
          <p:nvPr/>
        </p:nvPicPr>
        <p:blipFill>
          <a:blip r:embed="rId1"/>
          <a:stretch/>
        </p:blipFill>
        <p:spPr>
          <a:xfrm>
            <a:off x="912960" y="2448000"/>
            <a:ext cx="3975120" cy="3105000"/>
          </a:xfrm>
          <a:prstGeom prst="rect">
            <a:avLst/>
          </a:prstGeom>
          <a:ln w="0">
            <a:noFill/>
          </a:ln>
        </p:spPr>
      </p:pic>
      <p:sp>
        <p:nvSpPr>
          <p:cNvPr id="313" name="Line 6"/>
          <p:cNvSpPr/>
          <p:nvPr/>
        </p:nvSpPr>
        <p:spPr>
          <a:xfrm flipH="1" flipV="1">
            <a:off x="2666520" y="3505320"/>
            <a:ext cx="2514600" cy="121896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Line 7"/>
          <p:cNvSpPr/>
          <p:nvPr/>
        </p:nvSpPr>
        <p:spPr>
          <a:xfrm flipH="1" flipV="1">
            <a:off x="2437920" y="3962520"/>
            <a:ext cx="2667240" cy="129528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724280" y="2742840"/>
            <a:ext cx="381024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dicago stem, x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scular bundles in 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7" name="Picture 1029" descr="Medicagostem"/>
          <p:cNvPicPr/>
          <p:nvPr/>
        </p:nvPicPr>
        <p:blipFill>
          <a:blip r:embed="rId1"/>
          <a:stretch/>
        </p:blipFill>
        <p:spPr>
          <a:xfrm>
            <a:off x="912960" y="2359080"/>
            <a:ext cx="3975120" cy="3282840"/>
          </a:xfrm>
          <a:prstGeom prst="rect">
            <a:avLst/>
          </a:prstGeom>
          <a:ln w="0">
            <a:noFill/>
          </a:ln>
        </p:spPr>
      </p:pic>
      <p:sp>
        <p:nvSpPr>
          <p:cNvPr id="318" name="Line 1030"/>
          <p:cNvSpPr/>
          <p:nvPr/>
        </p:nvSpPr>
        <p:spPr>
          <a:xfrm flipH="1" flipV="1">
            <a:off x="3657600" y="3504960"/>
            <a:ext cx="1371600" cy="7596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Line 1031"/>
          <p:cNvSpPr/>
          <p:nvPr/>
        </p:nvSpPr>
        <p:spPr>
          <a:xfrm flipH="1">
            <a:off x="3885840" y="3581280"/>
            <a:ext cx="1143000" cy="9144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800240" y="2742840"/>
            <a:ext cx="38098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em, composi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2" name="Picture 5" descr="Composistem"/>
          <p:cNvPicPr/>
          <p:nvPr/>
        </p:nvPicPr>
        <p:blipFill>
          <a:blip r:embed="rId1"/>
          <a:stretch/>
        </p:blipFill>
        <p:spPr>
          <a:xfrm>
            <a:off x="912960" y="2271600"/>
            <a:ext cx="3975120" cy="345600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6"/>
          <p:cNvSpPr/>
          <p:nvPr/>
        </p:nvSpPr>
        <p:spPr>
          <a:xfrm>
            <a:off x="2057400" y="373392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 tiss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48280" y="2138040"/>
            <a:ext cx="3975120" cy="31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lls in 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ckened xy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Picture 5" descr="BOTA003B"/>
          <p:cNvPicPr/>
          <p:nvPr/>
        </p:nvPicPr>
        <p:blipFill>
          <a:blip r:embed="rId1"/>
          <a:stretch/>
        </p:blipFill>
        <p:spPr>
          <a:xfrm>
            <a:off x="938160" y="1905120"/>
            <a:ext cx="3925800" cy="4190760"/>
          </a:xfrm>
          <a:prstGeom prst="rect">
            <a:avLst/>
          </a:prstGeom>
          <a:ln w="0">
            <a:noFill/>
          </a:ln>
        </p:spPr>
      </p:pic>
      <p:sp>
        <p:nvSpPr>
          <p:cNvPr id="327" name="Line 6"/>
          <p:cNvSpPr/>
          <p:nvPr/>
        </p:nvSpPr>
        <p:spPr>
          <a:xfrm flipH="1">
            <a:off x="3733920" y="3276720"/>
            <a:ext cx="1371600" cy="2286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724280" y="2666880"/>
            <a:ext cx="381024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mboo 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0" name="Picture 5" descr="bamboo10x"/>
          <p:cNvPicPr/>
          <p:nvPr/>
        </p:nvPicPr>
        <p:blipFill>
          <a:blip r:embed="rId1"/>
          <a:stretch/>
        </p:blipFill>
        <p:spPr>
          <a:xfrm>
            <a:off x="912960" y="2600280"/>
            <a:ext cx="3975120" cy="2800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800240" y="2362320"/>
            <a:ext cx="3809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Acetabular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y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5" descr="acetab"/>
          <p:cNvPicPr/>
          <p:nvPr/>
        </p:nvPicPr>
        <p:blipFill>
          <a:blip r:embed="rId1"/>
          <a:stretch/>
        </p:blipFill>
        <p:spPr>
          <a:xfrm>
            <a:off x="912960" y="1922400"/>
            <a:ext cx="3975120" cy="4156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4828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ylem cells in 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ngitudinal s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nular rings (lef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iral rings (righ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3" name="Picture 5" descr="Annular_helical"/>
          <p:cNvPicPr/>
          <p:nvPr/>
        </p:nvPicPr>
        <p:blipFill>
          <a:blip r:embed="rId1"/>
          <a:stretch/>
        </p:blipFill>
        <p:spPr>
          <a:xfrm>
            <a:off x="992160" y="1982880"/>
            <a:ext cx="3976560" cy="3089160"/>
          </a:xfrm>
          <a:prstGeom prst="rect">
            <a:avLst/>
          </a:prstGeom>
          <a:ln w="0">
            <a:noFill/>
          </a:ln>
        </p:spPr>
      </p:pic>
      <p:sp>
        <p:nvSpPr>
          <p:cNvPr id="334" name="Line 6"/>
          <p:cNvSpPr/>
          <p:nvPr/>
        </p:nvSpPr>
        <p:spPr>
          <a:xfrm flipH="1" flipV="1">
            <a:off x="2133360" y="3276720"/>
            <a:ext cx="2971800" cy="457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Line 7"/>
          <p:cNvSpPr/>
          <p:nvPr/>
        </p:nvSpPr>
        <p:spPr>
          <a:xfrm flipH="1" flipV="1">
            <a:off x="3200400" y="4190760"/>
            <a:ext cx="1905120" cy="759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Text Box 8"/>
          <p:cNvSpPr/>
          <p:nvPr/>
        </p:nvSpPr>
        <p:spPr>
          <a:xfrm>
            <a:off x="4800600" y="56386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ngs reinforce the cell wal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800240" y="2819520"/>
            <a:ext cx="380988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ilia, 3-year stem, x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9" name="Picture 1029" descr="Tilia3yr"/>
          <p:cNvPicPr/>
          <p:nvPr/>
        </p:nvPicPr>
        <p:blipFill>
          <a:blip r:embed="rId1"/>
          <a:stretch/>
        </p:blipFill>
        <p:spPr>
          <a:xfrm>
            <a:off x="912960" y="2544840"/>
            <a:ext cx="3975120" cy="2911320"/>
          </a:xfrm>
          <a:prstGeom prst="rect">
            <a:avLst/>
          </a:prstGeom>
          <a:ln w="0">
            <a:noFill/>
          </a:ln>
        </p:spPr>
      </p:pic>
      <p:sp>
        <p:nvSpPr>
          <p:cNvPr id="340" name="Line 1030"/>
          <p:cNvSpPr/>
          <p:nvPr/>
        </p:nvSpPr>
        <p:spPr>
          <a:xfrm flipH="1">
            <a:off x="1143000" y="4114800"/>
            <a:ext cx="4038480" cy="6858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Line 1031"/>
          <p:cNvSpPr/>
          <p:nvPr/>
        </p:nvSpPr>
        <p:spPr>
          <a:xfrm>
            <a:off x="4343400" y="3048120"/>
            <a:ext cx="838080" cy="38088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48280" y="3223800"/>
            <a:ext cx="3975120" cy="28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ilia stem, 3-year, x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4" name="Picture 1029" descr="tiliastemabbe"/>
          <p:cNvPicPr/>
          <p:nvPr/>
        </p:nvPicPr>
        <p:blipFill>
          <a:blip r:embed="rId1"/>
          <a:stretch/>
        </p:blipFill>
        <p:spPr>
          <a:xfrm>
            <a:off x="912960" y="2538360"/>
            <a:ext cx="3975120" cy="2922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79400" y="1766520"/>
            <a:ext cx="76788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EA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724280" y="2895120"/>
            <a:ext cx="38102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Castal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lea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loating water pl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ir spa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9" name="Picture 5" descr="Castalialeaf"/>
          <p:cNvPicPr/>
          <p:nvPr/>
        </p:nvPicPr>
        <p:blipFill>
          <a:blip r:embed="rId1"/>
          <a:stretch/>
        </p:blipFill>
        <p:spPr>
          <a:xfrm>
            <a:off x="912960" y="2666880"/>
            <a:ext cx="3975120" cy="2667240"/>
          </a:xfrm>
          <a:prstGeom prst="rect">
            <a:avLst/>
          </a:prstGeom>
          <a:ln w="0">
            <a:noFill/>
          </a:ln>
        </p:spPr>
      </p:pic>
      <p:sp>
        <p:nvSpPr>
          <p:cNvPr id="350" name="Line 6"/>
          <p:cNvSpPr/>
          <p:nvPr/>
        </p:nvSpPr>
        <p:spPr>
          <a:xfrm flipH="1" flipV="1">
            <a:off x="3733920" y="3886200"/>
            <a:ext cx="1218960" cy="83808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Line 7"/>
          <p:cNvSpPr/>
          <p:nvPr/>
        </p:nvSpPr>
        <p:spPr>
          <a:xfrm flipH="1" flipV="1">
            <a:off x="3048120" y="3962520"/>
            <a:ext cx="1828800" cy="76176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800240" y="3276360"/>
            <a:ext cx="380988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Begoni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lea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ir sp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uard cells (stomat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4" name="Picture 5" descr="Begonialeaf"/>
          <p:cNvPicPr/>
          <p:nvPr/>
        </p:nvPicPr>
        <p:blipFill>
          <a:blip r:embed="rId1"/>
          <a:stretch/>
        </p:blipFill>
        <p:spPr>
          <a:xfrm>
            <a:off x="912960" y="2787480"/>
            <a:ext cx="3975120" cy="2426040"/>
          </a:xfrm>
          <a:prstGeom prst="rect">
            <a:avLst/>
          </a:prstGeom>
          <a:ln w="0">
            <a:noFill/>
          </a:ln>
        </p:spPr>
      </p:pic>
      <p:sp>
        <p:nvSpPr>
          <p:cNvPr id="355" name="Line 6"/>
          <p:cNvSpPr/>
          <p:nvPr/>
        </p:nvSpPr>
        <p:spPr>
          <a:xfrm flipH="1">
            <a:off x="2286000" y="4419720"/>
            <a:ext cx="281952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Line 7"/>
          <p:cNvSpPr/>
          <p:nvPr/>
        </p:nvSpPr>
        <p:spPr>
          <a:xfrm flipH="1">
            <a:off x="2362320" y="4876920"/>
            <a:ext cx="274320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a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rface 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about 50X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ice the chloropla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5" descr="Chloroplasts"/>
          <p:cNvPicPr/>
          <p:nvPr/>
        </p:nvPicPr>
        <p:blipFill>
          <a:blip r:embed="rId1"/>
          <a:stretch/>
        </p:blipFill>
        <p:spPr>
          <a:xfrm>
            <a:off x="992160" y="1982880"/>
            <a:ext cx="3976560" cy="2658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724280" y="2743200"/>
            <a:ext cx="381024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grove leaf, x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ase contrast pho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2" name="Picture 5" descr="mangroveleaf"/>
          <p:cNvPicPr/>
          <p:nvPr/>
        </p:nvPicPr>
        <p:blipFill>
          <a:blip r:embed="rId1"/>
          <a:stretch/>
        </p:blipFill>
        <p:spPr>
          <a:xfrm>
            <a:off x="912960" y="2600280"/>
            <a:ext cx="3975120" cy="2800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48280" y="2447640"/>
            <a:ext cx="397512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grove leaf, x.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rough central ve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lo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yl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5" name="Picture 5" descr="mangroveleaf2"/>
          <p:cNvPicPr/>
          <p:nvPr/>
        </p:nvPicPr>
        <p:blipFill>
          <a:blip r:embed="rId1"/>
          <a:stretch/>
        </p:blipFill>
        <p:spPr>
          <a:xfrm>
            <a:off x="912960" y="2600280"/>
            <a:ext cx="3975120" cy="2800440"/>
          </a:xfrm>
          <a:prstGeom prst="rect">
            <a:avLst/>
          </a:prstGeom>
          <a:ln w="0">
            <a:noFill/>
          </a:ln>
        </p:spPr>
      </p:pic>
      <p:sp>
        <p:nvSpPr>
          <p:cNvPr id="366" name="Line 6"/>
          <p:cNvSpPr/>
          <p:nvPr/>
        </p:nvSpPr>
        <p:spPr>
          <a:xfrm flipH="1" flipV="1">
            <a:off x="2971440" y="3580920"/>
            <a:ext cx="1981080" cy="2286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Line 7"/>
          <p:cNvSpPr/>
          <p:nvPr/>
        </p:nvSpPr>
        <p:spPr>
          <a:xfrm flipH="1" flipV="1">
            <a:off x="2895120" y="3809880"/>
            <a:ext cx="2057400" cy="4572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Rectangle 8"/>
          <p:cNvSpPr/>
          <p:nvPr/>
        </p:nvSpPr>
        <p:spPr>
          <a:xfrm>
            <a:off x="5184720" y="5029200"/>
            <a:ext cx="186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hase contrast phot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724280" y="3123720"/>
            <a:ext cx="38102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grove leaf, x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tion through small ve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1" name="Picture 5" descr="mangroveleaf3"/>
          <p:cNvPicPr/>
          <p:nvPr/>
        </p:nvPicPr>
        <p:blipFill>
          <a:blip r:embed="rId1"/>
          <a:stretch/>
        </p:blipFill>
        <p:spPr>
          <a:xfrm>
            <a:off x="912960" y="2600280"/>
            <a:ext cx="3975120" cy="2800440"/>
          </a:xfrm>
          <a:prstGeom prst="rect">
            <a:avLst/>
          </a:prstGeom>
          <a:ln w="0">
            <a:noFill/>
          </a:ln>
        </p:spPr>
      </p:pic>
      <p:sp>
        <p:nvSpPr>
          <p:cNvPr id="372" name="Line 6"/>
          <p:cNvSpPr/>
          <p:nvPr/>
        </p:nvSpPr>
        <p:spPr>
          <a:xfrm flipH="1">
            <a:off x="2133360" y="4419720"/>
            <a:ext cx="2819160" cy="0"/>
          </a:xfrm>
          <a:prstGeom prst="line">
            <a:avLst/>
          </a:prstGeom>
          <a:ln w="9360">
            <a:solidFill>
              <a:srgbClr val="9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Rectangle 7"/>
          <p:cNvSpPr/>
          <p:nvPr/>
        </p:nvSpPr>
        <p:spPr>
          <a:xfrm>
            <a:off x="5413320" y="4876920"/>
            <a:ext cx="186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hase contrast phot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742840" y="4876560"/>
            <a:ext cx="38098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Oedogoniu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1029" descr="algae25"/>
          <p:cNvPicPr/>
          <p:nvPr/>
        </p:nvPicPr>
        <p:blipFill>
          <a:blip r:embed="rId1"/>
          <a:stretch/>
        </p:blipFill>
        <p:spPr>
          <a:xfrm>
            <a:off x="2025720" y="2216160"/>
            <a:ext cx="6519960" cy="1781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800240" y="3123720"/>
            <a:ext cx="380988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ringa leaf, x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6" name="Picture 5" descr="syringaleaf"/>
          <p:cNvPicPr/>
          <p:nvPr/>
        </p:nvPicPr>
        <p:blipFill>
          <a:blip r:embed="rId1"/>
          <a:stretch/>
        </p:blipFill>
        <p:spPr>
          <a:xfrm>
            <a:off x="912960" y="2909880"/>
            <a:ext cx="3975120" cy="2182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647960" y="312372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Zea may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leaf, x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af ve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9" name="Picture 5" descr="zealeaf"/>
          <p:cNvPicPr/>
          <p:nvPr/>
        </p:nvPicPr>
        <p:blipFill>
          <a:blip r:embed="rId1"/>
          <a:stretch/>
        </p:blipFill>
        <p:spPr>
          <a:xfrm>
            <a:off x="912960" y="2787480"/>
            <a:ext cx="3975120" cy="2426040"/>
          </a:xfrm>
          <a:prstGeom prst="rect">
            <a:avLst/>
          </a:prstGeom>
          <a:ln w="0">
            <a:noFill/>
          </a:ln>
        </p:spPr>
      </p:pic>
      <p:sp>
        <p:nvSpPr>
          <p:cNvPr id="380" name="Line 6"/>
          <p:cNvSpPr/>
          <p:nvPr/>
        </p:nvSpPr>
        <p:spPr>
          <a:xfrm flipH="1">
            <a:off x="3733920" y="3962520"/>
            <a:ext cx="121896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48280" y="3068280"/>
            <a:ext cx="3975120" cy="279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leander leaf, x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it to reduce water lo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hase contrast phot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3" name="Picture 5" descr="oleanderleaf"/>
          <p:cNvPicPr/>
          <p:nvPr/>
        </p:nvPicPr>
        <p:blipFill>
          <a:blip r:embed="rId1"/>
          <a:stretch/>
        </p:blipFill>
        <p:spPr>
          <a:xfrm>
            <a:off x="912960" y="2600280"/>
            <a:ext cx="3975120" cy="2800440"/>
          </a:xfrm>
          <a:prstGeom prst="rect">
            <a:avLst/>
          </a:prstGeom>
          <a:ln w="0">
            <a:noFill/>
          </a:ln>
        </p:spPr>
      </p:pic>
      <p:sp>
        <p:nvSpPr>
          <p:cNvPr id="384" name="Line 6"/>
          <p:cNvSpPr/>
          <p:nvPr/>
        </p:nvSpPr>
        <p:spPr>
          <a:xfrm flipH="1">
            <a:off x="2514600" y="4114800"/>
            <a:ext cx="2743200" cy="7632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Line 7"/>
          <p:cNvSpPr/>
          <p:nvPr/>
        </p:nvSpPr>
        <p:spPr>
          <a:xfrm flipH="1">
            <a:off x="2590560" y="4267080"/>
            <a:ext cx="2361960" cy="304920"/>
          </a:xfrm>
          <a:prstGeom prst="line">
            <a:avLst/>
          </a:prstGeom>
          <a:ln w="9360">
            <a:solidFill>
              <a:srgbClr val="9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48280" y="2603160"/>
            <a:ext cx="3975120" cy="279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Elode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meristem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rapidly dividing cell regio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ngitudinal section, l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8" name="Picture 5" descr="Elodeaapicalmeristem"/>
          <p:cNvPicPr/>
          <p:nvPr/>
        </p:nvPicPr>
        <p:blipFill>
          <a:blip r:embed="rId1"/>
          <a:stretch/>
        </p:blipFill>
        <p:spPr>
          <a:xfrm>
            <a:off x="912960" y="2544840"/>
            <a:ext cx="3975120" cy="2911320"/>
          </a:xfrm>
          <a:prstGeom prst="rect">
            <a:avLst/>
          </a:prstGeom>
          <a:ln w="0">
            <a:noFill/>
          </a:ln>
        </p:spPr>
      </p:pic>
      <p:sp>
        <p:nvSpPr>
          <p:cNvPr id="389" name="Line 6"/>
          <p:cNvSpPr/>
          <p:nvPr/>
        </p:nvSpPr>
        <p:spPr>
          <a:xfrm flipH="1">
            <a:off x="3809520" y="3048120"/>
            <a:ext cx="2514600" cy="11430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79400" y="1766520"/>
            <a:ext cx="76788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LOW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724280" y="2285640"/>
            <a:ext cx="38102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us bud, l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 (peduncl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low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4" name="Picture 5" descr="lotusbud"/>
          <p:cNvPicPr/>
          <p:nvPr/>
        </p:nvPicPr>
        <p:blipFill>
          <a:blip r:embed="rId1"/>
          <a:stretch/>
        </p:blipFill>
        <p:spPr>
          <a:xfrm>
            <a:off x="912960" y="2589120"/>
            <a:ext cx="3975120" cy="2822760"/>
          </a:xfrm>
          <a:prstGeom prst="rect">
            <a:avLst/>
          </a:prstGeom>
          <a:ln w="0">
            <a:noFill/>
          </a:ln>
        </p:spPr>
      </p:pic>
      <p:sp>
        <p:nvSpPr>
          <p:cNvPr id="395" name="Line 6"/>
          <p:cNvSpPr/>
          <p:nvPr/>
        </p:nvSpPr>
        <p:spPr>
          <a:xfrm flipH="1" flipV="1">
            <a:off x="2590560" y="3429000"/>
            <a:ext cx="2361960" cy="7632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Line 7"/>
          <p:cNvSpPr/>
          <p:nvPr/>
        </p:nvSpPr>
        <p:spPr>
          <a:xfrm flipH="1">
            <a:off x="2514240" y="3505320"/>
            <a:ext cx="2438280" cy="99036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Line 8"/>
          <p:cNvSpPr/>
          <p:nvPr/>
        </p:nvSpPr>
        <p:spPr>
          <a:xfrm>
            <a:off x="6705720" y="3200400"/>
            <a:ext cx="0" cy="152388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Line 9"/>
          <p:cNvSpPr/>
          <p:nvPr/>
        </p:nvSpPr>
        <p:spPr>
          <a:xfrm flipH="1">
            <a:off x="2590560" y="4724280"/>
            <a:ext cx="419076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324324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400" name="Picture 3" descr="flowerpetal"/>
          <p:cNvPicPr/>
          <p:nvPr/>
        </p:nvPicPr>
        <p:blipFill>
          <a:blip r:embed="rId1"/>
          <a:stretch/>
        </p:blipFill>
        <p:spPr>
          <a:xfrm>
            <a:off x="609480" y="1778040"/>
            <a:ext cx="5079960" cy="507996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4"/>
          <p:cNvSpPr/>
          <p:nvPr/>
        </p:nvSpPr>
        <p:spPr>
          <a:xfrm>
            <a:off x="5943600" y="35053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lower pet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Line 5"/>
          <p:cNvSpPr/>
          <p:nvPr/>
        </p:nvSpPr>
        <p:spPr>
          <a:xfrm flipH="1">
            <a:off x="2971800" y="3962520"/>
            <a:ext cx="31240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Line 6"/>
          <p:cNvSpPr/>
          <p:nvPr/>
        </p:nvSpPr>
        <p:spPr>
          <a:xfrm flipH="1">
            <a:off x="2133720" y="3962520"/>
            <a:ext cx="396216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819160" y="4267080"/>
            <a:ext cx="38098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pirogyr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Picture 1029" descr="algae27"/>
          <p:cNvPicPr/>
          <p:nvPr/>
        </p:nvPicPr>
        <p:blipFill>
          <a:blip r:embed="rId1"/>
          <a:stretch/>
        </p:blipFill>
        <p:spPr>
          <a:xfrm>
            <a:off x="1628640" y="1905120"/>
            <a:ext cx="6361200" cy="2297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48280" y="2447640"/>
            <a:ext cx="397512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pirogyr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ous 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jugation (sexual reproductio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Picture 5" descr="spirocong"/>
          <p:cNvPicPr/>
          <p:nvPr/>
        </p:nvPicPr>
        <p:blipFill>
          <a:blip r:embed="rId1"/>
          <a:stretch/>
        </p:blipFill>
        <p:spPr>
          <a:xfrm>
            <a:off x="912960" y="2589120"/>
            <a:ext cx="3975120" cy="2822760"/>
          </a:xfrm>
          <a:prstGeom prst="rect">
            <a:avLst/>
          </a:prstGeom>
          <a:ln w="0">
            <a:noFill/>
          </a:ln>
        </p:spPr>
      </p:pic>
      <p:sp>
        <p:nvSpPr>
          <p:cNvPr id="236" name="Line 6"/>
          <p:cNvSpPr/>
          <p:nvPr/>
        </p:nvSpPr>
        <p:spPr>
          <a:xfrm flipH="1">
            <a:off x="3580920" y="3962520"/>
            <a:ext cx="121932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5108760" y="5257800"/>
            <a:ext cx="186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hase contrast phot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648320" y="167652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pirogyr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 in for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ores:  union of 2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Picture 5" descr="Spiro"/>
          <p:cNvPicPr/>
          <p:nvPr/>
        </p:nvPicPr>
        <p:blipFill>
          <a:blip r:embed="rId1"/>
          <a:stretch/>
        </p:blipFill>
        <p:spPr>
          <a:xfrm>
            <a:off x="0" y="213372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241" name="Line 6"/>
          <p:cNvSpPr/>
          <p:nvPr/>
        </p:nvSpPr>
        <p:spPr>
          <a:xfrm flipH="1">
            <a:off x="914400" y="2971800"/>
            <a:ext cx="365760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Line 7"/>
          <p:cNvSpPr/>
          <p:nvPr/>
        </p:nvSpPr>
        <p:spPr>
          <a:xfrm flipH="1">
            <a:off x="3580920" y="3505320"/>
            <a:ext cx="1143000" cy="53316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Line 8"/>
          <p:cNvSpPr/>
          <p:nvPr/>
        </p:nvSpPr>
        <p:spPr>
          <a:xfrm flipH="1">
            <a:off x="2895120" y="4038480"/>
            <a:ext cx="1752840" cy="198144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819160" y="548604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6" name="Picture 5" descr="algae69"/>
          <p:cNvPicPr/>
          <p:nvPr/>
        </p:nvPicPr>
        <p:blipFill>
          <a:blip r:embed="rId1"/>
          <a:stretch/>
        </p:blipFill>
        <p:spPr>
          <a:xfrm>
            <a:off x="1905120" y="1600200"/>
            <a:ext cx="4952880" cy="3714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19920" y="2895120"/>
            <a:ext cx="266688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har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y cel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9" name="Picture 5" descr="chara"/>
          <p:cNvPicPr/>
          <p:nvPr/>
        </p:nvPicPr>
        <p:blipFill>
          <a:blip r:embed="rId1"/>
          <a:stretch/>
        </p:blipFill>
        <p:spPr>
          <a:xfrm>
            <a:off x="762120" y="1905120"/>
            <a:ext cx="4595760" cy="4952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9T19:09:49Z</dcterms:created>
  <dc:creator>School of Business Admin</dc:creator>
  <dc:description/>
  <dc:language>en-US</dc:language>
  <cp:lastModifiedBy>RomaK</cp:lastModifiedBy>
  <dcterms:modified xsi:type="dcterms:W3CDTF">2015-09-04T12:12:15Z</dcterms:modified>
  <cp:revision>52</cp:revision>
  <dc:subject/>
  <dc:title>BOTANY</dc:title>
</cp:coreProperties>
</file>