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24.wmf" ContentType="image/x-wmf"/>
  <Override PartName="/ppt/media/image27.wmf" ContentType="image/x-wmf"/>
  <Override PartName="/ppt/media/image4.wmf" ContentType="image/x-wmf"/>
  <Override PartName="/ppt/media/image28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5.wmf" ContentType="image/x-wmf"/>
  <Override PartName="/ppt/media/TYPE.WAV" ContentType="audio/x-wav"/>
  <Override PartName="/ppt/media/image12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6.wmf" ContentType="image/x-wmf"/>
  <Override PartName="/ppt/media/image3.wmf" ContentType="image/x-wmf"/>
  <Override PartName="/ppt/media/image26.wmf" ContentType="image/x-wmf"/>
  <Override PartName="/ppt/media/image25.wmf" ContentType="image/x-wmf"/>
  <Override PartName="/ppt/media/WHOOSH.WAV" ContentType="audio/x-wav"/>
  <Override PartName="/ppt/media/image1.png" ContentType="image/png"/>
  <Override PartName="/ppt/media/image13.wmf" ContentType="image/x-wmf"/>
  <Override PartName="/ppt/media/image14.wmf" ContentType="image/x-wmf"/>
  <Override PartName="/ppt/media/image15.wmf" ContentType="image/x-wmf"/>
  <Override PartName="/ppt/media/image17.wmf" ContentType="image/x-wmf"/>
  <Override PartName="/ppt/media/image2.jpeg" ContentType="image/jpeg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media/image2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4DA17-7270-4234-98F9-DC33F523B16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Functional Groups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What is the family name?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al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family nam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What family does it belong to ?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alcohol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Only one oxygen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Has an O-H group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family does it belong to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one oxy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an O-H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What family does it belong to ?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acid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Has 2 oxygens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Has an O-H group 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family does it belong to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2 oxyg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an O-H grou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What family does it belong to ?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alkane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Only carbon and hydrogen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All single bonds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family does it belong to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k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carbon and hydro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single b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What family does it belong to ?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ester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Has 2 oxygens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One oxygen is in a carbon sandwich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Ester loves to eat her carbon sandwich ?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family does it belong to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2 oxyg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xygen is in a carbon sandw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ter loves to eat her carbon sandwich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This is an …..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alkane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n …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k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This is an ….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alkene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n 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k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aldehyde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dehy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alkane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k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alcohol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alkene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k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alkanes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Only carbon and hydrogen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All single bonds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k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carbon and hydro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single b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alkene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k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This is an …..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ester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n …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alkene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k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alkane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k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Alcohol 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coh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Aldehyde.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dehy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alkane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k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acid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aldehyde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dehy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ester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alkenes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Only carbon and hydrogen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A carbon to carbon double bond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ke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carbon and hydro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arbon to carbon double b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alcohol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acid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aldehyde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dehy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acid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ester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ester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acid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Well done !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 done 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alcohols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Only one oxygen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Has an O-H group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coh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one oxy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an O-H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Aldehydes / sugars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Only one oxygen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Has a C=O group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dehydes / sug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one oxy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a C=O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Acids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Has 2 oxygens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Has an O-H group 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2 oxyg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an O-H grou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Esters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Has 2 oxygens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One oxygen is in a carbon sandwich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Ester loves to eat her carbon sandwich ?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2 oxyg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xygen is in a carbon sandw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ter loves to eat her carbon sandwich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What family does it belong to ?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alkene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Only carbon and hydrogen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A carbon to carbon double bond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family does it belong to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k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carbon and hydro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arbon to carbon double b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What family does it belong to ?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Aldehyde / sugar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Only one oxygen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Has a C=O group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family does it belong to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dehyde / sug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one oxy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a C=O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1AAD-9CC4-487D-B96A-46F34DA19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A6CB-CAFF-4C67-A78B-DC7D8EFAF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5CB1-0E03-47A4-81D5-617532888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76C8-D9FC-4D1B-9785-B36D8BD5C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EDB31-83E2-475F-A729-81B583883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1743C-B23F-494D-A1A5-8F9EE5413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58E37-B30C-4D21-B7F7-8F29EC565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87B77-FBCD-4D26-BE06-F2A48FD4C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8A604-6FC1-46AF-BEAF-8667F6FFF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728FD-2077-4144-BB3F-3BBA4D9A4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BE339-25E7-4773-BC3E-20DC95F6A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8721-B744-4196-A953-B56F76AA8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DBB38-45D6-47B8-8D37-B0A5C686E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FB9A2-8A8C-416B-9A53-18889A4F2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67A52-BD27-4B5E-86A0-CCCA0BD9C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B23EE-DA27-46FB-95B7-1D5B49744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215AD-2594-4944-A9B7-A07BD2BD3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5F4A-758A-413F-9FBC-69A90AD97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F686-C3B7-4AA4-81E9-078EE8558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02A2-BBDE-47D1-8791-027E70D8B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5D09-6C79-4B8C-9A79-AAE05430E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1E24-D85E-425A-B997-134709CFC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DEF3-544C-44AC-8378-1B04A3126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62E4-C54B-45E1-8B9F-91F9B8C5A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c1c1c"/>
                </a:solidFill>
                <a:latin typeface="Times New Roman"/>
              </a:endParaRPr>
            </a:p>
          </p:txBody>
        </p:sp>
        <p:pic>
          <p:nvPicPr>
            <p:cNvPr id="2" name="Picture 4" descr="minispir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Line 5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1c1c1c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505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50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505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505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1c1c1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1c1c1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6699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C8B03-D849-4184-84C0-F12B286BD79D}" type="slidenum">
              <a:rPr b="0" lang="en-US" sz="1400" spc="-1" strike="noStrike">
                <a:solidFill>
                  <a:srgbClr val="66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c1c1c"/>
                </a:solidFill>
                <a:latin typeface="Times New Roman"/>
              </a:endParaRPr>
            </a:p>
          </p:txBody>
        </p:sp>
        <p:pic>
          <p:nvPicPr>
            <p:cNvPr id="47" name="Picture 4" descr="minispir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505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50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505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505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1c1c1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1c1c1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17604-A3E9-4508-BE2A-A804E9078B66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Functional Groups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6699"/>
                </a:solidFill>
                <a:latin typeface="Times New Roman"/>
              </a:rPr>
              <a:t>What is the family name?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What family does it belong to ?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31" name="Object 5"/>
          <p:cNvGraphicFramePr/>
          <p:nvPr/>
        </p:nvGraphicFramePr>
        <p:xfrm>
          <a:off x="990720" y="2849400"/>
          <a:ext cx="3504960" cy="207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49400"/>
                    <a:ext cx="3504960" cy="207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Rectangle 6"/>
          <p:cNvSpPr/>
          <p:nvPr/>
        </p:nvSpPr>
        <p:spPr>
          <a:xfrm>
            <a:off x="4876920" y="3200400"/>
            <a:ext cx="38098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alcohol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281160" indent="-28116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Only one oxygen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281160" indent="-28116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Has an O-H group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What family does it belong to ?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35" name="Object 5"/>
          <p:cNvGraphicFramePr/>
          <p:nvPr/>
        </p:nvGraphicFramePr>
        <p:xfrm>
          <a:off x="990720" y="2725560"/>
          <a:ext cx="3657600" cy="231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725560"/>
                    <a:ext cx="3657600" cy="23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Rectangle 6"/>
          <p:cNvSpPr/>
          <p:nvPr/>
        </p:nvSpPr>
        <p:spPr>
          <a:xfrm>
            <a:off x="4876920" y="2971800"/>
            <a:ext cx="3809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acid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Has 2 oxygens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Has an O-H group 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What family does it belong to ?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39" name="Object 5"/>
          <p:cNvGraphicFramePr/>
          <p:nvPr/>
        </p:nvGraphicFramePr>
        <p:xfrm>
          <a:off x="990720" y="2433600"/>
          <a:ext cx="3809880" cy="290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433600"/>
                    <a:ext cx="3809880" cy="290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Rectangle 6"/>
          <p:cNvSpPr/>
          <p:nvPr/>
        </p:nvSpPr>
        <p:spPr>
          <a:xfrm>
            <a:off x="4876920" y="2819520"/>
            <a:ext cx="38098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alkane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Only carbon and hydrogen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All single bonds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What family does it belong to ?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43" name="Object 5"/>
          <p:cNvGraphicFramePr/>
          <p:nvPr/>
        </p:nvGraphicFramePr>
        <p:xfrm>
          <a:off x="990720" y="2946240"/>
          <a:ext cx="3809880" cy="187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946240"/>
                    <a:ext cx="3809880" cy="187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Rectangle 6"/>
          <p:cNvSpPr/>
          <p:nvPr/>
        </p:nvSpPr>
        <p:spPr>
          <a:xfrm>
            <a:off x="4952880" y="2666880"/>
            <a:ext cx="381024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ester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284400" indent="-28440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Has 2 oxygens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284400" indent="-28440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One oxygen is in a carbon sandwich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284400" indent="-28440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Ester loves to eat her carbon sandwich ?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This is an ….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47" name="Object 3"/>
          <p:cNvGraphicFramePr/>
          <p:nvPr/>
        </p:nvGraphicFramePr>
        <p:xfrm>
          <a:off x="2743200" y="2286000"/>
          <a:ext cx="3809880" cy="220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2286000"/>
                    <a:ext cx="3809880" cy="220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657600" y="5105160"/>
            <a:ext cx="220968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alkane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75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This is an …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51" name="Object 3"/>
          <p:cNvGraphicFramePr/>
          <p:nvPr/>
        </p:nvGraphicFramePr>
        <p:xfrm>
          <a:off x="2514600" y="2362320"/>
          <a:ext cx="3809880" cy="226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2362320"/>
                    <a:ext cx="3809880" cy="22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352320" y="5181120"/>
            <a:ext cx="221004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alkene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75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This is an ..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55" name="Object 3"/>
          <p:cNvGraphicFramePr/>
          <p:nvPr/>
        </p:nvGraphicFramePr>
        <p:xfrm>
          <a:off x="2514600" y="2286000"/>
          <a:ext cx="3809880" cy="227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2286000"/>
                    <a:ext cx="3809880" cy="22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428640" y="5028840"/>
            <a:ext cx="19810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aldehyde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75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This is an ..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59" name="Object 3"/>
          <p:cNvGraphicFramePr/>
          <p:nvPr/>
        </p:nvGraphicFramePr>
        <p:xfrm>
          <a:off x="2895480" y="1981080"/>
          <a:ext cx="3810240" cy="290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1981080"/>
                    <a:ext cx="3810240" cy="290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9520" y="5028840"/>
            <a:ext cx="21337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alkane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75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This is an ..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63" name="Object 3"/>
          <p:cNvGraphicFramePr/>
          <p:nvPr/>
        </p:nvGraphicFramePr>
        <p:xfrm>
          <a:off x="2666880" y="1905120"/>
          <a:ext cx="3810240" cy="293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1905120"/>
                    <a:ext cx="3810240" cy="293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809880" y="5028840"/>
            <a:ext cx="198144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alcohol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75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This is an ..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67" name="Object 3"/>
          <p:cNvGraphicFramePr/>
          <p:nvPr/>
        </p:nvGraphicFramePr>
        <p:xfrm>
          <a:off x="2514600" y="2743200"/>
          <a:ext cx="3809880" cy="179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2743200"/>
                    <a:ext cx="3809880" cy="179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581280" y="5028840"/>
            <a:ext cx="18288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alkene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alkanes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90360" y="3048120"/>
            <a:ext cx="380988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Only carbon and hydrogen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All single bonds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graphicFrame>
        <p:nvGraphicFramePr>
          <p:cNvPr id="100" name="Object 6"/>
          <p:cNvGraphicFramePr/>
          <p:nvPr/>
        </p:nvGraphicFramePr>
        <p:xfrm>
          <a:off x="4572000" y="2438280"/>
          <a:ext cx="3809880" cy="290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2438280"/>
                    <a:ext cx="3809880" cy="290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This is an ..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809520" y="5028840"/>
            <a:ext cx="175284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alkene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graphicFrame>
        <p:nvGraphicFramePr>
          <p:cNvPr id="172" name="Object 5"/>
          <p:cNvGraphicFramePr/>
          <p:nvPr/>
        </p:nvGraphicFramePr>
        <p:xfrm>
          <a:off x="2895480" y="2743200"/>
          <a:ext cx="3810240" cy="179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2743200"/>
                    <a:ext cx="3810240" cy="179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75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This is an ….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75" name="Object 3"/>
          <p:cNvGraphicFramePr/>
          <p:nvPr/>
        </p:nvGraphicFramePr>
        <p:xfrm>
          <a:off x="2743200" y="2438280"/>
          <a:ext cx="3809880" cy="223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2438280"/>
                    <a:ext cx="3809880" cy="223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505320" y="5028840"/>
            <a:ext cx="175248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ester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75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This is an ..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79" name="Object 3"/>
          <p:cNvGraphicFramePr/>
          <p:nvPr/>
        </p:nvGraphicFramePr>
        <p:xfrm>
          <a:off x="2743200" y="2209680"/>
          <a:ext cx="3809880" cy="227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2209680"/>
                    <a:ext cx="3809880" cy="227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733560" y="5028840"/>
            <a:ext cx="190476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alkene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" dur="75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This is an ..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83" name="Object 3"/>
          <p:cNvGraphicFramePr/>
          <p:nvPr/>
        </p:nvGraphicFramePr>
        <p:xfrm>
          <a:off x="3048120" y="1523880"/>
          <a:ext cx="370368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1523880"/>
                    <a:ext cx="37036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114800" y="5638320"/>
            <a:ext cx="19051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alkane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75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This is an ..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87" name="Object 3"/>
          <p:cNvGraphicFramePr/>
          <p:nvPr/>
        </p:nvGraphicFramePr>
        <p:xfrm>
          <a:off x="2666880" y="2590920"/>
          <a:ext cx="3810240" cy="154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2590920"/>
                    <a:ext cx="3810240" cy="15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86200" y="5181480"/>
            <a:ext cx="175248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Alcohol 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This is an ..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91" name="Object 3"/>
          <p:cNvGraphicFramePr/>
          <p:nvPr/>
        </p:nvGraphicFramePr>
        <p:xfrm>
          <a:off x="2819520" y="1981080"/>
          <a:ext cx="3809880" cy="285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1981080"/>
                    <a:ext cx="3809880" cy="285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657240" y="5257440"/>
            <a:ext cx="20574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Aldehyde.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This is an ..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95" name="Object 3"/>
          <p:cNvGraphicFramePr/>
          <p:nvPr/>
        </p:nvGraphicFramePr>
        <p:xfrm>
          <a:off x="2514600" y="2514600"/>
          <a:ext cx="3809880" cy="179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2514600"/>
                    <a:ext cx="3809880" cy="179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504960" y="5333760"/>
            <a:ext cx="190476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alkane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This is an ..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99" name="Object 3"/>
          <p:cNvGraphicFramePr/>
          <p:nvPr/>
        </p:nvGraphicFramePr>
        <p:xfrm>
          <a:off x="2895480" y="2514600"/>
          <a:ext cx="3810240" cy="183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2514600"/>
                    <a:ext cx="3810240" cy="183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038120" y="5333760"/>
            <a:ext cx="16002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acid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This is an ..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203" name="Object 3"/>
          <p:cNvGraphicFramePr/>
          <p:nvPr/>
        </p:nvGraphicFramePr>
        <p:xfrm>
          <a:off x="2819520" y="2666880"/>
          <a:ext cx="3809880" cy="18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2666880"/>
                    <a:ext cx="3809880" cy="18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733560" y="5257440"/>
            <a:ext cx="190476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aldehyde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This is an ..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207" name="Object 3"/>
          <p:cNvGraphicFramePr/>
          <p:nvPr/>
        </p:nvGraphicFramePr>
        <p:xfrm>
          <a:off x="2590920" y="2743200"/>
          <a:ext cx="3809880" cy="137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2743200"/>
                    <a:ext cx="3809880" cy="137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504960" y="4724280"/>
            <a:ext cx="190476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ester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alkenes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90360" y="2895120"/>
            <a:ext cx="38098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Only carbon and hydrogen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A carbon to carbon double bond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graphicFrame>
        <p:nvGraphicFramePr>
          <p:cNvPr id="104" name="Object 4"/>
          <p:cNvGraphicFramePr/>
          <p:nvPr/>
        </p:nvGraphicFramePr>
        <p:xfrm>
          <a:off x="4952880" y="2743200"/>
          <a:ext cx="3810240" cy="226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2880" y="2743200"/>
                    <a:ext cx="3810240" cy="22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This is an ..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211" name="Object 3"/>
          <p:cNvGraphicFramePr/>
          <p:nvPr/>
        </p:nvGraphicFramePr>
        <p:xfrm>
          <a:off x="2514600" y="2514600"/>
          <a:ext cx="3809880" cy="187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2514600"/>
                    <a:ext cx="3809880" cy="18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657600" y="4876560"/>
            <a:ext cx="19051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alcohol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3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3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This is an ..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581280" y="4876560"/>
            <a:ext cx="152424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acid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graphicFrame>
        <p:nvGraphicFramePr>
          <p:cNvPr id="216" name="Object 5"/>
          <p:cNvGraphicFramePr/>
          <p:nvPr/>
        </p:nvGraphicFramePr>
        <p:xfrm>
          <a:off x="2362320" y="2209680"/>
          <a:ext cx="3809880" cy="235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2209680"/>
                    <a:ext cx="3809880" cy="235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3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3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This is an ..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219" name="Object 3"/>
          <p:cNvGraphicFramePr/>
          <p:nvPr/>
        </p:nvGraphicFramePr>
        <p:xfrm>
          <a:off x="2895480" y="2057400"/>
          <a:ext cx="3810240" cy="249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2057400"/>
                    <a:ext cx="3810240" cy="249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657240" y="5028840"/>
            <a:ext cx="21337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aldehyde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3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3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This is an ..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223" name="Object 3"/>
          <p:cNvGraphicFramePr/>
          <p:nvPr/>
        </p:nvGraphicFramePr>
        <p:xfrm>
          <a:off x="2819520" y="2514600"/>
          <a:ext cx="3809880" cy="214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2514600"/>
                    <a:ext cx="3809880" cy="21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809520" y="5257440"/>
            <a:ext cx="16765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acid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3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3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This is an ..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227" name="Object 3"/>
          <p:cNvGraphicFramePr/>
          <p:nvPr/>
        </p:nvGraphicFramePr>
        <p:xfrm>
          <a:off x="2666880" y="2514600"/>
          <a:ext cx="3810240" cy="191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2514600"/>
                    <a:ext cx="3810240" cy="191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809520" y="5105160"/>
            <a:ext cx="16002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ester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3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3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This is an ..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231" name="Object 3"/>
          <p:cNvGraphicFramePr/>
          <p:nvPr/>
        </p:nvGraphicFramePr>
        <p:xfrm>
          <a:off x="2438280" y="2819520"/>
          <a:ext cx="3810240" cy="161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2819520"/>
                    <a:ext cx="3810240" cy="161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809520" y="4724280"/>
            <a:ext cx="16002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ester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3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3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This is an ..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038480" y="4876560"/>
            <a:ext cx="152424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acid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graphicFrame>
        <p:nvGraphicFramePr>
          <p:cNvPr id="236" name="Object 10"/>
          <p:cNvGraphicFramePr/>
          <p:nvPr/>
        </p:nvGraphicFramePr>
        <p:xfrm>
          <a:off x="2514600" y="2438280"/>
          <a:ext cx="3728880" cy="179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2438280"/>
                    <a:ext cx="3728880" cy="179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3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3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819160" y="2666520"/>
            <a:ext cx="3429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Well done !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alcohols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90360" y="3200400"/>
            <a:ext cx="38098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Only one oxygen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Has an O-H group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graphicFrame>
        <p:nvGraphicFramePr>
          <p:cNvPr id="108" name="Object 4"/>
          <p:cNvGraphicFramePr/>
          <p:nvPr/>
        </p:nvGraphicFramePr>
        <p:xfrm>
          <a:off x="4952880" y="2849400"/>
          <a:ext cx="3505320" cy="207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2880" y="2849400"/>
                    <a:ext cx="3505320" cy="207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Aldehydes / sugars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90360" y="3200040"/>
            <a:ext cx="380988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Only one oxygen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Has a C=O group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graphicFrame>
        <p:nvGraphicFramePr>
          <p:cNvPr id="112" name="Object 4"/>
          <p:cNvGraphicFramePr/>
          <p:nvPr/>
        </p:nvGraphicFramePr>
        <p:xfrm>
          <a:off x="5105520" y="2479680"/>
          <a:ext cx="3352680" cy="281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5520" y="2479680"/>
                    <a:ext cx="3352680" cy="281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Acids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90360" y="3276720"/>
            <a:ext cx="380988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Has 2 oxygens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Has an O-H group 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graphicFrame>
        <p:nvGraphicFramePr>
          <p:cNvPr id="116" name="Object 4"/>
          <p:cNvGraphicFramePr/>
          <p:nvPr/>
        </p:nvGraphicFramePr>
        <p:xfrm>
          <a:off x="5105520" y="2725560"/>
          <a:ext cx="3581280" cy="231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5520" y="2725560"/>
                    <a:ext cx="3581280" cy="23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Esters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90360" y="2666880"/>
            <a:ext cx="380988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Has 2 oxygens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One oxygen is in a carbon sandwich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Ester loves to eat her carbon sandwich ?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graphicFrame>
        <p:nvGraphicFramePr>
          <p:cNvPr id="120" name="Object 4"/>
          <p:cNvGraphicFramePr/>
          <p:nvPr/>
        </p:nvGraphicFramePr>
        <p:xfrm>
          <a:off x="4952880" y="2946240"/>
          <a:ext cx="3733920" cy="187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2880" y="2946240"/>
                    <a:ext cx="3733920" cy="187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What family does it belong to ?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23" name="Object 5"/>
          <p:cNvGraphicFramePr/>
          <p:nvPr/>
        </p:nvGraphicFramePr>
        <p:xfrm>
          <a:off x="990720" y="2751120"/>
          <a:ext cx="3809880" cy="226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751120"/>
                    <a:ext cx="3809880" cy="22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Rectangle 6"/>
          <p:cNvSpPr/>
          <p:nvPr/>
        </p:nvSpPr>
        <p:spPr>
          <a:xfrm>
            <a:off x="5029200" y="2895480"/>
            <a:ext cx="380988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alkene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Only carbon and hydrogen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A carbon to carbon double bond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What family does it belong to ?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27" name="Object 5"/>
          <p:cNvGraphicFramePr/>
          <p:nvPr/>
        </p:nvGraphicFramePr>
        <p:xfrm>
          <a:off x="1143000" y="2514600"/>
          <a:ext cx="3581280" cy="281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514600"/>
                    <a:ext cx="3581280" cy="281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Rectangle 6"/>
          <p:cNvSpPr/>
          <p:nvPr/>
        </p:nvSpPr>
        <p:spPr>
          <a:xfrm>
            <a:off x="4952880" y="3200400"/>
            <a:ext cx="381024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Aldehyde / sugar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Only one oxygen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Has a C=O group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7T21:10:01Z</dcterms:created>
  <dc:creator>King James's School</dc:creator>
  <dc:description/>
  <dc:language>en-US</dc:language>
  <cp:lastModifiedBy>RomaK</cp:lastModifiedBy>
  <dcterms:modified xsi:type="dcterms:W3CDTF">2015-09-01T16:24:13Z</dcterms:modified>
  <cp:revision>8</cp:revision>
  <dc:subject/>
  <dc:title>Functional Groups</dc:title>
</cp:coreProperties>
</file>