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7.wmf" ContentType="image/x-wmf"/>
  <Override PartName="/ppt/media/image4.wmf" ContentType="image/x-wmf"/>
  <Override PartName="/ppt/media/image28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5.wmf" ContentType="image/x-wmf"/>
  <Override PartName="/ppt/media/TYPE.WAV" ContentType="audio/x-wav"/>
  <Override PartName="/ppt/media/image12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6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WHOOSH.WAV" ContentType="audio/x-wav"/>
  <Override PartName="/ppt/media/image1.png" ContentType="image/png"/>
  <Override PartName="/ppt/media/image13.wmf" ContentType="image/x-wmf"/>
  <Override PartName="/ppt/media/image14.wmf" ContentType="image/x-wmf"/>
  <Override PartName="/ppt/media/image15.wmf" ContentType="image/x-wmf"/>
  <Override PartName="/ppt/media/image17.wmf" ContentType="image/x-wmf"/>
  <Override PartName="/ppt/media/image2.jpeg" ContentType="image/jpeg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81E3C-CDA5-4614-89D8-FA5B2615E70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Functional Groups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What is the family name?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al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family nam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What family does it belong to ?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alcohol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Only one oxygen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Has an O-H group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amily does it belong to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one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an O-H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What family does it belong to ?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acid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Has 2 oxygens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Has an O-H group 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amily does it belong to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2 oxyg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an O-H grou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What family does it belong to ?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alkane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Only carbon and hydrogen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All single bonds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amily does it belong to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carbon and 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single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What family does it belong to ?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ester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Has 2 oxygens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One oxygen is in a carbon sandwich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Ester loves to eat her carbon sandwich ?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amily does it belong to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2 oxyg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xygen is in a carbon sandw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er loves to eat her carbon sandwich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…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lkane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…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…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lkene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ldehyde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dehy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lkane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lcohol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lkene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alkanes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Only carbon and hydrogen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All single bonds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carbon and 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single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lkene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…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ester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…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lkene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lkane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lcohol 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ldehyde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dehy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lkane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cid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ldehyde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dehy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ester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alkenes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Only carbon and hydrogen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A carbon to carbon double bond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e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carbon and 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arbon to carbon double b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lcohol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cid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ldehyde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dehy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cid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ester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ester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cid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Well done !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 done 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alcohols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Only one oxygen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Has an O-H group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one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an O-H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Aldehydes / sugars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Only one oxygen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Has a C=O group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dehydes / sug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one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a C=O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Acids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Has 2 oxygens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Has an O-H group 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2 oxyg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an O-H grou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Esters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Has 2 oxygens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One oxygen is in a carbon sandwich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Ester loves to eat her carbon sandwich ?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2 oxyg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xygen is in a carbon sandw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er loves to eat her carbon sandwich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What family does it belong to ?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alkene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Only carbon and hydrogen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A carbon to carbon double bond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amily does it belong to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carbon and 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arbon to carbon double b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What family does it belong to ?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Aldehyde / sugar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Only one oxygen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Has a C=O group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amily does it belong to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dehyde / sug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one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a C=O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EE81-AB77-4AC6-A756-E57773A62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732F-CA76-4CEE-BC43-EA9BBF379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6BBD-6D5D-4165-954C-5BC700D09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DE67-EBA9-46B9-A500-352FE418F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F3A23-1C2C-4566-89B7-EDBF9E673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FE365-8491-428F-AEC6-6085B7A7A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C11DC-EDA5-4575-B59C-5032E3599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7C15B-2EA5-4A02-BAEF-C8B63F929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63F3B-2467-4EB5-BC5C-096586F6C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5430E-9AF7-4406-B76A-31703C490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0796D-8587-4A48-98FB-B65A3B913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6EDD-370D-4D89-80B1-1F3F23322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3C4A5-F95C-4005-841D-54370FB8D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42769-535A-454A-845C-C0CC59A00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6E34C-648F-4946-9186-F0B46299F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F48FB-B81A-4304-86EA-C72957EA2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7FBEA-CB6D-4BBC-B9C8-DE7C5F08D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0A30-CE04-4454-8715-51F9F9E90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55BC-948F-4C8F-84E7-D7172845C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3766-E149-4D4D-8F8B-B8CD2F3E9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6BD2-3536-43BB-9905-1C24321F7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D19A-3C79-4F60-8567-C0BAACBCD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36D4-036F-4E76-A0D6-671DA7185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E34E-52A7-4F6A-A9C6-CB2EB88CB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c1c1c"/>
                </a:solidFill>
                <a:latin typeface="Times New Roman"/>
              </a:endParaRPr>
            </a:p>
          </p:txBody>
        </p:sp>
        <p:pic>
          <p:nvPicPr>
            <p:cNvPr id="2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1c1c1c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505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5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505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505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6699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EA377-8E9D-439C-8E48-EC6997C688F3}" type="slidenum"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c1c1c"/>
                </a:solidFill>
                <a:latin typeface="Times New Roman"/>
              </a:endParaRPr>
            </a:p>
          </p:txBody>
        </p:sp>
        <p:pic>
          <p:nvPicPr>
            <p:cNvPr id="47" name="Picture 4" descr="minispir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505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5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505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505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DF6A4-830C-488A-82D5-C9AB6ED3F3C6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Functional Group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6699"/>
                </a:solidFill>
                <a:latin typeface="Times New Roman"/>
              </a:rPr>
              <a:t>What is the family name?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What family does it belong to ?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31" name="Object 5"/>
          <p:cNvGraphicFramePr/>
          <p:nvPr/>
        </p:nvGraphicFramePr>
        <p:xfrm>
          <a:off x="990720" y="2849400"/>
          <a:ext cx="3504960" cy="207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49400"/>
                    <a:ext cx="3504960" cy="207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Rectangle 6"/>
          <p:cNvSpPr/>
          <p:nvPr/>
        </p:nvSpPr>
        <p:spPr>
          <a:xfrm>
            <a:off x="4876920" y="3200400"/>
            <a:ext cx="38098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cohol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281160" indent="-28116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Only one oxygen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281160" indent="-28116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Has an O-H group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What family does it belong to ?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35" name="Object 5"/>
          <p:cNvGraphicFramePr/>
          <p:nvPr/>
        </p:nvGraphicFramePr>
        <p:xfrm>
          <a:off x="990720" y="2725560"/>
          <a:ext cx="3657600" cy="231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725560"/>
                    <a:ext cx="3657600" cy="23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Rectangle 6"/>
          <p:cNvSpPr/>
          <p:nvPr/>
        </p:nvSpPr>
        <p:spPr>
          <a:xfrm>
            <a:off x="4876920" y="2971800"/>
            <a:ext cx="3809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cid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Has 2 oxygens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Has an O-H group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What family does it belong to ?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39" name="Object 5"/>
          <p:cNvGraphicFramePr/>
          <p:nvPr/>
        </p:nvGraphicFramePr>
        <p:xfrm>
          <a:off x="990720" y="2433600"/>
          <a:ext cx="3809880" cy="290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433600"/>
                    <a:ext cx="3809880" cy="29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Rectangle 6"/>
          <p:cNvSpPr/>
          <p:nvPr/>
        </p:nvSpPr>
        <p:spPr>
          <a:xfrm>
            <a:off x="4876920" y="2819520"/>
            <a:ext cx="38098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kane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Only carbon and hydrogen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l single bonds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What family does it belong to ?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43" name="Object 5"/>
          <p:cNvGraphicFramePr/>
          <p:nvPr/>
        </p:nvGraphicFramePr>
        <p:xfrm>
          <a:off x="990720" y="2946240"/>
          <a:ext cx="3809880" cy="187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946240"/>
                    <a:ext cx="3809880" cy="187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Rectangle 6"/>
          <p:cNvSpPr/>
          <p:nvPr/>
        </p:nvSpPr>
        <p:spPr>
          <a:xfrm>
            <a:off x="4952880" y="2666880"/>
            <a:ext cx="381024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ester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-28440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Has 2 oxygens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-28440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One oxygen is in a carbon sandwich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-28440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Ester loves to eat her carbon sandwich ?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…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47" name="Object 3"/>
          <p:cNvGraphicFramePr/>
          <p:nvPr/>
        </p:nvGraphicFramePr>
        <p:xfrm>
          <a:off x="2743200" y="2286000"/>
          <a:ext cx="3809880" cy="220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286000"/>
                    <a:ext cx="3809880" cy="22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657600" y="5105160"/>
            <a:ext cx="22096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kane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75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…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51" name="Object 3"/>
          <p:cNvGraphicFramePr/>
          <p:nvPr/>
        </p:nvGraphicFramePr>
        <p:xfrm>
          <a:off x="2514600" y="2362320"/>
          <a:ext cx="3809880" cy="22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2362320"/>
                    <a:ext cx="3809880" cy="22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352320" y="5181120"/>
            <a:ext cx="221004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kene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75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55" name="Object 3"/>
          <p:cNvGraphicFramePr/>
          <p:nvPr/>
        </p:nvGraphicFramePr>
        <p:xfrm>
          <a:off x="2514600" y="2286000"/>
          <a:ext cx="3809880" cy="227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2286000"/>
                    <a:ext cx="3809880" cy="22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428640" y="5028840"/>
            <a:ext cx="19810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dehyde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75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59" name="Object 3"/>
          <p:cNvGraphicFramePr/>
          <p:nvPr/>
        </p:nvGraphicFramePr>
        <p:xfrm>
          <a:off x="2895480" y="1981080"/>
          <a:ext cx="3810240" cy="290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1981080"/>
                    <a:ext cx="3810240" cy="290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9520" y="5028840"/>
            <a:ext cx="21337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kane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75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63" name="Object 3"/>
          <p:cNvGraphicFramePr/>
          <p:nvPr/>
        </p:nvGraphicFramePr>
        <p:xfrm>
          <a:off x="2666880" y="1905120"/>
          <a:ext cx="3810240" cy="293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1905120"/>
                    <a:ext cx="3810240" cy="293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9880" y="5028840"/>
            <a:ext cx="19814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cohol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75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67" name="Object 3"/>
          <p:cNvGraphicFramePr/>
          <p:nvPr/>
        </p:nvGraphicFramePr>
        <p:xfrm>
          <a:off x="2514600" y="2743200"/>
          <a:ext cx="3809880" cy="179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2743200"/>
                    <a:ext cx="3809880" cy="17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581280" y="5028840"/>
            <a:ext cx="1828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kene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alkane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360" y="3048120"/>
            <a:ext cx="380988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Only carbon and hydrogen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l single bonds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graphicFrame>
        <p:nvGraphicFramePr>
          <p:cNvPr id="100" name="Object 6"/>
          <p:cNvGraphicFramePr/>
          <p:nvPr/>
        </p:nvGraphicFramePr>
        <p:xfrm>
          <a:off x="4572000" y="2438280"/>
          <a:ext cx="3809880" cy="290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438280"/>
                    <a:ext cx="3809880" cy="290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809520" y="5028840"/>
            <a:ext cx="17528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kene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graphicFrame>
        <p:nvGraphicFramePr>
          <p:cNvPr id="172" name="Object 5"/>
          <p:cNvGraphicFramePr/>
          <p:nvPr/>
        </p:nvGraphicFramePr>
        <p:xfrm>
          <a:off x="2895480" y="2743200"/>
          <a:ext cx="3810240" cy="179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743200"/>
                    <a:ext cx="3810240" cy="17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75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…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75" name="Object 3"/>
          <p:cNvGraphicFramePr/>
          <p:nvPr/>
        </p:nvGraphicFramePr>
        <p:xfrm>
          <a:off x="2743200" y="2438280"/>
          <a:ext cx="3809880" cy="223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438280"/>
                    <a:ext cx="3809880" cy="22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505320" y="5028840"/>
            <a:ext cx="17524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ester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75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79" name="Object 3"/>
          <p:cNvGraphicFramePr/>
          <p:nvPr/>
        </p:nvGraphicFramePr>
        <p:xfrm>
          <a:off x="2743200" y="2209680"/>
          <a:ext cx="3809880" cy="227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209680"/>
                    <a:ext cx="3809880" cy="22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733560" y="5028840"/>
            <a:ext cx="19047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kene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75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83" name="Object 3"/>
          <p:cNvGraphicFramePr/>
          <p:nvPr/>
        </p:nvGraphicFramePr>
        <p:xfrm>
          <a:off x="3048120" y="1523880"/>
          <a:ext cx="37036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1523880"/>
                    <a:ext cx="37036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114800" y="5638320"/>
            <a:ext cx="19051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kane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75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87" name="Object 3"/>
          <p:cNvGraphicFramePr/>
          <p:nvPr/>
        </p:nvGraphicFramePr>
        <p:xfrm>
          <a:off x="2666880" y="2590920"/>
          <a:ext cx="3810240" cy="154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2590920"/>
                    <a:ext cx="3810240" cy="15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86200" y="5181480"/>
            <a:ext cx="17524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cohol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91" name="Object 3"/>
          <p:cNvGraphicFramePr/>
          <p:nvPr/>
        </p:nvGraphicFramePr>
        <p:xfrm>
          <a:off x="2819520" y="1981080"/>
          <a:ext cx="3809880" cy="285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1981080"/>
                    <a:ext cx="3809880" cy="28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657240" y="5257440"/>
            <a:ext cx="2057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dehyde.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95" name="Object 3"/>
          <p:cNvGraphicFramePr/>
          <p:nvPr/>
        </p:nvGraphicFramePr>
        <p:xfrm>
          <a:off x="2514600" y="2514600"/>
          <a:ext cx="3809880" cy="179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2514600"/>
                    <a:ext cx="3809880" cy="17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504960" y="5333760"/>
            <a:ext cx="190476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kane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99" name="Object 3"/>
          <p:cNvGraphicFramePr/>
          <p:nvPr/>
        </p:nvGraphicFramePr>
        <p:xfrm>
          <a:off x="2895480" y="2514600"/>
          <a:ext cx="3810240" cy="183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514600"/>
                    <a:ext cx="3810240" cy="18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038120" y="533376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cid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203" name="Object 3"/>
          <p:cNvGraphicFramePr/>
          <p:nvPr/>
        </p:nvGraphicFramePr>
        <p:xfrm>
          <a:off x="2819520" y="2666880"/>
          <a:ext cx="3809880" cy="18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2666880"/>
                    <a:ext cx="3809880" cy="18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733560" y="5257440"/>
            <a:ext cx="19047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dehyde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207" name="Object 3"/>
          <p:cNvGraphicFramePr/>
          <p:nvPr/>
        </p:nvGraphicFramePr>
        <p:xfrm>
          <a:off x="2590920" y="2743200"/>
          <a:ext cx="3809880" cy="137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2743200"/>
                    <a:ext cx="3809880" cy="13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504960" y="4724280"/>
            <a:ext cx="190476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ester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alkene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360" y="2895120"/>
            <a:ext cx="38098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Only carbon and hydrogen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 carbon to carbon double bond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graphicFrame>
        <p:nvGraphicFramePr>
          <p:cNvPr id="104" name="Object 4"/>
          <p:cNvGraphicFramePr/>
          <p:nvPr/>
        </p:nvGraphicFramePr>
        <p:xfrm>
          <a:off x="4952880" y="2743200"/>
          <a:ext cx="3810240" cy="22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2743200"/>
                    <a:ext cx="3810240" cy="22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211" name="Object 3"/>
          <p:cNvGraphicFramePr/>
          <p:nvPr/>
        </p:nvGraphicFramePr>
        <p:xfrm>
          <a:off x="2514600" y="2514600"/>
          <a:ext cx="3809880" cy="187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2514600"/>
                    <a:ext cx="3809880" cy="18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657600" y="4876560"/>
            <a:ext cx="19051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cohol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3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3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581280" y="4876560"/>
            <a:ext cx="15242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cid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graphicFrame>
        <p:nvGraphicFramePr>
          <p:cNvPr id="216" name="Object 5"/>
          <p:cNvGraphicFramePr/>
          <p:nvPr/>
        </p:nvGraphicFramePr>
        <p:xfrm>
          <a:off x="2362320" y="2209680"/>
          <a:ext cx="3809880" cy="235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209680"/>
                    <a:ext cx="3809880" cy="23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3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219" name="Object 3"/>
          <p:cNvGraphicFramePr/>
          <p:nvPr/>
        </p:nvGraphicFramePr>
        <p:xfrm>
          <a:off x="2895480" y="2057400"/>
          <a:ext cx="3810240" cy="249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057400"/>
                    <a:ext cx="3810240" cy="24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657240" y="5028840"/>
            <a:ext cx="21337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dehyde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3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3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223" name="Object 3"/>
          <p:cNvGraphicFramePr/>
          <p:nvPr/>
        </p:nvGraphicFramePr>
        <p:xfrm>
          <a:off x="2819520" y="2514600"/>
          <a:ext cx="3809880" cy="214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2514600"/>
                    <a:ext cx="3809880" cy="21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809520" y="5257440"/>
            <a:ext cx="16765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cid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3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3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227" name="Object 3"/>
          <p:cNvGraphicFramePr/>
          <p:nvPr/>
        </p:nvGraphicFramePr>
        <p:xfrm>
          <a:off x="2666880" y="2514600"/>
          <a:ext cx="3810240" cy="19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2514600"/>
                    <a:ext cx="3810240" cy="19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809520" y="5105160"/>
            <a:ext cx="16002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ester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3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3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231" name="Object 3"/>
          <p:cNvGraphicFramePr/>
          <p:nvPr/>
        </p:nvGraphicFramePr>
        <p:xfrm>
          <a:off x="2438280" y="2819520"/>
          <a:ext cx="3810240" cy="161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2819520"/>
                    <a:ext cx="3810240" cy="16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809520" y="472428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ester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3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3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038480" y="4876560"/>
            <a:ext cx="15242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cid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graphicFrame>
        <p:nvGraphicFramePr>
          <p:cNvPr id="236" name="Object 10"/>
          <p:cNvGraphicFramePr/>
          <p:nvPr/>
        </p:nvGraphicFramePr>
        <p:xfrm>
          <a:off x="2514600" y="2438280"/>
          <a:ext cx="3728880" cy="179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2438280"/>
                    <a:ext cx="3728880" cy="17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3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3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819160" y="266652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Well done !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alcohol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90360" y="3200400"/>
            <a:ext cx="38098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Only one oxygen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Has an O-H group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graphicFrame>
        <p:nvGraphicFramePr>
          <p:cNvPr id="108" name="Object 4"/>
          <p:cNvGraphicFramePr/>
          <p:nvPr/>
        </p:nvGraphicFramePr>
        <p:xfrm>
          <a:off x="4952880" y="2849400"/>
          <a:ext cx="3505320" cy="207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2849400"/>
                    <a:ext cx="3505320" cy="207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Aldehydes / sugar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90360" y="3200040"/>
            <a:ext cx="380988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Only one oxygen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Has a C=O group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graphicFrame>
        <p:nvGraphicFramePr>
          <p:cNvPr id="112" name="Object 4"/>
          <p:cNvGraphicFramePr/>
          <p:nvPr/>
        </p:nvGraphicFramePr>
        <p:xfrm>
          <a:off x="5105520" y="2479680"/>
          <a:ext cx="3352680" cy="28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2479680"/>
                    <a:ext cx="3352680" cy="28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Acid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90360" y="3276720"/>
            <a:ext cx="380988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Has 2 oxygens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Has an O-H group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graphicFrame>
        <p:nvGraphicFramePr>
          <p:cNvPr id="116" name="Object 4"/>
          <p:cNvGraphicFramePr/>
          <p:nvPr/>
        </p:nvGraphicFramePr>
        <p:xfrm>
          <a:off x="5105520" y="2725560"/>
          <a:ext cx="3581280" cy="231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2725560"/>
                    <a:ext cx="3581280" cy="23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Ester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0360" y="2666880"/>
            <a:ext cx="380988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Has 2 oxygens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One oxygen is in a carbon sandwich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Ester loves to eat her carbon sandwich ?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graphicFrame>
        <p:nvGraphicFramePr>
          <p:cNvPr id="120" name="Object 4"/>
          <p:cNvGraphicFramePr/>
          <p:nvPr/>
        </p:nvGraphicFramePr>
        <p:xfrm>
          <a:off x="4952880" y="2946240"/>
          <a:ext cx="3733920" cy="187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2946240"/>
                    <a:ext cx="3733920" cy="187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What family does it belong to ?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23" name="Object 5"/>
          <p:cNvGraphicFramePr/>
          <p:nvPr/>
        </p:nvGraphicFramePr>
        <p:xfrm>
          <a:off x="990720" y="2751120"/>
          <a:ext cx="3809880" cy="226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751120"/>
                    <a:ext cx="3809880" cy="22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Rectangle 6"/>
          <p:cNvSpPr/>
          <p:nvPr/>
        </p:nvSpPr>
        <p:spPr>
          <a:xfrm>
            <a:off x="5029200" y="2895480"/>
            <a:ext cx="380988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kene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Only carbon and hydrogen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 carbon to carbon double bond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What family does it belong to ?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27" name="Object 5"/>
          <p:cNvGraphicFramePr/>
          <p:nvPr/>
        </p:nvGraphicFramePr>
        <p:xfrm>
          <a:off x="1143000" y="2514600"/>
          <a:ext cx="3581280" cy="28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514600"/>
                    <a:ext cx="3581280" cy="28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Rectangle 6"/>
          <p:cNvSpPr/>
          <p:nvPr/>
        </p:nvSpPr>
        <p:spPr>
          <a:xfrm>
            <a:off x="4952880" y="3200400"/>
            <a:ext cx="38102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dehyde / sugar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Only one oxygen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Has a C=O group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7T21:10:01Z</dcterms:created>
  <dc:creator>King James's School</dc:creator>
  <dc:description/>
  <dc:language>en-US</dc:language>
  <cp:lastModifiedBy>RomaK</cp:lastModifiedBy>
  <dcterms:modified xsi:type="dcterms:W3CDTF">2015-09-01T16:24:13Z</dcterms:modified>
  <cp:revision>8</cp:revision>
  <dc:subject/>
  <dc:title>Functional Groups</dc:title>
</cp:coreProperties>
</file>