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F972A-D16B-4398-B136-0E484B8ACB9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lant produc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atering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lant produc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atering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plants need wa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keeps plants upright and stops them wil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 also need water to make food and to carry nutrients through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plants need lots of water and others need very litt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plants need wa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keeps plants upright and stops them wil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 also need water to make food and to carry nutrients through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plants need lots of water and others need very litt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ing metho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plants can be watered from a watering can, from abo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ing metho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plants can be watered from a watering can, from abo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need to be watered from below, by standing the pot in a water filled tray for a few minu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need to be watered from below, by standing the pot in a water filled tray for a few minu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pillary mat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 material that absorbs water and stays moi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pillary mat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 material that absorbs water and stays moi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sting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sting systems produce water spraying droplets that are smaller than a human hai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llions of these tiny droplets hit the surrounding air, "flash evaporate", and quickly reduce temperatures 25 to 35 degre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sting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sting systems produce water spraying droplets that are smaller than a human hai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llions of these tiny droplets hit the surrounding air, "flash evaporate", and quickly reduce temperatures 25 to 35 degre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watering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watered plants wilt, have dry, yellow leaves and dry compo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watering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watered plants wilt, have dry, yellow leaves and dry compo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erwatering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compost or soil is waterlogged, roots are starved of ai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erwatered plants have soft, rotting or mouldy leaves and slimy compo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erwatering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compost or soil is waterlogged, roots are starved of ai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erwatered plants have soft, rotting or mouldy leaves and slimy compo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A7EC-2975-4595-8C09-E80E69079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3C22-10C8-4580-994D-646096DB7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4E72-113E-43FE-9FB1-8396C03D3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F472-0857-43D4-9DA4-FFA61076B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DF1F-795B-47F1-9EF1-3BDE3E4E7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1885-C4ED-4D0E-BBE5-64BBE7606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4B7B-9747-4CE3-94A2-D4EC5BB24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A7A0-E6A3-44B1-A414-058D63F5A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A651-E690-4C63-A0C3-7DDD87984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EFF0-9E51-4B1D-BEEC-875BFEA16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1746-D514-45E2-8A6D-C268ADC8D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1444-CEC1-4E63-8799-E7A39F435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00396-2D33-4BCA-9504-DDDDBF619C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lant produc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atering pla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Why do plants need wat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ater keeps plants upright and stops them wilt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lants also need water to make food and to carry nutrients through th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me plants need lots of water and others need very litt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Watering metho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st plants can be watered from a watering can, from abo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5" descr="watering can"/>
          <p:cNvPicPr/>
          <p:nvPr/>
        </p:nvPicPr>
        <p:blipFill>
          <a:blip r:embed="rId1"/>
          <a:stretch/>
        </p:blipFill>
        <p:spPr>
          <a:xfrm>
            <a:off x="2556000" y="3141720"/>
            <a:ext cx="3457440" cy="3206520"/>
          </a:xfrm>
          <a:prstGeom prst="rect">
            <a:avLst/>
          </a:prstGeom>
          <a:ln w="0">
            <a:noFill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611280" y="620640"/>
            <a:ext cx="7772400" cy="17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me need to be watered from below, by standing the pot in a water filled tray for a few minu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5" descr="Image2"/>
          <p:cNvPicPr/>
          <p:nvPr/>
        </p:nvPicPr>
        <p:blipFill>
          <a:blip r:embed="rId1"/>
          <a:stretch/>
        </p:blipFill>
        <p:spPr>
          <a:xfrm>
            <a:off x="1476360" y="2286000"/>
            <a:ext cx="6095880" cy="4572000"/>
          </a:xfrm>
          <a:prstGeom prst="rect">
            <a:avLst/>
          </a:prstGeom>
          <a:ln w="0">
            <a:noFill/>
          </a:ln>
        </p:spPr>
      </p:pic>
      <p:sp>
        <p:nvSpPr>
          <p:cNvPr id="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Capillary mat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7773840" cy="116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s is a material that absorbs water and stays moi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11" descr="mats"/>
          <p:cNvPicPr/>
          <p:nvPr/>
        </p:nvPicPr>
        <p:blipFill>
          <a:blip r:embed="rId1"/>
          <a:stretch/>
        </p:blipFill>
        <p:spPr>
          <a:xfrm>
            <a:off x="4932360" y="2924280"/>
            <a:ext cx="3659040" cy="36590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3" descr="Tray"/>
          <p:cNvPicPr/>
          <p:nvPr/>
        </p:nvPicPr>
        <p:blipFill>
          <a:blip r:embed="rId2"/>
          <a:stretch/>
        </p:blipFill>
        <p:spPr>
          <a:xfrm>
            <a:off x="684360" y="2637000"/>
            <a:ext cx="3095640" cy="3876480"/>
          </a:xfrm>
          <a:prstGeom prst="rect">
            <a:avLst/>
          </a:prstGeom>
          <a:ln w="0">
            <a:noFill/>
          </a:ln>
        </p:spPr>
      </p:pic>
      <p:sp>
        <p:nvSpPr>
          <p:cNvPr id="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Group 4"/>
          <p:cNvGrpSpPr/>
          <p:nvPr/>
        </p:nvGrpSpPr>
        <p:grpSpPr>
          <a:xfrm>
            <a:off x="684360" y="1268280"/>
            <a:ext cx="7849800" cy="4638600"/>
            <a:chOff x="684360" y="1268280"/>
            <a:chExt cx="7849800" cy="4638600"/>
          </a:xfrm>
        </p:grpSpPr>
        <p:pic>
          <p:nvPicPr>
            <p:cNvPr id="67" name="Picture 5" descr=""/>
            <p:cNvPicPr/>
            <p:nvPr/>
          </p:nvPicPr>
          <p:blipFill>
            <a:blip r:embed="rId1"/>
            <a:stretch/>
          </p:blipFill>
          <p:spPr>
            <a:xfrm>
              <a:off x="684360" y="1268280"/>
              <a:ext cx="7849800" cy="337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Text Box 6"/>
            <p:cNvSpPr/>
            <p:nvPr/>
          </p:nvSpPr>
          <p:spPr>
            <a:xfrm>
              <a:off x="684360" y="4715640"/>
              <a:ext cx="7849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Pupils made this automatic watering system. Water drips very slowly out of the tube onto capillary matting, lining the tray. The plants absorb the water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0000"/>
                </a:solidFill>
                <a:uFillTx/>
                <a:latin typeface="Comic Sans MS"/>
              </a:rPr>
              <a:t>Misting Sys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611280" y="1268280"/>
            <a:ext cx="77040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isting systems produce water spraying droplets that are smaller than a human hai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illions of these tiny droplets hit the surrounding air, "flash evaporate", and quickly reduce temperatures 25 to 35 degre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10" descr="03"/>
          <p:cNvPicPr/>
          <p:nvPr/>
        </p:nvPicPr>
        <p:blipFill>
          <a:blip r:embed="rId1"/>
          <a:stretch/>
        </p:blipFill>
        <p:spPr>
          <a:xfrm>
            <a:off x="539640" y="3706920"/>
            <a:ext cx="3745080" cy="28083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2" descr="01"/>
          <p:cNvPicPr/>
          <p:nvPr/>
        </p:nvPicPr>
        <p:blipFill>
          <a:blip r:embed="rId2"/>
          <a:stretch/>
        </p:blipFill>
        <p:spPr>
          <a:xfrm>
            <a:off x="4788000" y="3699000"/>
            <a:ext cx="3659040" cy="2744640"/>
          </a:xfrm>
          <a:prstGeom prst="rect">
            <a:avLst/>
          </a:prstGeom>
          <a:ln w="0">
            <a:noFill/>
          </a:ln>
        </p:spPr>
      </p:pic>
      <p:sp>
        <p:nvSpPr>
          <p:cNvPr id="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Underwatering pla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792000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nderwatered plants wilt, have dry, yellow leaves and dry compo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4800600" y="4419720"/>
            <a:ext cx="3200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11" descr="Phtophwilt%20copy"/>
          <p:cNvPicPr/>
          <p:nvPr/>
        </p:nvPicPr>
        <p:blipFill>
          <a:blip r:embed="rId1"/>
          <a:stretch/>
        </p:blipFill>
        <p:spPr>
          <a:xfrm>
            <a:off x="2556000" y="2997360"/>
            <a:ext cx="4076640" cy="3724200"/>
          </a:xfrm>
          <a:prstGeom prst="rect">
            <a:avLst/>
          </a:prstGeom>
          <a:ln w="0">
            <a:noFill/>
          </a:ln>
        </p:spPr>
      </p:pic>
      <p:sp>
        <p:nvSpPr>
          <p:cNvPr id="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0000"/>
                </a:solidFill>
                <a:uFillTx/>
                <a:latin typeface="Comic Sans MS"/>
              </a:rPr>
              <a:t>Overwatering pla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62920" cy="10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-240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compost or soil is waterlogged, roots are starved of ai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verwatered plants have soft, rotting or mouldy leaves and slimy compo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7" descr="gin312_stem_rot_e"/>
          <p:cNvPicPr/>
          <p:nvPr/>
        </p:nvPicPr>
        <p:blipFill>
          <a:blip r:embed="rId1"/>
          <a:stretch/>
        </p:blipFill>
        <p:spPr>
          <a:xfrm>
            <a:off x="2484360" y="4070520"/>
            <a:ext cx="3527640" cy="2562120"/>
          </a:xfrm>
          <a:prstGeom prst="rect">
            <a:avLst/>
          </a:prstGeom>
          <a:ln w="0">
            <a:noFill/>
          </a:ln>
        </p:spPr>
      </p:pic>
      <p:sp>
        <p:nvSpPr>
          <p:cNvPr id="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70-01-14T12:27:11Z</dcterms:created>
  <dc:creator>Andrew Johnston</dc:creator>
  <dc:description/>
  <dc:language>en-US</dc:language>
  <cp:lastModifiedBy>LEGION2</cp:lastModifiedBy>
  <dcterms:modified xsi:type="dcterms:W3CDTF">2016-01-13T09:38:02Z</dcterms:modified>
  <cp:revision>10</cp:revision>
  <dc:subject/>
  <dc:title>Plant production</dc:title>
</cp:coreProperties>
</file>