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1C29-CEA7-4EFB-B2F8-2A222E79CA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TERNAL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TERN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NTITIOUS Roots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 from unusual places on plants such 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Stems, leaves and even fr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ITIOUS Root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from unusual places on plants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ems, leaves and even fr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nchor plants firmly in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absorb water and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of some plant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store st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of some plants c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used to gr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pl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chor plants firmly in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bsorb water and miner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f some plan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tore st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f some plants 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used to gr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rnal Structure of the Plant – Parts of the plant on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Root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the Roo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ed Root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Structure of the Plant – Parts of the plant on the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ot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Roo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zed Root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INAL B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XIL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S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L B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Shoot System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and the Root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f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OW  or  UND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 Shoot System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and the Root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f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W  or  UN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Roo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s like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led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is roo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n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on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 C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 Gr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o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like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le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is ro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on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C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 Gr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p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 large m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many bran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deep in the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plant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trees e.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go, avoc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rubs e.g. tomato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p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large 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many branc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deep in the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lant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trees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go, avo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rubs e.g. tomat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erial 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 attaches itself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e branch or telephone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 hang down in mid-air and absorb water from rain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d P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Orch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ial 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attaches itself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 branch or telephone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 hang down in mid-air and absorb water from rain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P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rch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ed 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gr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zed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gr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4310-2C1A-48CE-8673-5241BE9F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943C-135D-43C5-A421-F197B249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1A43-8024-4901-9454-5EC2B72E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28F4-43CC-47C4-BBF0-B1D9F538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E029-CF83-4A17-A3F8-86521722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78CE-8B92-4C59-B8AF-70788C68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B638-7954-4306-85ED-AE64C855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F18D-7C56-4E19-96D6-EA68F39C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8591-02D7-4B2F-9AE6-E29286B8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9354-EA8F-4CC1-9721-800564CD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399E-1AD2-48F0-97F3-CF5B90BF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BD35-B748-4C0A-B6B1-7A75924F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8090-34EB-462B-BEF7-178DE8A97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1600200" y="1219320"/>
            <a:ext cx="6343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EXTERNAL Struc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752480" y="3048120"/>
            <a:ext cx="6172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LAN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image007"/>
          <p:cNvPicPr/>
          <p:nvPr/>
        </p:nvPicPr>
        <p:blipFill>
          <a:blip r:embed="rId1"/>
          <a:stretch/>
        </p:blipFill>
        <p:spPr>
          <a:xfrm>
            <a:off x="1219320" y="228600"/>
            <a:ext cx="6858000" cy="4619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758520" y="4952880"/>
            <a:ext cx="675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ENTITIOUS Root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 from unusual places on plants such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tems, leaves and even fr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609480" y="114300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ot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2286000" y="228600"/>
            <a:ext cx="4686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unctions of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062720" y="1752480"/>
            <a:ext cx="70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anchor plants firmly in the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277640" y="2378160"/>
            <a:ext cx="569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absorb water and miner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the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361960" y="3429000"/>
            <a:ext cx="38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n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store st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3656520" y="4495680"/>
            <a:ext cx="422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lants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used to gr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new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Structure of the Plant – Parts of the plant on the out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Roo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of the Roo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ecial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o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Copy of ex structure3"/>
          <p:cNvPicPr/>
          <p:nvPr/>
        </p:nvPicPr>
        <p:blipFill>
          <a:blip r:embed="rId1"/>
          <a:stretch/>
        </p:blipFill>
        <p:spPr>
          <a:xfrm>
            <a:off x="0" y="87480"/>
            <a:ext cx="8763120" cy="677052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H="1">
            <a:off x="9907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74320" y="5911920"/>
            <a:ext cx="1533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MAIN 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206960" y="5181480"/>
            <a:ext cx="1168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OR S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484400" y="5486400"/>
            <a:ext cx="105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O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864960" y="4267080"/>
            <a:ext cx="72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E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894240" y="4343400"/>
            <a:ext cx="782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3801240" y="838080"/>
            <a:ext cx="111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359280" y="1523880"/>
            <a:ext cx="849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F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64840" y="2971800"/>
            <a:ext cx="84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1936440" y="388620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1860120" y="198108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434880" y="3505320"/>
            <a:ext cx="939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INTE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3003480" y="152280"/>
            <a:ext cx="1924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TERMINAL B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316080" y="152280"/>
            <a:ext cx="1291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AXIL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B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7560360" y="2286000"/>
            <a:ext cx="105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H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767520" y="0"/>
            <a:ext cx="7253640" cy="64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 Shoot System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ound and the Root Syst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 f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61600" y="1849320"/>
            <a:ext cx="216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AB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676520" y="4876920"/>
            <a:ext cx="558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BELOW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  U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1828800" y="228600"/>
            <a:ext cx="5448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ypes of Root Syst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5" name="Picture 5" descr="fibrous root"/>
          <p:cNvPicPr/>
          <p:nvPr/>
        </p:nvPicPr>
        <p:blipFill>
          <a:blip r:embed="rId1"/>
          <a:srcRect l="33363" t="15452" r="35633" b="11208"/>
          <a:stretch/>
        </p:blipFill>
        <p:spPr>
          <a:xfrm>
            <a:off x="917640" y="998640"/>
            <a:ext cx="3730680" cy="5695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5261400" y="990720"/>
            <a:ext cx="24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s like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gled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5338080" y="2438280"/>
            <a:ext cx="342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this ro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con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ar C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7924680" y="4648320"/>
            <a:ext cx="381240" cy="1218960"/>
          </a:xfrm>
          <a:custGeom>
            <a:avLst/>
            <a:gdLst>
              <a:gd name="textAreaLeft" fmla="*/ 0 w 381240"/>
              <a:gd name="textAreaRight" fmla="*/ 137520 w 38124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 rot="10800000">
            <a:off x="8305560" y="4111920"/>
            <a:ext cx="6678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 Gr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hdwt2-31"/>
          <p:cNvPicPr/>
          <p:nvPr/>
        </p:nvPicPr>
        <p:blipFill>
          <a:blip r:embed="rId1"/>
          <a:stretch/>
        </p:blipFill>
        <p:spPr>
          <a:xfrm>
            <a:off x="533520" y="380880"/>
            <a:ext cx="3252600" cy="586764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4495680" y="457200"/>
            <a:ext cx="3810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p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330440" y="1284120"/>
            <a:ext cx="32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a large 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tral 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348440" y="2438280"/>
            <a:ext cx="39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many branc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499280" y="3581280"/>
            <a:ext cx="33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 deep in the s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568760" y="4343400"/>
            <a:ext cx="388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plan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e trees 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go, avo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rubs e.g. toma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2514600" y="228600"/>
            <a:ext cx="320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erial 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89" name="Picture 5" descr="aerial root"/>
          <p:cNvPicPr/>
          <p:nvPr/>
        </p:nvPicPr>
        <p:blipFill>
          <a:blip r:embed="rId1"/>
          <a:srcRect l="63213" t="15339" r="14507" b="42512"/>
          <a:stretch/>
        </p:blipFill>
        <p:spPr>
          <a:xfrm>
            <a:off x="609480" y="990720"/>
            <a:ext cx="4038840" cy="5715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5013360" y="1103400"/>
            <a:ext cx="31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 attaches itself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branch or telephone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105520" y="2819520"/>
            <a:ext cx="31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s hang down in mid-air and absorb water from 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029200" y="4267080"/>
            <a:ext cx="31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d 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rch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1066680" y="304920"/>
            <a:ext cx="7086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ecialized Roo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95" name="Picture 5" descr="250px-Roots_by_cesarpb"/>
          <p:cNvPicPr/>
          <p:nvPr/>
        </p:nvPicPr>
        <p:blipFill>
          <a:blip r:embed="rId1"/>
          <a:stretch/>
        </p:blipFill>
        <p:spPr>
          <a:xfrm>
            <a:off x="457200" y="1371600"/>
            <a:ext cx="5562720" cy="4952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6401160" y="2133720"/>
            <a:ext cx="2099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I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g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prop  roots"/>
          <p:cNvPicPr/>
          <p:nvPr/>
        </p:nvPicPr>
        <p:blipFill>
          <a:blip r:embed="rId1"/>
          <a:srcRect l="68915" t="14666" r="0" b="27292"/>
          <a:stretch/>
        </p:blipFill>
        <p:spPr>
          <a:xfrm>
            <a:off x="304920" y="228600"/>
            <a:ext cx="5486400" cy="61722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5931000" y="1436760"/>
            <a:ext cx="144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20:06:26Z</dcterms:created>
  <dc:creator>Ryan Hill</dc:creator>
  <dc:description/>
  <dc:language>en-US</dc:language>
  <cp:lastModifiedBy>LEGION2</cp:lastModifiedBy>
  <dcterms:modified xsi:type="dcterms:W3CDTF">2016-01-13T09:34:52Z</dcterms:modified>
  <cp:revision>8</cp:revision>
  <dc:subject/>
  <dc:title>Slide 1</dc:title>
</cp:coreProperties>
</file>