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gif" ContentType="image/gif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6F70-E233-46ED-9E9F-9C347AE561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and Classification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and Classification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ascular Plan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two types of specialized vascular tissues for transport within the pl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- transports H20 up from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- transports food made during photosynthesis and nutrients to where they are needed 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a vascular system allowed plants to become t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specialized organs: roots, stems, and le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ascular Plan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two types of specialized vascular tissues for transport within the pl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- transports H20 up from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- transports food made during photosynthesis and nutrients to where they are needed 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a vascular system allowed plants to become t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specialized organs: roots, stems, and le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 are divided into two groups by whether or not they reproduce with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 are divided into two groups by whether or not they reproduce with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row in moist, shady habit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underground stems, roots, &amp; large leaves called fr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using spores, Not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rn - a seedless vascula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11,000 species of fe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row in moist, shady habit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underground stems, roots, &amp; large leaves called fr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using spores, Not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rn - a seedless vascula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11,000 species of fe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Developed reproductive strategies that do not need wat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lly develop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y for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ter-proof seed coat to keep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ransferred in water-proof pollen through pollination by wind o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seed-bearing structures: Cones an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-Bearing 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Developed reproductive strategies that do not need wat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lly develop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y for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ter-proof seed coat to keep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ransferred in water-proof pollen through pollination by wind o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seed-bearing structures: Cones an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-Bearing 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eeded Tracheophyte groups are divided by whether or not they have enclosed seeds -protected inside a fruit or if seeds are exposed to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ked” or exp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produce fruit w/ encl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eeded Tracheophyte groups are divided by whether or not they have enclosed seeds -protected inside a fruit or if seeds are exposed to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ked” or exp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produce fruit w/ encl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ycad (Sago palm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fer (pine, spruce, firs, cedars, sequoias, redwoods, junipers, yews, &amp; cypress tre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ymnosperms- “naked se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go P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#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ycad (Sago palm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fer (pine, spruce, firs, cedars, sequoias, redwoods, junipers, yews, &amp; cypress tre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ymnosperms- “naked se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go P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#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gymnosperms are 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s have leaves called needles or scales have a reduced surface area and thick waxy coat on the needle to reduce water loss and prevents free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-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o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gymnosperms are 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s have leaves called needles or scales have a reduced surface area and thick waxy coat on the needle to reduce water loss and prevents free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-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o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cones produce pollen and the female cone produces eggs and see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is inefficiently transferred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ature, the scales on the female cone dry out and open scattering the seeds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cones produce pollen and the female cone produces eggs and see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is inefficiently transferred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ature, the scales on the female cone dry out and open scattering the seeds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- “enclosed see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flowering plants the encourage direct and efficient pollen transfer (smell, color and offering nect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ors are flying insects, birds, and bats that transfer pollen from flower to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contain ovaries, which is where eggs/seeds are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uit is the pollinated ovary containing mature see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- “enclosed see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flowering plants the encourage direct and efficient pollen transfer (smell, color and offering nect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ors are flying insects, birds, and bats that transfer pollen from flower to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contain ovaries, which is where eggs/seeds are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uit is the pollinated ovary containing mature see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uit can aid in dispersal of seed to reduce competition with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ged fruit – glides to new location (maple fru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fruit – can float to new locations (cocon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shy fruit - sweet bright colored fruit have seeds that survive the digestive system of animals that eat the fruit (ap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y fruit- Velcro like projections attach to the fur of animals (cocklebu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le seeds:  Winged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dock:  Spiny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uit can aid in dispersal of seed to reduce competition with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ged fruit – glides to new location (maple fru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fruit – can float to new locations (cocon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shy fruit - sweet bright colored fruit have seeds that survive the digestive system of animals that eat the fruit (ap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y fruit- Velcro like projections attach to the fur of animals (cocklebu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le seeds:  Winged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dock:  Spiny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know about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perform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need water and nutr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-up:  Write each Question and Answer for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know about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perform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need water and nutr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-up:  Write each Question and Answer for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plants have to overcome to live on l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primitive division of plants because they have no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example in this division and how do they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osses so sm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vision of plants that contain a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a vascular system do for plants size-wi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a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plants have to overcome to live on l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primitive division of plants because they have no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example in this division and how do they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osses so sm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vision of plants that contain a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a vascular system do for plants size-wi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a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fferent from bry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vi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advantages of seeds over spo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advantages did seed-bearing plants have over spore-bearing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divisions of the seed-bearing trache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fferent from bry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vi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advantages of seeds over spo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advantages did seed-bearing plants have over spore-bearing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divisions of the seed-bearing trache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term Gymnosperm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ost common of the Gymnospe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volutionary importance of needl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ructures do conifers use to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are seeds located in the c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wind-dispersal of pollen is inefficient, what did it allow plants to overc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term Gymnosperm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ost common of the Gymnospe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volutionary importance of needl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ructures do conifers use to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are seeds located in the c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wind-dispersal of pollen is inefficient, what did it allow plants to overc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cellular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autotrophs containing chloropla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mobile (fixed to one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s made of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to environment and grows through the use of 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cellular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autotrophs containing chloropla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mobile (fixed to one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s made of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to environment and grows through the use of 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cestors of plants were multicellular green algae.  They were completely immersed in water &amp; dissolved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t chemical resources (water, minerals, oxygen, and carbon dioxide) separated into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transport resources with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prevent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reproduce withou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Make the The Move 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ove onto land, plants had to solve these probl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cestors of plants were multicellular green algae.  They were completely immersed in water &amp; dissolved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t chemical resources (water, minerals, oxygen, and carbon dioxide) separated into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transport resources with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prevent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reproduce withou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Make the The Move 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ove onto land, plants had to solve these probl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daptations (solutions)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body parts extending into both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a vascular system  to transport resources in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rotective layer – cuticle (waxy outer layer) to keep from drying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zed structures for reproduction including spores &amp; seeds that do not dry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daptations (solutions)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body parts extending into both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a vascular system  to transport resources in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rotective layer – cuticle (waxy outer layer) to keep from drying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zed structures for reproduction including spores &amp; seeds that do not dry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re classified based on whether or not the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System (trans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(enclosed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re classified based on whether or not the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System (trans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(enclosed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Map:  Plants are divided 1st by whether or not they have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NO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Map:  Plants are divided 1st by whether or not they have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NO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  -NON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moist, shady ar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scular (transport)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ize due to no vascular tiss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ue roots, stems, or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water for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s using spores, -a water-proof single cell that can grow into a new organ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example: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  -NON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moist, shady ar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scular (transport)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ize due to no vascular tiss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ue roots, stems, or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water for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s using spores, -a water-proof single cell that can grow into a new organ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example: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ss Pla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st common bryoph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 form inside the caps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problem of nutrient separation into air and soil is solved with underground and above ground parts. (Although NO TRUE roots, stems or leaves ar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ss Pla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st common bryoph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 form inside the caps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problem of nutrient separation into air and soil is solved with underground and above ground parts. (Although NO TRUE roots, stems or leaves ar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DB83-FCB0-433A-8385-AA7EB166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583A-CB80-4DEF-A5D3-5B8DE69A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A87F-5CFF-4466-8FA0-0A1B26CE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BB9D-20AD-41F5-9155-44F15EAB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3770-A16E-429B-85D7-1624C579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013A-6E05-4696-A6D0-65614F0E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859-19E4-495B-B1FF-528667CF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C46E-74B2-40ED-AEF7-1FE6137D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D07B-AD5C-49B7-AF02-9736E776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197-EF8F-4D14-9FB1-43E33608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9DAA-6735-4D3B-9B32-082B9554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A6C9-0A0A-4DB7-8180-CF3F19A8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2A69-BCFA-4A17-A57D-424D2E640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00"/>
                </a:solidFill>
                <a:latin typeface="Arial Black"/>
              </a:rPr>
              <a:t>Plant Diversi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ag00142_"/>
          <p:cNvPicPr/>
          <p:nvPr/>
        </p:nvPicPr>
        <p:blipFill>
          <a:blip r:embed="rId1"/>
          <a:stretch/>
        </p:blipFill>
        <p:spPr>
          <a:xfrm>
            <a:off x="5715000" y="2209680"/>
            <a:ext cx="3106800" cy="3886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228600" y="27432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he Evolution and Classification of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Lucida Handwriting"/>
              </a:rPr>
              <a:t>Tracheophytes</a:t>
            </a:r>
            <a:br>
              <a:rPr sz="3600"/>
            </a:br>
            <a:r>
              <a:rPr b="0" lang="en-US" sz="3200" spc="-1" strike="noStrike">
                <a:solidFill>
                  <a:srgbClr val="336600"/>
                </a:solidFill>
                <a:latin typeface="Lucida Handwriting"/>
              </a:rPr>
              <a:t>-Vascular Plants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na01441_"/>
          <p:cNvPicPr/>
          <p:nvPr/>
        </p:nvPicPr>
        <p:blipFill>
          <a:blip r:embed="rId1"/>
          <a:stretch/>
        </p:blipFill>
        <p:spPr>
          <a:xfrm>
            <a:off x="228600" y="3049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ains two types of specialized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vascular tissu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for transport within the pla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Xyl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transports H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0 up from roo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hlo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transports food made during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hotosynthesi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and nutrients to where they are needed in the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esence of a vascular system allowed plants to become 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s specialized organs: roots, stems, and 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676520" y="533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0666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Arial"/>
              </a:rPr>
              <a:t>Tracheophytes are divided into two groups by whether or not they reproduce with </a:t>
            </a:r>
            <a:r>
              <a:rPr b="1" lang="en-US" sz="3000" spc="-1" strike="noStrike" u="sng">
                <a:solidFill>
                  <a:srgbClr val="336600"/>
                </a:solidFill>
                <a:uFillTx/>
                <a:latin typeface="Arial"/>
              </a:rPr>
              <a:t>seeds</a:t>
            </a:r>
            <a:r>
              <a:rPr b="1" lang="en-US" sz="30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90920" y="21337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 flipH="1">
            <a:off x="2209680" y="26668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4876920" y="2666880"/>
            <a:ext cx="1523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85800" y="3429000"/>
            <a:ext cx="2590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l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5486400" y="3352680"/>
            <a:ext cx="2438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828800" y="4114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685800" y="5029200"/>
            <a:ext cx="2590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erns use sp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2"/>
          <p:cNvSpPr/>
          <p:nvPr/>
        </p:nvSpPr>
        <p:spPr>
          <a:xfrm flipH="1">
            <a:off x="5638320" y="40384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6629400" y="40384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533520" y="533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449568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Contain a vascular syste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They grow in moist, shady habita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Has underground stems, roots, &amp; large leaves called </a:t>
            </a:r>
            <a:r>
              <a:rPr b="1" lang="en-US" sz="3000" spc="-1" strike="noStrike" u="sng">
                <a:solidFill>
                  <a:srgbClr val="3333cc"/>
                </a:solidFill>
                <a:uFillTx/>
                <a:latin typeface="Arial"/>
              </a:rPr>
              <a:t>fronds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Reproduce using </a:t>
            </a:r>
            <a:r>
              <a:rPr b="1" lang="en-US" sz="3000" spc="-1" strike="noStrike" u="sng">
                <a:solidFill>
                  <a:srgbClr val="3333cc"/>
                </a:solidFill>
                <a:uFillTx/>
                <a:latin typeface="Arial"/>
              </a:rPr>
              <a:t>spores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3333cc"/>
                </a:solidFill>
                <a:latin typeface="Arial"/>
              </a:rPr>
              <a:t>Not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seed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90720" y="3808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Lucida Handwriting"/>
              </a:rPr>
              <a:t>The Fern - a seedless vascular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772400" y="129528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re are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11,000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species of fe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~AUT0007"/>
          <p:cNvPicPr/>
          <p:nvPr/>
        </p:nvPicPr>
        <p:blipFill>
          <a:blip r:embed="rId1"/>
          <a:stretch/>
        </p:blipFill>
        <p:spPr>
          <a:xfrm>
            <a:off x="4572000" y="990720"/>
            <a:ext cx="297972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~AUT0008"/>
          <p:cNvPicPr/>
          <p:nvPr/>
        </p:nvPicPr>
        <p:blipFill>
          <a:blip r:embed="rId2"/>
          <a:srcRect l="0" t="0" r="9148" b="0"/>
          <a:stretch/>
        </p:blipFill>
        <p:spPr>
          <a:xfrm>
            <a:off x="6478560" y="3581280"/>
            <a:ext cx="2665440" cy="32767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6172200" y="3962520"/>
            <a:ext cx="304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6781680" y="2209680"/>
            <a:ext cx="99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304920" y="228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10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ADVANTAGE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: Developed reproductive strategies that do not nee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water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ed conta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fully developed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Food supply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for 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water-proof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seed coa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to keep from drying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perm transferred in water-proof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through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inatio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by wind o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eveloped seed-bearing structures: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one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Fl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Seed-Bearing 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52280" y="609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The two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Seed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racheophyte groups are divided by whether or not they have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enclosed seeds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-protected inside a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fruit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or if seeds are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expos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o the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828800" y="22096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 flipH="1">
            <a:off x="1752120" y="25909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572000" y="25909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533520" y="3124080"/>
            <a:ext cx="2590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l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4495680" y="3048120"/>
            <a:ext cx="243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160020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09480" y="4648320"/>
            <a:ext cx="2057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erns use sp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 flipH="1">
            <a:off x="4114440" y="373392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5867280" y="3733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2895480" y="464832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ymnos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6172200" y="4648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2819520" y="541008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“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aked” or exposed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5562720" y="5486400"/>
            <a:ext cx="358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lowers produce fruit w/ enclosed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9625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70866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yca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(Sago palm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Ginkgo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onif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(pine, spruce, firs, cedars, sequoias, redwoods, junipers, yews, &amp; cypress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Lucida Handwriting"/>
              </a:rPr>
              <a:t>Gymnosperms- “naked seed</a:t>
            </a:r>
            <a:r>
              <a:rPr b="0" lang="en-US" sz="4800" spc="-1" strike="noStrike">
                <a:solidFill>
                  <a:srgbClr val="336600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~AUT0012"/>
          <p:cNvPicPr/>
          <p:nvPr/>
        </p:nvPicPr>
        <p:blipFill>
          <a:blip r:embed="rId1"/>
          <a:srcRect l="0" t="0" r="5884" b="4374"/>
          <a:stretch/>
        </p:blipFill>
        <p:spPr>
          <a:xfrm>
            <a:off x="3505320" y="2971800"/>
            <a:ext cx="2398680" cy="3352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~AUT0013"/>
          <p:cNvPicPr/>
          <p:nvPr/>
        </p:nvPicPr>
        <p:blipFill>
          <a:blip r:embed="rId2"/>
          <a:srcRect l="0" t="0" r="0" b="4959"/>
          <a:stretch/>
        </p:blipFill>
        <p:spPr>
          <a:xfrm>
            <a:off x="6172200" y="2971800"/>
            <a:ext cx="2427120" cy="3352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~AUT0011"/>
          <p:cNvPicPr/>
          <p:nvPr/>
        </p:nvPicPr>
        <p:blipFill>
          <a:blip r:embed="rId3"/>
          <a:srcRect l="0" t="0" r="6819" b="0"/>
          <a:stretch/>
        </p:blipFill>
        <p:spPr>
          <a:xfrm>
            <a:off x="457200" y="2971800"/>
            <a:ext cx="2779560" cy="33526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838080" y="6400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go P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40384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685800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3808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5943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Most common gymnosperms are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Conif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Conifers have leaves called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needles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 or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scales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 have a reduced surface area and thick waxy coat on the needle to reduce water loss and prevents freez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762120" y="45720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Gymnosperms-Coni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~AUT0014"/>
          <p:cNvPicPr/>
          <p:nvPr/>
        </p:nvPicPr>
        <p:blipFill>
          <a:blip r:embed="rId1"/>
          <a:stretch/>
        </p:blipFill>
        <p:spPr>
          <a:xfrm>
            <a:off x="5869080" y="0"/>
            <a:ext cx="327492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~AUT0015"/>
          <p:cNvPicPr/>
          <p:nvPr/>
        </p:nvPicPr>
        <p:blipFill>
          <a:blip r:embed="rId2"/>
          <a:stretch/>
        </p:blipFill>
        <p:spPr>
          <a:xfrm>
            <a:off x="3276720" y="3809880"/>
            <a:ext cx="2458800" cy="2300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~AUT0016"/>
          <p:cNvPicPr/>
          <p:nvPr/>
        </p:nvPicPr>
        <p:blipFill>
          <a:blip r:embed="rId3"/>
          <a:srcRect l="0" t="6002" r="0" b="12004"/>
          <a:stretch/>
        </p:blipFill>
        <p:spPr>
          <a:xfrm>
            <a:off x="0" y="3809880"/>
            <a:ext cx="3200400" cy="25765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5947920" y="-144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quo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888360" y="611964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Juni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1145160" y="63388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52280" y="228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Lucida Handwriting"/>
              </a:rPr>
              <a:t>Conifer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48006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le cones produc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and the female cone produces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eggs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eed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lle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is inefficiently transferred by the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nce mature, th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cal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on the female cone dry out and open scattering the seeds by the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~AUT0017"/>
          <p:cNvPicPr/>
          <p:nvPr/>
        </p:nvPicPr>
        <p:blipFill>
          <a:blip r:embed="rId1"/>
          <a:stretch/>
        </p:blipFill>
        <p:spPr>
          <a:xfrm>
            <a:off x="5181480" y="0"/>
            <a:ext cx="2538360" cy="3505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~AUT0018"/>
          <p:cNvPicPr/>
          <p:nvPr/>
        </p:nvPicPr>
        <p:blipFill>
          <a:blip r:embed="rId2"/>
          <a:srcRect l="0" t="11540" r="0" b="0"/>
          <a:stretch/>
        </p:blipFill>
        <p:spPr>
          <a:xfrm>
            <a:off x="5181480" y="3657600"/>
            <a:ext cx="2845080" cy="2971800"/>
          </a:xfrm>
          <a:prstGeom prst="rect">
            <a:avLst/>
          </a:prstGeom>
          <a:ln w="0">
            <a:noFill/>
          </a:ln>
        </p:spPr>
      </p:pic>
      <p:sp>
        <p:nvSpPr>
          <p:cNvPr id="171" name="Line 6"/>
          <p:cNvSpPr/>
          <p:nvPr/>
        </p:nvSpPr>
        <p:spPr>
          <a:xfrm flipH="1" flipV="1">
            <a:off x="7772040" y="10666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7924680" y="1600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 flipV="1">
            <a:off x="4572000" y="5333760"/>
            <a:ext cx="914400" cy="685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809880" y="603576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en C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8077320" y="449568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d C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 flipH="1">
            <a:off x="7391520" y="4876920"/>
            <a:ext cx="76176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808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Angiosperms- “enclosed seed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ese are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flowering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plants the encourage direct and efficient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transfer (smell, color and offering nect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ollinator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re flying insects, birds, and bats that transfer pollen from flower to fl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lower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contain ovaries, which is wher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eggs/seed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re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ruit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is the pollinate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ovary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containing matur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seed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2860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Fruit can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aid in dispersal of se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o reduce competition with parent pl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518148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inged fruit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glides to new location (maple fru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loating fruit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can float to new locations (cocon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leshy fruit -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weet bright colored fruit have seeds that survive the digestive system of animals that eat the fruit (ap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piny fruit-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Velcro like projections attach to the fur of animals (cocklebu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522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6" descr="maple seeds"/>
          <p:cNvPicPr/>
          <p:nvPr/>
        </p:nvPicPr>
        <p:blipFill>
          <a:blip r:embed="rId1"/>
          <a:stretch/>
        </p:blipFill>
        <p:spPr>
          <a:xfrm>
            <a:off x="5410080" y="1600200"/>
            <a:ext cx="3443400" cy="2295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5181480" y="3886200"/>
            <a:ext cx="381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le seeds:  Winged fr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9" descr="wfshl-burdock-06_small"/>
          <p:cNvPicPr/>
          <p:nvPr/>
        </p:nvPicPr>
        <p:blipFill>
          <a:blip r:embed="rId2"/>
          <a:stretch/>
        </p:blipFill>
        <p:spPr>
          <a:xfrm>
            <a:off x="5334120" y="4572000"/>
            <a:ext cx="1771560" cy="19051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5638680" y="643104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rdock:  Spiny fr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12" descr="Cocklebur%20(3)_small"/>
          <p:cNvPicPr/>
          <p:nvPr/>
        </p:nvPicPr>
        <p:blipFill>
          <a:blip r:embed="rId3"/>
          <a:stretch/>
        </p:blipFill>
        <p:spPr>
          <a:xfrm>
            <a:off x="7238880" y="4495680"/>
            <a:ext cx="1570320" cy="19656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762120" y="1143000"/>
            <a:ext cx="7315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Lucida Handwriting"/>
              </a:rPr>
              <a:t>What do I know about pla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Lucida Handwriting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62120" y="2438280"/>
            <a:ext cx="7696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perform photosynth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need water and nutr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reproduce using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reproduce using s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28600" y="4572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 Write each Question and Answer for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id plants have to overcome to live on la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most primitive division of plants because they have no vascular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most common example in this division and how do they reprodu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y are mosses so sma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division of plants that contain a vascular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id a vascular system do for plants size-wi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mosses and ferns differ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mosses and ferns a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3" dur="1" fill="hold"/>
                                  <p:tgtEl>
                                    <p:spTgt spid="19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Tracheophytes different from bryophy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tracheophytes divi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advantages of seeds over sp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other advantages did seed-bearing plants have over spore-bearing pla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two divisions of the seed-bearing tracheophy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2" dur="1" fill="hold"/>
                                  <p:tgtEl>
                                    <p:spTgt spid="1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oes the term Gymnosperm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most common of the Gymnosper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evolutionary importance of needl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structures do conifers use to reprodu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ere are seeds located in the c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ven though wind-dispersal of pollen is inefficient, what did it allow plants to overc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6" dur="1" fill="hold"/>
                                  <p:tgtEl>
                                    <p:spTgt spid="19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PLANT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Multicellular eukary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hotosynthetic autotrophs containing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hloroplast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Non-mobile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(fixed to one sp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ell walls made of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ellu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sponds to environment and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grow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rough the use of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4"/>
          <p:cNvSpPr/>
          <p:nvPr/>
        </p:nvSpPr>
        <p:spPr>
          <a:xfrm>
            <a:off x="457200" y="16002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10666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The ancestors of plants were </a:t>
            </a:r>
            <a:r>
              <a:rPr b="0" lang="en-US" sz="2600" spc="-1" strike="noStrike" u="sng">
                <a:solidFill>
                  <a:srgbClr val="003300"/>
                </a:solidFill>
                <a:uFillTx/>
                <a:latin typeface="Arial"/>
              </a:rPr>
              <a:t>multicellular green algae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.  They were completely immersed in water &amp; dissolved minera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2819520"/>
            <a:ext cx="8915400" cy="33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get chemical resources (water, minerals, oxygen, and carbon dioxide) separated into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air and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transport resources within the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prevent from dry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reproduce without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1440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ts Make the The Move to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57200" y="304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57440" y="2082960"/>
            <a:ext cx="70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 move onto land, plants had to solve these problem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533520" y="762120"/>
            <a:ext cx="812484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Some Adaptations (solutions)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ve body parts extending into both air and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velop a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vascular syst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to transport resources in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ve a protective layer –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uticl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(waxy outer layer) to keep from drying 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pecialized structures for reproduction including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pores &amp; seed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that do not dry 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04920" y="762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ts are classified based on whether or not they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Vascular System (trans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e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lowers (enclosed see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4"/>
          <p:cNvSpPr/>
          <p:nvPr/>
        </p:nvSpPr>
        <p:spPr>
          <a:xfrm>
            <a:off x="609480" y="22860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57200" y="304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Concept Map:  Plants are divided 1</a:t>
            </a:r>
            <a:r>
              <a:rPr b="1" lang="en-US" sz="3200" spc="-1" strike="noStrike" baseline="30000">
                <a:solidFill>
                  <a:srgbClr val="3366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by whether or not they have a vascular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5333760"/>
            <a:ext cx="2895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Bry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5105520" y="5334120"/>
            <a:ext cx="3657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809880" y="1676520"/>
            <a:ext cx="175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 flipH="1">
            <a:off x="2590560" y="2286000"/>
            <a:ext cx="15238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8"/>
          <p:cNvSpPr/>
          <p:nvPr/>
        </p:nvSpPr>
        <p:spPr>
          <a:xfrm>
            <a:off x="5029200" y="2286000"/>
            <a:ext cx="15238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>
            <a:off x="190512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693432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5334120" y="3581280"/>
            <a:ext cx="3276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as Vascular T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228600" y="3581280"/>
            <a:ext cx="4343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as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N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Vascular T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228600" y="152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828800" y="304920"/>
            <a:ext cx="60199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00"/>
                </a:solidFill>
                <a:latin typeface="Lucida Handwriting"/>
              </a:rPr>
              <a:t>Bryophytes  </a:t>
            </a:r>
            <a:r>
              <a:rPr b="0" lang="en-US" sz="2400" spc="-1" strike="noStrike">
                <a:solidFill>
                  <a:srgbClr val="336600"/>
                </a:solidFill>
                <a:latin typeface="Lucida Handwriting"/>
              </a:rPr>
              <a:t>-NONVA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80880" y="1143000"/>
            <a:ext cx="8077320" cy="548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st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rimitiv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nd in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oist, shady area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vascular (transport)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mall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size due to no vascular tiss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rue roots, stems, or le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eds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wat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for repro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produces using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por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 -a water-proof single cell that can grow into a new organ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st common example: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Lucida Handwriting"/>
              </a:rPr>
              <a:t>Typical Moss Plant </a:t>
            </a:r>
            <a:br>
              <a:rPr sz="4400"/>
            </a:br>
            <a:r>
              <a:rPr b="0" lang="en-US" sz="2000" spc="-1" strike="noStrike">
                <a:solidFill>
                  <a:srgbClr val="336600"/>
                </a:solidFill>
                <a:latin typeface="Lucida Handwriting"/>
              </a:rPr>
              <a:t>(most common bryophy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181480" y="15238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pores form inside the caps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952880" y="4575240"/>
            <a:ext cx="4191120" cy="2288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Notice the problem of nutrient separation into air and soil is solved with 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underground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above ground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parts. (Although NO TRUE roots, stems or leaves are pres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1" descr="~AUT0005"/>
          <p:cNvPicPr/>
          <p:nvPr/>
        </p:nvPicPr>
        <p:blipFill>
          <a:blip r:embed="rId1"/>
          <a:srcRect l="0" t="0" r="40959" b="0"/>
          <a:stretch/>
        </p:blipFill>
        <p:spPr>
          <a:xfrm>
            <a:off x="2514600" y="1371600"/>
            <a:ext cx="2413080" cy="548640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>
            <a:off x="44956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4" descr="~AUT0006"/>
          <p:cNvPicPr/>
          <p:nvPr/>
        </p:nvPicPr>
        <p:blipFill>
          <a:blip r:embed="rId2"/>
          <a:srcRect l="0" t="0" r="73121" b="17989"/>
          <a:stretch/>
        </p:blipFill>
        <p:spPr>
          <a:xfrm>
            <a:off x="0" y="1981080"/>
            <a:ext cx="2449440" cy="38102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0:19:05Z</dcterms:created>
  <dc:creator>Allen Berard</dc:creator>
  <dc:description>Plant Divisions</dc:description>
  <cp:keywords>Plant Divisions</cp:keywords>
  <dc:language>en-US</dc:language>
  <cp:lastModifiedBy>LEGION2</cp:lastModifiedBy>
  <dcterms:modified xsi:type="dcterms:W3CDTF">2016-01-13T09:32:31Z</dcterms:modified>
  <cp:revision>43</cp:revision>
  <dc:subject>Plant Divisions</dc:subject>
  <dc:title>Plant Divisions</dc:title>
</cp:coreProperties>
</file>