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45DD-CD8E-44AF-B607-4A969119E3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Diver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volution and Classification of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ascular Plant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two types of specialized vascular tissues for transport within the pla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ylem- transports H20 up from roo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loem- transports food made during photosynthesis and nutrients to where they are needed 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ence of a vascular system allowed plants to become t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specialized organs: roots, stems, and le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 are divided into two groups by whether or not they reproduce with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grow in moist, shady habit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underground stems, roots, &amp; large leaves called fro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 using spores, Not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ern - a seedless vascular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11,000 species of fer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Developed reproductive strategies that do not need water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t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lly developed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y for 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ater-proof seed coat to keep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rm transferred in water-proof pollen through pollination by wind o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seed-bearing structures: Cones an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-Bearing 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Seeded Tracheophyte groups are divided by whether or not they have enclosed seeds -protected inside a fruit or if seeds are exposed to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l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s use sp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ked” or exp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produce fruit w/ enclosed s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ycad (Sago palm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ifer (pine, spruce, firs, cedars, sequoias, redwoods, junipers, yews, &amp; cypress tre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ymnosperms- “naked see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go Pa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ink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lide #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gymnosperms are 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s have leaves called needles or scales have a reduced surface area and thick waxy coat on the needle to reduce water loss and prevents freez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mnosperms-Conif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o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fer 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 cones produce pollen and the female cone produces eggs and see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is inefficiently transferred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ature, the scales on the female cone dry out and open scattering the seeds by the wi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iosperms- “enclosed seed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flowering plants the encourage direct and efficient pollen transfer (smell, color and offering nect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ors are flying insects, birds, and bats that transfer pollen from flower to flow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contain ovaries, which is where eggs/seeds are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uit is the pollinated ovary containing mature see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uit can aid in dispersal of seed to reduce competition with parent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ged fruit – glides to new location (maple frui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ing fruit – can float to new locations (cocon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eshy fruit - sweet bright colored fruit have seeds that survive the digestive system of animals that eat the fruit (app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y fruit- Velcro like projections attach to the fur of animals (cocklebu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le seeds:  Winged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rdock:  Spiny fr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I know about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or Fal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perform photosynth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need water and nutri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f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plants reproduce using see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m-up:  Write each Question and Answer for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plants have to overcome to live on la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primitive division of plants because they have no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most common example in this division and how do they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mosses so smal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vision of plants that contain a vascular syste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a vascular system do for plants size-wi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differ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mosses and ferns a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fferent from bry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are tracheophytes divid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advantages of seeds over spo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other advantages did seed-bearing plants have over spore-bearing plan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two divisions of the seed-bearing tracheophyt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z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term Gymnosperm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most common of the Gymnospe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volutionary importance of needle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tructures do conifers use to reprodu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are seeds located in the con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though wind-dispersal of pollen is inefficient, what did it allow plants to overco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cellular eukary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tic autotrophs containing chloropla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-mobile (fixed to one spo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walls made of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ds to environment and grows through the use of horm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cestors of plants were multicellular green algae.  They were completely immersed in water &amp; dissolved miner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t chemical resources (water, minerals, oxygen, and carbon dioxide) separated into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transport resources within the pl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prevent from drying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reproduce without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Make the The Move to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move onto land, plants had to solve these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daptations (solutions)-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body parts extending into both air and s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 a vascular system  to transport resources in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 protective layer – cuticle (waxy outer layer) to keep from drying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ized structures for reproduction including spores &amp; seeds that do not dry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re classified based on whether or not they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scular System (transpor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ers (enclosed see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Map:  Plants are divided 1st by whether or not they have a vascu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cheoph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 NO Vascular Tiss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yophytes  -NONVASCU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rimitive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moist, shady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vascular (transport)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size due to no vascular tiss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true roots, stems, or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water for re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es using spores, -a water-proof single cell that can grow into a new organ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example: M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ical Moss Pla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st common bryophy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ores form inside the caps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ice the problem of nutrient separation into air and soil is solved with underground and above ground parts. (Although NO TRUE roots, stems or leaves are pres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#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632E-5E5B-4AB3-B7A1-E029BE0C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365-3072-48E2-A7F7-FC5C8AF8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2725-9611-4CC0-925D-E2B03B176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F8D-1E60-41FB-A69A-C1BD44D8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B79D-8E0F-465B-BD12-6F98F0375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3EF-028C-4A36-B6B2-D04E51AB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30D-3BC0-4F76-9F31-9A88D5D2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98D-A3DF-4AFF-BDC9-1588CA45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F5A-9F39-49FE-8DCE-AA2D5DB5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EB6-7415-48A2-B97E-DEC11FCD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094-6CAE-4958-A697-64546E9A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0A5-DB16-4ECF-9A16-3AA13B4E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6C69-846E-479F-9E23-63C96432E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00"/>
                </a:solidFill>
                <a:latin typeface="Arial Black"/>
              </a:rPr>
              <a:t>Plant Diversit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6" descr="ag00142_"/>
          <p:cNvPicPr/>
          <p:nvPr/>
        </p:nvPicPr>
        <p:blipFill>
          <a:blip r:embed="rId1"/>
          <a:stretch/>
        </p:blipFill>
        <p:spPr>
          <a:xfrm>
            <a:off x="5715000" y="2209680"/>
            <a:ext cx="310680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228600" y="27432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Black"/>
              </a:rPr>
              <a:t>The Evolution and Classification of Pl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Tracheophytes</a:t>
            </a:r>
            <a:br>
              <a:rPr sz="3600"/>
            </a:b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-Vascular Plants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na01441_"/>
          <p:cNvPicPr/>
          <p:nvPr/>
        </p:nvPicPr>
        <p:blipFill>
          <a:blip r:embed="rId1"/>
          <a:stretch/>
        </p:blipFill>
        <p:spPr>
          <a:xfrm>
            <a:off x="228600" y="3049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280" y="2133720"/>
            <a:ext cx="87631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ntains two types of specialized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tissu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transport within the pl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Xyl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H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0 up from roo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lo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- transports food made during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hotosynthesi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nutrients to where they are needed 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resence of a vascular system allowed plants to become t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s specialized organs: roots, stems, and lea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1676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066680"/>
            <a:ext cx="899172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Tracheophytes are divided into two groups by whether or not they reproduce with </a:t>
            </a:r>
            <a:r>
              <a:rPr b="1" lang="en-US" sz="3000" spc="-1" strike="noStrike" u="sng">
                <a:solidFill>
                  <a:srgbClr val="336600"/>
                </a:solidFill>
                <a:uFillTx/>
                <a:latin typeface="Arial"/>
              </a:rPr>
              <a:t>seeds</a:t>
            </a:r>
            <a:r>
              <a:rPr b="1" lang="en-US" sz="30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90920" y="2133720"/>
            <a:ext cx="3657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209680" y="266688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4876920" y="2666880"/>
            <a:ext cx="152388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85800" y="34290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5486400" y="3352680"/>
            <a:ext cx="2438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9"/>
          <p:cNvSpPr/>
          <p:nvPr/>
        </p:nvSpPr>
        <p:spPr>
          <a:xfrm>
            <a:off x="1828800" y="4114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85800" y="5029200"/>
            <a:ext cx="2590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563832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6629400" y="403848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533520" y="533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449568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Contain a vascular system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They grow in moist, shady habita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Has underground stems, roots, &amp; large leaves called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frond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Reproduce using </a:t>
            </a:r>
            <a:r>
              <a:rPr b="1" lang="en-US" sz="30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i="1" lang="en-US" sz="3000" spc="-1" strike="noStrike">
                <a:solidFill>
                  <a:srgbClr val="3333cc"/>
                </a:solidFill>
                <a:latin typeface="Arial"/>
              </a:rPr>
              <a:t>Not</a:t>
            </a: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 seed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9907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he Fern - a seedless vascular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772400" y="1295280"/>
            <a:ext cx="137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re are 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11,000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species of f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8" descr="~AUT0007"/>
          <p:cNvPicPr/>
          <p:nvPr/>
        </p:nvPicPr>
        <p:blipFill>
          <a:blip r:embed="rId1"/>
          <a:stretch/>
        </p:blipFill>
        <p:spPr>
          <a:xfrm>
            <a:off x="4572000" y="990720"/>
            <a:ext cx="297972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~AUT0008"/>
          <p:cNvPicPr/>
          <p:nvPr/>
        </p:nvPicPr>
        <p:blipFill>
          <a:blip r:embed="rId2"/>
          <a:srcRect l="0" t="0" r="9148" b="0"/>
          <a:stretch/>
        </p:blipFill>
        <p:spPr>
          <a:xfrm>
            <a:off x="6478560" y="3581280"/>
            <a:ext cx="2665440" cy="32767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0"/>
          <p:cNvSpPr/>
          <p:nvPr/>
        </p:nvSpPr>
        <p:spPr>
          <a:xfrm>
            <a:off x="6172200" y="3962520"/>
            <a:ext cx="3049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781680" y="2209680"/>
            <a:ext cx="99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30492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28600" y="990360"/>
            <a:ext cx="86104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ADVANTAG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Developed reproductive strategies that do not ne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 contai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fully developed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ood supply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 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 water-proof 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seed coa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to keep from drying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perm transferred in water-proof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hrough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inatio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by wind or anim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Developed seed-bearing structures: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one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Seed-Bearing 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52280" y="60948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The two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Seed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racheophyte groups are divided by whether or not they hav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nclosed seeds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-protected inside a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frui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or if seeds are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expos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the environ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828800" y="22096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H="1">
            <a:off x="1752120" y="25909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4572000" y="259092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533520" y="3124080"/>
            <a:ext cx="2590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l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4495680" y="3048120"/>
            <a:ext cx="243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ed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160020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09480" y="464832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erns use sp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 flipH="1">
            <a:off x="4114440" y="373392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5867280" y="373392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895480" y="4648320"/>
            <a:ext cx="2819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Gymn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6172200" y="4648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Angiosp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2819520" y="5410080"/>
            <a:ext cx="259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 “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aked” or exp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62720" y="5486400"/>
            <a:ext cx="3581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lowers produce fruit w/ enclosed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396252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70866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ycad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(Sago palm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Ginkg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onif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pine, spruce, firs, cedars, sequoias, redwoods, junipers, yews, &amp; cypress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752120" y="228240"/>
            <a:ext cx="7239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Lucida Handwriting"/>
              </a:rPr>
              <a:t>Gymnosperms- “naked seed</a:t>
            </a:r>
            <a:r>
              <a:rPr b="0" lang="en-US" sz="4800" spc="-1" strike="noStrike">
                <a:solidFill>
                  <a:srgbClr val="3366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4" descr="~AUT0012"/>
          <p:cNvPicPr/>
          <p:nvPr/>
        </p:nvPicPr>
        <p:blipFill>
          <a:blip r:embed="rId1"/>
          <a:srcRect l="0" t="0" r="5884" b="4374"/>
          <a:stretch/>
        </p:blipFill>
        <p:spPr>
          <a:xfrm>
            <a:off x="3505320" y="2971800"/>
            <a:ext cx="2398680" cy="33526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~AUT0013"/>
          <p:cNvPicPr/>
          <p:nvPr/>
        </p:nvPicPr>
        <p:blipFill>
          <a:blip r:embed="rId2"/>
          <a:srcRect l="0" t="0" r="0" b="4959"/>
          <a:stretch/>
        </p:blipFill>
        <p:spPr>
          <a:xfrm>
            <a:off x="6172200" y="2971800"/>
            <a:ext cx="2427120" cy="3352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~AUT0011"/>
          <p:cNvPicPr/>
          <p:nvPr/>
        </p:nvPicPr>
        <p:blipFill>
          <a:blip r:embed="rId3"/>
          <a:srcRect l="0" t="0" r="6819" b="0"/>
          <a:stretch/>
        </p:blipFill>
        <p:spPr>
          <a:xfrm>
            <a:off x="457200" y="2971800"/>
            <a:ext cx="2779560" cy="3352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838080" y="6400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go P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038480" y="6400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685800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nk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5943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Most common gymnosperms are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Conif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Conifers have leaves called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need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or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 have a reduced surface area and thick waxy coat on the needle to reduce water loss and prevents freezin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762120" y="45720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Gymnosperms-Conif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~AUT0014"/>
          <p:cNvPicPr/>
          <p:nvPr/>
        </p:nvPicPr>
        <p:blipFill>
          <a:blip r:embed="rId1"/>
          <a:stretch/>
        </p:blipFill>
        <p:spPr>
          <a:xfrm>
            <a:off x="5869080" y="0"/>
            <a:ext cx="327492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~AUT0015"/>
          <p:cNvPicPr/>
          <p:nvPr/>
        </p:nvPicPr>
        <p:blipFill>
          <a:blip r:embed="rId2"/>
          <a:stretch/>
        </p:blipFill>
        <p:spPr>
          <a:xfrm>
            <a:off x="3276720" y="3809880"/>
            <a:ext cx="2458800" cy="230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~AUT0016"/>
          <p:cNvPicPr/>
          <p:nvPr/>
        </p:nvPicPr>
        <p:blipFill>
          <a:blip r:embed="rId3"/>
          <a:srcRect l="0" t="6002" r="0" b="12004"/>
          <a:stretch/>
        </p:blipFill>
        <p:spPr>
          <a:xfrm>
            <a:off x="0" y="3809880"/>
            <a:ext cx="3200400" cy="25765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5947920" y="-144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3888360" y="6119640"/>
            <a:ext cx="134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Juni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1145160" y="633888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152280" y="2286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5410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Lucida Handwriting"/>
              </a:rPr>
              <a:t>Conifer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48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le cones produc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and the female cone produce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eggs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ollen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s inefficiently transferred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nce mature, the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cal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on the female cone dry out and open scattering the seeds by the wi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4" descr="~AUT0017"/>
          <p:cNvPicPr/>
          <p:nvPr/>
        </p:nvPicPr>
        <p:blipFill>
          <a:blip r:embed="rId1"/>
          <a:stretch/>
        </p:blipFill>
        <p:spPr>
          <a:xfrm>
            <a:off x="5181480" y="0"/>
            <a:ext cx="2538360" cy="3505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~AUT0018"/>
          <p:cNvPicPr/>
          <p:nvPr/>
        </p:nvPicPr>
        <p:blipFill>
          <a:blip r:embed="rId2"/>
          <a:srcRect l="0" t="11540" r="0" b="0"/>
          <a:stretch/>
        </p:blipFill>
        <p:spPr>
          <a:xfrm>
            <a:off x="5181480" y="3657600"/>
            <a:ext cx="2845080" cy="2971800"/>
          </a:xfrm>
          <a:prstGeom prst="rect">
            <a:avLst/>
          </a:prstGeom>
          <a:ln w="0">
            <a:noFill/>
          </a:ln>
        </p:spPr>
      </p:pic>
      <p:sp>
        <p:nvSpPr>
          <p:cNvPr id="171" name="Line 6"/>
          <p:cNvSpPr/>
          <p:nvPr/>
        </p:nvSpPr>
        <p:spPr>
          <a:xfrm flipH="1" flipV="1">
            <a:off x="7772040" y="10666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7924680" y="1600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V="1">
            <a:off x="4572000" y="5333760"/>
            <a:ext cx="914400" cy="685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3809880" y="603576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en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8077320" y="4495680"/>
            <a:ext cx="106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d C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>
            <a:off x="7391520" y="4876920"/>
            <a:ext cx="76176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3808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Arial"/>
              </a:rPr>
              <a:t>Angiosperms- “enclosed seeds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53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ese are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flowering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plants the encourage direct and efficient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pollen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transfer (smell, color and offering nect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ollinato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flying insects, birds, and bats that transfer pollen from flower to flo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lower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 ovaries, which is whe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eggs/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are produc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fruit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is the pollinated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ovary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containing mature 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seed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2860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Fruit can </a:t>
            </a:r>
            <a:r>
              <a:rPr b="1" lang="en-US" sz="3200" spc="-1" strike="noStrike" u="sng">
                <a:solidFill>
                  <a:srgbClr val="336600"/>
                </a:solidFill>
                <a:uFillTx/>
                <a:latin typeface="Arial"/>
              </a:rPr>
              <a:t>aid in dispersal of seed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to reduce competition with parent pl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18148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Winged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glides to new location (maple fru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oating fruit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– can float to new locations (cocon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Fleshy fruit -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weet bright colored fruit have seeds that survive the digestive system of animals that eat the fruit (ap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piny fruit-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elcro like projections attach to the fur of animals (cocklebu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52280" y="457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maple seeds"/>
          <p:cNvPicPr/>
          <p:nvPr/>
        </p:nvPicPr>
        <p:blipFill>
          <a:blip r:embed="rId1"/>
          <a:stretch/>
        </p:blipFill>
        <p:spPr>
          <a:xfrm>
            <a:off x="5410080" y="1600200"/>
            <a:ext cx="3443400" cy="2295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7"/>
          <p:cNvSpPr/>
          <p:nvPr/>
        </p:nvSpPr>
        <p:spPr>
          <a:xfrm>
            <a:off x="5181480" y="3886200"/>
            <a:ext cx="3810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le seeds:  Winged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9" descr="wfshl-burdock-06_small"/>
          <p:cNvPicPr/>
          <p:nvPr/>
        </p:nvPicPr>
        <p:blipFill>
          <a:blip r:embed="rId2"/>
          <a:stretch/>
        </p:blipFill>
        <p:spPr>
          <a:xfrm>
            <a:off x="5334120" y="4572000"/>
            <a:ext cx="1771560" cy="19051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10"/>
          <p:cNvSpPr/>
          <p:nvPr/>
        </p:nvSpPr>
        <p:spPr>
          <a:xfrm>
            <a:off x="5638680" y="6431040"/>
            <a:ext cx="3200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urdock:  Spiny fru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12" descr="Cocklebur%20(3)_small"/>
          <p:cNvPicPr/>
          <p:nvPr/>
        </p:nvPicPr>
        <p:blipFill>
          <a:blip r:embed="rId3"/>
          <a:stretch/>
        </p:blipFill>
        <p:spPr>
          <a:xfrm>
            <a:off x="7238880" y="4495680"/>
            <a:ext cx="1570320" cy="1965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762120" y="1143000"/>
            <a:ext cx="7315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Lucida Handwriting"/>
              </a:rPr>
              <a:t>What do I know about pla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Lucida Handwriting"/>
              </a:rPr>
              <a:t>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62120" y="2438280"/>
            <a:ext cx="7696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perform photosynthe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need water and nutri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flo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ll plants reproduce using s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28600" y="4572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-up:  Write each Question and Answer for Ea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152280" y="1066680"/>
            <a:ext cx="876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5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1920" y="8380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plants have to overcome to live on la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primitive division of plants because they have no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most common example in this division and how do they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y are mosses so smal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division of plants that contain a vascular syst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id a vascular system do for plants size-wi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differ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mosses and ferns alik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3" dur="1" fill="hold"/>
                                  <p:tgtEl>
                                    <p:spTgt spid="19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fferent from bry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are tracheophytes divi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advantages of seeds over sp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other advantages did seed-bearing plants have over spore-bearing plan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two divisions of the seed-bearing tracheophy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2" dur="1" fill="hold"/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Times New Roman"/>
              </a:rPr>
              <a:t>Quiz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does the term Gymnosperm me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are the most common of the Gymnosper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is the evolutionary importance of needle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hat structures do conifers use to reprodu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ere are seeds located in the c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Even though wind-dispersal of pollen is inefficient, what did it allow plants to over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LANT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Multicellular eukary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hotosynthetic autotrophs containing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hloroplasts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Non-mobile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(fixed to one spo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ell walls mad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cellul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esponds to environment and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grows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rough the use of </a:t>
            </a:r>
            <a:r>
              <a:rPr b="1" lang="en-US" sz="3200" spc="-1" strike="noStrike" u="sng">
                <a:solidFill>
                  <a:srgbClr val="3333cc"/>
                </a:solidFill>
                <a:uFillTx/>
                <a:latin typeface="Arial"/>
              </a:rPr>
              <a:t>hor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4"/>
          <p:cNvSpPr/>
          <p:nvPr/>
        </p:nvSpPr>
        <p:spPr>
          <a:xfrm>
            <a:off x="457200" y="16002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0" y="1066680"/>
            <a:ext cx="914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The ancestors of plants were </a:t>
            </a:r>
            <a:r>
              <a:rPr b="0" lang="en-US" sz="2600" spc="-1" strike="noStrike" u="sng">
                <a:solidFill>
                  <a:srgbClr val="003300"/>
                </a:solidFill>
                <a:uFillTx/>
                <a:latin typeface="Arial"/>
              </a:rPr>
              <a:t>multicellular green algae</a:t>
            </a:r>
            <a:r>
              <a:rPr b="0" lang="en-US" sz="2600" spc="-1" strike="noStrike">
                <a:solidFill>
                  <a:srgbClr val="003300"/>
                </a:solidFill>
                <a:latin typeface="Arial"/>
              </a:rPr>
              <a:t>.  They were completely immersed in water &amp; dissolved mineral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0" y="2819520"/>
            <a:ext cx="8915400" cy="33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get chemical resources (water, minerals, oxygen, and carbon dioxide) separated into </a:t>
            </a:r>
            <a:r>
              <a:rPr b="0" i="1" lang="en-US" sz="2800" spc="-1" strike="noStrike">
                <a:solidFill>
                  <a:srgbClr val="3333cc"/>
                </a:solidFill>
                <a:latin typeface="Arial"/>
              </a:rPr>
              <a:t>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transport resources within the pl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prevent from dry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ow to reproduce without w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1440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ts Make the The Move to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57440" y="2082960"/>
            <a:ext cx="70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To move onto land, plants had to solve these problems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533520" y="762120"/>
            <a:ext cx="812484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3300"/>
                </a:solidFill>
                <a:uFillTx/>
                <a:latin typeface="Arial"/>
              </a:rPr>
              <a:t>Some Adaptations (solutions)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body parts extending into both air and 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velop a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vascular system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 to transport resources in 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Have a protective layer – </a:t>
            </a:r>
            <a:r>
              <a:rPr b="0" i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cuticl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(waxy outer layer) to keep from drying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ecialized structures for reproduction includ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 &amp; seed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that do not dry o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04920" y="762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ts are classified based on whether or not they ha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Vascular System (transpo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e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lowers (enclosed see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4"/>
          <p:cNvSpPr/>
          <p:nvPr/>
        </p:nvSpPr>
        <p:spPr>
          <a:xfrm>
            <a:off x="609480" y="228600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57200" y="304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Concept Map:  Plants are divided 1</a:t>
            </a:r>
            <a:r>
              <a:rPr b="1" lang="en-US" sz="3200" spc="-1" strike="noStrike" baseline="30000">
                <a:solidFill>
                  <a:srgbClr val="336600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336600"/>
                </a:solidFill>
                <a:latin typeface="Arial"/>
              </a:rPr>
              <a:t> by whether or not they have a vascular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5333760"/>
            <a:ext cx="28954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Bry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5105520" y="5334120"/>
            <a:ext cx="3657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heophy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809880" y="1676520"/>
            <a:ext cx="1752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la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7"/>
          <p:cNvSpPr/>
          <p:nvPr/>
        </p:nvSpPr>
        <p:spPr>
          <a:xfrm flipH="1">
            <a:off x="2590560" y="2286000"/>
            <a:ext cx="1523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8"/>
          <p:cNvSpPr/>
          <p:nvPr/>
        </p:nvSpPr>
        <p:spPr>
          <a:xfrm>
            <a:off x="5029200" y="2286000"/>
            <a:ext cx="1523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9"/>
          <p:cNvSpPr/>
          <p:nvPr/>
        </p:nvSpPr>
        <p:spPr>
          <a:xfrm>
            <a:off x="19051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69343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5334120" y="3581280"/>
            <a:ext cx="3276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228600" y="3581280"/>
            <a:ext cx="4343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Has 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NO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 Vascular Tis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28600" y="152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828800" y="304920"/>
            <a:ext cx="60199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00"/>
                </a:solidFill>
                <a:latin typeface="Lucida Handwriting"/>
              </a:rPr>
              <a:t>Bryophytes  </a:t>
            </a:r>
            <a:r>
              <a:rPr b="0" lang="en-US" sz="2400" spc="-1" strike="noStrike">
                <a:solidFill>
                  <a:srgbClr val="336600"/>
                </a:solidFill>
                <a:latin typeface="Lucida Handwriting"/>
              </a:rPr>
              <a:t>-NON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80880" y="1143000"/>
            <a:ext cx="8077320" cy="548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primitive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nd in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ist, shady area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NO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vascular (transport)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mall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size due to no vascular tiss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true roots, stems, or lea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Needs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water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for reprodu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eproduces using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pores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, -a water-proof single cell that can grow into a new organis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ost common example: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Mo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Lucida Handwriting"/>
              </a:rPr>
              <a:t>Typical Moss Plant </a:t>
            </a:r>
            <a:br>
              <a:rPr sz="4400"/>
            </a:br>
            <a:r>
              <a:rPr b="0" lang="en-US" sz="2000" spc="-1" strike="noStrike">
                <a:solidFill>
                  <a:srgbClr val="336600"/>
                </a:solidFill>
                <a:latin typeface="Lucida Handwriting"/>
              </a:rPr>
              <a:t>(most common bryophy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5181480" y="15238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pores form inside the caps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952880" y="4575240"/>
            <a:ext cx="4191120" cy="2288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Notice the problem of nutrient separation into air and soil is solved with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under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and </a:t>
            </a:r>
            <a:r>
              <a:rPr b="0" i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above ground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 parts. (Although NO TRUE roots, stems or leaves are pres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1" descr="~AUT0005"/>
          <p:cNvPicPr/>
          <p:nvPr/>
        </p:nvPicPr>
        <p:blipFill>
          <a:blip r:embed="rId1"/>
          <a:srcRect l="0" t="0" r="40959" b="0"/>
          <a:stretch/>
        </p:blipFill>
        <p:spPr>
          <a:xfrm>
            <a:off x="2514600" y="1371600"/>
            <a:ext cx="241308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Line 5"/>
          <p:cNvSpPr/>
          <p:nvPr/>
        </p:nvSpPr>
        <p:spPr>
          <a:xfrm>
            <a:off x="4495680" y="1828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4" descr="~AUT0006"/>
          <p:cNvPicPr/>
          <p:nvPr/>
        </p:nvPicPr>
        <p:blipFill>
          <a:blip r:embed="rId2"/>
          <a:srcRect l="0" t="0" r="73121" b="17989"/>
          <a:stretch/>
        </p:blipFill>
        <p:spPr>
          <a:xfrm>
            <a:off x="0" y="1981080"/>
            <a:ext cx="2449440" cy="381024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5"/>
          <p:cNvSpPr/>
          <p:nvPr/>
        </p:nvSpPr>
        <p:spPr>
          <a:xfrm>
            <a:off x="457200" y="4572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ide #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20:19:05Z</dcterms:created>
  <dc:creator>Allen Berard</dc:creator>
  <dc:description>Plant Divisions</dc:description>
  <cp:keywords>Plant Divisions</cp:keywords>
  <dc:language>en-US</dc:language>
  <cp:lastModifiedBy>LEGION2</cp:lastModifiedBy>
  <dcterms:modified xsi:type="dcterms:W3CDTF">2016-01-13T09:32:31Z</dcterms:modified>
  <cp:revision>43</cp:revision>
  <dc:subject>Plant Divisions</dc:subject>
  <dc:title>Plant Divisions</dc:title>
</cp:coreProperties>
</file>