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png" ContentType="image/png"/>
  <Override PartName="/ppt/media/image13.png" ContentType="image/png"/>
  <Override PartName="/ppt/media/image12.jpeg" ContentType="image/jpeg"/>
  <Override PartName="/ppt/media/camera.wav" ContentType="audio/x-wav"/>
  <Override PartName="/ppt/media/image5.wmf" ContentType="image/x-wmf"/>
  <Override PartName="/ppt/media/image6.png" ContentType="image/png"/>
  <Override PartName="/ppt/media/image4.wmf" ContentType="image/x-wmf"/>
  <Override PartName="/ppt/media/image2.png" ContentType="image/png"/>
  <Override PartName="/ppt/media/image3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whoosh.wav" ContentType="audio/x-wav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B418-F8A5-4F0D-8228-14941D411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he Actual Resul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..it’s the water that’s being oxidi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he Actual Resul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..it’s the water that’s being oxidi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   6H2O  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Atoms in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6H12O6    6H2O  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cking Atoms in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is suggest about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gars that result from photosynthesis are produced by adding the hydrogen ions and electrons from water to carbon dioxide, NOT by splitting CO2 and adding wa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an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is suggest about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gars that result from photosynthesis are produced by adding the hydrogen ions and electrons from water to carbon dioxide, NOT by splitting CO2 and adding wa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an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long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H2O is oxi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osmotic production of AT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arrier (NADPH) is synthes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long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H2O is oxi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osmotic production of AT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arrier (NADPH) is synthes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 of the chlorop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O2 is “fixed” into sug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 of the chlorop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O2 is “fixed” into sug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lants harness energy from sunligh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s a – the “main” photosynthetic pi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ory pigment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plants harness energy from sunligh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s a – the “main” photosynthetic pi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ory pigment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oten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 are arranged as “photosyste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 are arranged as “photosyste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velengths of light do you think plants use the least in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velengths of light do you think plants use the least in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 use some wavelengths of light but reflect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 use some wavelengths of light but reflect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 that sustains all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most of it anyway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 that sustains all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most of it anyway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rvesting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hotosystem, e- are passed along an Electron Transport Chain.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synthetic Electron Transport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rvesting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hotosystem, e- are passed along an Electron Transport Chain.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synthetic Electron Transport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Electron Transfer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electron carriers which take electrons from photosystem, an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imately carry electrons to NADP+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Electron Transfer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electron carriers which take electrons from photosystem, an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imately carry electrons to NADP+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in the 1940’s suggested that light photons are absorbed at 2 different points along the same PETC.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act, there are two Photosystems in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in the 1940’s suggested that light photons are absorbed at 2 different points along the same PETC.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act, there are two Photosystems in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iration vs.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and respiration as complementary processes in the living wor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uses the energy of sunlight to produce sugars and other orga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.  These molecules in turn serve as food.  Respiration is a process that 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and forms CO2 from the same carbon atoms that had been taken up as CO2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into sugars by photosynthesis.  In respiration, organisms obtain th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y need to survive.  Photosynthesis preceded respiration on the earth for proba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years before enough O2 was released to create an atmosphere rich in oxy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earth's atmosphere presently contains 20% O2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iration vs.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and respiration as complementary processes in the living wor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uses the energy of sunlight to produce sugars and other orga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.  These molecules in turn serve as food.  Respiration is a process that 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and forms CO2 from the same carbon atoms that had been taken up as CO2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into sugars by photosynthesis.  In respiration, organisms obtain th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y need to survive.  Photosynthesis preceded respiration on the earth for proba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years before enough O2 was released to create an atmosphere rich in oxy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earth's atmosphere presently contains 20% O2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 -vs-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llular Respiration -vs-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  DG = + 686 kcal/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, like cellular respiration, is a series of redox reac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oxidized and what is being reduced in the summarizing equation ab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  DG = + 686 kcal/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, like cellular respiration, is a series of redox reac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oxidized and what is being reduced in the summarizing equation ab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thinking: O2 released came from th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 C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H2O  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as added to the carbon to mak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Neil’s experiments with the sulfur bacteria showed that the bacteria used CO2 but did NOT release O2 ...he suggested that plants split water as a source of e- and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used radioactive isotopes to test this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thinking: O2 released came from th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 C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H2O  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as added to the carbon to mak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Neil’s experiments with the sulfur bacteria showed that the bacteria used CO2 but did NOT release O2 ...he suggested that plants split water as a source of e- and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used radioactive isotopes to test this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xygen (Heavy Oxygen) Isotope Experime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xygen (Heavy Oxygen) Isotope Experime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If CO2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pothesis:  If CO2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If H2O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pothesis:  If H2O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redwood_tra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15200" y="7621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2"/>
          <p:cNvSpPr/>
          <p:nvPr/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hotosynth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533520" y="2354400"/>
            <a:ext cx="731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1523880" y="3809880"/>
            <a:ext cx="5410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6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7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10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11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2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14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5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7"/>
          <p:cNvSpPr/>
          <p:nvPr/>
        </p:nvSpPr>
        <p:spPr>
          <a:xfrm>
            <a:off x="4800600" y="4815000"/>
            <a:ext cx="48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8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9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Actual Result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1"/>
          <p:cNvSpPr/>
          <p:nvPr/>
        </p:nvSpPr>
        <p:spPr>
          <a:xfrm>
            <a:off x="1600200" y="5943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So..it’s the water that’s being oxidiz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22" descr="labman1"/>
          <p:cNvPicPr/>
          <p:nvPr/>
        </p:nvPicPr>
        <p:blipFill>
          <a:blip r:embed="rId3"/>
          <a:stretch/>
        </p:blipFill>
        <p:spPr>
          <a:xfrm>
            <a:off x="7543800" y="5791320"/>
            <a:ext cx="816120" cy="79992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3048120" y="1371600"/>
            <a:ext cx="1676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6 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1965240" y="309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5486400" y="1371600"/>
            <a:ext cx="3048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12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228600" y="1371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eact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6"/>
          <p:cNvSpPr/>
          <p:nvPr/>
        </p:nvSpPr>
        <p:spPr>
          <a:xfrm>
            <a:off x="228600" y="3657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2895480" y="3733920"/>
            <a:ext cx="571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6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    6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8"/>
          <p:cNvSpPr/>
          <p:nvPr/>
        </p:nvSpPr>
        <p:spPr>
          <a:xfrm flipH="1">
            <a:off x="3200400" y="1981080"/>
            <a:ext cx="380880" cy="1676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9"/>
          <p:cNvSpPr/>
          <p:nvPr/>
        </p:nvSpPr>
        <p:spPr>
          <a:xfrm>
            <a:off x="4038480" y="1981080"/>
            <a:ext cx="228600" cy="1676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10"/>
          <p:cNvSpPr/>
          <p:nvPr/>
        </p:nvSpPr>
        <p:spPr>
          <a:xfrm>
            <a:off x="4038480" y="1981080"/>
            <a:ext cx="2057400" cy="1752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1"/>
          <p:cNvSpPr/>
          <p:nvPr/>
        </p:nvSpPr>
        <p:spPr>
          <a:xfrm>
            <a:off x="6553080" y="2057400"/>
            <a:ext cx="0" cy="2743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2"/>
          <p:cNvSpPr/>
          <p:nvPr/>
        </p:nvSpPr>
        <p:spPr>
          <a:xfrm flipH="1">
            <a:off x="3733560" y="4800600"/>
            <a:ext cx="28191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3"/>
          <p:cNvSpPr/>
          <p:nvPr/>
        </p:nvSpPr>
        <p:spPr>
          <a:xfrm flipV="1">
            <a:off x="3733920" y="441972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14"/>
          <p:cNvSpPr/>
          <p:nvPr/>
        </p:nvSpPr>
        <p:spPr>
          <a:xfrm flipH="1">
            <a:off x="5638680" y="2057400"/>
            <a:ext cx="914400" cy="175248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15"/>
          <p:cNvSpPr/>
          <p:nvPr/>
        </p:nvSpPr>
        <p:spPr>
          <a:xfrm>
            <a:off x="6934320" y="1987560"/>
            <a:ext cx="457200" cy="1752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racking Atoms in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does this suggest about photosynthes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533520" y="4343400"/>
            <a:ext cx="861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1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6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6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838080" y="1447920"/>
            <a:ext cx="77724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ugars that result from photosynthesis are produced by adding the hydrogen ions and electrons from water to carbon dioxide, NOT by splitting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adding wa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5"/>
          <p:cNvSpPr/>
          <p:nvPr/>
        </p:nvSpPr>
        <p:spPr>
          <a:xfrm>
            <a:off x="2590920" y="3657600"/>
            <a:ext cx="4495680" cy="685800"/>
          </a:xfrm>
          <a:custGeom>
            <a:avLst/>
            <a:gdLst>
              <a:gd name="textAreaLeft" fmla="*/ 786600 w 4495680"/>
              <a:gd name="textAreaRight" fmla="*/ 3259440 w 4495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6"/>
          <p:cNvSpPr/>
          <p:nvPr/>
        </p:nvSpPr>
        <p:spPr>
          <a:xfrm>
            <a:off x="763560" y="5018040"/>
            <a:ext cx="4948200" cy="631800"/>
          </a:xfrm>
          <a:custGeom>
            <a:avLst/>
            <a:gdLst>
              <a:gd name="textAreaLeft" fmla="*/ 865800 w 4948200"/>
              <a:gd name="textAreaRight" fmla="*/ 3587400 w 4948200"/>
              <a:gd name="textAreaTop" fmla="*/ 84600 h 631800"/>
              <a:gd name="textAreaBottom" fmla="*/ 54720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396252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xi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228600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9"/>
          <p:cNvSpPr/>
          <p:nvPr/>
        </p:nvSpPr>
        <p:spPr>
          <a:xfrm flipV="1">
            <a:off x="2286000" y="39625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0"/>
          <p:cNvSpPr/>
          <p:nvPr/>
        </p:nvSpPr>
        <p:spPr>
          <a:xfrm flipH="1">
            <a:off x="106632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11"/>
          <p:cNvSpPr/>
          <p:nvPr/>
        </p:nvSpPr>
        <p:spPr>
          <a:xfrm>
            <a:off x="1066680" y="3962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2"/>
          <p:cNvSpPr/>
          <p:nvPr/>
        </p:nvSpPr>
        <p:spPr>
          <a:xfrm>
            <a:off x="99072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768240" y="888840"/>
            <a:ext cx="7309080" cy="54896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3"/>
          <p:cNvSpPr/>
          <p:nvPr/>
        </p:nvSpPr>
        <p:spPr>
          <a:xfrm>
            <a:off x="5287320" y="1751040"/>
            <a:ext cx="2061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l leaf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6933240" y="4221000"/>
            <a:ext cx="11196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loropla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936720" y="4308480"/>
            <a:ext cx="15699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 membr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888840" y="4678200"/>
            <a:ext cx="162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 membr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7"/>
          <p:cNvSpPr/>
          <p:nvPr/>
        </p:nvSpPr>
        <p:spPr>
          <a:xfrm>
            <a:off x="1116000" y="5059440"/>
            <a:ext cx="1017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ylako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8"/>
          <p:cNvSpPr/>
          <p:nvPr/>
        </p:nvSpPr>
        <p:spPr>
          <a:xfrm flipV="1">
            <a:off x="2054160" y="4770360"/>
            <a:ext cx="827280" cy="33192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9"/>
          <p:cNvSpPr/>
          <p:nvPr/>
        </p:nvSpPr>
        <p:spPr>
          <a:xfrm flipV="1">
            <a:off x="2516040" y="4390560"/>
            <a:ext cx="754200" cy="1116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0"/>
          <p:cNvSpPr/>
          <p:nvPr/>
        </p:nvSpPr>
        <p:spPr>
          <a:xfrm>
            <a:off x="6377040" y="3808440"/>
            <a:ext cx="806400" cy="45720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1"/>
          <p:cNvSpPr/>
          <p:nvPr/>
        </p:nvSpPr>
        <p:spPr>
          <a:xfrm flipH="1" flipV="1">
            <a:off x="6475320" y="3732120"/>
            <a:ext cx="689040" cy="52560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lant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3"/>
          <p:cNvSpPr/>
          <p:nvPr/>
        </p:nvSpPr>
        <p:spPr>
          <a:xfrm flipV="1">
            <a:off x="2506680" y="4629240"/>
            <a:ext cx="406440" cy="9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4"/>
          <p:cNvSpPr/>
          <p:nvPr/>
        </p:nvSpPr>
        <p:spPr>
          <a:xfrm>
            <a:off x="2376360" y="2075040"/>
            <a:ext cx="150840" cy="15048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2506680" y="2075040"/>
            <a:ext cx="11509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2376360" y="2225520"/>
            <a:ext cx="1078200" cy="19782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 flipH="1">
            <a:off x="3454200" y="4030560"/>
            <a:ext cx="1269720" cy="1652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8"/>
          <p:cNvSpPr/>
          <p:nvPr/>
        </p:nvSpPr>
        <p:spPr>
          <a:xfrm flipH="1">
            <a:off x="4395960" y="4067280"/>
            <a:ext cx="380880" cy="9777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19"/>
          <p:cNvSpPr/>
          <p:nvPr/>
        </p:nvSpPr>
        <p:spPr>
          <a:xfrm>
            <a:off x="4716360" y="4021200"/>
            <a:ext cx="55800" cy="5544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stages of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"/>
          <p:cNvSpPr/>
          <p:nvPr/>
        </p:nvSpPr>
        <p:spPr>
          <a:xfrm>
            <a:off x="533520" y="1371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ght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epend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Re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838080" y="1981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curs along the thylakoid membr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Picture 5" descr="10"/>
          <p:cNvPicPr/>
          <p:nvPr/>
        </p:nvPicPr>
        <p:blipFill>
          <a:blip r:embed="rId1"/>
          <a:srcRect l="41973" t="52672" r="2824" b="6000"/>
          <a:stretch/>
        </p:blipFill>
        <p:spPr>
          <a:xfrm>
            <a:off x="4191120" y="1981080"/>
            <a:ext cx="4647960" cy="26672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08" name="Text Box 6"/>
          <p:cNvSpPr/>
          <p:nvPr/>
        </p:nvSpPr>
        <p:spPr>
          <a:xfrm>
            <a:off x="838080" y="2971800"/>
            <a:ext cx="32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where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is oxidiz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838080" y="39625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osmotic production of AT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838080" y="50292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ron carrier (NADPH) is synthes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3"/>
          <p:cNvSpPr/>
          <p:nvPr/>
        </p:nvSpPr>
        <p:spPr>
          <a:xfrm>
            <a:off x="380880" y="167652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ght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ndependen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533520" y="2666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rs in the stroma of the chloropla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Picture 5" descr="10"/>
          <p:cNvPicPr/>
          <p:nvPr/>
        </p:nvPicPr>
        <p:blipFill>
          <a:blip r:embed="rId1"/>
          <a:srcRect l="41973" t="52672" r="2824" b="6000"/>
          <a:stretch/>
        </p:blipFill>
        <p:spPr>
          <a:xfrm>
            <a:off x="4114800" y="2438280"/>
            <a:ext cx="4648320" cy="26672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15" name="Text Box 6"/>
          <p:cNvSpPr/>
          <p:nvPr/>
        </p:nvSpPr>
        <p:spPr>
          <a:xfrm>
            <a:off x="609480" y="4038480"/>
            <a:ext cx="3657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“fixed” into sugar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stages of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ow plants harness energy from sunligh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457200" y="16765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otosynthetic pi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609480" y="220968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lorophylls a – the “main” photosynthetic pi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1523880" y="3886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lorophyll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"/>
          <p:cNvSpPr/>
          <p:nvPr/>
        </p:nvSpPr>
        <p:spPr>
          <a:xfrm>
            <a:off x="1066680" y="32004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ccessory pigment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Picture 7" descr="10"/>
          <p:cNvPicPr/>
          <p:nvPr/>
        </p:nvPicPr>
        <p:blipFill>
          <a:blip r:embed="rId1"/>
          <a:srcRect l="52997" t="0" r="0" b="0"/>
          <a:stretch/>
        </p:blipFill>
        <p:spPr>
          <a:xfrm>
            <a:off x="4648320" y="1676520"/>
            <a:ext cx="3585960" cy="46576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24" name="Text Box 8"/>
          <p:cNvSpPr/>
          <p:nvPr/>
        </p:nvSpPr>
        <p:spPr>
          <a:xfrm>
            <a:off x="1523880" y="4495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roteno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tic pigments are arranged as “photosystem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3" descr="10"/>
          <p:cNvPicPr/>
          <p:nvPr/>
        </p:nvPicPr>
        <p:blipFill>
          <a:blip r:embed="rId1"/>
          <a:srcRect l="0" t="0" r="42013" b="43458"/>
          <a:stretch/>
        </p:blipFill>
        <p:spPr>
          <a:xfrm>
            <a:off x="380880" y="1828800"/>
            <a:ext cx="4800600" cy="33526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4" descr="10"/>
          <p:cNvPicPr/>
          <p:nvPr/>
        </p:nvPicPr>
        <p:blipFill>
          <a:blip r:embed="rId2"/>
          <a:srcRect l="0" t="0" r="0" b="4880"/>
          <a:stretch/>
        </p:blipFill>
        <p:spPr>
          <a:xfrm>
            <a:off x="4538520" y="2590920"/>
            <a:ext cx="4300560" cy="3429000"/>
          </a:xfrm>
          <a:prstGeom prst="rect">
            <a:avLst/>
          </a:prstGeom>
          <a:ln w="0">
            <a:noFill/>
          </a:ln>
        </p:spPr>
      </p:pic>
      <p:sp>
        <p:nvSpPr>
          <p:cNvPr id="7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228600" y="9144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s of light do you think plants use the least in photosynthes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3" descr="10"/>
          <p:cNvPicPr/>
          <p:nvPr/>
        </p:nvPicPr>
        <p:blipFill>
          <a:blip r:embed="rId1"/>
          <a:srcRect l="0" t="0" r="0" b="36956"/>
          <a:stretch/>
        </p:blipFill>
        <p:spPr>
          <a:xfrm>
            <a:off x="3879720" y="304920"/>
            <a:ext cx="5264280" cy="618156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s use some wavelengths of light but reflect other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3" descr="10"/>
          <p:cNvPicPr/>
          <p:nvPr/>
        </p:nvPicPr>
        <p:blipFill>
          <a:blip r:embed="rId1"/>
          <a:srcRect l="4154" t="5334" r="4497" b="7998"/>
          <a:stretch/>
        </p:blipFill>
        <p:spPr>
          <a:xfrm>
            <a:off x="2133720" y="1143000"/>
            <a:ext cx="5029200" cy="49528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914400" y="16765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the energy come from that sustains all lif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"/>
          <p:cNvSpPr/>
          <p:nvPr/>
        </p:nvSpPr>
        <p:spPr>
          <a:xfrm>
            <a:off x="4343400" y="2514600"/>
            <a:ext cx="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838080" y="3276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Comic Sans MS"/>
              </a:rPr>
              <a:t>The Sun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066680" y="525780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ll most of it anyway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Oval 3"/>
          <p:cNvSpPr/>
          <p:nvPr/>
        </p:nvSpPr>
        <p:spPr>
          <a:xfrm>
            <a:off x="1447920" y="4800600"/>
            <a:ext cx="4114800" cy="1447920"/>
          </a:xfrm>
          <a:prstGeom prst="ellipse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4"/>
          <p:cNvSpPr/>
          <p:nvPr/>
        </p:nvSpPr>
        <p:spPr>
          <a:xfrm>
            <a:off x="1828800" y="51814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5"/>
          <p:cNvSpPr/>
          <p:nvPr/>
        </p:nvSpPr>
        <p:spPr>
          <a:xfrm>
            <a:off x="3809880" y="56386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6"/>
          <p:cNvSpPr/>
          <p:nvPr/>
        </p:nvSpPr>
        <p:spPr>
          <a:xfrm>
            <a:off x="2895480" y="56386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7"/>
          <p:cNvSpPr/>
          <p:nvPr/>
        </p:nvSpPr>
        <p:spPr>
          <a:xfrm>
            <a:off x="4267080" y="50292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8"/>
          <p:cNvSpPr/>
          <p:nvPr/>
        </p:nvSpPr>
        <p:spPr>
          <a:xfrm>
            <a:off x="2590920" y="50292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9"/>
          <p:cNvSpPr/>
          <p:nvPr/>
        </p:nvSpPr>
        <p:spPr>
          <a:xfrm>
            <a:off x="3352680" y="4952880"/>
            <a:ext cx="457200" cy="381240"/>
          </a:xfrm>
          <a:prstGeom prst="ellipse">
            <a:avLst/>
          </a:pr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10"/>
          <p:cNvSpPr/>
          <p:nvPr/>
        </p:nvSpPr>
        <p:spPr>
          <a:xfrm>
            <a:off x="2286000" y="57150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11"/>
          <p:cNvSpPr/>
          <p:nvPr/>
        </p:nvSpPr>
        <p:spPr>
          <a:xfrm>
            <a:off x="4648320" y="556272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2"/>
          <p:cNvSpPr/>
          <p:nvPr/>
        </p:nvSpPr>
        <p:spPr>
          <a:xfrm rot="3273600">
            <a:off x="761400" y="4114800"/>
            <a:ext cx="1371600" cy="6094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14"/>
          <p:cNvSpPr/>
          <p:nvPr/>
        </p:nvSpPr>
        <p:spPr>
          <a:xfrm>
            <a:off x="5233320" y="4689360"/>
            <a:ext cx="31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Harvesting Pi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5"/>
          <p:cNvSpPr/>
          <p:nvPr/>
        </p:nvSpPr>
        <p:spPr>
          <a:xfrm flipH="1">
            <a:off x="4571640" y="4952880"/>
            <a:ext cx="609480" cy="22860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6"/>
          <p:cNvSpPr/>
          <p:nvPr/>
        </p:nvSpPr>
        <p:spPr>
          <a:xfrm flipH="1">
            <a:off x="4876920" y="5105520"/>
            <a:ext cx="457200" cy="5331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7"/>
          <p:cNvSpPr/>
          <p:nvPr/>
        </p:nvSpPr>
        <p:spPr>
          <a:xfrm>
            <a:off x="4631400" y="377352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ction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8"/>
          <p:cNvSpPr/>
          <p:nvPr/>
        </p:nvSpPr>
        <p:spPr>
          <a:xfrm flipH="1">
            <a:off x="3657600" y="4114800"/>
            <a:ext cx="990720" cy="91440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839880" y="316692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the Photosystem, 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passed along an Electron Transport Chain..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Photosynthetic Electron Transport Chain (P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Oval 3"/>
          <p:cNvSpPr/>
          <p:nvPr/>
        </p:nvSpPr>
        <p:spPr>
          <a:xfrm>
            <a:off x="1463760" y="4802040"/>
            <a:ext cx="4114800" cy="1447920"/>
          </a:xfrm>
          <a:prstGeom prst="ellipse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4"/>
          <p:cNvSpPr/>
          <p:nvPr/>
        </p:nvSpPr>
        <p:spPr>
          <a:xfrm>
            <a:off x="1844640" y="51832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5"/>
          <p:cNvSpPr/>
          <p:nvPr/>
        </p:nvSpPr>
        <p:spPr>
          <a:xfrm>
            <a:off x="3825720" y="56404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6"/>
          <p:cNvSpPr/>
          <p:nvPr/>
        </p:nvSpPr>
        <p:spPr>
          <a:xfrm>
            <a:off x="2911320" y="56404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7"/>
          <p:cNvSpPr/>
          <p:nvPr/>
        </p:nvSpPr>
        <p:spPr>
          <a:xfrm>
            <a:off x="4282920" y="50306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8"/>
          <p:cNvSpPr/>
          <p:nvPr/>
        </p:nvSpPr>
        <p:spPr>
          <a:xfrm>
            <a:off x="2606760" y="50306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9"/>
          <p:cNvSpPr/>
          <p:nvPr/>
        </p:nvSpPr>
        <p:spPr>
          <a:xfrm>
            <a:off x="3368520" y="4954680"/>
            <a:ext cx="457200" cy="380880"/>
          </a:xfrm>
          <a:prstGeom prst="ellipse">
            <a:avLst/>
          </a:pr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10"/>
          <p:cNvSpPr/>
          <p:nvPr/>
        </p:nvSpPr>
        <p:spPr>
          <a:xfrm>
            <a:off x="2301840" y="57164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11"/>
          <p:cNvSpPr/>
          <p:nvPr/>
        </p:nvSpPr>
        <p:spPr>
          <a:xfrm>
            <a:off x="4664160" y="556416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12"/>
          <p:cNvSpPr/>
          <p:nvPr/>
        </p:nvSpPr>
        <p:spPr>
          <a:xfrm rot="3273600">
            <a:off x="777240" y="4116240"/>
            <a:ext cx="1371600" cy="6094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14"/>
          <p:cNvSpPr/>
          <p:nvPr/>
        </p:nvSpPr>
        <p:spPr>
          <a:xfrm flipV="1">
            <a:off x="3597120" y="4040280"/>
            <a:ext cx="0" cy="914400"/>
          </a:xfrm>
          <a:prstGeom prst="line">
            <a:avLst/>
          </a:prstGeom>
          <a:ln cap="rnd" w="7632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15"/>
          <p:cNvSpPr/>
          <p:nvPr/>
        </p:nvSpPr>
        <p:spPr>
          <a:xfrm>
            <a:off x="3060360" y="342900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16" descr="PETC-2"/>
          <p:cNvPicPr/>
          <p:nvPr/>
        </p:nvPicPr>
        <p:blipFill>
          <a:blip r:embed="rId1"/>
          <a:srcRect l="10328" t="5055" r="34592" b="41073"/>
          <a:stretch/>
        </p:blipFill>
        <p:spPr>
          <a:xfrm>
            <a:off x="4648320" y="1295280"/>
            <a:ext cx="3733560" cy="2778120"/>
          </a:xfrm>
          <a:prstGeom prst="rect">
            <a:avLst/>
          </a:prstGeom>
          <a:ln w="0">
            <a:noFill/>
          </a:ln>
        </p:spPr>
      </p:pic>
      <p:sp>
        <p:nvSpPr>
          <p:cNvPr id="768" name="Freeform 17"/>
          <p:cNvSpPr/>
          <p:nvPr/>
        </p:nvSpPr>
        <p:spPr>
          <a:xfrm>
            <a:off x="3352680" y="2362320"/>
            <a:ext cx="1143000" cy="68580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96" y="624"/>
                </a:moveTo>
                <a:cubicBezTo>
                  <a:pt x="48" y="408"/>
                  <a:pt x="0" y="192"/>
                  <a:pt x="96" y="96"/>
                </a:cubicBezTo>
                <a:cubicBezTo>
                  <a:pt x="192" y="0"/>
                  <a:pt x="432" y="24"/>
                  <a:pt x="672" y="48"/>
                </a:cubicBezTo>
              </a:path>
            </a:pathLst>
          </a:custGeom>
          <a:noFill/>
          <a:ln w="6336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18"/>
          <p:cNvSpPr/>
          <p:nvPr/>
        </p:nvSpPr>
        <p:spPr>
          <a:xfrm rot="16200000">
            <a:off x="3352680" y="2819160"/>
            <a:ext cx="381240" cy="990360"/>
          </a:xfrm>
          <a:custGeom>
            <a:avLst/>
            <a:gdLst>
              <a:gd name="textAreaLeft" fmla="*/ 0 w 381240"/>
              <a:gd name="textAreaRight" fmla="*/ 137520 w 381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19"/>
          <p:cNvSpPr/>
          <p:nvPr/>
        </p:nvSpPr>
        <p:spPr>
          <a:xfrm>
            <a:off x="823320" y="32115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20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tic Electron Transfer Chain (P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es of electron carriers which take electrons from photosystem, and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ltimately carry electrons to NAD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Picture 4" descr="lightrxn"/>
          <p:cNvPicPr/>
          <p:nvPr/>
        </p:nvPicPr>
        <p:blipFill>
          <a:blip r:embed="rId1"/>
          <a:srcRect l="18438" t="11051" r="33885" b="0"/>
          <a:stretch/>
        </p:blipFill>
        <p:spPr>
          <a:xfrm>
            <a:off x="4199040" y="1911240"/>
            <a:ext cx="3022560" cy="23209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5" descr="lightrxn"/>
          <p:cNvPicPr/>
          <p:nvPr/>
        </p:nvPicPr>
        <p:blipFill>
          <a:blip r:embed="rId2"/>
          <a:srcRect l="79035" t="45500" r="0" b="22309"/>
          <a:stretch/>
        </p:blipFill>
        <p:spPr>
          <a:xfrm>
            <a:off x="5638680" y="3505320"/>
            <a:ext cx="2349720" cy="1361880"/>
          </a:xfrm>
          <a:prstGeom prst="rect">
            <a:avLst/>
          </a:prstGeom>
          <a:ln w="0">
            <a:noFill/>
          </a:ln>
        </p:spPr>
      </p:pic>
      <p:sp>
        <p:nvSpPr>
          <p:cNvPr id="7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hoto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s in the 1940’s suggested that light photons are absorbed at 2 different points along the same PETC.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fact, there are two Photosystems in op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spiration vs.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3" descr="Fig_3"/>
          <p:cNvPicPr/>
          <p:nvPr/>
        </p:nvPicPr>
        <p:blipFill>
          <a:blip r:embed="rId1"/>
          <a:stretch/>
        </p:blipFill>
        <p:spPr>
          <a:xfrm>
            <a:off x="1219320" y="1219320"/>
            <a:ext cx="6400800" cy="29606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4"/>
          <p:cNvSpPr/>
          <p:nvPr/>
        </p:nvSpPr>
        <p:spPr>
          <a:xfrm>
            <a:off x="6840" y="4191120"/>
            <a:ext cx="916164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ynthesis and respiration as complementary processes in the living worl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synthes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uses the energy of sunlight to produce sugars and other organ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.  These molecules in turn serve as food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spir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process that u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forms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the same carbon atoms that had been taken up as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rted into sugars by photosynthesis.  In respiration, organisms obtain the ener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they need to survive.  Photosynthesis preceded respiration on the earth for probab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llions of years before enough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released to create an atmosphere rich in oxyg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he earth's atmosphere presently contains 20%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ellular Respiration -vs-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705360" cy="5025960"/>
          </a:xfrm>
          <a:prstGeom prst="rect">
            <a:avLst/>
          </a:prstGeom>
          <a:ln w="0">
            <a:noFill/>
          </a:ln>
        </p:spPr>
      </p:pic>
      <p:sp>
        <p:nvSpPr>
          <p:cNvPr id="5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verview of Phot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0" y="160020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 = + 686 kcal/m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57200" y="2286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synthesis, like cellular respiration, is a series of redox reacti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990720" y="33526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being oxidized and what is being reduced in the summarizing equation abo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609480" y="1143000"/>
            <a:ext cx="716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thinking: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leased came from th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1295280" y="1600200"/>
            <a:ext cx="251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 +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1447920" y="2286000"/>
            <a:ext cx="281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+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4495680" y="1676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6"/>
          <p:cNvSpPr/>
          <p:nvPr/>
        </p:nvSpPr>
        <p:spPr>
          <a:xfrm flipH="1">
            <a:off x="3657600" y="2057400"/>
            <a:ext cx="8380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Oval 7"/>
          <p:cNvSpPr/>
          <p:nvPr/>
        </p:nvSpPr>
        <p:spPr>
          <a:xfrm>
            <a:off x="2819520" y="2209680"/>
            <a:ext cx="838080" cy="5335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5181480" y="22860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 was added to the carbon to make s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914400" y="3352680"/>
            <a:ext cx="6950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n Neil’s experiments with the sulfur bacteria showed that the bacteria used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ut did NOT release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..he suggested that plants split water as a source of 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0" y="76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istorical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1203480" y="527688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cientists used radioactive isotopes to test this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Line 2"/>
          <p:cNvSpPr/>
          <p:nvPr/>
        </p:nvSpPr>
        <p:spPr>
          <a:xfrm>
            <a:off x="4724280" y="1295280"/>
            <a:ext cx="0" cy="563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1066680" y="127944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4" descr="na01441_"/>
          <p:cNvPicPr/>
          <p:nvPr/>
        </p:nvPicPr>
        <p:blipFill>
          <a:blip r:embed="rId1"/>
          <a:stretch/>
        </p:blipFill>
        <p:spPr>
          <a:xfrm>
            <a:off x="762120" y="3276720"/>
            <a:ext cx="2438280" cy="2819160"/>
          </a:xfrm>
          <a:prstGeom prst="rect">
            <a:avLst/>
          </a:prstGeom>
          <a:ln w="0">
            <a:noFill/>
          </a:ln>
        </p:spPr>
      </p:pic>
      <p:cxnSp>
        <p:nvCxnSpPr>
          <p:cNvPr id="576" name="AutoShape 5"/>
          <p:cNvCxnSpPr/>
          <p:nvPr/>
        </p:nvCxnSpPr>
        <p:spPr>
          <a:xfrm rot="5400000">
            <a:off x="2475720" y="4686120"/>
            <a:ext cx="1143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77" name="Text Box 6"/>
          <p:cNvSpPr/>
          <p:nvPr/>
        </p:nvSpPr>
        <p:spPr>
          <a:xfrm>
            <a:off x="3276720" y="40384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457200" y="22860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3048120" y="2590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304920" y="3048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1371600" y="25146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1295280" y="18288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2"/>
          <p:cNvSpPr/>
          <p:nvPr/>
        </p:nvSpPr>
        <p:spPr>
          <a:xfrm>
            <a:off x="2209680" y="27432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2286000" y="1905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14" descr="na01441_"/>
          <p:cNvPicPr/>
          <p:nvPr/>
        </p:nvPicPr>
        <p:blipFill>
          <a:blip r:embed="rId2"/>
          <a:stretch/>
        </p:blipFill>
        <p:spPr>
          <a:xfrm>
            <a:off x="5562720" y="3276720"/>
            <a:ext cx="2438280" cy="2819160"/>
          </a:xfrm>
          <a:prstGeom prst="rect">
            <a:avLst/>
          </a:prstGeom>
          <a:ln w="0">
            <a:noFill/>
          </a:ln>
        </p:spPr>
      </p:pic>
      <p:cxnSp>
        <p:nvCxnSpPr>
          <p:cNvPr id="586" name="AutoShape 15"/>
          <p:cNvCxnSpPr/>
          <p:nvPr/>
        </p:nvCxnSpPr>
        <p:spPr>
          <a:xfrm rot="5400000">
            <a:off x="7352640" y="4838400"/>
            <a:ext cx="1143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87" name="Text Box 16"/>
          <p:cNvSpPr/>
          <p:nvPr/>
        </p:nvSpPr>
        <p:spPr>
          <a:xfrm>
            <a:off x="8001000" y="4343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7"/>
          <p:cNvSpPr/>
          <p:nvPr/>
        </p:nvSpPr>
        <p:spPr>
          <a:xfrm>
            <a:off x="495288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8"/>
          <p:cNvSpPr/>
          <p:nvPr/>
        </p:nvSpPr>
        <p:spPr>
          <a:xfrm>
            <a:off x="5410080" y="2057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9"/>
          <p:cNvSpPr/>
          <p:nvPr/>
        </p:nvSpPr>
        <p:spPr>
          <a:xfrm>
            <a:off x="6248520" y="28954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0"/>
          <p:cNvSpPr/>
          <p:nvPr/>
        </p:nvSpPr>
        <p:spPr>
          <a:xfrm>
            <a:off x="7543800" y="30481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21"/>
          <p:cNvSpPr/>
          <p:nvPr/>
        </p:nvSpPr>
        <p:spPr>
          <a:xfrm>
            <a:off x="502920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2"/>
          <p:cNvSpPr/>
          <p:nvPr/>
        </p:nvSpPr>
        <p:spPr>
          <a:xfrm>
            <a:off x="647712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23"/>
          <p:cNvSpPr/>
          <p:nvPr/>
        </p:nvSpPr>
        <p:spPr>
          <a:xfrm>
            <a:off x="7543800" y="19810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24"/>
          <p:cNvSpPr/>
          <p:nvPr/>
        </p:nvSpPr>
        <p:spPr>
          <a:xfrm>
            <a:off x="5867280" y="127944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26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xygen (Heavy Oxygen) Isotope Experimen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 Isotop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1447920" y="4038480"/>
            <a:ext cx="6324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6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7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457200" y="1523880"/>
            <a:ext cx="59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othesis: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f CO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is being oxid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10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1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2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13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4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5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6"/>
          <p:cNvSpPr/>
          <p:nvPr/>
        </p:nvSpPr>
        <p:spPr>
          <a:xfrm>
            <a:off x="1981080" y="57913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you predict where the heavy oxygen will end up in each c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7"/>
          <p:cNvSpPr/>
          <p:nvPr/>
        </p:nvSpPr>
        <p:spPr>
          <a:xfrm>
            <a:off x="4800600" y="48150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8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9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533520" y="2354400"/>
            <a:ext cx="731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1523880" y="3809880"/>
            <a:ext cx="5410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8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9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457200" y="1523880"/>
            <a:ext cx="59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ypothesi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f H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 is being oxid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1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12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13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14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5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6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8"/>
          <p:cNvSpPr/>
          <p:nvPr/>
        </p:nvSpPr>
        <p:spPr>
          <a:xfrm>
            <a:off x="1981080" y="57913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an you predict where the heavy oxygen will end up in each c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9"/>
          <p:cNvSpPr/>
          <p:nvPr/>
        </p:nvSpPr>
        <p:spPr>
          <a:xfrm>
            <a:off x="4800600" y="4815000"/>
            <a:ext cx="48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0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21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 Isotop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8T01:37:18Z</dcterms:created>
  <dc:creator>Desktop Support Services</dc:creator>
  <dc:description/>
  <dc:language>en-US</dc:language>
  <cp:lastModifiedBy>LEGION2</cp:lastModifiedBy>
  <dcterms:modified xsi:type="dcterms:W3CDTF">2016-01-13T09:29:26Z</dcterms:modified>
  <cp:revision>301</cp:revision>
  <dc:subject/>
  <dc:title>No Slide Title</dc:title>
</cp:coreProperties>
</file>