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2A9-DDCC-4E9B-8C50-9E33FD5D095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ner membrane is called the thylako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granum (grana singula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oma is the space surrounding the gra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 http://www.daviddarling.info/encyclopedia/C/chloroplas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from Biology 11:  College Preparation.  Pg 73. 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P generated by sunlight drives the Calvin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: Biology 11:  College Preparation. Pg 74. Nelson, Toronto. 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+ water  glucose + oxygen 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CO2  +  6H2O    C6H12O6  +  6O2  + 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D88-07F1-4866-B81D-5BEF2497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4B4-9D58-4DFB-A781-52B93A0E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96C-199A-4C21-89BF-5B2ECE72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06FA-C9A1-45CD-A6AF-2C3CF18F2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821C-66ED-4041-A9B9-737D207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F2B1-89A4-49C7-8B0C-4734C2D0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4C89-52D4-4FBD-BF9B-5AEEE3ED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0DB4-C5C1-4F76-BD78-41E0B7F4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54FC-EC0E-4941-973B-C892349B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2E7-7B76-48DE-B63F-652CA606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350-D5D2-4577-95CA-7141DA8E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A7E-3158-4A62-A629-C380A176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31AB-9929-4BAD-92B6-F6DAB1A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E642-8920-43CC-993A-45A6695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172E-EEBB-4EA0-8F14-471AA07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AE58-DB9D-4195-89D1-F6EA6608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601B-3DAD-40E0-8CEA-6352347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EE9-0AFE-4CD0-9B17-B1CBCC0C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5CF-D770-4CC3-84C1-BC2D5AE2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DC5-3A9D-44A5-9909-95069A3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879-750A-412D-BD06-4A1A0CA1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E99-37E4-4D5A-910F-5EB0A8A6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5F5-CE8B-4450-B784-1DFD947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6B0-14C8-4178-AFA2-B62A2FD1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A607-6FE8-44E0-8048-DEDFCEA27181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B243-07C4-457C-AFB7-B89221E9291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4" descr="leaf_title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40B5-6575-462D-BD40-AC171E79B93C}" type="datetime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67C7-E85B-4BD2-B5B2-21D1E6B8E85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BI 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light-indy-dep-all"/>
          <p:cNvPicPr/>
          <p:nvPr/>
        </p:nvPicPr>
        <p:blipFill>
          <a:blip r:embed="rId1"/>
          <a:stretch/>
        </p:blipFill>
        <p:spPr>
          <a:xfrm>
            <a:off x="2133720" y="0"/>
            <a:ext cx="54910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0" y="661356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leaves turn brown in the f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all about pig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outside and collect some leav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continued…  =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nergy on earth come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epen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ae (underwater pl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obacteria (photosynthetic bacter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this energy to 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27" descr="photo-overview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5614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and water are taken in by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absorb light energy and convert it to a usabl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is used to “fix” carbon dioxide into sugar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s converted to starch and stored for use by the plant, and by animals when they eat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WO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bi-bilayer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ner membran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ylak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ylakoid is folded and looks like stacks of coin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ranum (gra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ula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surrounding the gra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chloroplast 2"/>
          <p:cNvPicPr/>
          <p:nvPr/>
        </p:nvPicPr>
        <p:blipFill>
          <a:blip r:embed="rId1"/>
          <a:stretch/>
        </p:blipFill>
        <p:spPr>
          <a:xfrm>
            <a:off x="4648320" y="1752480"/>
            <a:ext cx="4051080" cy="46483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62120" y="63244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source: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daviddarling.info/encyclopedia/C/chloroplast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lorophyll molecules are embedded in the thylakoid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like a light “antenn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lecules can absorb sunlight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thylakoid"/>
          <p:cNvPicPr/>
          <p:nvPr/>
        </p:nvPicPr>
        <p:blipFill>
          <a:blip r:embed="rId1"/>
          <a:stretch/>
        </p:blipFill>
        <p:spPr>
          <a:xfrm>
            <a:off x="4495680" y="220968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4648320" y="571500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Pg 73. 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(dependent)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 ONLY in 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ey depend on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is absorbed by chlorophyll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ergy generates molecules of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light rxn"/>
          <p:cNvPicPr/>
          <p:nvPr/>
        </p:nvPicPr>
        <p:blipFill>
          <a:blip r:embed="rId1"/>
          <a:stretch/>
        </p:blipFill>
        <p:spPr>
          <a:xfrm>
            <a:off x="152280" y="1828800"/>
            <a:ext cx="5181840" cy="42051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ht Independent Reac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ormerly the “dark reactions”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860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 in sunlight, and in the d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960" indent="-41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“independent of ligh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 generated by sunlight drive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vi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(eg. glucose) are manufactured in th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9880" indent="-479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saccarides are used to “build” polysaccharides (eg. Star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calvin"/>
          <p:cNvPicPr/>
          <p:nvPr/>
        </p:nvPicPr>
        <p:blipFill>
          <a:blip r:embed="rId1"/>
          <a:stretch/>
        </p:blipFill>
        <p:spPr>
          <a:xfrm>
            <a:off x="-457200" y="1981080"/>
            <a:ext cx="5943600" cy="4111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04920" y="6172200"/>
            <a:ext cx="495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iology 11:  College Preparation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Pg 74. Nelson, Toronto. 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23880" y="22096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equation for photosynth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19720" y="27432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762120" y="3657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dioxide +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ucose + oxygen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4197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371600" y="5029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447920" y="5105520"/>
            <a:ext cx="7162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6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+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7:25:57Z</dcterms:created>
  <dc:creator>Sonia Coleman</dc:creator>
  <dc:description/>
  <cp:keywords>photosynthesis</cp:keywords>
  <dc:language>en-US</dc:language>
  <cp:lastModifiedBy>LEGION2</cp:lastModifiedBy>
  <dcterms:modified xsi:type="dcterms:W3CDTF">2016-01-13T09:25:25Z</dcterms:modified>
  <cp:revision>10</cp:revision>
  <dc:subject/>
  <dc:title>Photosynthesis</dc:title>
</cp:coreProperties>
</file>