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2953-A772-4E71-A80B-86E72B11E30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BI 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membrane is called the thylak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granum (grana singula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oma is the space surrounding the gra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 http://www.daviddarling.info/encyclopedia/C/chloroplas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membrane is called the thylak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granum (grana singula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oma is the space surrounding the gra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 http://www.daviddarling.info/encyclopedia/C/chloroplas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 Biology 11:  College Preparation.  Pg 73. 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from Biology 11:  College Preparation.  Pg 73. 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generated by sunlight drives the Calvin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generated by sunlight drives the Calvin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arbon dioxide + water  glucose + oxygen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6CO2  +  6H2O    C6H12O6  +  6O2  + 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+ water  glucose + oxygen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CO2  +  6H2O    C6H12O6  +  6O2  + 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B1D0-D44D-48C6-BC41-C67CC9AA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967-CC94-4A84-973B-3B8E9F94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35B-C82B-45D3-BE8C-6826A73A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27D7-79AE-4650-AFA7-9763CA16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817E-7EE6-4DD8-B5AF-6D3E6A8C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7CAD-6BB1-4923-9939-701EBE0E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B23F-B565-452D-8BFA-9420F865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30F0-EBDA-4C7F-89E7-3910641E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54E3-69B5-4D60-B1E4-F191855C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15BC-CC23-43B9-8D40-6CDB708C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5551-FD37-4185-A821-A85BDD6B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9C91-345E-4E4B-9200-CD1AD9DD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5609-62AA-40DA-80A4-CD7C9C8C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3F14-CB88-45BF-8738-4BCAE448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393D-72B5-4309-938F-C693EB10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3ADF-2840-4C09-8BB0-F7EE3E32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96E2-2450-42DA-AE24-4B97180E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218-1E62-4B91-8D93-C87640FF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54B-7BC1-461D-81FF-04A95F17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2FF-1122-4D45-AC6D-5F433492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1D10-DEC2-4231-8A18-CFCE8358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710D-C158-4AB9-8300-52EB259C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C79-80DE-457C-87DD-54048948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E84-77D6-4D48-AC6B-5FB3F86B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6496-504F-4DF3-A66C-BFA4FB32B18D}" type="datetime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26-07-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0FC3-1EA1-498E-BB64-BA295784C33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4" descr="leaf_title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16CB-842F-4130-9D2C-23600F12ADB1}" type="datetime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26-07-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A993-D1E7-411D-9066-65FD7C5BA36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I 3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209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light-indy-dep-all"/>
          <p:cNvPicPr/>
          <p:nvPr/>
        </p:nvPicPr>
        <p:blipFill>
          <a:blip r:embed="rId1"/>
          <a:stretch/>
        </p:blipFill>
        <p:spPr>
          <a:xfrm>
            <a:off x="2133720" y="0"/>
            <a:ext cx="54910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61356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27" descr="photo-overview"/>
          <p:cNvPicPr/>
          <p:nvPr/>
        </p:nvPicPr>
        <p:blipFill>
          <a:blip r:embed="rId1"/>
          <a:stretch/>
        </p:blipFill>
        <p:spPr>
          <a:xfrm>
            <a:off x="838080" y="1143000"/>
            <a:ext cx="7162920" cy="56149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ner membran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ylako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num (gra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ula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o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pace surrounding the gra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chloroplast 2"/>
          <p:cNvPicPr/>
          <p:nvPr/>
        </p:nvPicPr>
        <p:blipFill>
          <a:blip r:embed="rId1"/>
          <a:stretch/>
        </p:blipFill>
        <p:spPr>
          <a:xfrm>
            <a:off x="4648320" y="1752480"/>
            <a:ext cx="4051080" cy="4648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2120" y="63244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source: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ttp://www.daviddarling.info/encyclopedia/C/chloroplast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thylakoid"/>
          <p:cNvPicPr/>
          <p:nvPr/>
        </p:nvPicPr>
        <p:blipFill>
          <a:blip r:embed="rId1"/>
          <a:stretch/>
        </p:blipFill>
        <p:spPr>
          <a:xfrm>
            <a:off x="4495680" y="220968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4648320" y="5715000"/>
            <a:ext cx="396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Pg 73. 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light rxn"/>
          <p:cNvPicPr/>
          <p:nvPr/>
        </p:nvPicPr>
        <p:blipFill>
          <a:blip r:embed="rId1"/>
          <a:stretch/>
        </p:blipFill>
        <p:spPr>
          <a:xfrm>
            <a:off x="152280" y="1828800"/>
            <a:ext cx="5181840" cy="4205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30492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860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 generated by sunlight drive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vin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calvin"/>
          <p:cNvPicPr/>
          <p:nvPr/>
        </p:nvPicPr>
        <p:blipFill>
          <a:blip r:embed="rId1"/>
          <a:stretch/>
        </p:blipFill>
        <p:spPr>
          <a:xfrm>
            <a:off x="-457200" y="1981080"/>
            <a:ext cx="5943600" cy="4111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30492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523880" y="2209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441972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762120" y="3657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dioxide + wa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lucose + oxygen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44197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1371600" y="5029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447920" y="5105520"/>
            <a:ext cx="716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6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6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17:25:57Z</dcterms:created>
  <dc:creator>Sonia Coleman</dc:creator>
  <dc:description/>
  <cp:keywords>photosynthesis</cp:keywords>
  <dc:language>en-US</dc:language>
  <cp:lastModifiedBy>LEGION2</cp:lastModifiedBy>
  <dcterms:modified xsi:type="dcterms:W3CDTF">2016-01-13T09:25:25Z</dcterms:modified>
  <cp:revision>10</cp:revision>
  <dc:subject/>
  <dc:title>Photosynthesis</dc:title>
</cp:coreProperties>
</file>