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045E-8EDC-4B0E-91B9-03DDF8C155A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DA5-F0E8-4F55-9E56-EF1F19C5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A43-3050-4F62-BF86-85C6029F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4B0-DD62-42E2-8D09-837E4F10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44E-BDA0-4E8D-B6FA-253E18B5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1F08-67F9-4BF2-952C-98E85F79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EAF-D7FA-40B5-A8C4-E5E4039B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7448-FC33-4EBD-8B9D-56CEFE42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1E4F-734D-48C1-9D87-BAE04001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094-92C4-437C-BA92-F062424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9947-3CF6-48BF-91D9-7C66D1FD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937D-35C9-4256-9230-4B413B24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DD2-00D9-41E7-8D1B-ECE6B275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B553-D680-4258-8880-A190120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4601-7BB0-49EB-8FEA-CBF1C61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9CAB-7106-427D-8BC4-4139FF52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3FDC-588C-4C16-87AF-7C393E06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F82F-8626-4FCB-999C-5E73BE53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CFF-6EB1-4568-B752-EED86A2E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F5E-1A6F-4077-AACD-00BA293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DF8-B6F0-460F-8FC1-70C1F9A9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F6A-513B-4E3D-8AAB-F2F8AC5B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35B-6766-41E8-AAB3-04E6B7D2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93F-FB89-4EC3-9CAA-A860B836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0D3-D641-4398-83A9-752EA31C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4C5F-1F61-4F17-9AD2-4C243E440E58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33A-7FF4-42FD-B56B-8A4C8FA8F1A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leaf_title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0FB-B365-44BD-9872-B52295FB209E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DE3F-15F7-477F-99C0-39038280736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ght-indy-dep-all"/>
          <p:cNvPicPr/>
          <p:nvPr/>
        </p:nvPicPr>
        <p:blipFill>
          <a:blip r:embed="rId1"/>
          <a:stretch/>
        </p:blipFill>
        <p:spPr>
          <a:xfrm>
            <a:off x="2133720" y="0"/>
            <a:ext cx="5491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61356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7" descr="photo-overview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5614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membra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lak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um (gr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surrounding the gr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hloroplast 2"/>
          <p:cNvPicPr/>
          <p:nvPr/>
        </p:nvPicPr>
        <p:blipFill>
          <a:blip r:embed="rId1"/>
          <a:stretch/>
        </p:blipFill>
        <p:spPr>
          <a:xfrm>
            <a:off x="4648320" y="1752480"/>
            <a:ext cx="40510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63244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source: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daviddarling.info/encyclopedia/C/chloroplas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hylakoid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648320" y="571500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Pg 73. 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ight rxn"/>
          <p:cNvPicPr/>
          <p:nvPr/>
        </p:nvPicPr>
        <p:blipFill>
          <a:blip r:embed="rId1"/>
          <a:stretch/>
        </p:blipFill>
        <p:spPr>
          <a:xfrm>
            <a:off x="152280" y="1828800"/>
            <a:ext cx="5181840" cy="4205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generated by sunlight drive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vi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alvin"/>
          <p:cNvPicPr/>
          <p:nvPr/>
        </p:nvPicPr>
        <p:blipFill>
          <a:blip r:embed="rId1"/>
          <a:stretch/>
        </p:blipFill>
        <p:spPr>
          <a:xfrm>
            <a:off x="-457200" y="1981080"/>
            <a:ext cx="5943600" cy="4111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197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se + oxygen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419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447920" y="510552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7:25:57Z</dcterms:created>
  <dc:creator>Sonia Coleman</dc:creator>
  <dc:description/>
  <cp:keywords>photosynthesis</cp:keywords>
  <dc:language>en-US</dc:language>
  <cp:lastModifiedBy>LEGION2</cp:lastModifiedBy>
  <dcterms:modified xsi:type="dcterms:W3CDTF">2016-01-13T09:25:25Z</dcterms:modified>
  <cp:revision>10</cp:revision>
  <dc:subject/>
  <dc:title>Photosynthesis</dc:title>
</cp:coreProperties>
</file>