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581C-324B-4F37-AB0D-94B027130F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Chapter 3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2F4-8BBD-467D-92FF-EE6A7539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B96-FCE3-4B2E-9A72-4DB554F9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422-3FF8-4E9F-B6D7-783E55EA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F24-9D99-42FD-A397-028D8DD7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D1AF-D38C-43B6-880D-80265BA2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4F14-4D5B-401B-8F8C-1744AF59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75BD-CD6C-4168-96FF-C0FD5628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0438-1C65-446F-859B-C88437E6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2B6A-1183-4243-94AD-010D27B9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9D2A-EF5D-4577-90D7-B7530D63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A322-30E8-4A82-AB58-43781F55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916-E6EB-41E0-B9DA-46086A09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5261-0152-49B4-A19E-9F84B829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34E1-3F68-4A6C-96A6-FDB703E1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624A-060E-465E-8C00-0F42402A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2CA4-9741-4186-A484-B85B1787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BE8D-7B32-4A08-8D72-150D3A2A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295-43F0-4CFD-BF64-53FFEC74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FF5C-A18B-49CE-B5E9-DD231783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CE3-B438-4A42-BCB2-2714C696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3CB-14D4-476F-869B-3BD0FE81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A88-F3B3-429F-AD4F-E1DBCE98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468-2A1F-4B2B-A543-44B37AE5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E5A-8AF9-4C72-BF6D-6B42DBD9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37CB-3C5C-4388-85F4-7B6E13FADC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F69A-346E-496D-8EA2-91009F6E653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Mammal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pter 3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sectivo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ts ins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the mighty shr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rnivo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t mostly me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cats, dogs, bears, racco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inniped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ine carnivo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flippers, insulating layer of blubb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the walr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ima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key, hum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advanc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od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e called ungulates with even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rumen and chew c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s pigs, giraffes, sheep, ca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issoc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gulates with an odd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horse, zebras, rhi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10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tac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ve in wa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phins, porpoises, wha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plow hole used to brea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4649760" y="1785960"/>
            <a:ext cx="4032360" cy="41212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gomorph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bbits and h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all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4649760" y="1857240"/>
            <a:ext cx="4032360" cy="3978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r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rel-shaped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atees or called the sea c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boscid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lephants the largest on 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4649760" y="2138400"/>
            <a:ext cx="4032360" cy="34178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ve key characteristic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 hai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verse &amp;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dotherm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ls have diverse,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is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6058080" y="1598760"/>
            <a:ext cx="1215720" cy="44971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 are used for milk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aning is done when baby animal can feed on their 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2 Today’s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notre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primi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der of Monotrem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ree living spec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typ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species of Echid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arsupi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wombats, kangaroos, wallaroos, koalas, and opossu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e born days or weeks after fertilization and fully develop in a pou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lacental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centa - allows diffusion of nutrients and oxygen into the fet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station Period - time when fetus is develop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oday’s Placent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dent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0% of placent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continually and are used for gn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ce, rat, squirr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iropte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ts the only mammal capable of fl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4:19:04Z</dcterms:created>
  <dc:creator>bps bps</dc:creator>
  <dc:description/>
  <dc:language>en-US</dc:language>
  <cp:lastModifiedBy>LEGION2</cp:lastModifiedBy>
  <dcterms:modified xsi:type="dcterms:W3CDTF">2016-01-13T09:17:27Z</dcterms:modified>
  <cp:revision>8</cp:revision>
  <dc:subject/>
  <dc:title>Mammals</dc:title>
</cp:coreProperties>
</file>