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790C-1494-4A41-8589-A48E83D4C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4C1-685C-4724-9756-1A0800DF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FEE-3E81-4ECC-9F44-45C76672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B9F-113F-434D-B781-23158BDE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BD0A-732E-4F29-ADCF-86A4155C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5491-68F2-41E0-9464-70DB866D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D6F6-A12B-42DE-A4BA-2D9ABD61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83D3-C8EA-4ECF-806F-C0E34F91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8CDE-CE17-4C21-B60A-285EF965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005E-04A1-44D9-8D2F-CB7EB146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F27C-BE2F-47CE-AB94-E2423700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844E-7513-4236-9A1E-46F5FD3C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A47F-C2AA-40B8-B7C5-29DA5027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8BDC-D45D-405A-9099-CDEDAF39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9981-EE28-458E-B7BB-EC5A6259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4AF3-5064-4555-B43B-9EEE44E5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1468-3462-4A4B-9503-2BE9DE0C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E84D-C92C-45EA-B71E-4CC832E5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9E9-E10E-4FA1-A9B4-5B5DCA83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8FC-E6AA-4311-839A-584D71FD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7B8-4BF4-44C5-A0E1-5313ACAF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F78-E12B-4430-A8CB-1D474F5A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DFC-C38C-4350-BEDF-6E932DD9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20E0-1BE7-496F-A72B-511C2A73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1AC-F41A-4E7D-982A-30BA3702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38D1-8319-4789-BB25-B684F5167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8C77-812A-42A3-8E38-2C0A874E9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hyperlink" Target="http://www.worldofteaching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57160"/>
            <a:ext cx="7678800" cy="77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hotomicrograp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-31680" y="738360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1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20960" y="753588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73240" y="768816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3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2840" y="4876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edogon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yg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5" descr="algae25"/>
          <p:cNvPicPr/>
          <p:nvPr/>
        </p:nvPicPr>
        <p:blipFill>
          <a:blip r:embed="rId1"/>
          <a:stretch/>
        </p:blipFill>
        <p:spPr>
          <a:xfrm>
            <a:off x="2025720" y="2216160"/>
            <a:ext cx="6519960" cy="1781280"/>
          </a:xfrm>
          <a:prstGeom prst="rect">
            <a:avLst/>
          </a:prstGeom>
          <a:ln w="0">
            <a:noFill/>
          </a:ln>
        </p:spPr>
      </p:pic>
      <p:sp>
        <p:nvSpPr>
          <p:cNvPr id="258" name="Line 6"/>
          <p:cNvSpPr/>
          <p:nvPr/>
        </p:nvSpPr>
        <p:spPr>
          <a:xfrm flipV="1">
            <a:off x="4495680" y="3580920"/>
            <a:ext cx="38124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819160" y="5486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5" descr="algae69"/>
          <p:cNvPicPr/>
          <p:nvPr/>
        </p:nvPicPr>
        <p:blipFill>
          <a:blip r:embed="rId1"/>
          <a:stretch/>
        </p:blipFill>
        <p:spPr>
          <a:xfrm>
            <a:off x="27432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990720" y="2209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2209680" y="251460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8280" y="4800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lothr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5" descr="Ulothrix"/>
          <p:cNvPicPr/>
          <p:nvPr/>
        </p:nvPicPr>
        <p:blipFill>
          <a:blip r:embed="rId1"/>
          <a:stretch/>
        </p:blipFill>
        <p:spPr>
          <a:xfrm>
            <a:off x="1523880" y="1523880"/>
            <a:ext cx="5639040" cy="335448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 flipV="1">
            <a:off x="4038480" y="3581280"/>
            <a:ext cx="0" cy="2438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7"/>
          <p:cNvSpPr/>
          <p:nvPr/>
        </p:nvSpPr>
        <p:spPr>
          <a:xfrm flipV="1">
            <a:off x="4267080" y="3428640"/>
            <a:ext cx="76212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5" descr="Oscilla"/>
          <p:cNvPicPr/>
          <p:nvPr/>
        </p:nvPicPr>
        <p:blipFill>
          <a:blip r:embed="rId1"/>
          <a:stretch/>
        </p:blipFill>
        <p:spPr>
          <a:xfrm>
            <a:off x="1963800" y="1905120"/>
            <a:ext cx="1874880" cy="4190760"/>
          </a:xfrm>
          <a:prstGeom prst="rect">
            <a:avLst/>
          </a:prstGeom>
          <a:ln w="0">
            <a:noFill/>
          </a:ln>
        </p:spPr>
      </p:pic>
      <p:sp>
        <p:nvSpPr>
          <p:cNvPr id="272" name="Line 6"/>
          <p:cNvSpPr/>
          <p:nvPr/>
        </p:nvSpPr>
        <p:spPr>
          <a:xfrm flipH="1" flipV="1">
            <a:off x="2971440" y="3580920"/>
            <a:ext cx="16002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2895120" y="3886200"/>
            <a:ext cx="17528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48280" y="2292120"/>
            <a:ext cx="3975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5" descr="Oscillatoria_130"/>
          <p:cNvPicPr/>
          <p:nvPr/>
        </p:nvPicPr>
        <p:blipFill>
          <a:blip r:embed="rId1"/>
          <a:stretch/>
        </p:blipFill>
        <p:spPr>
          <a:xfrm>
            <a:off x="1406520" y="1905120"/>
            <a:ext cx="2987640" cy="4190760"/>
          </a:xfrm>
          <a:prstGeom prst="rect">
            <a:avLst/>
          </a:prstGeom>
          <a:ln w="0">
            <a:noFill/>
          </a:ln>
        </p:spPr>
      </p:pic>
      <p:sp>
        <p:nvSpPr>
          <p:cNvPr id="277" name="Line 6"/>
          <p:cNvSpPr/>
          <p:nvPr/>
        </p:nvSpPr>
        <p:spPr>
          <a:xfrm flipH="1">
            <a:off x="3200040" y="3657600"/>
            <a:ext cx="15238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8"/>
          <p:cNvSpPr/>
          <p:nvPr/>
        </p:nvSpPr>
        <p:spPr>
          <a:xfrm flipH="1">
            <a:off x="3123720" y="3657600"/>
            <a:ext cx="160020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lvo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5" descr="volvox01"/>
          <p:cNvPicPr/>
          <p:nvPr/>
        </p:nvPicPr>
        <p:blipFill>
          <a:blip r:embed="rId1"/>
          <a:stretch/>
        </p:blipFill>
        <p:spPr>
          <a:xfrm>
            <a:off x="912960" y="2173320"/>
            <a:ext cx="3975120" cy="3654360"/>
          </a:xfrm>
          <a:prstGeom prst="rect">
            <a:avLst/>
          </a:prstGeom>
          <a:ln w="0">
            <a:noFill/>
          </a:ln>
        </p:spPr>
      </p:pic>
      <p:sp>
        <p:nvSpPr>
          <p:cNvPr id="282" name="Line 6"/>
          <p:cNvSpPr/>
          <p:nvPr/>
        </p:nvSpPr>
        <p:spPr>
          <a:xfrm flipH="1">
            <a:off x="2057040" y="5715000"/>
            <a:ext cx="28954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952880" y="55627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irogy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Volvox2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7499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29718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88080" y="2447640"/>
            <a:ext cx="39765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diastr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Pedias"/>
          <p:cNvPicPr/>
          <p:nvPr/>
        </p:nvPicPr>
        <p:blipFill>
          <a:blip r:embed="rId1"/>
          <a:stretch/>
        </p:blipFill>
        <p:spPr>
          <a:xfrm>
            <a:off x="912960" y="2252520"/>
            <a:ext cx="39751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26" descr="yeast2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5306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027"/>
          <p:cNvSpPr/>
          <p:nvPr/>
        </p:nvSpPr>
        <p:spPr>
          <a:xfrm>
            <a:off x="2666880" y="6019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ext group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ses and Fer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ladophor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5" descr="Cladophora_100x"/>
          <p:cNvPicPr/>
          <p:nvPr/>
        </p:nvPicPr>
        <p:blipFill>
          <a:blip r:embed="rId1"/>
          <a:stretch/>
        </p:blipFill>
        <p:spPr>
          <a:xfrm>
            <a:off x="912960" y="253044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225" name="Line 6"/>
          <p:cNvSpPr/>
          <p:nvPr/>
        </p:nvSpPr>
        <p:spPr>
          <a:xfrm flipH="1">
            <a:off x="4495680" y="4419720"/>
            <a:ext cx="1526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7"/>
          <p:cNvSpPr/>
          <p:nvPr/>
        </p:nvSpPr>
        <p:spPr>
          <a:xfrm flipH="1" flipV="1">
            <a:off x="3505320" y="3733560"/>
            <a:ext cx="121896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48840" y="6432480"/>
            <a:ext cx="4039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Free powerpoints at </a:t>
            </a:r>
            <a:r>
              <a:rPr b="0" lang="en-GB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5334120" y="2209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4" descr="marcantl1"/>
          <p:cNvPicPr/>
          <p:nvPr/>
        </p:nvPicPr>
        <p:blipFill>
          <a:blip r:embed="rId1"/>
          <a:stretch/>
        </p:blipFill>
        <p:spPr>
          <a:xfrm>
            <a:off x="15876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54864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4" descr="marcarhl2"/>
          <p:cNvPicPr/>
          <p:nvPr/>
        </p:nvPicPr>
        <p:blipFill>
          <a:blip r:embed="rId1"/>
          <a:stretch/>
        </p:blipFill>
        <p:spPr>
          <a:xfrm>
            <a:off x="228600" y="0"/>
            <a:ext cx="497376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8" name="Picture 3" descr="marcspl3"/>
          <p:cNvPicPr/>
          <p:nvPr/>
        </p:nvPicPr>
        <p:blipFill>
          <a:blip r:embed="rId1"/>
          <a:stretch/>
        </p:blipFill>
        <p:spPr>
          <a:xfrm>
            <a:off x="2666880" y="1996920"/>
            <a:ext cx="3657600" cy="27482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3200400" y="5029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800240" y="29718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verw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X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d to mo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Picture 5" descr="liverwort6812"/>
          <p:cNvPicPr/>
          <p:nvPr/>
        </p:nvPicPr>
        <p:blipFill>
          <a:blip r:embed="rId1"/>
          <a:stretch/>
        </p:blipFill>
        <p:spPr>
          <a:xfrm>
            <a:off x="912960" y="2454120"/>
            <a:ext cx="397512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4" name="Picture 3" descr="lycopodiumstrobilus"/>
          <p:cNvPicPr/>
          <p:nvPr/>
        </p:nvPicPr>
        <p:blipFill>
          <a:blip r:embed="rId1"/>
          <a:stretch/>
        </p:blipFill>
        <p:spPr>
          <a:xfrm>
            <a:off x="2514600" y="190512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4"/>
          <p:cNvSpPr/>
          <p:nvPr/>
        </p:nvSpPr>
        <p:spPr>
          <a:xfrm>
            <a:off x="2895480" y="50292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5" descr="BRYI001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n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5" descr="BRYI003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  <p:sp>
        <p:nvSpPr>
          <p:cNvPr id="312" name="Line 6"/>
          <p:cNvSpPr/>
          <p:nvPr/>
        </p:nvSpPr>
        <p:spPr>
          <a:xfrm flipH="1">
            <a:off x="2971440" y="3276720"/>
            <a:ext cx="20574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7"/>
          <p:cNvSpPr/>
          <p:nvPr/>
        </p:nvSpPr>
        <p:spPr>
          <a:xfrm flipH="1">
            <a:off x="3809520" y="380988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256000" y="2099880"/>
            <a:ext cx="376380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orophyte attached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5" descr="BRYI004B"/>
          <p:cNvPicPr/>
          <p:nvPr/>
        </p:nvPicPr>
        <p:blipFill>
          <a:blip r:embed="rId1"/>
          <a:stretch/>
        </p:blipFill>
        <p:spPr>
          <a:xfrm>
            <a:off x="1494000" y="1905120"/>
            <a:ext cx="2811240" cy="419076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 flipH="1">
            <a:off x="2666880" y="4038480"/>
            <a:ext cx="2438640" cy="914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7"/>
          <p:cNvSpPr/>
          <p:nvPr/>
        </p:nvSpPr>
        <p:spPr>
          <a:xfrm flipH="1" flipV="1">
            <a:off x="2437920" y="2819160"/>
            <a:ext cx="266724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20" name="Picture 3" descr="horsetailstrobil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3429000" y="5181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41560" y="1916280"/>
            <a:ext cx="198756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5" descr="j0145145"/>
          <p:cNvPicPr/>
          <p:nvPr/>
        </p:nvPicPr>
        <p:blipFill>
          <a:blip r:embed="rId1"/>
          <a:stretch/>
        </p:blipFill>
        <p:spPr>
          <a:xfrm>
            <a:off x="912960" y="2914560"/>
            <a:ext cx="3975120" cy="2560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PH02939J"/>
          <p:cNvPicPr/>
          <p:nvPr/>
        </p:nvPicPr>
        <p:blipFill>
          <a:blip r:embed="rId2"/>
          <a:stretch/>
        </p:blipFill>
        <p:spPr>
          <a:xfrm>
            <a:off x="5486400" y="2209680"/>
            <a:ext cx="2743200" cy="4089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81480" y="31240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lamydomon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5" descr="chlamy"/>
          <p:cNvPicPr/>
          <p:nvPr/>
        </p:nvPicPr>
        <p:blipFill>
          <a:blip r:embed="rId1"/>
          <a:stretch/>
        </p:blipFill>
        <p:spPr>
          <a:xfrm>
            <a:off x="195120" y="1752480"/>
            <a:ext cx="47516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666880" y="1523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4" descr="sporangia on fern"/>
          <p:cNvPicPr/>
          <p:nvPr/>
        </p:nvPicPr>
        <p:blipFill>
          <a:blip r:embed="rId1"/>
          <a:stretch/>
        </p:blipFill>
        <p:spPr>
          <a:xfrm>
            <a:off x="5334120" y="2743200"/>
            <a:ext cx="3349440" cy="2286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sporangia, fern2"/>
          <p:cNvPicPr/>
          <p:nvPr/>
        </p:nvPicPr>
        <p:blipFill>
          <a:blip r:embed="rId2"/>
          <a:stretch/>
        </p:blipFill>
        <p:spPr>
          <a:xfrm>
            <a:off x="609480" y="20574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1" name="Picture 3" descr="fernspore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352680" y="5181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4" name="Picture 3" descr="ferngameto"/>
          <p:cNvPicPr/>
          <p:nvPr/>
        </p:nvPicPr>
        <p:blipFill>
          <a:blip r:embed="rId1"/>
          <a:stretch/>
        </p:blipFill>
        <p:spPr>
          <a:xfrm>
            <a:off x="2895480" y="3581280"/>
            <a:ext cx="3372120" cy="2286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4"/>
          <p:cNvSpPr/>
          <p:nvPr/>
        </p:nvSpPr>
        <p:spPr>
          <a:xfrm>
            <a:off x="2895480" y="1828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0102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6"/>
          <p:cNvSpPr/>
          <p:nvPr/>
        </p:nvSpPr>
        <p:spPr>
          <a:xfrm flipH="1">
            <a:off x="5638320" y="4267080"/>
            <a:ext cx="121932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4952880" y="2209680"/>
            <a:ext cx="0" cy="2057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8280" y="1905120"/>
            <a:ext cx="397512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i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053" descr="Euglena"/>
          <p:cNvPicPr/>
          <p:nvPr/>
        </p:nvPicPr>
        <p:blipFill>
          <a:blip r:embed="rId1"/>
          <a:stretch/>
        </p:blipFill>
        <p:spPr>
          <a:xfrm>
            <a:off x="1673280" y="1905120"/>
            <a:ext cx="2454120" cy="4190760"/>
          </a:xfrm>
          <a:prstGeom prst="rect">
            <a:avLst/>
          </a:prstGeom>
          <a:ln w="0">
            <a:noFill/>
          </a:ln>
        </p:spPr>
      </p:pic>
      <p:sp>
        <p:nvSpPr>
          <p:cNvPr id="234" name="Line 2054"/>
          <p:cNvSpPr/>
          <p:nvPr/>
        </p:nvSpPr>
        <p:spPr>
          <a:xfrm flipH="1">
            <a:off x="2437920" y="3200400"/>
            <a:ext cx="22100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19160" y="434340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of one c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053" descr="algae27"/>
          <p:cNvPicPr/>
          <p:nvPr/>
        </p:nvPicPr>
        <p:blipFill>
          <a:blip r:embed="rId1"/>
          <a:stretch/>
        </p:blipFill>
        <p:spPr>
          <a:xfrm>
            <a:off x="1628640" y="1905120"/>
            <a:ext cx="636120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3077" descr="spirocong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241" name="Line 3078"/>
          <p:cNvSpPr/>
          <p:nvPr/>
        </p:nvSpPr>
        <p:spPr>
          <a:xfrm flipH="1">
            <a:off x="3580920" y="3962520"/>
            <a:ext cx="12193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3079"/>
          <p:cNvSpPr/>
          <p:nvPr/>
        </p:nvSpPr>
        <p:spPr>
          <a:xfrm>
            <a:off x="4800600" y="5181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5" descr="Spiro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46" name="Line 6"/>
          <p:cNvSpPr/>
          <p:nvPr/>
        </p:nvSpPr>
        <p:spPr>
          <a:xfrm flipH="1">
            <a:off x="914400" y="2971800"/>
            <a:ext cx="36576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7"/>
          <p:cNvSpPr/>
          <p:nvPr/>
        </p:nvSpPr>
        <p:spPr>
          <a:xfrm flipH="1">
            <a:off x="3580920" y="3505320"/>
            <a:ext cx="1143000" cy="5331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8"/>
          <p:cNvSpPr/>
          <p:nvPr/>
        </p:nvSpPr>
        <p:spPr>
          <a:xfrm flipH="1">
            <a:off x="2895120" y="4038480"/>
            <a:ext cx="1752840" cy="19814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1029" descr="acetab"/>
          <p:cNvPicPr/>
          <p:nvPr/>
        </p:nvPicPr>
        <p:blipFill>
          <a:blip r:embed="rId1"/>
          <a:stretch/>
        </p:blipFill>
        <p:spPr>
          <a:xfrm>
            <a:off x="912960" y="1922400"/>
            <a:ext cx="3975120" cy="415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19920" y="2895120"/>
            <a:ext cx="2666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2053" descr="chara"/>
          <p:cNvPicPr/>
          <p:nvPr/>
        </p:nvPicPr>
        <p:blipFill>
          <a:blip r:embed="rId1"/>
          <a:stretch/>
        </p:blipFill>
        <p:spPr>
          <a:xfrm>
            <a:off x="762120" y="1523880"/>
            <a:ext cx="494964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9:09:49Z</dcterms:created>
  <dc:creator>School of Business Admin</dc:creator>
  <dc:description/>
  <dc:language>en-US</dc:language>
  <cp:lastModifiedBy>RomaK</cp:lastModifiedBy>
  <dcterms:modified xsi:type="dcterms:W3CDTF">2015-09-04T12:09:57Z</dcterms:modified>
  <cp:revision>61</cp:revision>
  <dc:subject/>
  <dc:title>BOTANY plant tissues</dc:title>
</cp:coreProperties>
</file>