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D35D-E878-48FA-A3A9-88F723D0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es and 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owerpoints at http://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X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s species: M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s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ophyte attach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515-E007-4426-8F63-EAE01C14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10D-F001-40AB-97A3-A75959AD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AE5-69AB-4537-B8DB-2F5F8515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A3F-5567-418D-A6C6-BF4453FC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F8C-6EE6-43A5-AEA0-ACA5F7DE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2FE6-6586-4CEE-95FB-71F33DF3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47E0-88C7-4A54-9EDA-38CB89D0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E396-5FBA-4009-A37D-84684AD6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4260-69D9-4221-80C0-B896AF8A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B6FB-1437-4FCA-A310-9A9CB98E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84B5-93AE-4F51-BF7C-FEAA465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F83-3CFF-400C-8B44-0B8FEF5E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DB16-912D-4184-9330-AE7CCDD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985-6F9F-4A16-8B91-9BD9619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EEB-33C0-4462-950F-2B2DC7F0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00C-3D1C-40C1-A7EF-F845A788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415-05F4-474E-8A55-DB98694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EB6-D404-485C-94B4-77FB244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EB0-C678-4860-908B-E0F53735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E99-0FC7-49A2-AF21-41A535C0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16B-39B8-4935-9018-F192933D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8E3-20F0-4775-9F67-A9CE364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C74-AB76-492A-B3EB-20552E1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31E-CA54-4C68-98D8-6A24BEED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04A-6AC1-444B-9B4B-5BB21FFF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EA5-19B8-4676-BF27-4C36317E9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-31680" y="738360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1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0960" y="753588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73240" y="768816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ee powerpoints at </a:t>
            </a:r>
            <a:r>
              <a:rPr b="0" lang="en-GB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yg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5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4495680" y="3580920"/>
            <a:ext cx="38124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5" descr="algae69"/>
          <p:cNvPicPr/>
          <p:nvPr/>
        </p:nvPicPr>
        <p:blipFill>
          <a:blip r:embed="rId1"/>
          <a:stretch/>
        </p:blipFill>
        <p:spPr>
          <a:xfrm>
            <a:off x="2743200" y="1600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9907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2209680" y="251460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72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7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Volvox2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74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9718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vox colo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26" descr="yeast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5306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027"/>
          <p:cNvSpPr/>
          <p:nvPr/>
        </p:nvSpPr>
        <p:spPr>
          <a:xfrm>
            <a:off x="2666880" y="6019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 (clump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xt group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ses and F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48840" y="6432480"/>
            <a:ext cx="4039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Free powerpoints at </a:t>
            </a:r>
            <a:r>
              <a:rPr b="0" lang="en-GB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5334120" y="2209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4" descr="marcantl1"/>
          <p:cNvPicPr/>
          <p:nvPr/>
        </p:nvPicPr>
        <p:blipFill>
          <a:blip r:embed="rId1"/>
          <a:stretch/>
        </p:blipFill>
        <p:spPr>
          <a:xfrm>
            <a:off x="15876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54864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, fe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4" descr="marcarhl2"/>
          <p:cNvPicPr/>
          <p:nvPr/>
        </p:nvPicPr>
        <p:blipFill>
          <a:blip r:embed="rId1"/>
          <a:stretch/>
        </p:blipFill>
        <p:spPr>
          <a:xfrm>
            <a:off x="2286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Picture 3" descr="marcspl3"/>
          <p:cNvPicPr/>
          <p:nvPr/>
        </p:nvPicPr>
        <p:blipFill>
          <a:blip r:embed="rId1"/>
          <a:stretch/>
        </p:blipFill>
        <p:spPr>
          <a:xfrm>
            <a:off x="2666880" y="1996920"/>
            <a:ext cx="3657600" cy="27482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3200400" y="5029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ant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80024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verw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X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d to mo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Picture 5" descr="liverwort6812"/>
          <p:cNvPicPr/>
          <p:nvPr/>
        </p:nvPicPr>
        <p:blipFill>
          <a:blip r:embed="rId1"/>
          <a:stretch/>
        </p:blipFill>
        <p:spPr>
          <a:xfrm>
            <a:off x="912960" y="2454120"/>
            <a:ext cx="397512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4" name="Picture 3" descr="lycopodiumstrobilus"/>
          <p:cNvPicPr/>
          <p:nvPr/>
        </p:nvPicPr>
        <p:blipFill>
          <a:blip r:embed="rId1"/>
          <a:stretch/>
        </p:blipFill>
        <p:spPr>
          <a:xfrm>
            <a:off x="2514600" y="190512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4"/>
          <p:cNvSpPr/>
          <p:nvPr/>
        </p:nvSpPr>
        <p:spPr>
          <a:xfrm>
            <a:off x="2895480" y="50292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rwort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5" descr="BRYI001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s species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n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e gametoph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5" descr="BRYI003B"/>
          <p:cNvPicPr/>
          <p:nvPr/>
        </p:nvPicPr>
        <p:blipFill>
          <a:blip r:embed="rId1"/>
          <a:stretch/>
        </p:blipFill>
        <p:spPr>
          <a:xfrm>
            <a:off x="912960" y="1969920"/>
            <a:ext cx="3975120" cy="4059360"/>
          </a:xfrm>
          <a:prstGeom prst="rect">
            <a:avLst/>
          </a:prstGeom>
          <a:ln w="0">
            <a:noFill/>
          </a:ln>
        </p:spPr>
      </p:pic>
      <p:sp>
        <p:nvSpPr>
          <p:cNvPr id="312" name="Line 6"/>
          <p:cNvSpPr/>
          <p:nvPr/>
        </p:nvSpPr>
        <p:spPr>
          <a:xfrm flipH="1">
            <a:off x="2971440" y="3276720"/>
            <a:ext cx="20574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7"/>
          <p:cNvSpPr/>
          <p:nvPr/>
        </p:nvSpPr>
        <p:spPr>
          <a:xfrm flipH="1">
            <a:off x="3809520" y="3809880"/>
            <a:ext cx="11430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256000" y="2099880"/>
            <a:ext cx="376380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y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s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rophyte attached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male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5" descr="BRYI004B"/>
          <p:cNvPicPr/>
          <p:nvPr/>
        </p:nvPicPr>
        <p:blipFill>
          <a:blip r:embed="rId1"/>
          <a:stretch/>
        </p:blipFill>
        <p:spPr>
          <a:xfrm>
            <a:off x="1494000" y="1905120"/>
            <a:ext cx="2811240" cy="419076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 flipH="1">
            <a:off x="2666880" y="4038480"/>
            <a:ext cx="243864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H="1" flipV="1">
            <a:off x="2437920" y="2819160"/>
            <a:ext cx="266724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0" name="Picture 3" descr="horsetailstrobil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3429000" y="5181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tail, l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41560" y="1916280"/>
            <a:ext cx="19875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j0145145"/>
          <p:cNvPicPr/>
          <p:nvPr/>
        </p:nvPicPr>
        <p:blipFill>
          <a:blip r:embed="rId1"/>
          <a:stretch/>
        </p:blipFill>
        <p:spPr>
          <a:xfrm>
            <a:off x="912960" y="2914560"/>
            <a:ext cx="3975120" cy="2560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PH02939J"/>
          <p:cNvPicPr/>
          <p:nvPr/>
        </p:nvPicPr>
        <p:blipFill>
          <a:blip r:embed="rId2"/>
          <a:stretch/>
        </p:blipFill>
        <p:spPr>
          <a:xfrm>
            <a:off x="5486400" y="2209680"/>
            <a:ext cx="27432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666880" y="1523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 leaves with sporan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4" descr="sporangia on fern"/>
          <p:cNvPicPr/>
          <p:nvPr/>
        </p:nvPicPr>
        <p:blipFill>
          <a:blip r:embed="rId1"/>
          <a:stretch/>
        </p:blipFill>
        <p:spPr>
          <a:xfrm>
            <a:off x="5334120" y="2743200"/>
            <a:ext cx="3349440" cy="2286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sporangia, fern2"/>
          <p:cNvPicPr/>
          <p:nvPr/>
        </p:nvPicPr>
        <p:blipFill>
          <a:blip r:embed="rId2"/>
          <a:stretch/>
        </p:blipFill>
        <p:spPr>
          <a:xfrm>
            <a:off x="609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1" name="Picture 3" descr="fernspore"/>
          <p:cNvPicPr/>
          <p:nvPr/>
        </p:nvPicPr>
        <p:blipFill>
          <a:blip r:embed="rId1"/>
          <a:stretch/>
        </p:blipFill>
        <p:spPr>
          <a:xfrm>
            <a:off x="2525760" y="1943280"/>
            <a:ext cx="4092480" cy="2971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3526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, spor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4" name="Picture 3" descr="ferngameto"/>
          <p:cNvPicPr/>
          <p:nvPr/>
        </p:nvPicPr>
        <p:blipFill>
          <a:blip r:embed="rId1"/>
          <a:stretch/>
        </p:blipFill>
        <p:spPr>
          <a:xfrm>
            <a:off x="2895480" y="3581280"/>
            <a:ext cx="3372120" cy="2286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2895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 with gametoph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02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5638320" y="4267080"/>
            <a:ext cx="12193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952880" y="2209680"/>
            <a:ext cx="0" cy="2057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053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34" name="Line 2054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19160" y="43434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of one c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053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077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41" name="Line 3078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079"/>
          <p:cNvSpPr/>
          <p:nvPr/>
        </p:nvSpPr>
        <p:spPr>
          <a:xfrm>
            <a:off x="480060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contrast photomicrograp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6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29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2053" descr="chara"/>
          <p:cNvPicPr/>
          <p:nvPr/>
        </p:nvPicPr>
        <p:blipFill>
          <a:blip r:embed="rId1"/>
          <a:stretch/>
        </p:blipFill>
        <p:spPr>
          <a:xfrm>
            <a:off x="762120" y="1523880"/>
            <a:ext cx="49496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09:57Z</dcterms:modified>
  <cp:revision>61</cp:revision>
  <dc:subject/>
  <dc:title>BOTANY plant tissues</dc:title>
</cp:coreProperties>
</file>