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1BF52-5078-47D5-96BF-A7C4F6E1EA8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ving Factori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nit 7 - Biotechnolog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ing Facto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otechn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aerobic Respira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aerobic respiration occurs when oxygen is not available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 anaerobic respiration the glucose is only partially broken down, and lactic acid is produce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aerobic Respi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aerobic respiration occurs when oxygen is not availabl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anaerobic respiration the glucose is only partially broken down, and lactic acid is produc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ermenta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ving yeast cells in the absence of oxygen are still able to use sugar as their source of food to make energ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is known as fermenta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 this case ethanol (alcohol) is produced instead of lactic acid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rm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ving yeast cells in the absence of oxygen are still able to use sugar as their source of food to make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known as ferm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is case ethanol (alcohol) is produced instead of lactic aci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naerobic Respiration</a:t>
            </a:r>
            <a:br>
              <a:rPr sz="1200"/>
            </a:b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(Fermentation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Glucose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arbon dioxide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+ ethanol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+ energ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aerobic Respiration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(Fermentat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lucose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rbon dioxi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 ethanol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erobic Vs. Anaerobic Respira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erobic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oxygen always require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efficient method of respira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sugar completely broken down to carbon dioxide and wate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erobic Vs. Anaerobic Respi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erob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oxygen always requi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efficient method of respi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sugar completely broken down to carbon dioxide and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erobic Vs. Anaerobic Respira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aerobic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oxygen never require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inefficient method of respira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releases a small amount of energ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much of the energy remains locked up in the molecules of the end product (e.g. the alcohol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erobic Vs. Anaerobic Respi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aerob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oxygen never requi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inefficient method of respi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releases a small amount of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much of the energy remains locked up in the molecules of the end product (e.g. the alcoho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Quick Quiz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n you sort out the following statements into aerobic or anaerobic respiration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Just fill them into your table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ick Qui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you sort out the following statements into aerobic or anaerobic respira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st fill them into your tabl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lucose + oxygen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rbon dioxide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+ water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+ energ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lucose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rbon dioxide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+ ethanol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+ energ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xygen never require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xygen always require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efficient method of respira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fficient method of respira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ugar completely broken down to carbon dioxide and wate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nly releases a small amount of energ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lucose reacts in the mitochondra of cell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uch of the energy remains locked up in the molecules of the end produc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ucose + oxyge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bon dioxi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 wate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ucos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bon dioxi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 ethano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 never requi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xygen always requi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efficient method of respi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fficient method of respi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gar completely broken down to carbon dioxide and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ly releases a small amount of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lucose reacts in the mitochondra of cel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ch of the energy remains locked up in the molecules of the end produ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Breadmakin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readma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read Basics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akers use two simple facts of life to create soft, spongy, moist bread: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irst, they use the fact that yeast (a single-cell fungi) will eat sugar: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from the sugar yeast creates alcohol and carbon dioxide gas as waste products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the carbon dioxide gas created by yeast is what gives bread its airy texture, and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the alcohol, which burns off during baking, leaves behind an important component of bread's flavor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ead Basic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kers use two simple facts of life to create soft, spongy, moist bread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, they use the fact that yeast (a single-cell fungi) will eat sugar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from the sugar yeast creates alcohol and carbon dioxide gas as waste produc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the carbon dioxide gas created by yeast is what gives bread its airy texture,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the alcohol, which burns off during baking, leaves behind an important component of bread's flavo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read Basics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cond, wheat flour, if mixed with water and kneaded, becomes very elastic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the flour-and-water mixture in bread becomes stretchy like a balloon because of a protein in wheat known as gluten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gluten gives bread dough the ability to capture the carbon dioxide produced by yeast in tiny flour balloons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ead Basic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, wheat flour, if mixed with water and kneaded, becomes very elastic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the flour-and-water mixture in bread becomes stretchy like a balloon because of a protein in wheat known as glut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gluten gives bread dough the ability to capture the carbon dioxide produced by yeast in tiny flour ballo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accharomyces cerevisiae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YEAST!!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accharomyces cerevisia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YEAST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Glute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http://www.exploratorium.edu/cooking/bread/bread_science.html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lut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ttp://www.exploratorium.edu/cooking/bread/bread_science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to make bread…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You will need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lour with added salt and lard rubbed in to make dough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Yeast added to warm sugar solution and allowed to grow to produce bubbl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x the yeast and the flour together in a bowl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to make bread…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will nee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our with added salt and lard rubbed in to make dou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ast added to warm sugar solution and allowed to grow to produce bubb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x the yeast and the flour together in a bow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4.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Kneading the dough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Kneading the dou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5.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eaving the mixture to ris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ixture left in warm place covered by damp cloth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ving the mixture to ri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xture left in warm place covered by damp clo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6.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ving the dough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Yeast releases CO2 bubbles making dough ris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ving the doug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ast releases CO2 bubbles making dough ri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7.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aking brea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fter dough rises a couple of hours in a warm place, it's ready to go into the oven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re, heat causes pockets of gas in the dough to expand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king br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ter dough rises a couple of hours in a warm place, it's ready to go into the ove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, heat causes pockets of gas in the dough to exp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Yeas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ingle celled microorganis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ype of fungu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ist on all living matte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6 chromosom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undreds of different species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gle celled microorgan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ype of fung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ist on all living ma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 chromoso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ndreds of different specie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d you know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e may not look much like yeast or they like us, but many of the 6,000 genes in yeast have counterparts in humans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d you know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may not look much like yeast or they like us, but many of the 6,000 genes in yeast have counterparts in humans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Looking at Yeas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ooking at Y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Yeast as a Living Organis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s a living organism, just like us, yeast needs the following to survive and flourish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sugar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wate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-warmth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spiration is the process by which a living organism releases energy from its foo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east as a Living Organis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 living organism, just like us, yeast needs the following to survive and flourish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sug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warm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piration is the process by which a living organism releases energy from its f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o you remember the difference between aerobic and anaerobic respiration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you remember the difference between aerobic and anaerobic respira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erobic Respira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umans produce energy through aerobic respira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 aerobic respiration glucose reacts with oxygen in the mitochondria of the cells to release energy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arbon dioxide and water are by-products of the reaction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erobic Respi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umans produce energy through aerobic respi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aerobic respiration glucose reacts with oxygen in the mitochondria of the cells to release energ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bon dioxide and water are by-products of the reac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Aerobic Respiratio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Glucose + oxygen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arbon dioxide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+ water 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+ energ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erobic Respi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lucose + oxygen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rbon dioxi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 water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+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98E76-0F17-441E-9FF1-AF73AE84E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64B99-B537-43CC-92B0-49E1D6F90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4F90B-9E54-4C9E-A8D7-B604F9067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9459D-F211-484F-B7D6-239565A07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94D2C-4718-4637-97D3-A3E1442F3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79347-1AA3-4BC3-9FFE-750E4DB52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DE27D-325E-4539-BC34-EF60115ED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08F99-821E-406C-BEDD-A29087E9C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054E0-CC9B-4F57-91B8-5AB258D87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44B6D-B6FA-491A-8C01-983F8EB52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82AF5-F79F-4746-831E-BCE679042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0873B-141F-4603-BD95-65F4C8348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C4B48-CEA7-494A-8395-2484F9DAF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FA8A7-1170-479B-A296-6AFC7B32E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086C6-6800-4563-A994-5AD7091B7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77FC1-9001-418A-9934-846B69C4E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10E99-BEED-412A-B77A-BA52D3A0FC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36725-BFB5-4A64-AA8D-7807BF32F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D6992-B044-4343-9232-B0B3A7CA1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74FF6-670E-494F-A976-EB522E8BE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DFB7D-38E4-4860-9014-E1E7B9D50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8898A-610A-4278-9F36-8E05C83FA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934FD-5FF5-465D-8E2C-547C03555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A63D4-6B4E-4FCA-AD61-BAF46B048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0F20A-5CD9-4768-B6CD-C5178CDDE89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EE097-D739-475D-A1C7-37DA6CD2B10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cc"/>
                </a:solidFill>
                <a:latin typeface="Tahoma"/>
              </a:rPr>
              <a:t>Living Factories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Unit 7 - Biotechnolog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cc"/>
                </a:solidFill>
                <a:uFillTx/>
                <a:latin typeface="Tahoma"/>
              </a:rPr>
              <a:t>Anaerobic Respira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aerobic respiration occurs when oxygen is not available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anaerobic respiration the glucose is only partially broken down, and lactic acid is produc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cc"/>
                </a:solidFill>
                <a:uFillTx/>
                <a:latin typeface="Tahoma"/>
              </a:rPr>
              <a:t>Fermenta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iving yeast cells in the absence of oxygen are still able to use sugar as their source of food to make energ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s is known as ferment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this case ethanol (alcohol) is produced instead of lactic acid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cc"/>
                </a:solidFill>
                <a:uFillTx/>
                <a:latin typeface="Tahoma"/>
              </a:rPr>
              <a:t>Anaerobic Respiration</a:t>
            </a:r>
            <a:br>
              <a:rPr sz="4000"/>
            </a:br>
            <a:r>
              <a:rPr b="1" lang="en-US" sz="4000" spc="-1" strike="noStrike" u="sng">
                <a:solidFill>
                  <a:srgbClr val="ffffcc"/>
                </a:solidFill>
                <a:uFillTx/>
                <a:latin typeface="Tahoma"/>
              </a:rPr>
              <a:t>(Fermentation)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lucose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rbon dioxid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+ ethanol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+ energ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Line 4"/>
          <p:cNvSpPr/>
          <p:nvPr/>
        </p:nvSpPr>
        <p:spPr>
          <a:xfrm>
            <a:off x="2124000" y="3716280"/>
            <a:ext cx="2879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cc"/>
                </a:solidFill>
                <a:uFillTx/>
                <a:latin typeface="Tahoma"/>
              </a:rPr>
              <a:t>Aerobic Vs. Anaerobic Respiration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erobi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oxygen always requir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efficient method of respir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sugar completely broken down to carbon dioxide and wat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cc"/>
                </a:solidFill>
                <a:uFillTx/>
                <a:latin typeface="Tahoma"/>
              </a:rPr>
              <a:t>Aerobic Vs. Anaerobic Respiration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aerobi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oxygen never requir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inefficient method of respir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releases a small amount of energ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much of the energy remains locked up in the molecules of the end product (e.g. the alcohol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cc"/>
                </a:solidFill>
                <a:uFillTx/>
                <a:latin typeface="Tahoma"/>
              </a:rPr>
              <a:t>Quick Quiz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10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1000"/>
          </a:bodyPr>
          <a:p>
            <a:pPr marL="1404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1404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140400" indent="-14040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n you sort out the following statements into aerobic or anaerobic respiration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1404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140400" indent="-140400">
              <a:lnSpc>
                <a:spcPct val="8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Just fill them into your table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4"/>
          <p:cNvSpPr/>
          <p:nvPr/>
        </p:nvSpPr>
        <p:spPr>
          <a:xfrm>
            <a:off x="179280" y="260280"/>
            <a:ext cx="5977080" cy="12366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Glucose + oxygen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carbon dioxide 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+ water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+ energy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Line 5"/>
          <p:cNvSpPr/>
          <p:nvPr/>
        </p:nvSpPr>
        <p:spPr>
          <a:xfrm>
            <a:off x="2916360" y="549360"/>
            <a:ext cx="863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Text Box 6"/>
          <p:cNvSpPr/>
          <p:nvPr/>
        </p:nvSpPr>
        <p:spPr>
          <a:xfrm>
            <a:off x="2843280" y="4149720"/>
            <a:ext cx="5184720" cy="12366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Glucose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carbon dioxide 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+ ethanol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+ energy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Line 7"/>
          <p:cNvSpPr/>
          <p:nvPr/>
        </p:nvSpPr>
        <p:spPr>
          <a:xfrm>
            <a:off x="4211640" y="4437000"/>
            <a:ext cx="12970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Text Box 8"/>
          <p:cNvSpPr/>
          <p:nvPr/>
        </p:nvSpPr>
        <p:spPr>
          <a:xfrm>
            <a:off x="3564000" y="5641920"/>
            <a:ext cx="1584360" cy="119124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xygen never requir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Text Box 9"/>
          <p:cNvSpPr/>
          <p:nvPr/>
        </p:nvSpPr>
        <p:spPr>
          <a:xfrm>
            <a:off x="395280" y="5373720"/>
            <a:ext cx="1584360" cy="119124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xygen always require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Text Box 10"/>
          <p:cNvSpPr/>
          <p:nvPr/>
        </p:nvSpPr>
        <p:spPr>
          <a:xfrm>
            <a:off x="3276720" y="1700280"/>
            <a:ext cx="2736720" cy="82548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efficient method of respir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Text Box 11"/>
          <p:cNvSpPr/>
          <p:nvPr/>
        </p:nvSpPr>
        <p:spPr>
          <a:xfrm>
            <a:off x="6156360" y="5661000"/>
            <a:ext cx="2736720" cy="82548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fficient method of respir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Text Box 12"/>
          <p:cNvSpPr/>
          <p:nvPr/>
        </p:nvSpPr>
        <p:spPr>
          <a:xfrm>
            <a:off x="3708360" y="2708280"/>
            <a:ext cx="3960720" cy="12366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Sugar completely broken down to carbon dioxide and water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Text Box 13"/>
          <p:cNvSpPr/>
          <p:nvPr/>
        </p:nvSpPr>
        <p:spPr>
          <a:xfrm>
            <a:off x="0" y="4005360"/>
            <a:ext cx="2303640" cy="119124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ly releases a small amount of energ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Text Box 14"/>
          <p:cNvSpPr/>
          <p:nvPr/>
        </p:nvSpPr>
        <p:spPr>
          <a:xfrm>
            <a:off x="6335640" y="765000"/>
            <a:ext cx="2808360" cy="119124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lucose reacts in the mitochondra of cell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Text Box 15"/>
          <p:cNvSpPr/>
          <p:nvPr/>
        </p:nvSpPr>
        <p:spPr>
          <a:xfrm>
            <a:off x="179280" y="1628640"/>
            <a:ext cx="2808360" cy="199836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Much of the energy remains locked up in the molecules of the end product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6" descr="The finished batch of bread.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612648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755640" y="2636640"/>
            <a:ext cx="7772400" cy="1469880"/>
          </a:xfrm>
          <a:prstGeom prst="rect">
            <a:avLst/>
          </a:prstGeom>
          <a:noFill/>
          <a:ln w="50760">
            <a:solidFill>
              <a:srgbClr val="ffffff"/>
            </a:solidFill>
            <a:miter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ffcc"/>
                </a:solidFill>
                <a:latin typeface="Tahoma"/>
              </a:rPr>
              <a:t>Breadmaking</a:t>
            </a:r>
            <a:endParaRPr b="0" lang="en-US" sz="9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0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cc"/>
                </a:solidFill>
                <a:uFillTx/>
                <a:latin typeface="Tahoma"/>
              </a:rPr>
              <a:t>Bread Basics!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akers use two simple facts of life to create soft, spongy, moist bread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irst, they use the fact that yeast (a single-cell fungi) will eat sugar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from the sugar yeast creates alcohol and carbon dioxide gas as waste product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the carbon dioxide gas created by yeast is what gives bread its airy texture, and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the alcohol, which burns off during baking, leaves behind an important component of bread's flavor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cc"/>
                </a:solidFill>
                <a:uFillTx/>
                <a:latin typeface="Tahoma"/>
              </a:rPr>
              <a:t>Bread Basics!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-591120">
              <a:spcBef>
                <a:spcPts val="799"/>
              </a:spcBef>
              <a:buClr>
                <a:srgbClr val="ffcc66"/>
              </a:buClr>
              <a:buSzPct val="80000"/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, wheat flour, if mixed with water and kneaded, becomes very elastic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1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the flour-and-water mixture in bread becomes stretchy like a balloon because of a protein in wheat known as gluten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91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gluten gives bread dough the ability to capture the carbon dioxide produced by yeast in tiny flour balloons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4" descr="Budding yeast cells"/>
          <p:cNvPicPr/>
          <p:nvPr/>
        </p:nvPicPr>
        <p:blipFill>
          <a:blip r:embed="rId1"/>
          <a:srcRect l="0" t="0" r="0" b="11695"/>
          <a:stretch/>
        </p:blipFill>
        <p:spPr>
          <a:xfrm>
            <a:off x="324000" y="1557360"/>
            <a:ext cx="3887640" cy="38718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Scientists are using yeast as a model organism to study how genes and proteins interact in the living cell "/>
          <p:cNvPicPr/>
          <p:nvPr/>
        </p:nvPicPr>
        <p:blipFill>
          <a:blip r:embed="rId2"/>
          <a:srcRect l="0" t="0" r="0" b="28109"/>
          <a:stretch/>
        </p:blipFill>
        <p:spPr>
          <a:xfrm>
            <a:off x="4427640" y="1844640"/>
            <a:ext cx="4227480" cy="335772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cc"/>
                </a:solidFill>
                <a:latin typeface="Tahoma"/>
              </a:rPr>
              <a:t>Saccharomyces cerevisiae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1763640" y="5589720"/>
            <a:ext cx="568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YEAST!!!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 u="sng">
                <a:solidFill>
                  <a:srgbClr val="ffffcc"/>
                </a:solidFill>
                <a:uFillTx/>
                <a:latin typeface="Tahoma"/>
              </a:rPr>
              <a:t>Glute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ahoma"/>
              </a:rPr>
              <a:t>http://www.exploratorium.edu/cooking/bread/bread_science.htm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cc"/>
                </a:solidFill>
                <a:uFillTx/>
                <a:latin typeface="Tahoma"/>
              </a:rPr>
              <a:t>How to make bread…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70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22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You will need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22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22720" indent="-522720">
              <a:spcBef>
                <a:spcPts val="6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lour with added salt and lard rubbed in to make doug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22720" indent="-522720">
              <a:spcBef>
                <a:spcPts val="6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Yeast added to warm sugar solution and allowed to grow to produce bubb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522720" indent="-522720">
              <a:spcBef>
                <a:spcPts val="60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ix the yeast and the flour together in a bow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2" name="Picture 6" descr="The Dough"/>
          <p:cNvPicPr/>
          <p:nvPr/>
        </p:nvPicPr>
        <p:blipFill>
          <a:blip r:embed="rId1"/>
          <a:stretch/>
        </p:blipFill>
        <p:spPr>
          <a:xfrm>
            <a:off x="4572000" y="1989000"/>
            <a:ext cx="4389480" cy="3292560"/>
          </a:xfrm>
          <a:prstGeom prst="rect">
            <a:avLst/>
          </a:prstGeom>
          <a:ln w="0">
            <a:noFill/>
          </a:ln>
        </p:spPr>
      </p:pic>
      <p:sp>
        <p:nvSpPr>
          <p:cNvPr id="173" name="Місце для нижнього колонтитула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cc"/>
                </a:solidFill>
                <a:uFillTx/>
                <a:latin typeface="Tahoma"/>
              </a:rPr>
              <a:t>4.</a:t>
            </a:r>
            <a:r>
              <a:rPr b="1" lang="en-US" sz="4400" spc="-1" strike="noStrike" u="sng">
                <a:solidFill>
                  <a:srgbClr val="ffffcc"/>
                </a:solidFill>
                <a:uFillTx/>
                <a:latin typeface="Tahoma"/>
              </a:rPr>
              <a:t>	</a:t>
            </a:r>
            <a:r>
              <a:rPr b="1" lang="en-US" sz="4400" spc="-1" strike="noStrike" u="sng">
                <a:solidFill>
                  <a:srgbClr val="ffffcc"/>
                </a:solidFill>
                <a:uFillTx/>
                <a:latin typeface="Tahoma"/>
              </a:rPr>
              <a:t>Kneading the dough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75" name="Picture 5" descr="Sarah Kneeding the Dough"/>
          <p:cNvPicPr/>
          <p:nvPr/>
        </p:nvPicPr>
        <p:blipFill>
          <a:blip r:embed="rId1"/>
          <a:stretch/>
        </p:blipFill>
        <p:spPr>
          <a:xfrm>
            <a:off x="900000" y="1341360"/>
            <a:ext cx="7272360" cy="5229360"/>
          </a:xfrm>
          <a:prstGeom prst="rect">
            <a:avLst/>
          </a:prstGeom>
          <a:ln w="0">
            <a:noFill/>
          </a:ln>
        </p:spPr>
      </p:pic>
      <p:sp>
        <p:nvSpPr>
          <p:cNvPr id="17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ffcc"/>
                </a:solidFill>
                <a:uFillTx/>
                <a:latin typeface="Tahoma"/>
              </a:rPr>
              <a:t>5.</a:t>
            </a:r>
            <a:r>
              <a:rPr b="1" lang="en-US" sz="4000" spc="-1" strike="noStrike" u="sng">
                <a:solidFill>
                  <a:srgbClr val="ffffcc"/>
                </a:solidFill>
                <a:uFillTx/>
                <a:latin typeface="Tahoma"/>
              </a:rPr>
              <a:t>	</a:t>
            </a:r>
            <a:r>
              <a:rPr b="1" lang="en-US" sz="4000" spc="-1" strike="noStrike" u="sng">
                <a:solidFill>
                  <a:srgbClr val="ffffcc"/>
                </a:solidFill>
                <a:uFillTx/>
                <a:latin typeface="Tahoma"/>
              </a:rPr>
              <a:t>Leaving the mixture to rise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78" name="Picture 4" descr="The Dough Rising"/>
          <p:cNvPicPr/>
          <p:nvPr/>
        </p:nvPicPr>
        <p:blipFill>
          <a:blip r:embed="rId1"/>
          <a:stretch/>
        </p:blipFill>
        <p:spPr>
          <a:xfrm>
            <a:off x="1619280" y="1413000"/>
            <a:ext cx="6127560" cy="460692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5"/>
          <p:cNvSpPr/>
          <p:nvPr/>
        </p:nvSpPr>
        <p:spPr>
          <a:xfrm>
            <a:off x="1258920" y="6093000"/>
            <a:ext cx="69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xture left in warm place covered by damp cloth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cc"/>
                </a:solidFill>
                <a:uFillTx/>
                <a:latin typeface="Tahoma"/>
              </a:rPr>
              <a:t>6.</a:t>
            </a:r>
            <a:r>
              <a:rPr b="1" lang="en-US" sz="4400" spc="-1" strike="noStrike" u="sng">
                <a:solidFill>
                  <a:srgbClr val="ffffcc"/>
                </a:solidFill>
                <a:uFillTx/>
                <a:latin typeface="Tahoma"/>
              </a:rPr>
              <a:t>	</a:t>
            </a:r>
            <a:r>
              <a:rPr b="1" lang="en-US" sz="4400" spc="-1" strike="noStrike" u="sng">
                <a:solidFill>
                  <a:srgbClr val="ffffcc"/>
                </a:solidFill>
                <a:uFillTx/>
                <a:latin typeface="Tahoma"/>
              </a:rPr>
              <a:t>Proving the dough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68000" y="5876640"/>
            <a:ext cx="8675640" cy="98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Yeast releases CO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ahoma"/>
              </a:rPr>
              <a:t>2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ubbles making dough ris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3" name="Picture 4" descr="The Dough having Risen"/>
          <p:cNvPicPr/>
          <p:nvPr/>
        </p:nvPicPr>
        <p:blipFill>
          <a:blip r:embed="rId1"/>
          <a:stretch/>
        </p:blipFill>
        <p:spPr>
          <a:xfrm>
            <a:off x="1619280" y="1341360"/>
            <a:ext cx="6192720" cy="4478400"/>
          </a:xfrm>
          <a:prstGeom prst="rect">
            <a:avLst/>
          </a:prstGeom>
          <a:ln w="0">
            <a:noFill/>
          </a:ln>
        </p:spPr>
      </p:pic>
      <p:sp>
        <p:nvSpPr>
          <p:cNvPr id="1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cc"/>
                </a:solidFill>
                <a:uFillTx/>
                <a:latin typeface="Tahoma"/>
              </a:rPr>
              <a:t>7.</a:t>
            </a:r>
            <a:r>
              <a:rPr b="1" lang="en-US" sz="4400" spc="-1" strike="noStrike" u="sng">
                <a:solidFill>
                  <a:srgbClr val="ffffcc"/>
                </a:solidFill>
                <a:uFillTx/>
                <a:latin typeface="Tahoma"/>
              </a:rPr>
              <a:t>	</a:t>
            </a:r>
            <a:r>
              <a:rPr b="1" lang="en-US" sz="4400" spc="-1" strike="noStrike" u="sng">
                <a:solidFill>
                  <a:srgbClr val="ffffcc"/>
                </a:solidFill>
                <a:uFillTx/>
                <a:latin typeface="Tahoma"/>
              </a:rPr>
              <a:t>Baking bread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68360" y="5229360"/>
            <a:ext cx="8075520" cy="125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fter dough rises a couple of hours in a warm place, it's ready to go into the oven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ere, heat causes pockets of gas in the dough to expand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7" name="Picture 4" descr="The Baked Bread"/>
          <p:cNvPicPr/>
          <p:nvPr/>
        </p:nvPicPr>
        <p:blipFill>
          <a:blip r:embed="rId1"/>
          <a:stretch/>
        </p:blipFill>
        <p:spPr>
          <a:xfrm>
            <a:off x="1908000" y="1484280"/>
            <a:ext cx="4897440" cy="3681360"/>
          </a:xfrm>
          <a:prstGeom prst="rect">
            <a:avLst/>
          </a:prstGeom>
          <a:ln w="0">
            <a:noFill/>
          </a:ln>
        </p:spPr>
      </p:pic>
      <p:sp>
        <p:nvSpPr>
          <p:cNvPr id="1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cc"/>
                </a:solidFill>
                <a:uFillTx/>
                <a:latin typeface="Tahoma"/>
              </a:rPr>
              <a:t>Yeas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1878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ngle celled microorganis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ype of fungu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ist on all living matt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6 chromoso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undreds of different species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Picture 4" descr="yeast_cell_final_resample"/>
          <p:cNvPicPr/>
          <p:nvPr/>
        </p:nvPicPr>
        <p:blipFill>
          <a:blip r:embed="rId1"/>
          <a:stretch/>
        </p:blipFill>
        <p:spPr>
          <a:xfrm>
            <a:off x="4629240" y="1484280"/>
            <a:ext cx="4295520" cy="5046840"/>
          </a:xfrm>
          <a:prstGeom prst="rect">
            <a:avLst/>
          </a:prstGeom>
          <a:ln w="0">
            <a:noFill/>
          </a:ln>
        </p:spPr>
      </p:pic>
      <p:sp>
        <p:nvSpPr>
          <p:cNvPr id="10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cc"/>
                </a:solidFill>
                <a:uFillTx/>
                <a:latin typeface="Tahoma"/>
              </a:rPr>
              <a:t>Did you know?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e may not look much like yeast or they like us, but many of the 6,000 genes in yeast have counterparts in humans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9" name="Picture 4" descr="Fig4pombeEM"/>
          <p:cNvPicPr/>
          <p:nvPr/>
        </p:nvPicPr>
        <p:blipFill>
          <a:blip r:embed="rId1"/>
          <a:stretch/>
        </p:blipFill>
        <p:spPr>
          <a:xfrm>
            <a:off x="2124000" y="3357720"/>
            <a:ext cx="4562640" cy="3111480"/>
          </a:xfrm>
          <a:prstGeom prst="rect">
            <a:avLst/>
          </a:prstGeom>
          <a:ln w="0">
            <a:noFill/>
          </a:ln>
        </p:spPr>
      </p:pic>
      <p:sp>
        <p:nvSpPr>
          <p:cNvPr id="1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4" descr="04%20yeast%20cells"/>
          <p:cNvPicPr/>
          <p:nvPr/>
        </p:nvPicPr>
        <p:blipFill>
          <a:blip r:embed="rId1"/>
          <a:stretch/>
        </p:blipFill>
        <p:spPr>
          <a:xfrm>
            <a:off x="2050920" y="1413000"/>
            <a:ext cx="5088240" cy="522900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5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cc"/>
                </a:solidFill>
                <a:uFillTx/>
                <a:latin typeface="Tahoma"/>
              </a:rPr>
              <a:t>Looking at Yeas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cc"/>
                </a:solidFill>
                <a:uFillTx/>
                <a:latin typeface="Tahoma"/>
              </a:rPr>
              <a:t>Yeast as a Living Organism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s a living organism, just like us, yeast needs the following to survive and flourish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suga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wat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warmt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spiration is the process by which a living organism releases energy from its f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95280" y="278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Tahoma"/>
              </a:rPr>
              <a:t>Do you remember the difference between aerobic and anaerobic respiration?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cc"/>
                </a:solidFill>
                <a:uFillTx/>
                <a:latin typeface="Tahoma"/>
              </a:rPr>
              <a:t>Aerobic Respira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umans produce energy through aerobic respir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aerobic respiration glucose reacts with oxygen in the mitochondria of the cells to release energy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rbon dioxide and water are by-products of the reaction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cc"/>
                </a:solidFill>
                <a:uFillTx/>
                <a:latin typeface="Tahoma"/>
              </a:rPr>
              <a:t>Aerobic Respiration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lucose + oxygen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rbon dioxid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+ water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+ energ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Line 4"/>
          <p:cNvSpPr/>
          <p:nvPr/>
        </p:nvSpPr>
        <p:spPr>
          <a:xfrm>
            <a:off x="3851280" y="3068640"/>
            <a:ext cx="10810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2T11:59:18Z</dcterms:created>
  <dc:creator>Hina</dc:creator>
  <dc:description/>
  <dc:language>en-US</dc:language>
  <cp:lastModifiedBy>LEGION2</cp:lastModifiedBy>
  <dcterms:modified xsi:type="dcterms:W3CDTF">2016-01-13T09:07:26Z</dcterms:modified>
  <cp:revision>21</cp:revision>
  <dc:subject/>
  <dc:title>Living Factories</dc:title>
</cp:coreProperties>
</file>