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A93B-C971-4273-9F4D-9290967D1E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LOG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d. -X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Pl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eaf Base2. Petiole3. 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attached to the stem or branch is called- Leaf base. It protects a Bud in it’s ax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mode of arrangement / distribution of leaves on stem or it’s bran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lotxy ensures that leaves may receive maximum sunlight for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ch case two leaves are present at each node, standing opposite to each other. It is of  two subtypes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Decus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at right angle to each other. Eg. Ocimum, Calotrop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of the Leaf structure &amp; Phyllotaxy  in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osite Super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pairs of leaves at each successive node are placed over each other in same plane. Eg.Eugenia,Quisquali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rled Phyllot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type more than two leaves are present at each node, forming a whorl. Ex. Oleander, Alstonia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reness  about the structure of a typical leaf &amp; the types of Phyllotaxy in plants for their mode of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&amp;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-4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 awareness about th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ypical leaf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Essentiality of various leaf parts in a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Familiarity about  Phyllotaxy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definition of lea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What do you call the structure by which leaf is attached at pl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Give the technical term for the mode of arrangement of leaves on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 How many types of arrangement of leaves in plants are the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439-69F9-49D6-B048-C4AD5A82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FC4-2E2A-4399-BF07-B7A48C19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39E7-3511-485E-8255-03E6E774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3556-CB4E-492A-A28E-82D2422D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B49B-48AD-4F89-B95D-DCDDCEB9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EA81-51D4-48CA-ABE4-CB60DE25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5999-BB42-4898-AE63-F7E1C705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5193-E71A-4A59-B8F0-0ADC74F0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5FE3-C04D-4077-A6EB-82838EEB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B72B-EF9F-475F-80AC-3CF04D5B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A973-ADA1-4630-9801-F4A4337A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20F-F82E-4BE7-AA1C-7A8DBBB3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C83F-01A6-4BE4-99BB-F8DDF0C7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2696-F4F4-46D6-8061-494E109F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ACD7-77CC-4466-90DA-49FE1B05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B851-1F44-43A1-A321-32CE45A2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C976-132B-416E-B413-1193817F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215-8A33-42ED-9F0F-2A550A46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628-CAFC-457C-8EA7-2FEA28E0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98B-552E-49E5-A47D-00F006E2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518-A16B-4F6A-BDF7-704763C7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8D92-E686-4C65-9C2D-37B78AB9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230D-6D7E-4738-B1C2-07F1D880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211-8D90-4402-9400-4EC5CDC4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74A9-C9B3-4E37-9094-463D7682D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87E2-9679-4F1B-95E1-AAB5EEC2C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hy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otany.org/plantimages/ImageData.asp?IDN=02-048h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botany.org/plantimages/ImageData.asp?IDN=02-063h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.in/imgres?imgurl=http://jacksonlab.cshl.edu/images/4.jpg&amp;imgrefurl=http://jacksonlab.cshl.edu/five.html&amp;h=2976&amp;w=2048&amp;sz=749&amp;tbnid=37grdxtnlqgJ:&amp;tbnh=149&amp;tbnw=103&amp;start=5&amp;prev=/images%3Fq%3Dphyllotaxy%26hl%3Den%26lr%3D%26ie%3DUTF-8%26sa%3D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.in/imgres?imgurl=http://www.ct-botanical-society.org/images/phyllotaxy2.gif&amp;imgrefurl=http://www.ct-botanical-society.org/newsletter/phyllotaxy.html&amp;h=300&amp;w=96&amp;sz=7&amp;tbnid=SjMyymQRlhAJ:&amp;tbnh=109&amp;tbnw=35&amp;start=29&amp;prev=/images%3Fq%3Dphyllotaxy%26start%3D20%26hl%3Den%26lr%3D%26ie%3DUTF-8%26sa%3DN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co.in/imgres?imgurl=http://www.ct-botanical-society.org/images/phyllotaxy3.gif&amp;imgrefurl=http://www.ct-botanical-society.org/newsletter/phyllotaxy.html&amp;h=332&amp;w=96&amp;sz=8&amp;tbnid=dhFH0YCxzt8J:&amp;tbnh=114&amp;tbnw=33&amp;start=30&amp;prev=/images%3Fq%3Dphyllotaxy%26start%3D20%26hl%3Den%26lr%3D%26ie%3DUTF-8%26sa%3DN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sci.plu.edu/~jmain/b340web/pages/popposit.htm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../../../Program%20Files/Bhartiyavidya/Bhartiyavidya.exe" TargetMode="External"/><Relationship Id="rId2" Type="http://schemas.openxmlformats.org/officeDocument/2006/relationships/hyperlink" Target="file:///../../../../../Program%20Files/Bhartiyavidya/Bhartiyavidya.exe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Lesson Plan</a:t>
            </a:r>
            <a:br>
              <a:rPr sz="5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BIOLOGY</a:t>
            </a:r>
            <a:br>
              <a:rPr sz="4400"/>
            </a:b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Std. -X</a:t>
            </a:r>
            <a:r>
              <a:rPr b="0" i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I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lfwhorl"/>
          <p:cNvPicPr/>
          <p:nvPr/>
        </p:nvPicPr>
        <p:blipFill>
          <a:blip r:embed="rId1"/>
          <a:stretch/>
        </p:blipFill>
        <p:spPr>
          <a:xfrm>
            <a:off x="457200" y="457200"/>
            <a:ext cx="1600200" cy="2200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foppo"/>
          <p:cNvPicPr/>
          <p:nvPr/>
        </p:nvPicPr>
        <p:blipFill>
          <a:blip r:embed="rId2"/>
          <a:stretch/>
        </p:blipFill>
        <p:spPr>
          <a:xfrm>
            <a:off x="7086600" y="4343400"/>
            <a:ext cx="1523880" cy="211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aleaves"/>
          <p:cNvPicPr/>
          <p:nvPr/>
        </p:nvPicPr>
        <p:blipFill>
          <a:blip r:embed="rId3"/>
          <a:stretch/>
        </p:blipFill>
        <p:spPr>
          <a:xfrm>
            <a:off x="533520" y="5257800"/>
            <a:ext cx="5876640" cy="1057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685800"/>
          <a:ext cx="9067680" cy="5445000"/>
        </p:xfrm>
        <a:graphic>
          <a:graphicData uri="http://schemas.openxmlformats.org/drawingml/2006/table">
            <a:tbl>
              <a:tblPr/>
              <a:tblGrid>
                <a:gridCol w="3130560"/>
                <a:gridCol w="1123920"/>
                <a:gridCol w="1967040"/>
                <a:gridCol w="1550880"/>
                <a:gridCol w="1295280"/>
              </a:tblGrid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 El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chni-c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 Collect some more 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identify their venation, from y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ighboring area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 Categories different plant as monoc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&amp; dicot on the basis of venation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. Find out that all the leaves have al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three parts or not. If not, note dow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missing par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Collection of leaves samp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990720" y="216720"/>
            <a:ext cx="739116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Definition of L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Leaf is the flattened outgrowth of Stem or a branch that develops at node &amp; has a bud in it’s axil. These are the dissimilar organs &amp; are meant primarily for Photosynthesis, Respiration &amp; Transpi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1" descr="http://www.cartage.org.lb/en/themes/Sciences/BotanicalSciences/PlantsStructure/PlantsStructure/plant.gif"/>
          <p:cNvPicPr/>
          <p:nvPr/>
        </p:nvPicPr>
        <p:blipFill>
          <a:blip r:embed="rId1"/>
          <a:stretch/>
        </p:blipFill>
        <p:spPr>
          <a:xfrm>
            <a:off x="685800" y="2971800"/>
            <a:ext cx="2610000" cy="3390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http://www.biologie.uni-hamburg.de/b-online/fo02/bl33a.jpg"/>
          <p:cNvPicPr/>
          <p:nvPr/>
        </p:nvPicPr>
        <p:blipFill>
          <a:blip r:embed="rId2"/>
          <a:stretch/>
        </p:blipFill>
        <p:spPr>
          <a:xfrm>
            <a:off x="4648320" y="2971800"/>
            <a:ext cx="2743200" cy="3429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1219320" y="4726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arts of the Lea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57200" y="1712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. Leaf Base2. Petiole3. Lam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bean_whole_morphology"/>
          <p:cNvPicPr/>
          <p:nvPr/>
        </p:nvPicPr>
        <p:blipFill>
          <a:blip r:embed="rId1"/>
          <a:stretch/>
        </p:blipFill>
        <p:spPr>
          <a:xfrm>
            <a:off x="2209680" y="2440080"/>
            <a:ext cx="4038840" cy="33512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1050840" y="6589800"/>
            <a:ext cx="49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11640" y="6019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1066680" y="4726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eaf 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09480" y="137124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part of leaf attached to the stem or branch is called- Leaf base. It protects a Bud in it’s ax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bl57a"/>
          <p:cNvPicPr/>
          <p:nvPr/>
        </p:nvPicPr>
        <p:blipFill>
          <a:blip r:embed="rId1"/>
          <a:stretch/>
        </p:blipFill>
        <p:spPr>
          <a:xfrm>
            <a:off x="914400" y="3044880"/>
            <a:ext cx="1670040" cy="2168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bl33"/>
          <p:cNvPicPr/>
          <p:nvPr/>
        </p:nvPicPr>
        <p:blipFill>
          <a:blip r:embed="rId2"/>
          <a:stretch/>
        </p:blipFill>
        <p:spPr>
          <a:xfrm>
            <a:off x="3352680" y="3044880"/>
            <a:ext cx="1981440" cy="2168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bl33a"/>
          <p:cNvPicPr/>
          <p:nvPr/>
        </p:nvPicPr>
        <p:blipFill>
          <a:blip r:embed="rId3"/>
          <a:stretch/>
        </p:blipFill>
        <p:spPr>
          <a:xfrm>
            <a:off x="6248520" y="3044880"/>
            <a:ext cx="1966680" cy="2168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faleaves"/>
          <p:cNvPicPr/>
          <p:nvPr/>
        </p:nvPicPr>
        <p:blipFill>
          <a:blip r:embed="rId4"/>
          <a:stretch/>
        </p:blipFill>
        <p:spPr>
          <a:xfrm>
            <a:off x="685800" y="5867280"/>
            <a:ext cx="7924680" cy="6620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609480" y="51696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eti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7200" y="13874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part of leaf that connects the lamina with stem, is called leaf petiole. Some time a leaf may not have a petiole, such leaves are called – Sessile otherwise the leaf is called Petiol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pet-2"/>
          <p:cNvPicPr/>
          <p:nvPr/>
        </p:nvPicPr>
        <p:blipFill>
          <a:blip r:embed="rId1"/>
          <a:stretch/>
        </p:blipFill>
        <p:spPr>
          <a:xfrm>
            <a:off x="2590920" y="3051000"/>
            <a:ext cx="2965320" cy="28530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1295280" y="32004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Lam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228600" y="1214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flat, expended &amp; broad part of leaf with framework of veins &amp; veinlets. The lamina is the most important part of the leaf as it is the seat of food manufacturing in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Click on Image for JPG rendi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82800" y="2665440"/>
            <a:ext cx="2003400" cy="2671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Click on Image for JPG rendi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2665440"/>
            <a:ext cx="2209680" cy="26715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1600200" y="2134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304920" y="143136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t is the mode of arrangement / distribution of leaves on stem or it’s bran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hyllotxy ensures that leaves may receive maximum sunlight for photosynth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Organization Chart 8"/>
          <p:cNvGrpSpPr/>
          <p:nvPr/>
        </p:nvGrpSpPr>
        <p:grpSpPr>
          <a:xfrm>
            <a:off x="2477880" y="3708720"/>
            <a:ext cx="4037040" cy="1130040"/>
            <a:chOff x="2477880" y="3708720"/>
            <a:chExt cx="4037040" cy="1130040"/>
          </a:xfrm>
        </p:grpSpPr>
        <p:cxnSp>
          <p:nvCxnSpPr>
            <p:cNvPr id="193" name="_s1028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100120" y="3548520"/>
              <a:ext cx="228960" cy="143856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6" name="_s1029"/>
            <p:cNvCxnSpPr>
              <a:stCxn id="197" idx="0"/>
              <a:endCxn id="195" idx="2"/>
            </p:cNvCxnSpPr>
            <p:nvPr/>
          </p:nvCxnSpPr>
          <p:spPr>
            <a:xfrm flipV="1" rot="16200000">
              <a:off x="4381920" y="4266720"/>
              <a:ext cx="228960" cy="25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8" name="_s1030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3663720" y="3550320"/>
              <a:ext cx="228960" cy="14353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5" name="_s1031"/>
            <p:cNvSpPr/>
            <p:nvPr/>
          </p:nvSpPr>
          <p:spPr>
            <a:xfrm>
              <a:off x="3766320" y="3708720"/>
              <a:ext cx="1460160" cy="44496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Arial"/>
                </a:rPr>
                <a:t>Phyllotaxy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032"/>
            <p:cNvSpPr/>
            <p:nvPr/>
          </p:nvSpPr>
          <p:spPr>
            <a:xfrm>
              <a:off x="247788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Alterna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033"/>
            <p:cNvSpPr/>
            <p:nvPr/>
          </p:nvSpPr>
          <p:spPr>
            <a:xfrm>
              <a:off x="391464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Opposit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034"/>
            <p:cNvSpPr/>
            <p:nvPr/>
          </p:nvSpPr>
          <p:spPr>
            <a:xfrm>
              <a:off x="5351760" y="4382640"/>
              <a:ext cx="1163160" cy="456120"/>
            </a:xfrm>
            <a:prstGeom prst="roundRect">
              <a:avLst>
                <a:gd name="adj" fmla="val 16667"/>
              </a:avLst>
            </a:prstGeom>
            <a:solidFill>
              <a:srgbClr val="5089a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ff"/>
                  </a:solidFill>
                  <a:latin typeface="Arial"/>
                </a:rPr>
                <a:t>Whorle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0" name="Picture 1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19760" cy="662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838080" y="32004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Alternate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838080" y="14932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such case only one leaf is attached at each node. The leaves are so arranged that a line drawn on the stem through the leaf bases will take a spiral course. Ex. Hibiscus, Brassic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" descr="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508200"/>
            <a:ext cx="1677960" cy="2435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phyllotax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2680" y="3430440"/>
            <a:ext cx="1357560" cy="2513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phyllotaxy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3505320"/>
            <a:ext cx="1295640" cy="221112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533520" y="869760"/>
            <a:ext cx="800100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Opposite Phyllotax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such case two leaves are present at each node, standing opposite to each other. It is of  two subtypes 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decuss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pposite super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faleaves"/>
          <p:cNvPicPr/>
          <p:nvPr/>
        </p:nvPicPr>
        <p:blipFill>
          <a:blip r:embed="rId1"/>
          <a:stretch/>
        </p:blipFill>
        <p:spPr>
          <a:xfrm>
            <a:off x="838080" y="5410080"/>
            <a:ext cx="7696440" cy="67464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1828800" y="244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posite Decuss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33520" y="138744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at right angle to each other. Eg. Ocimum, Calotrop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340i1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973240"/>
            <a:ext cx="3017880" cy="2314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faleaves"/>
          <p:cNvPicPr/>
          <p:nvPr/>
        </p:nvPicPr>
        <p:blipFill>
          <a:blip r:embed="rId3"/>
          <a:stretch/>
        </p:blipFill>
        <p:spPr>
          <a:xfrm>
            <a:off x="914400" y="5562720"/>
            <a:ext cx="7467480" cy="6620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752480" y="1849320"/>
            <a:ext cx="6629400" cy="26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oncep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Study of the Leaf structure &amp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Phyllotaxy  in pl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faleaves"/>
          <p:cNvPicPr/>
          <p:nvPr/>
        </p:nvPicPr>
        <p:blipFill>
          <a:blip r:embed="rId1"/>
          <a:stretch/>
        </p:blipFill>
        <p:spPr>
          <a:xfrm>
            <a:off x="838080" y="5952960"/>
            <a:ext cx="7620120" cy="905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1905120" y="4726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Oposite Superpo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09480" y="16765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ere pairs of leaves at each successive node are placed over each other in same plane. Eg.Eugenia,Quisquali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lfoppo"/>
          <p:cNvPicPr/>
          <p:nvPr/>
        </p:nvPicPr>
        <p:blipFill>
          <a:blip r:embed="rId1"/>
          <a:stretch/>
        </p:blipFill>
        <p:spPr>
          <a:xfrm>
            <a:off x="3046320" y="3430440"/>
            <a:ext cx="2362320" cy="1989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faleaves"/>
          <p:cNvPicPr/>
          <p:nvPr/>
        </p:nvPicPr>
        <p:blipFill>
          <a:blip r:embed="rId2"/>
          <a:stretch/>
        </p:blipFill>
        <p:spPr>
          <a:xfrm>
            <a:off x="762120" y="5791320"/>
            <a:ext cx="7162560" cy="6620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2133720" y="472680"/>
            <a:ext cx="49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Whorled Phyllota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80880" y="159984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this type more than two leaves are present at each node, forming a whorl. Ex. Oleander, Alstonia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alternate_branch"/>
          <p:cNvPicPr/>
          <p:nvPr/>
        </p:nvPicPr>
        <p:blipFill>
          <a:blip r:embed="rId1"/>
          <a:stretch/>
        </p:blipFill>
        <p:spPr>
          <a:xfrm>
            <a:off x="1373040" y="3044880"/>
            <a:ext cx="2087640" cy="2779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lfwhorl"/>
          <p:cNvPicPr/>
          <p:nvPr/>
        </p:nvPicPr>
        <p:blipFill>
          <a:blip r:embed="rId2"/>
          <a:stretch/>
        </p:blipFill>
        <p:spPr>
          <a:xfrm>
            <a:off x="5638680" y="3122640"/>
            <a:ext cx="2210040" cy="2665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6"/>
          <p:cNvSpPr/>
          <p:nvPr/>
        </p:nvSpPr>
        <p:spPr>
          <a:xfrm>
            <a:off x="304920" y="5910120"/>
            <a:ext cx="7543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umanitoba.ca/faculties/science/biological_sciences/lab10/biolab10_4.html#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2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ff"/>
                </a:solidFill>
                <a:uFillTx/>
                <a:latin typeface="Times New Roman"/>
              </a:rPr>
              <a:t>Purpose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wareness  about the structure of a typical leaf &amp; the types of Phyllotaxy in plants for their mode of arran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faleaves"/>
          <p:cNvPicPr/>
          <p:nvPr/>
        </p:nvPicPr>
        <p:blipFill>
          <a:blip r:embed="rId1"/>
          <a:stretch/>
        </p:blipFill>
        <p:spPr>
          <a:xfrm>
            <a:off x="457200" y="571500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Category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&amp; Tim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ediu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0-45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faleaves"/>
          <p:cNvPicPr/>
          <p:nvPr/>
        </p:nvPicPr>
        <p:blipFill>
          <a:blip r:embed="rId1"/>
          <a:stretch/>
        </p:blipFill>
        <p:spPr>
          <a:xfrm>
            <a:off x="380880" y="5410080"/>
            <a:ext cx="8001000" cy="6620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Learning Outcome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udent’s awareness about the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Typical leaf struc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Essentiality of various leaf parts in a 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* Familiarity about  Phyllotaxy in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faleaves"/>
          <p:cNvPicPr/>
          <p:nvPr/>
        </p:nvPicPr>
        <p:blipFill>
          <a:blip r:embed="rId1"/>
          <a:stretch/>
        </p:blipFill>
        <p:spPr>
          <a:xfrm>
            <a:off x="533520" y="5791320"/>
            <a:ext cx="8076960" cy="6620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27"/>
          <p:cNvSpPr/>
          <p:nvPr/>
        </p:nvSpPr>
        <p:spPr>
          <a:xfrm>
            <a:off x="0" y="726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8600" y="457200"/>
          <a:ext cx="8686800" cy="5265720"/>
        </p:xfrm>
        <a:graphic>
          <a:graphicData uri="http://schemas.openxmlformats.org/drawingml/2006/table">
            <a:tbl>
              <a:tblPr/>
              <a:tblGrid>
                <a:gridCol w="3138480"/>
                <a:gridCol w="1420920"/>
                <a:gridCol w="1388880"/>
                <a:gridCol w="1204920"/>
                <a:gridCol w="1533600"/>
              </a:tblGrid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Lesson f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chn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Tehn-ic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have an idea about the importanc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f leaf parts in a typical leaf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 catagorise the plants on the basis o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,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erbal communi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artly ac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429" descr="faleaves"/>
          <p:cNvPicPr/>
          <p:nvPr/>
        </p:nvPicPr>
        <p:blipFill>
          <a:blip r:embed="rId1"/>
          <a:stretch/>
        </p:blipFill>
        <p:spPr>
          <a:xfrm>
            <a:off x="762120" y="6195960"/>
            <a:ext cx="7696080" cy="6620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04920" y="990720"/>
          <a:ext cx="8534160" cy="4800600"/>
        </p:xfrm>
        <a:graphic>
          <a:graphicData uri="http://schemas.openxmlformats.org/drawingml/2006/table">
            <a:tbl>
              <a:tblPr/>
              <a:tblGrid>
                <a:gridCol w="3201840"/>
                <a:gridCol w="1332000"/>
                <a:gridCol w="1333440"/>
                <a:gridCol w="1371600"/>
                <a:gridCol w="129528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ha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Module 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Bhartiyavidy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riginal leaf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520" y="2286000"/>
          <a:ext cx="2819160" cy="3068640"/>
        </p:xfrm>
        <a:graphic>
          <a:graphicData uri="http://schemas.openxmlformats.org/drawingml/2006/table">
            <a:tbl>
              <a:tblPr/>
              <a:tblGrid>
                <a:gridCol w="2360520"/>
                <a:gridCol w="458640"/>
              </a:tblGrid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arts of typicalLea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mportance of these par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on of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ypes &amp; subtypes o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53" descr="faleaves"/>
          <p:cNvPicPr/>
          <p:nvPr/>
        </p:nvPicPr>
        <p:blipFill>
          <a:blip r:embed="rId3"/>
          <a:stretch/>
        </p:blipFill>
        <p:spPr>
          <a:xfrm>
            <a:off x="533520" y="6181560"/>
            <a:ext cx="8076960" cy="6764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457200" y="762120"/>
          <a:ext cx="8534520" cy="426708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  <a:gridCol w="1676520"/>
                <a:gridCol w="1447560"/>
                <a:gridCol w="1295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How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on Tech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each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tud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Activity: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ession of Q/A on leaf structure &amp; Phyllot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udy the structure of Leaf through original specimen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ok at the venation in leaf specimens  &amp; study i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Q/A  on moni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eaf speci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 throu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74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Question s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definition of lea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What do you call the structure by which leaf is attached at pla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Give the technical term for the mode of arrangement of leaves on pla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. How many types of arrangement of leaves in plants are there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faleaves"/>
          <p:cNvPicPr/>
          <p:nvPr/>
        </p:nvPicPr>
        <p:blipFill>
          <a:blip r:embed="rId1"/>
          <a:stretch/>
        </p:blipFill>
        <p:spPr>
          <a:xfrm>
            <a:off x="228600" y="5867280"/>
            <a:ext cx="8381880" cy="4748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07:13:39Z</dcterms:created>
  <dc:creator>nitinkumar</dc:creator>
  <dc:description/>
  <dc:language>en-US</dc:language>
  <cp:lastModifiedBy>LEGION2</cp:lastModifiedBy>
  <dcterms:modified xsi:type="dcterms:W3CDTF">2016-01-13T08:54:15Z</dcterms:modified>
  <cp:revision>36</cp:revision>
  <dc:subject/>
  <dc:title>Leaf structures</dc:title>
</cp:coreProperties>
</file>