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2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CE977-9E75-41CA-92DB-FF0BAB3C0F1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sson Pla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OLOGY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d. -X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Pl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finition of Lea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af is the flattened outgrowth of Stem or a branch that develops at node &amp; has a bud in it’s axil. These are the dissimilar organs &amp; are meant primarily for Photosynthesis, Respiration &amp; Transpir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 of Lea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f is the flattened outgrowth of Stem or a branch that develops at node &amp; has a bud in it’s axil. These are the dissimilar organs &amp; are meant primarily for Photosynthesis, Respiration &amp; Transpi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s of the Lea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Leaf Base2. Petiole3. Lami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s of the Lea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Leaf Base2. Petiole3. Lam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af Ba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art of leaf attached to the stem or branch is called- Leaf base. It protects a Bud in it’s axil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f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rt of leaf attached to the stem or branch is called- Leaf base. It protects a Bud in it’s ax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tio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art of leaf that connects the lamina with stem, is called leaf petiole. Some time a leaf may not have a petiole, such leaves are called – Sessile otherwise the leaf is called Petiolat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i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rt of leaf that connects the lamina with stem, is called leaf petiole. Some time a leaf may not have a petiole, such leaves are called – Sessile otherwise the leaf is called Petiol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mi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the flat, expended &amp; broad part of leaf with framework of veins &amp; veinlets. The lamina is the most important part of the leaf as it is the seat of food manufacturing in pla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the flat, expended &amp; broad part of leaf with framework of veins &amp; veinlets. The lamina is the most important part of the leaf as it is the seat of food manufacturing in pl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yllotax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the mode of arrangement / distribution of leaves on stem or it’s branc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yllotxy ensures that leaves may receive maximum sunlight for photosynthesi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llot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the mode of arrangement / distribution of leaves on stem or it’s bran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llotxy ensures that leaves may receive maximum sunlight for photosynthe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nate Phyllotax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such case only one leaf is attached at each node. The leaves are so arranged that a line drawn on the stem through the leaf bases will take a spiral course. Ex. Hibiscus, Brassica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nate Phyllot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uch case only one leaf is attached at each node. The leaves are so arranged that a line drawn on the stem through the leaf bases will take a spiral course. Ex. Hibiscus, Brassica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posite Phyllotax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such case two leaves are present at each node, standing opposite to each other. It is of  two subtypes -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posite decuss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posite superpo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ite Phyllot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uch case two leaves are present at each node, standing opposite to each other. It is of  two subtypes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ite decuss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ite superpo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posite Decuss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re pairs of leaves at each successive node are placed at right angle to each other. Eg. Ocimum, Calotropis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ite Decuss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pairs of leaves at each successive node are placed at right angle to each other. Eg. Ocimum, Calotropi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udy of the Leaf structure &amp; Phyllotaxy  in plan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y of the Leaf structure &amp; Phyllotaxy  in pl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osite Superpo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re pairs of leaves at each successive node are placed over each other in same plane. Eg.Eugenia,Quisqualis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osite Superpo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pairs of leaves at each successive node are placed over each other in same plane. Eg.Eugenia,Quisquali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orled Phyllotax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this type more than two leaves are present at each node, forming a whorl. Ex. Oleander, Alstonia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umanitoba.ca/faculties/science/biological_sciences/lab10/biolab10_4.html#Struc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rled Phyllot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type more than two leaves are present at each node, forming a whorl. Ex. Oleander, Alstonia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umanitoba.ca/faculties/science/biological_sciences/lab10/biolab10_4.html#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rpos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wareness  about the structure of a typical leaf &amp; the types of Phyllotaxy in plants for their mode of arrange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po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wareness  about the structure of a typical leaf &amp; the types of Phyllotaxy in plants for their mode of arran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tegory &amp; Ti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dium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0-45 minu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&amp;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u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-45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arning Outcome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udent’s awareness about the –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 Typical leaf structur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 Essentiality of various leaf parts in a pla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 Familiarity about  Phyllotaxy in pla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utcom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’s awareness about the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ypical leaf struct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Essentiality of various leaf parts in a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Familiarity about  Phyllotaxy in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estion ses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. Give the definition of leaf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. What do you call the structure by which leaf is attached at plan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. Give the technical term for the mode of arrangement of leaves on pla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. How many types of arrangement of leaves in plants are there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s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. Give the definition of lea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. What do you call the structure by which leaf is attached at pla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. Give the technical term for the mode of arrangement of leaves on pl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. How many types of arrangement of leaves in plants are ther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4884-51A5-4A8B-9D7B-3758270DC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EC1A-9EFA-48BB-BD9B-245AF8767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8E0A-DE4F-40D1-993D-5F42D5C83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7ECC-2F88-401A-BF3A-900E55BD8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E0E86-7FF2-4D4E-A74A-C240F128F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77E9A-9520-4A0A-9520-C30D172CE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34554-337F-4B81-8ADB-DE38E7302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74C4B-090E-472B-8009-0455C8B9E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30F8E-D7D8-404D-A89A-8883F20F8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DCB72-B202-458B-8BB2-C76B1BB20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6EB63-5CE7-4D63-B867-E7356B7FF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D685-53EE-444F-B44C-EEA8298CC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80809-2F67-4788-BA7E-7492F908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37F92-8717-487B-B9C8-E3BA1A90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04DDA-23E9-4F8F-BEA5-1A1F544B8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D4417-7AC3-407E-B089-0A8AE9F20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8D43E-1AAA-4802-874B-B1E709883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7204-DBE1-4055-A15D-B4C4FC544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C4EE-B49A-4CB1-BD9C-3FC7004CD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B56F-FEC2-4F38-91A5-D79CB4993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5019-9C99-4211-AD30-52C1103AC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A718-002F-4B5E-A566-0C2A9817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2401-7CAA-4050-A0B9-49302EF7E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82E8-7D2B-4A3E-87C9-03AD9618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8606e"/>
                </a:gs>
                <a:gs pos="100000">
                  <a:srgbClr val="80acc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069CB-D08C-436F-A7F5-93457125E0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8606e"/>
                </a:gs>
                <a:gs pos="100000">
                  <a:srgbClr val="80acc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09BB8-9724-4C6B-8E6E-4F6092C4C4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file:///hy2.ht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5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botany.org/plantimages/ImageData.asp?IDN=02-048h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ww.botany.org/plantimages/ImageData.asp?IDN=02-063h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google.co.in/imgres?imgurl=http://jacksonlab.cshl.edu/images/4.jpg&amp;imgrefurl=http://jacksonlab.cshl.edu/five.html&amp;h=2976&amp;w=2048&amp;sz=749&amp;tbnid=37grdxtnlqgJ:&amp;tbnh=149&amp;tbnw=103&amp;start=5&amp;prev=/images%3Fq%3Dphyllotaxy%26hl%3Den%26lr%3D%26ie%3DUTF-8%26sa%3DN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google.co.in/imgres?imgurl=http://www.ct-botanical-society.org/images/phyllotaxy2.gif&amp;imgrefurl=http://www.ct-botanical-society.org/newsletter/phyllotaxy.html&amp;h=300&amp;w=96&amp;sz=7&amp;tbnid=SjMyymQRlhAJ:&amp;tbnh=109&amp;tbnw=35&amp;start=29&amp;prev=/images%3Fq%3Dphyllotaxy%26start%3D20%26hl%3Den%26lr%3D%26ie%3DUTF-8%26sa%3DN" TargetMode="External"/><Relationship Id="rId4" Type="http://schemas.openxmlformats.org/officeDocument/2006/relationships/image" Target="../media/image13.jpeg"/><Relationship Id="rId5" Type="http://schemas.openxmlformats.org/officeDocument/2006/relationships/hyperlink" Target="http://images.google.co.in/imgres?imgurl=http://www.ct-botanical-society.org/images/phyllotaxy3.gif&amp;imgrefurl=http://www.ct-botanical-society.org/newsletter/phyllotaxy.html&amp;h=332&amp;w=96&amp;sz=8&amp;tbnid=dhFH0YCxzt8J:&amp;tbnh=114&amp;tbnw=33&amp;start=30&amp;prev=/images%3Fq%3Dphyllotaxy%26start%3D20%26hl%3Den%26lr%3D%26ie%3DUTF-8%26sa%3DN" TargetMode="External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nsci.plu.edu/~jmain/b340web/pages/popposit.htm" TargetMode="External"/><Relationship Id="rId2" Type="http://schemas.openxmlformats.org/officeDocument/2006/relationships/image" Target="../media/image1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../../../../../Program%20Files/Bhartiyavidya/Bhartiyavidya.exe" TargetMode="External"/><Relationship Id="rId2" Type="http://schemas.openxmlformats.org/officeDocument/2006/relationships/hyperlink" Target="file:///../../../../../Program%20Files/Bhartiyavidya/Bhartiyavidya.exe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1828440"/>
            <a:ext cx="693432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00ff"/>
                </a:solidFill>
                <a:uFillTx/>
                <a:latin typeface="Times New Roman"/>
              </a:rPr>
              <a:t>Lesson Plan</a:t>
            </a:r>
            <a:br>
              <a:rPr sz="5400"/>
            </a:br>
            <a:r>
              <a:rPr b="0" lang="en-US" sz="4400" spc="-1" strike="noStrike" u="sng">
                <a:solidFill>
                  <a:srgbClr val="0000ff"/>
                </a:solidFill>
                <a:uFillTx/>
                <a:latin typeface="Times New Roman"/>
              </a:rPr>
              <a:t>BIOLOGY</a:t>
            </a:r>
            <a:br>
              <a:rPr sz="4400"/>
            </a:br>
            <a:r>
              <a:rPr b="0" lang="en-US" sz="4400" spc="-1" strike="noStrike" u="sng">
                <a:solidFill>
                  <a:srgbClr val="0000ff"/>
                </a:solidFill>
                <a:uFillTx/>
                <a:latin typeface="Times New Roman"/>
              </a:rPr>
              <a:t>Std. -X</a:t>
            </a:r>
            <a:r>
              <a:rPr b="0" i="1" lang="en-US" sz="4400" spc="-1" strike="noStrike" u="sng">
                <a:solidFill>
                  <a:srgbClr val="0000ff"/>
                </a:solidFill>
                <a:uFillTx/>
                <a:latin typeface="Times New Roman"/>
              </a:rPr>
              <a:t>I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4" descr="lfwhorl"/>
          <p:cNvPicPr/>
          <p:nvPr/>
        </p:nvPicPr>
        <p:blipFill>
          <a:blip r:embed="rId1"/>
          <a:stretch/>
        </p:blipFill>
        <p:spPr>
          <a:xfrm>
            <a:off x="457200" y="457200"/>
            <a:ext cx="1600200" cy="22003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lfoppo"/>
          <p:cNvPicPr/>
          <p:nvPr/>
        </p:nvPicPr>
        <p:blipFill>
          <a:blip r:embed="rId2"/>
          <a:stretch/>
        </p:blipFill>
        <p:spPr>
          <a:xfrm>
            <a:off x="7086600" y="4343400"/>
            <a:ext cx="1523880" cy="2114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faleaves"/>
          <p:cNvPicPr/>
          <p:nvPr/>
        </p:nvPicPr>
        <p:blipFill>
          <a:blip r:embed="rId3"/>
          <a:stretch/>
        </p:blipFill>
        <p:spPr>
          <a:xfrm>
            <a:off x="533520" y="5257800"/>
            <a:ext cx="5876640" cy="105732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0" y="685800"/>
          <a:ext cx="9067680" cy="5445000"/>
        </p:xfrm>
        <a:graphic>
          <a:graphicData uri="http://schemas.openxmlformats.org/drawingml/2006/table">
            <a:tbl>
              <a:tblPr/>
              <a:tblGrid>
                <a:gridCol w="3130560"/>
                <a:gridCol w="1123920"/>
                <a:gridCol w="1967040"/>
                <a:gridCol w="1550880"/>
                <a:gridCol w="1295280"/>
              </a:tblGrid>
              <a:tr h="95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</a:rPr>
                        <a:t>What Els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ech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NonTechni-c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Teach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Stud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1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. Collect some more leaf specime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o identify their venation, from you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neighboring area 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. Categories different plant as monoco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&amp; dicot on the basis of venation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. Find out that all the leaves have all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he three parts or not. If not, note dow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he missing part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Collection of leaves sampl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Pass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Ac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9"/>
          <p:cNvSpPr/>
          <p:nvPr/>
        </p:nvSpPr>
        <p:spPr>
          <a:xfrm>
            <a:off x="990720" y="216720"/>
            <a:ext cx="7391160" cy="24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Definition of Lea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Leaf is the flattened outgrowth of Stem or a branch that develops at node &amp; has a bud in it’s axil. These are the dissimilar organs &amp; are meant primarily for Photosynthesis, Respiration &amp; Transpir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12"/>
          <p:cNvSpPr/>
          <p:nvPr/>
        </p:nvSpPr>
        <p:spPr>
          <a:xfrm>
            <a:off x="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11" descr="http://www.cartage.org.lb/en/themes/Sciences/BotanicalSciences/PlantsStructure/PlantsStructure/plant.gif"/>
          <p:cNvPicPr/>
          <p:nvPr/>
        </p:nvPicPr>
        <p:blipFill>
          <a:blip r:embed="rId1"/>
          <a:stretch/>
        </p:blipFill>
        <p:spPr>
          <a:xfrm>
            <a:off x="685800" y="2971800"/>
            <a:ext cx="2610000" cy="33908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http://www.biologie.uni-hamburg.de/b-online/fo02/bl33a.jpg"/>
          <p:cNvPicPr/>
          <p:nvPr/>
        </p:nvPicPr>
        <p:blipFill>
          <a:blip r:embed="rId2"/>
          <a:stretch/>
        </p:blipFill>
        <p:spPr>
          <a:xfrm>
            <a:off x="4648320" y="2971800"/>
            <a:ext cx="2743200" cy="342900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9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1219320" y="47268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Parts of the Leaf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457200" y="171216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1. Leaf Base2. Petiole3. Lam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8" descr="bean_whole_morphology"/>
          <p:cNvPicPr/>
          <p:nvPr/>
        </p:nvPicPr>
        <p:blipFill>
          <a:blip r:embed="rId1"/>
          <a:stretch/>
        </p:blipFill>
        <p:spPr>
          <a:xfrm>
            <a:off x="2209680" y="2440080"/>
            <a:ext cx="4038840" cy="335124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11"/>
          <p:cNvSpPr/>
          <p:nvPr/>
        </p:nvSpPr>
        <p:spPr>
          <a:xfrm>
            <a:off x="1050840" y="6589800"/>
            <a:ext cx="496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611640" y="601992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mo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4"/>
          <p:cNvSpPr/>
          <p:nvPr/>
        </p:nvSpPr>
        <p:spPr>
          <a:xfrm>
            <a:off x="1066680" y="4726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Leaf B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609480" y="1371240"/>
            <a:ext cx="7391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he part of leaf attached to the stem or branch is called- Leaf base. It protects a Bud in it’s axi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6" descr="bl57a"/>
          <p:cNvPicPr/>
          <p:nvPr/>
        </p:nvPicPr>
        <p:blipFill>
          <a:blip r:embed="rId1"/>
          <a:stretch/>
        </p:blipFill>
        <p:spPr>
          <a:xfrm>
            <a:off x="914400" y="3044880"/>
            <a:ext cx="1670040" cy="21686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bl33"/>
          <p:cNvPicPr/>
          <p:nvPr/>
        </p:nvPicPr>
        <p:blipFill>
          <a:blip r:embed="rId2"/>
          <a:stretch/>
        </p:blipFill>
        <p:spPr>
          <a:xfrm>
            <a:off x="3352680" y="3044880"/>
            <a:ext cx="1981440" cy="21686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2" descr="bl33a"/>
          <p:cNvPicPr/>
          <p:nvPr/>
        </p:nvPicPr>
        <p:blipFill>
          <a:blip r:embed="rId3"/>
          <a:stretch/>
        </p:blipFill>
        <p:spPr>
          <a:xfrm>
            <a:off x="6248520" y="3044880"/>
            <a:ext cx="1966680" cy="21686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faleaves"/>
          <p:cNvPicPr/>
          <p:nvPr/>
        </p:nvPicPr>
        <p:blipFill>
          <a:blip r:embed="rId4"/>
          <a:stretch/>
        </p:blipFill>
        <p:spPr>
          <a:xfrm>
            <a:off x="685800" y="5867280"/>
            <a:ext cx="7924680" cy="66204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4"/>
          <p:cNvSpPr/>
          <p:nvPr/>
        </p:nvSpPr>
        <p:spPr>
          <a:xfrm>
            <a:off x="609480" y="51696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Petio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457200" y="138744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he part of leaf that connects the lamina with stem, is called leaf petiole. Some time a leaf may not have a petiole, such leaves are called – Sessile otherwise the leaf is called Petiola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6" descr="pet-2"/>
          <p:cNvPicPr/>
          <p:nvPr/>
        </p:nvPicPr>
        <p:blipFill>
          <a:blip r:embed="rId1"/>
          <a:stretch/>
        </p:blipFill>
        <p:spPr>
          <a:xfrm>
            <a:off x="2590920" y="3051000"/>
            <a:ext cx="2965320" cy="285300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0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4"/>
          <p:cNvSpPr/>
          <p:nvPr/>
        </p:nvSpPr>
        <p:spPr>
          <a:xfrm>
            <a:off x="1295280" y="32004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Lam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228600" y="121428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t is the flat, expended &amp; broad part of leaf with framework of veins &amp; veinlets. The lamina is the most important part of the leaf as it is the seat of food manufacturing in pla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6" descr="Click on Image for JPG renditi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82800" y="2665440"/>
            <a:ext cx="2003400" cy="26715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8" descr="Click on Image for JPG renditio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00600" y="2665440"/>
            <a:ext cx="2209680" cy="267156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d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6" dur="1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4"/>
          <p:cNvSpPr/>
          <p:nvPr/>
        </p:nvSpPr>
        <p:spPr>
          <a:xfrm>
            <a:off x="1600200" y="213480"/>
            <a:ext cx="556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ff"/>
                </a:solidFill>
                <a:uFillTx/>
                <a:latin typeface="Times New Roman"/>
              </a:rPr>
              <a:t>Phyllotax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304920" y="143136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t is the mode of arrangement / distribution of leaves on stem or it’s bran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Phyllotxy ensures that leaves may receive maximum sunlight for photosynthes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2" name="Organization Chart 8"/>
          <p:cNvGrpSpPr/>
          <p:nvPr/>
        </p:nvGrpSpPr>
        <p:grpSpPr>
          <a:xfrm>
            <a:off x="2477880" y="3708720"/>
            <a:ext cx="4037040" cy="1130040"/>
            <a:chOff x="2477880" y="3708720"/>
            <a:chExt cx="4037040" cy="1130040"/>
          </a:xfrm>
        </p:grpSpPr>
        <p:cxnSp>
          <p:nvCxnSpPr>
            <p:cNvPr id="193" name="_s1028"/>
            <p:cNvCxnSpPr>
              <a:stCxn id="194" idx="0"/>
              <a:endCxn id="195" idx="2"/>
            </p:cNvCxnSpPr>
            <p:nvPr/>
          </p:nvCxnSpPr>
          <p:spPr>
            <a:xfrm flipV="1" rot="16200000">
              <a:off x="5100120" y="3548520"/>
              <a:ext cx="228960" cy="143856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96" name="_s1029"/>
            <p:cNvCxnSpPr>
              <a:stCxn id="197" idx="0"/>
              <a:endCxn id="195" idx="2"/>
            </p:cNvCxnSpPr>
            <p:nvPr/>
          </p:nvCxnSpPr>
          <p:spPr>
            <a:xfrm flipV="1" rot="16200000">
              <a:off x="4381920" y="4266720"/>
              <a:ext cx="228960" cy="252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98" name="_s1030"/>
            <p:cNvCxnSpPr>
              <a:stCxn id="199" idx="0"/>
              <a:endCxn id="195" idx="2"/>
            </p:cNvCxnSpPr>
            <p:nvPr/>
          </p:nvCxnSpPr>
          <p:spPr>
            <a:xfrm flipH="1" flipV="1" rot="5400000">
              <a:off x="3663720" y="3550320"/>
              <a:ext cx="228960" cy="143532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95" name="_s1031"/>
            <p:cNvSpPr/>
            <p:nvPr/>
          </p:nvSpPr>
          <p:spPr>
            <a:xfrm>
              <a:off x="3766320" y="3708720"/>
              <a:ext cx="1460160" cy="444960"/>
            </a:xfrm>
            <a:prstGeom prst="roundRect">
              <a:avLst>
                <a:gd name="adj" fmla="val 16667"/>
              </a:avLst>
            </a:prstGeom>
            <a:solidFill>
              <a:srgbClr val="5089a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000" rIns="6300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ff"/>
                  </a:solidFill>
                  <a:latin typeface="Arial"/>
                </a:rPr>
                <a:t>Phyllotaxy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_s1032"/>
            <p:cNvSpPr/>
            <p:nvPr/>
          </p:nvSpPr>
          <p:spPr>
            <a:xfrm>
              <a:off x="2477880" y="4382640"/>
              <a:ext cx="1163160" cy="456120"/>
            </a:xfrm>
            <a:prstGeom prst="roundRect">
              <a:avLst>
                <a:gd name="adj" fmla="val 16667"/>
              </a:avLst>
            </a:prstGeom>
            <a:solidFill>
              <a:srgbClr val="5089a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000" rIns="6300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ff"/>
                  </a:solidFill>
                  <a:latin typeface="Arial"/>
                </a:rPr>
                <a:t>Alternate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_s1033"/>
            <p:cNvSpPr/>
            <p:nvPr/>
          </p:nvSpPr>
          <p:spPr>
            <a:xfrm>
              <a:off x="3914640" y="4382640"/>
              <a:ext cx="1163160" cy="456120"/>
            </a:xfrm>
            <a:prstGeom prst="roundRect">
              <a:avLst>
                <a:gd name="adj" fmla="val 16667"/>
              </a:avLst>
            </a:prstGeom>
            <a:solidFill>
              <a:srgbClr val="5089a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000" rIns="6300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ff"/>
                  </a:solidFill>
                  <a:latin typeface="Arial"/>
                </a:rPr>
                <a:t>Opposite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_s1034"/>
            <p:cNvSpPr/>
            <p:nvPr/>
          </p:nvSpPr>
          <p:spPr>
            <a:xfrm>
              <a:off x="5351760" y="4382640"/>
              <a:ext cx="1163160" cy="456120"/>
            </a:xfrm>
            <a:prstGeom prst="roundRect">
              <a:avLst>
                <a:gd name="adj" fmla="val 16667"/>
              </a:avLst>
            </a:prstGeom>
            <a:solidFill>
              <a:srgbClr val="5089a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000" rIns="6300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ff"/>
                  </a:solidFill>
                  <a:latin typeface="Arial"/>
                </a:rPr>
                <a:t>Whorled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00" name="Picture 19" descr="faleaves"/>
          <p:cNvPicPr/>
          <p:nvPr/>
        </p:nvPicPr>
        <p:blipFill>
          <a:blip r:embed="rId1"/>
          <a:stretch/>
        </p:blipFill>
        <p:spPr>
          <a:xfrm>
            <a:off x="762120" y="6195960"/>
            <a:ext cx="7619760" cy="662040"/>
          </a:xfrm>
          <a:prstGeom prst="rect">
            <a:avLst/>
          </a:prstGeom>
          <a:ln w="0">
            <a:noFill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4"/>
          <p:cNvSpPr/>
          <p:nvPr/>
        </p:nvSpPr>
        <p:spPr>
          <a:xfrm>
            <a:off x="838080" y="32004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Alternate Phyllotax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838080" y="1493280"/>
            <a:ext cx="78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n such case only one leaf is attached at each node. The leaves are so arranged that a line drawn on the stem through the leaf bases will take a spiral course. Ex. Hibiscus, Brassic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Picture 6" descr="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3508200"/>
            <a:ext cx="1677960" cy="24354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" descr="phyllotaxy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52680" y="3430440"/>
            <a:ext cx="1357560" cy="25131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1" descr="phyllotaxy3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95880" y="3505320"/>
            <a:ext cx="1295640" cy="221112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8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533520" y="869760"/>
            <a:ext cx="8001000" cy="43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ff"/>
                </a:solidFill>
                <a:uFillTx/>
                <a:latin typeface="Times New Roman"/>
              </a:rPr>
              <a:t>Opposite Phyllotax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In such case two leaves are present at each node, standing opposite to each other. It is of  two subtypes -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Opposite decuss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Opposite superpo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Picture 6" descr="faleaves"/>
          <p:cNvPicPr/>
          <p:nvPr/>
        </p:nvPicPr>
        <p:blipFill>
          <a:blip r:embed="rId1"/>
          <a:stretch/>
        </p:blipFill>
        <p:spPr>
          <a:xfrm>
            <a:off x="838080" y="5410080"/>
            <a:ext cx="7696440" cy="674640"/>
          </a:xfrm>
          <a:prstGeom prst="rect">
            <a:avLst/>
          </a:prstGeom>
          <a:ln w="0">
            <a:noFill/>
          </a:ln>
        </p:spPr>
      </p:pic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4"/>
          <p:cNvSpPr/>
          <p:nvPr/>
        </p:nvSpPr>
        <p:spPr>
          <a:xfrm>
            <a:off x="1828800" y="2440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Opposite Decuss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533520" y="1387440"/>
            <a:ext cx="8076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Here pairs of leaves at each successive node are placed at right angle to each other. Eg. Ocimum, Calotropi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6" descr="340i1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43200" y="2973240"/>
            <a:ext cx="3017880" cy="23148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9" descr="faleaves"/>
          <p:cNvPicPr/>
          <p:nvPr/>
        </p:nvPicPr>
        <p:blipFill>
          <a:blip r:embed="rId3"/>
          <a:stretch/>
        </p:blipFill>
        <p:spPr>
          <a:xfrm>
            <a:off x="914400" y="5562720"/>
            <a:ext cx="7467480" cy="66204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5"/>
          <p:cNvSpPr/>
          <p:nvPr/>
        </p:nvSpPr>
        <p:spPr>
          <a:xfrm>
            <a:off x="1752480" y="1849320"/>
            <a:ext cx="6629400" cy="26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</a:t>
            </a:r>
            <a:r>
              <a:rPr b="1" lang="en-US" sz="4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Concep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Study of the Leaf structure &amp;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Phyllotaxy  in plan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8" descr="faleaves"/>
          <p:cNvPicPr/>
          <p:nvPr/>
        </p:nvPicPr>
        <p:blipFill>
          <a:blip r:embed="rId1"/>
          <a:stretch/>
        </p:blipFill>
        <p:spPr>
          <a:xfrm>
            <a:off x="838080" y="5952960"/>
            <a:ext cx="7620120" cy="90504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4"/>
          <p:cNvSpPr/>
          <p:nvPr/>
        </p:nvSpPr>
        <p:spPr>
          <a:xfrm>
            <a:off x="1905120" y="472680"/>
            <a:ext cx="556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Oposite Superpos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609480" y="1676520"/>
            <a:ext cx="754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Here pairs of leaves at each successive node are placed over each other in same plane. Eg.Eugenia,Quisquali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6" descr="lfoppo"/>
          <p:cNvPicPr/>
          <p:nvPr/>
        </p:nvPicPr>
        <p:blipFill>
          <a:blip r:embed="rId1"/>
          <a:stretch/>
        </p:blipFill>
        <p:spPr>
          <a:xfrm>
            <a:off x="3046320" y="3430440"/>
            <a:ext cx="2362320" cy="1989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9" descr="faleaves"/>
          <p:cNvPicPr/>
          <p:nvPr/>
        </p:nvPicPr>
        <p:blipFill>
          <a:blip r:embed="rId2"/>
          <a:stretch/>
        </p:blipFill>
        <p:spPr>
          <a:xfrm>
            <a:off x="762120" y="5791320"/>
            <a:ext cx="7162560" cy="66204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d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4"/>
          <p:cNvSpPr/>
          <p:nvPr/>
        </p:nvSpPr>
        <p:spPr>
          <a:xfrm>
            <a:off x="2133720" y="472680"/>
            <a:ext cx="495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Whorled Phyllotax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380880" y="1599840"/>
            <a:ext cx="8382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In this type more than two leaves are present at each node, forming a whorl. Ex. Oleander, Alstonia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6" descr="alternate_branch"/>
          <p:cNvPicPr/>
          <p:nvPr/>
        </p:nvPicPr>
        <p:blipFill>
          <a:blip r:embed="rId1"/>
          <a:stretch/>
        </p:blipFill>
        <p:spPr>
          <a:xfrm>
            <a:off x="1373040" y="3044880"/>
            <a:ext cx="2087640" cy="27795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2" descr="lfwhorl"/>
          <p:cNvPicPr/>
          <p:nvPr/>
        </p:nvPicPr>
        <p:blipFill>
          <a:blip r:embed="rId2"/>
          <a:stretch/>
        </p:blipFill>
        <p:spPr>
          <a:xfrm>
            <a:off x="5638680" y="3122640"/>
            <a:ext cx="2210040" cy="266544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16"/>
          <p:cNvSpPr/>
          <p:nvPr/>
        </p:nvSpPr>
        <p:spPr>
          <a:xfrm>
            <a:off x="304920" y="5910120"/>
            <a:ext cx="75438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umanitoba.ca/faculties/science/biological_sciences/lab10/biolab10_4.html#Structu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5" dur="2000" fill="hold"/>
                                        <p:tgtEl>
                                          <p:spTgt spid="2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9" dur="2000" fill="hold"/>
                                        <p:tgtEl>
                                          <p:spTgt spid="2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ff"/>
                </a:solidFill>
                <a:uFillTx/>
                <a:latin typeface="Times New Roman"/>
              </a:rPr>
              <a:t>Purpose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wareness  about the structure of a typical leaf &amp; the types of Phyllotaxy in plants for their mode of arran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5" descr="faleaves"/>
          <p:cNvPicPr/>
          <p:nvPr/>
        </p:nvPicPr>
        <p:blipFill>
          <a:blip r:embed="rId1"/>
          <a:stretch/>
        </p:blipFill>
        <p:spPr>
          <a:xfrm>
            <a:off x="457200" y="5715000"/>
            <a:ext cx="8001000" cy="66204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ff"/>
                </a:solidFill>
                <a:uFillTx/>
                <a:latin typeface="Times New Roman"/>
              </a:rPr>
              <a:t>Category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4400" spc="-1" strike="noStrike" u="sng">
                <a:solidFill>
                  <a:srgbClr val="0000ff"/>
                </a:solidFill>
                <a:uFillTx/>
                <a:latin typeface="Times New Roman"/>
              </a:rPr>
              <a:t>&amp; Tim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Mediu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40-45 minu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5" descr="faleaves"/>
          <p:cNvPicPr/>
          <p:nvPr/>
        </p:nvPicPr>
        <p:blipFill>
          <a:blip r:embed="rId1"/>
          <a:stretch/>
        </p:blipFill>
        <p:spPr>
          <a:xfrm>
            <a:off x="380880" y="5410080"/>
            <a:ext cx="8001000" cy="66204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ff"/>
                </a:solidFill>
                <a:uFillTx/>
                <a:latin typeface="Times New Roman"/>
              </a:rPr>
              <a:t>Learning Outcomes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tudent’s awareness about the 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* Typical leaf structur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* Essentiality of various leaf parts in a pl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* Familiarity about  Phyllotaxy in pla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Picture 5" descr="faleaves"/>
          <p:cNvPicPr/>
          <p:nvPr/>
        </p:nvPicPr>
        <p:blipFill>
          <a:blip r:embed="rId1"/>
          <a:stretch/>
        </p:blipFill>
        <p:spPr>
          <a:xfrm>
            <a:off x="533520" y="5791320"/>
            <a:ext cx="8076960" cy="66204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327"/>
          <p:cNvSpPr/>
          <p:nvPr/>
        </p:nvSpPr>
        <p:spPr>
          <a:xfrm>
            <a:off x="0" y="726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228600" y="457200"/>
          <a:ext cx="8686800" cy="5265720"/>
        </p:xfrm>
        <a:graphic>
          <a:graphicData uri="http://schemas.openxmlformats.org/drawingml/2006/table">
            <a:tbl>
              <a:tblPr/>
              <a:tblGrid>
                <a:gridCol w="3138480"/>
                <a:gridCol w="1420920"/>
                <a:gridCol w="1388880"/>
                <a:gridCol w="1204920"/>
                <a:gridCol w="1533600"/>
              </a:tblGrid>
              <a:tr h="1751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</a:rPr>
                        <a:t>Lesson fl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echnic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NonTehn-ic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each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Stud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4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</a:rPr>
                        <a:t>Wh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o have an idea about the importance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of leaf parts in a typical leaf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o catagorise the plants on the basis of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phyllotaxy,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Verbal communic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Acti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artly acti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9" name="Picture 429" descr="faleaves"/>
          <p:cNvPicPr/>
          <p:nvPr/>
        </p:nvPicPr>
        <p:blipFill>
          <a:blip r:embed="rId1"/>
          <a:stretch/>
        </p:blipFill>
        <p:spPr>
          <a:xfrm>
            <a:off x="762120" y="6195960"/>
            <a:ext cx="7696080" cy="66204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304920" y="990720"/>
          <a:ext cx="8534160" cy="4800600"/>
        </p:xfrm>
        <a:graphic>
          <a:graphicData uri="http://schemas.openxmlformats.org/drawingml/2006/table">
            <a:tbl>
              <a:tblPr/>
              <a:tblGrid>
                <a:gridCol w="3201840"/>
                <a:gridCol w="1332000"/>
                <a:gridCol w="1333440"/>
                <a:gridCol w="1371600"/>
                <a:gridCol w="1295280"/>
              </a:tblGrid>
              <a:tr h="110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</a:rPr>
                        <a:t>Wha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ech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Non Tech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each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Stud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"/>
                        </a:rPr>
                        <a:t>Module on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2"/>
                        </a:rPr>
                        <a:t>Bhartiyavidy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Original leaf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Specime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Ac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Ac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533520" y="2286000"/>
          <a:ext cx="2819160" cy="3068640"/>
        </p:xfrm>
        <a:graphic>
          <a:graphicData uri="http://schemas.openxmlformats.org/drawingml/2006/table">
            <a:tbl>
              <a:tblPr/>
              <a:tblGrid>
                <a:gridCol w="2360520"/>
                <a:gridCol w="458640"/>
              </a:tblGrid>
              <a:tr h="453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Definition of Lea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Parts of typicalLea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Importance of these par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Definition of Phyllotax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8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ypes &amp; subtypes o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Phyllotax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3" name="Picture 153" descr="faleaves"/>
          <p:cNvPicPr/>
          <p:nvPr/>
        </p:nvPicPr>
        <p:blipFill>
          <a:blip r:embed="rId3"/>
          <a:stretch/>
        </p:blipFill>
        <p:spPr>
          <a:xfrm>
            <a:off x="533520" y="6181560"/>
            <a:ext cx="8076960" cy="67644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457200" y="762120"/>
          <a:ext cx="8534520" cy="4267080"/>
        </p:xfrm>
        <a:graphic>
          <a:graphicData uri="http://schemas.openxmlformats.org/drawingml/2006/table">
            <a:tbl>
              <a:tblPr/>
              <a:tblGrid>
                <a:gridCol w="3048120"/>
                <a:gridCol w="1066680"/>
                <a:gridCol w="1676520"/>
                <a:gridCol w="1447560"/>
                <a:gridCol w="12956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</a:rPr>
                        <a:t>How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ech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Non Tech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each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Stud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</a:rPr>
                        <a:t>Activity: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Session of Q/A on leaf structure &amp; Phyllotax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Study the structure of Leaf through original specimen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Look at the venation in leaf specimens  &amp; study i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Q/A  on monit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Leaf specime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Active throug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explan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Ac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Rectangle 74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228600" y="4568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ff"/>
                </a:solidFill>
                <a:uFillTx/>
                <a:latin typeface="Times New Roman"/>
              </a:rPr>
              <a:t>Question ses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Q. Give the definition of leaf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Q. What do you call the structure by which leaf is attached at plan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Q. Give the technical term for the mode of arrangement of leaves on pla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Q. How many types of arrangement of leaves in plants are there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5" descr="faleaves"/>
          <p:cNvPicPr/>
          <p:nvPr/>
        </p:nvPicPr>
        <p:blipFill>
          <a:blip r:embed="rId1"/>
          <a:stretch/>
        </p:blipFill>
        <p:spPr>
          <a:xfrm>
            <a:off x="228600" y="5867280"/>
            <a:ext cx="8381880" cy="47484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2T07:13:39Z</dcterms:created>
  <dc:creator>nitinkumar</dc:creator>
  <dc:description/>
  <dc:language>en-US</dc:language>
  <cp:lastModifiedBy>LEGION2</cp:lastModifiedBy>
  <dcterms:modified xsi:type="dcterms:W3CDTF">2016-01-13T08:54:15Z</dcterms:modified>
  <cp:revision>36</cp:revision>
  <dc:subject/>
  <dc:title>Leaf structures</dc:title>
</cp:coreProperties>
</file>