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071F-6F51-40B1-99D6-F90734511F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(producers) can use light energy to make their 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green because they contain a chemical called chlorophyll.  This chemical is used to trap ligh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(producers) can use light energy to make their 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green because they contain a chemical called chlorophyll.  This chemical is used to trap ligh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 is contained in the chloroplasts of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energy is used to change carbon dioxide and water into starch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word equation for photosynthes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n    +  wate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ch  + 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is contained in the chloroplasts of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energy is used to change carbon dioxide and water into starch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d equation for photosynthes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   + 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 + 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F380-1568-46EC-BBC1-B7BEA8886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86A-717F-45B4-81F7-B8AEE427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77BB-0BDF-489A-90D7-F037C0D1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BA54-D5AD-4C3B-95F4-DE1C9FCC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955-3378-44B7-996F-8E543147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5FDB-64C9-41FF-9B5A-B913382E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CD18-143D-40F1-A0A7-F3D4E440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AEE-4A0B-4003-B61C-F96F7E3D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ADE7-5827-4892-912C-520D6D4D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CD39-21DE-4633-90BF-2E2D5EC0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853-A824-4EA4-A172-50617714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A561-23AB-4C10-87BE-49BD3C44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A848-444D-4BFC-99B5-F4F71868FE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af Structure and 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een plants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(producers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an us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light energ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make their own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rocess is calle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een plants are green because they contain a chemical calle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hy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 This chemical is used to trap light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hy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contained in th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lasts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energy is used to chang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rbon dioxid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wa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starc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word equation for photosynthesi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bon    +  wa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rch  + 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4"/>
          <p:cNvSpPr/>
          <p:nvPr/>
        </p:nvSpPr>
        <p:spPr>
          <a:xfrm>
            <a:off x="3733920" y="44197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574800" y="3889440"/>
            <a:ext cx="16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ructure of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51339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295280" y="1020600"/>
            <a:ext cx="6686640" cy="5837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7:40:41Z</dcterms:created>
  <dc:creator>hhashmi</dc:creator>
  <dc:description/>
  <dc:language>en-US</dc:language>
  <cp:lastModifiedBy>LEGION2</cp:lastModifiedBy>
  <dcterms:modified xsi:type="dcterms:W3CDTF">2016-01-13T08:43:48Z</dcterms:modified>
  <cp:revision>7</cp:revision>
  <dc:subject/>
  <dc:title>Leaf Structure and Photosynthesis</dc:title>
</cp:coreProperties>
</file>