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image2.png" ContentType="image/pn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3985C-00FF-4F47-A8F5-196AE21D376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f Structure and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f Structure and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plants (producers) can use light energy to make their own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ocess is called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plants are green because they contain a chemical called chlorophyll.  This chemical is used to trap light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plants (producers) can use light energy to make their own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ocess is called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plants are green because they contain a chemical called chlorophyll.  This chemical is used to trap light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lorophyll is contained in the chloroplasts of plant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ght energy is used to change carbon dioxide and water into starch and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word equation for photosynthesis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rbon    +  water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arch  + 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gh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hyll is contained in the chloroplasts of plant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energy is used to change carbon dioxide and water into starch and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d equation for photosynthesis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   +  wat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ch  + 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ructure of a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e of a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arch Test a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ch Test a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3E52-CBDD-44C3-A762-4EAC04F9B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C18E-BE22-4FA8-936B-BBEA2F848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D778-87E5-4325-953E-1B0764B14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56E0-EDA4-4842-B073-6B96CB90F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4178-A60F-49E6-99A8-063514EBB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6C13-ACD7-43CE-B13B-28EA69FF3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C63F-E3C8-4138-B7A0-C4283414A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183C-6F25-45AD-85FE-FB438FCBA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5525-F7CD-4B86-95EA-1378B5282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AA9F-AB7B-4C26-B315-C187CB716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23F9-E631-481A-808B-8BA290FC4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3880-D1F9-4EB9-95D3-E4B4F4FF3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0796F-B3EA-41F5-9FE1-3A4BD92D595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Leaf Structure and Photosynthe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tandard Grade B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hotosynthe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reen plants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(producers)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can use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light energy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o make their own f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is process is called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photosynth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reen plants are green because they contain a chemical called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chlorophyl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.  This chemical is used to trap light ener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Chlorophyl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s contained in the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chloroplasts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f plant c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ight energy is used to change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carbon dioxide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wate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nto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starch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oxy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word equation for photosynthesis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arbon    +  wate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arch  +  oxy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iox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4"/>
          <p:cNvSpPr/>
          <p:nvPr/>
        </p:nvSpPr>
        <p:spPr>
          <a:xfrm>
            <a:off x="3733920" y="441972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3574800" y="3889440"/>
            <a:ext cx="16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Light ener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tructure of a lea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7467480" cy="513396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tarch Test a Lea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1295280" y="1020600"/>
            <a:ext cx="6686640" cy="583740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5T17:40:41Z</dcterms:created>
  <dc:creator>hhashmi</dc:creator>
  <dc:description/>
  <dc:language>en-US</dc:language>
  <cp:lastModifiedBy>LEGION2</cp:lastModifiedBy>
  <dcterms:modified xsi:type="dcterms:W3CDTF">2016-01-13T08:43:48Z</dcterms:modified>
  <cp:revision>7</cp:revision>
  <dc:subject/>
  <dc:title>Leaf Structure and Photosynthesis</dc:title>
</cp:coreProperties>
</file>