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94FF-DCEB-40CD-8853-A36BB4DC8E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ocess of photosynthesis, several energy transform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ocess of photosynthesis, several energy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bserved in the tube containing Elodea are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production of oxygen by Elodea which will alway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control reading from the Elodea read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bserved in the tube containing Elodea 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production of oxygen by Elodea which will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control reading from the Elodea rea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the gre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la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th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You have seen that plants contain photosynthetic pig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Such pigments (chlorophyll) absorb only specific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amount of light that the plant is exposed to has 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uence on photosynthetic rat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You have seen that plants contain photosynthetic pig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Such pigments (chlorophyll) absorb only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amount of light that the plant is exposed to has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uence on photosynthetic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by the photosynthetic pigment, chlorophyl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portion of the electromagnetic spectru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gure 6.1 of your lab manual represents the visib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by the photosynthetic pigment, chlorophy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portion of th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gure 6.1 of your lab manual represents th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cedure employed here is identical to that used in the determination of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wavelength is the independent variable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bsorbance is the dependent variable.  Indicate with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cedure employed here is identical to that used in the determin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wavelength is the independent variabl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bsorbance is the dependent variable.  Indicat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Obtain a piece of Elodea 5 to 6 inches in length and place it in a test tube with the cut end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t glass pipette an a syringe.---AVOID AIR BUBBLES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Elodea to act as a control for temperature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Place both tubes in a beaker filled with room temperature wat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Obtain a piece of Elodea 5 to 6 inches in length and place it in a test tube with the cut end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t glass pipette an a syringe.---AVOID AIR BUBBL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Elodea to act as a control for temperatu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Place both tubes in a beaker filled with room temperatur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cm - Move the lamp so it is 75 cm away from the experimental tubes and place the he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 half way between the lamp and tubes.  Wait 5 minutes for equilibration.  Adju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cm - Move the lamp forward so it is 50 cm away from the experimental tubes and again pla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your data in table 6.4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cm - Repeat the equilibration, adjustments and measurements at the 25 cm mark.  Recor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ata in Table 6.4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cm - Move the lamp so it is 75 cm away from the experimental tubes and place the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 half way between the lamp and tubes.  Wait 5 minutes for equilibration.  Adj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cm - Move the lamp forward so it is 50 cm away from the experimental tubes and aga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your data in table 6.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cm - Repeat the equilibration, adjustments and measurements at the 25 cm mark.  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ata in Table 6.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B7B-89A9-495E-89B9-822ECB94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FCA-05E3-4A58-963F-94F88CBA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F42-FAD5-447B-8F54-5436D379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505-7FA5-486E-AD7B-07DA3F53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D77E-75E8-48F8-A5C5-C988DB61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F6D1-3DFE-4D23-AF0F-2B2A6D40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F95-2220-4947-A5D7-5E3ED24B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D67A-0A0D-4318-A796-B9F5A2EE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908A-F996-45C9-83D3-CB4C068F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E9D9-BB9F-4436-A52A-5F23217D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D9E5-BEE1-4BA1-BB1D-59697CD9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632A-BE5F-4132-908E-EB9A0423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01E3-7A03-4770-B163-673FB2A8D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57120" y="2022480"/>
            <a:ext cx="859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rocess of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hotosynthe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veral energy transform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57120" y="514656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88600" y="1793880"/>
            <a:ext cx="819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nges observed in the tube contain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the production of oxygen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ich will alway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41720" y="4384800"/>
            <a:ext cx="75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 the control reading from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ad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41720" y="17175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26600" y="2251080"/>
            <a:ext cx="82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30560" y="3241800"/>
            <a:ext cx="81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06520" y="4537080"/>
            <a:ext cx="855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ea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the pl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22000" y="202248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98560" y="2708280"/>
            <a:ext cx="829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)  You have seen that plants contain photosynthetic pig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)  Such pigments (chlorophyll) absorb only specific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avelengths 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3)  The amount of light that the plant is exposed to has 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fluence on photosynthetic ra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72240" y="194616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30200" y="2479680"/>
            <a:ext cx="77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by the photosynthetic pigment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hlorophy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33440" y="3394080"/>
            <a:ext cx="752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sible portion of the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electromagnet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ic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spectr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6.1 of your lab manual represents the visi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52800" y="5146560"/>
            <a:ext cx="808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17080" y="17938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99080" y="2403360"/>
            <a:ext cx="89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66040" y="3241800"/>
            <a:ext cx="8547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83680" y="5070600"/>
            <a:ext cx="39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1"/>
          <p:cNvGrpSpPr/>
          <p:nvPr/>
        </p:nvGrpSpPr>
        <p:grpSpPr>
          <a:xfrm>
            <a:off x="4572000" y="4940280"/>
            <a:ext cx="3962520" cy="1498680"/>
            <a:chOff x="4572000" y="4940280"/>
            <a:chExt cx="3962520" cy="1498680"/>
          </a:xfrm>
        </p:grpSpPr>
        <p:pic>
          <p:nvPicPr>
            <p:cNvPr id="64" name="Picture 9" descr="photo2"/>
            <p:cNvPicPr/>
            <p:nvPr/>
          </p:nvPicPr>
          <p:blipFill>
            <a:blip r:embed="rId1"/>
            <a:stretch/>
          </p:blipFill>
          <p:spPr>
            <a:xfrm>
              <a:off x="4572000" y="4940280"/>
              <a:ext cx="1752480" cy="14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photo3"/>
            <p:cNvPicPr/>
            <p:nvPr/>
          </p:nvPicPr>
          <p:blipFill>
            <a:blip r:embed="rId2"/>
            <a:stretch/>
          </p:blipFill>
          <p:spPr>
            <a:xfrm>
              <a:off x="6553080" y="4952880"/>
              <a:ext cx="1981440" cy="14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04480" y="1793880"/>
            <a:ext cx="804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87920" y="3470400"/>
            <a:ext cx="8693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04480" y="5299200"/>
            <a:ext cx="84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77920" y="1793880"/>
            <a:ext cx="78998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rocedure employed here is identical to that used in the determination of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82240" y="3927600"/>
            <a:ext cx="85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at wavelength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bsorbance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ndicate with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19240" y="1793880"/>
            <a:ext cx="65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01600" y="2327400"/>
            <a:ext cx="695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31040" y="3241800"/>
            <a:ext cx="886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00520" y="4917960"/>
            <a:ext cx="88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40760" y="15652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99080" y="2098800"/>
            <a:ext cx="838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54000" y="2982960"/>
            <a:ext cx="7855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Obtain a piece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5 to 6 inches in length and place it in a test tube with the cut end up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bent gla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pipet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rin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---AVOID AIR BUBBLES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o act as a control for temperature and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)  Place both tubes in a beaker filled wit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om temperature water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9360" y="5222880"/>
            <a:ext cx="70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30200" y="1793880"/>
            <a:ext cx="787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hoto4.avi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181480" cy="3754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16360" y="18702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82680" y="2479680"/>
            <a:ext cx="8299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he lamp so it is 75 cm away from the experimental tubes and place the he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ter half way between the lamp and tubes.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it 5 minutes for equilibr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Adjus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1600" y="4079880"/>
            <a:ext cx="8366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he lamp forward so it is 50 cm away from the experimental tubes and again plac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ord your data in table 6.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81240" y="5299200"/>
            <a:ext cx="80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 the equilibration, adjustments and measurements at the 25 cm mark.  Record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r data in Table 6.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2:59:08Z</dcterms:created>
  <dc:creator>Office of Instruction</dc:creator>
  <dc:description/>
  <dc:language>en-US</dc:language>
  <cp:lastModifiedBy>LEGION2</cp:lastModifiedBy>
  <dcterms:modified xsi:type="dcterms:W3CDTF">2016-01-13T08:38:25Z</dcterms:modified>
  <cp:revision>13</cp:revision>
  <dc:subject/>
  <dc:title>Exercise #6      PHOTOSYNTHESIS</dc:title>
</cp:coreProperties>
</file>