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A" id="0">
      <p:sldLst>
        <p:sld r:id="rId5"/>
      </p:sldLst>
    </p:custShow>
    <p:custShow name="C" id="1">
      <p:sldLst>
        <p:sld r:id="rId6"/>
      </p:sldLst>
    </p:custShow>
    <p:custShow name="OV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3D4A-E0BC-4EF1-BB82-1756C8C0C9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C32-FE03-44BB-86B5-CE3927DB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C00-5893-4AD2-A76F-77023211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CC9-CF31-4425-9DFC-129103AD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5C6-E3BC-48ED-A95C-E28F6908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330-58E8-43A2-A0D3-5B008AC3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E97-9BDB-45DB-B066-62D4B155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D9F-EA02-488F-85E5-1200A85E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570-7AC3-4706-B337-99D2CE30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660-8BC2-4480-A73D-69329296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A6C-77B7-4921-A64D-807A6469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6C0-7841-4449-864E-C502329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CCA-9F95-4B29-998F-16882F2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6C95-99AD-4C04-BB27-793EE51679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926160" y="4005360"/>
            <a:ext cx="13359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97164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6240" y="2781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5880" y="27082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38320" y="1341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470200" y="1341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90640" y="6165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VERAL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708360" y="3716280"/>
            <a:ext cx="1800360" cy="1513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90440" y="661356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Click on labels and ?s for further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24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2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4OH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5640" y="378936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OH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4360" y="436572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7:38Z</dcterms:created>
  <dc:creator>Scott Massara</dc:creator>
  <dc:description/>
  <dc:language>en-US</dc:language>
  <cp:lastModifiedBy>RomaK</cp:lastModifiedBy>
  <dcterms:modified xsi:type="dcterms:W3CDTF">2015-09-01T16:24:44Z</dcterms:modified>
  <cp:revision>7</cp:revision>
  <dc:subject/>
  <dc:title>Fuel Cell</dc:title>
</cp:coreProperties>
</file>