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692-A09F-4E15-955B-1E9575FBCA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7BF8-20C7-46A7-89C9-C9C9C4F00D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2F70-66C5-4E5B-909B-FFC0520685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E9ED-A18A-4C25-B774-82A2C0B5B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038D-11FC-400A-B90B-EE157910C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234F-3713-40A4-A238-FFDD303555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click and reveal activity could be used to check students’ understanding of weight an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ease note that the classification of Pluto as a planet was still being addressed at the time of publication and so it has still been included as part of this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A77F-2639-4E3B-83DD-3EC340077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2AF1-2B7E-40F5-8B53-80DB925276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wo-part sequence shows how gravity affects an astronaut’s movement on the M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55FB-D0FD-4F62-8199-5EE4F111A8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1344-31A8-4C35-A3C3-4074A53BBD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CF95-C5D1-4B4F-A062-D688AB93E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6 Jupiterimages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 shows astronaut Edwin E. Aldrin Jr. walking on the lunar surface during the Apollo 11 mission to the Moon in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D7E-7BBD-452B-92F2-EF56331BD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multiple-choice quiz could be used as a plenary activity to assess students’ understanding of weight and mass calculations. Class voting or the use of coloured traffic light cards could be used to make this a whole-class exerc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09E8-8EC8-4B61-8956-6A1C60C8D0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91CE-AEA2-4C54-9601-60644D1F4D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D870-6E31-4A1D-BC10-D46144D8B7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F82A-9D53-43A2-BC3E-DDB9504B9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AF8-35C5-4384-996B-92B23E67A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8611-7F1A-4343-931C-8F79D92C0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8F60-7E6F-4CF0-BFE7-4B3049F67D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9D2E-672F-405E-AD5A-8E82EE44E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6A06-8067-4A29-AB9B-E12D00944F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F42E-D33F-4A75-BF96-34CFBE1A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FF03-42EF-44D8-86C8-A7D9969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623-377A-4A4A-93D3-4BC6DA02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2A6-B95C-4A54-8320-7F4497E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D08-C513-4D51-BE73-A101F79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24E8-F99F-42D0-A5E0-29C6624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917-127B-460F-945B-61E1FBA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A3D-6EB3-44DD-80B9-F806193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01FA-EC23-4706-8D52-14499D88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775-310D-45F0-958A-901436B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C88-1C20-40BA-AE83-314FA36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AD2-572F-43DB-AB3E-29226572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12B-1039-4513-B47E-64C1E6446E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ploring our Sola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2f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g00140_"/>
          <p:cNvPicPr/>
          <p:nvPr/>
        </p:nvPicPr>
        <p:blipFill>
          <a:blip r:embed="rId1"/>
          <a:stretch/>
        </p:blipFill>
        <p:spPr>
          <a:xfrm>
            <a:off x="395280" y="333360"/>
            <a:ext cx="2612880" cy="31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scaleplanets"/>
          <p:cNvPicPr/>
          <p:nvPr/>
        </p:nvPicPr>
        <p:blipFill>
          <a:blip r:embed="rId2"/>
          <a:stretch/>
        </p:blipFill>
        <p:spPr>
          <a:xfrm>
            <a:off x="4572000" y="189000"/>
            <a:ext cx="43815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lculating how long light tak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travels at a speed of 300 000 000 m/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does light from the Sun take to reach Earth? (distance of Earth from the Sun is 150 million k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from earth to the sun = 150 000 000 00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00 000 000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 000 00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500 seconds (/60 =8.3 minu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fused about weight and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63400" y="1468440"/>
            <a:ext cx="450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Have you ever heard anyone saying that “the scales don’t tell the truth about their weight”? You may be surprised to hear that they are r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63400" y="3551400"/>
            <a:ext cx="49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cales give a reading in kilograms, which are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not the units of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498600" y="78408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WARNING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1" lang="en-GB" sz="2800" spc="-1" strike="noStrike">
                <a:solidFill>
                  <a:srgbClr val="cc0000"/>
                </a:solidFill>
                <a:latin typeface="Arial"/>
              </a:rPr>
              <a:t>This lesson may alter your we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63400" y="4905360"/>
            <a:ext cx="53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confusion arises because most people use the word ‘weight’ when scientists would use the word ‘mas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scales_man"/>
          <p:cNvPicPr/>
          <p:nvPr/>
        </p:nvPicPr>
        <p:blipFill>
          <a:blip r:embed="rId1"/>
          <a:stretch/>
        </p:blipFill>
        <p:spPr>
          <a:xfrm>
            <a:off x="5624640" y="1600200"/>
            <a:ext cx="2990880" cy="47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are mass and we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63400" y="1795320"/>
            <a:ext cx="787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Mass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mount of matter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n an object and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kilogram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63400" y="3887640"/>
            <a:ext cx="787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is caused by the pull of gravity acting on a mass. Like other forces, weight is measured i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newton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and has both magnitude and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63400" y="5299200"/>
            <a:ext cx="78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eight has different values depending on where the object is in the Unive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"/>
          <p:cNvGrpSpPr/>
          <p:nvPr/>
        </p:nvGrpSpPr>
        <p:grpSpPr>
          <a:xfrm>
            <a:off x="1692360" y="1052640"/>
            <a:ext cx="5759280" cy="649080"/>
            <a:chOff x="1692360" y="1052640"/>
            <a:chExt cx="5759280" cy="649080"/>
          </a:xfrm>
        </p:grpSpPr>
        <p:sp>
          <p:nvSpPr>
            <p:cNvPr id="78" name="AutoShape 7"/>
            <p:cNvSpPr/>
            <p:nvPr/>
          </p:nvSpPr>
          <p:spPr>
            <a:xfrm>
              <a:off x="1692360" y="1052640"/>
              <a:ext cx="5759280" cy="64908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"/>
            <p:cNvSpPr/>
            <p:nvPr/>
          </p:nvSpPr>
          <p:spPr>
            <a:xfrm>
              <a:off x="1901880" y="1149120"/>
              <a:ext cx="53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Mass and weight are not the same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9"/>
          <p:cNvSpPr/>
          <p:nvPr/>
        </p:nvSpPr>
        <p:spPr>
          <a:xfrm>
            <a:off x="563400" y="2841480"/>
            <a:ext cx="77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ass is not a force and has the same value anywhere in the Universe, including oute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ight and mass on different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ShockwaveFlash1"/>
          <p:cNvGraphicFramePr/>
          <p:nvPr/>
        </p:nvGraphicFramePr>
        <p:xfrm>
          <a:off x="179280" y="1052640"/>
          <a:ext cx="869976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869976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es weight v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3400" y="7840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Gravity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is the force that attracts objects with mass towards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63400" y="4836960"/>
            <a:ext cx="414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arth has a bigger mass than the Moon and so exerts a stronger gravitational pull on the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63400" y="3192480"/>
            <a:ext cx="395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For example, an apple will have the same mass on Earth as on the Moon, but its weight will b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newton"/>
          <p:cNvPicPr/>
          <p:nvPr/>
        </p:nvPicPr>
        <p:blipFill>
          <a:blip r:embed="rId1"/>
          <a:stretch/>
        </p:blipFill>
        <p:spPr>
          <a:xfrm>
            <a:off x="4703760" y="976320"/>
            <a:ext cx="4243320" cy="5145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558720" y="19908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bigger the mass of the object, the stronger the force of gr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ight and mass 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ShockwaveFlash1"/>
          <p:cNvGraphicFramePr/>
          <p:nvPr/>
        </p:nvGraphicFramePr>
        <p:xfrm>
          <a:off x="250920" y="1341360"/>
          <a:ext cx="869940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ow do we calculate an objects w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39640" y="836640"/>
            <a:ext cx="837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weight of an object depends on its mass and the gravitational field str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1116000" y="1844640"/>
            <a:ext cx="6862680" cy="649440"/>
            <a:chOff x="1116000" y="1844640"/>
            <a:chExt cx="6862680" cy="649440"/>
          </a:xfrm>
        </p:grpSpPr>
        <p:sp>
          <p:nvSpPr>
            <p:cNvPr id="97" name="AutoShape 5"/>
            <p:cNvSpPr/>
            <p:nvPr/>
          </p:nvSpPr>
          <p:spPr>
            <a:xfrm>
              <a:off x="1116000" y="1844640"/>
              <a:ext cx="6862680" cy="649440"/>
            </a:xfrm>
            <a:prstGeom prst="roundRect">
              <a:avLst>
                <a:gd name="adj" fmla="val 8995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1289160" y="1918080"/>
              <a:ext cx="6511680" cy="5094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10066"/>
                  </a:solidFill>
                  <a:latin typeface="Arial"/>
                </a:rPr>
                <a:t>weight = mass x gravitational field str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7"/>
          <p:cNvSpPr/>
          <p:nvPr/>
        </p:nvSpPr>
        <p:spPr>
          <a:xfrm>
            <a:off x="716040" y="3341520"/>
            <a:ext cx="56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eight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(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716040" y="3803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ss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kilograms (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16040" y="4253040"/>
            <a:ext cx="724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cc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ravitational field strength is measured in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ewtons per kilogram (N/k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60240" y="5283360"/>
            <a:ext cx="84567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gravitational field strength depends on the force of gravity. On Earth it is 1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N/kg, but it varies depending on planet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67720" y="2668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units for these quantities are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the weight of a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3400" y="78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car has a mass of 10,00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k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63400" y="351648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63400" y="443232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0,00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kg x 10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63400" y="507852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100,00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63400" y="143028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at is the weight of the c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63400" y="2076480"/>
            <a:ext cx="43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Use 10</a:t>
            </a:r>
            <a:r>
              <a:rPr b="0" lang="en-GB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value of 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24234678"/>
          <p:cNvPicPr/>
          <p:nvPr/>
        </p:nvPicPr>
        <p:blipFill>
          <a:blip r:embed="rId1"/>
          <a:stretch/>
        </p:blipFill>
        <p:spPr>
          <a:xfrm>
            <a:off x="5141880" y="912960"/>
            <a:ext cx="3764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lculating the weight of an astro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3400" y="784080"/>
            <a:ext cx="462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An astronaut and his equipment have a mass of 150</a:t>
            </a:r>
            <a:r>
              <a:rPr b="0" lang="en-GB" sz="1000" spc="-1" strike="noStrike">
                <a:solidFill>
                  <a:srgbClr val="00006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k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7673958"/>
          <p:cNvPicPr/>
          <p:nvPr/>
        </p:nvPicPr>
        <p:blipFill>
          <a:blip r:embed="rId1"/>
          <a:stretch/>
        </p:blipFill>
        <p:spPr>
          <a:xfrm>
            <a:off x="5405400" y="903240"/>
            <a:ext cx="3265560" cy="5133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563400" y="2852640"/>
            <a:ext cx="444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(Use 1.6 N/k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s the value of </a:t>
            </a: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the gravitational field streng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63400" y="1817640"/>
            <a:ext cx="43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8"/>
                </a:solidFill>
                <a:latin typeface="Arial"/>
              </a:rPr>
              <a:t>What is the weight when he is standing on the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3400" y="3859200"/>
            <a:ext cx="458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 mass x  gravit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                             </a:t>
            </a: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field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63400" y="4775040"/>
            <a:ext cx="43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weight = 150 kg x 1.6 N/k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63400" y="5421240"/>
            <a:ext cx="29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cc"/>
                </a:solidFill>
                <a:latin typeface="Arial"/>
              </a:rPr>
              <a:t>weight =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240</a:t>
            </a:r>
            <a:r>
              <a:rPr b="1" lang="en-GB" sz="1000" spc="-1" strike="noStrike" u="sng">
                <a:solidFill>
                  <a:srgbClr val="cc00cc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cc00cc"/>
                </a:solidFill>
                <a:uFillTx/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lculating 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ShockwaveFlash1"/>
          <p:cNvGraphicFramePr/>
          <p:nvPr/>
        </p:nvGraphicFramePr>
        <p:xfrm>
          <a:off x="444600" y="1125360"/>
          <a:ext cx="8699400" cy="530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125360"/>
                    <a:ext cx="8699400" cy="53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distances involved in space 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manned and unmanned space f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very large distances are measured in sp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324000" y="3284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5"/>
          <a:stretch/>
        </p:blipFill>
        <p:spPr>
          <a:xfrm>
            <a:off x="324000" y="530064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6"/>
          <a:stretch/>
        </p:blipFill>
        <p:spPr>
          <a:xfrm>
            <a:off x="324000" y="4724280"/>
            <a:ext cx="5889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4" dur="2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scribe that radio signals take a long time to travel through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xplain that manned spacecraft need to take food, water and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now that unmanned spacecraft can withstand conditions that are lethal to hum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e that unmanned spacecraft can send back information on: temperature, magnetic field and radiation; gravity, atmosphere and surround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scribe  what a light-year is and its use in measuring very larg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the advantages and disadvantages of using unmanned spacecraft to explore the Sola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wants to go into sp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think about space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n’t che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there too many dangers with tonnes of metal floating around above our head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should happen to the International Space Station stuck in budget wr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think about Virgin Galactic which announced the construction of a $200 million spaceport in 2005 to take tourists into low earth orb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6094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the fastest speed that could EVER be achie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speed of light is 300 000 km per SECOND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(That’s 186 000 miles per seco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Light takes  2 seconds to reach the Earth from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it takes it 8 minutes to reach the Earth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85800" y="0"/>
            <a:ext cx="8458200" cy="66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f you were in a spaceship that travelled at the speed of light and you started a journey from the Sun it would ta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bou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3 minutes to reach Mercur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 minutes to reach Venu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8 minutes to reach the Eart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/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hours to reach Plu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4 years to reach the next st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0 years to reach the edge of the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 000 years to reach the next galax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500 000 years to reach the next Clust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609480"/>
            <a:ext cx="8001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Real rockets don’t travel at the speed of light, they travel MUCH sl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 Apollo missions took 4 days to reach the moon - at the speed of light it would have taken 2 second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rockets were travelling roughly 200 000 times slower than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t this speed it would take 125 YEARS to get to Plut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 is 150 000 000Km away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 travels 300 000km each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light takes about 8minutes to reach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large distances in space are measured in light years- the distance that light travels in 1 year (9 500 000 000 000 000 K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xt star nearest to Earth (after the sun) is called Proxima Centauri  and is 4.22 light years 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6:16:07Z</dcterms:created>
  <dc:creator>Heather Murphy</dc:creator>
  <dc:description/>
  <dc:language>en-US</dc:language>
  <cp:lastModifiedBy>RomaK</cp:lastModifiedBy>
  <dcterms:modified xsi:type="dcterms:W3CDTF">2015-07-31T22:40:50Z</dcterms:modified>
  <cp:revision>6</cp:revision>
  <dc:subject/>
  <dc:title>Exploring our Solar System</dc:title>
</cp:coreProperties>
</file>