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637B-8568-4E72-93C2-01B6127CE9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88C0-DC6C-4C43-9EEE-484BE0805A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4895-3996-42AA-BCA3-9C672DC8A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5F41-4D79-4A6F-8EF8-609912E711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1F27-3223-4BEC-83E6-8041B5B5D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5FC6-E4F6-4825-9463-40B0629D68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lick and reveal activity could be used to check students’ understanding of weight an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note that the classification of Pluto as a planet was still being addressed at the time of publication and so it has still been included as part of thi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949A-17ED-4A2B-9305-292B68EF5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9255-3833-4B10-AF51-6B691BE8F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wo-part sequence shows how gravity affects an astronaut’s movement o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3E07-BA6D-4E07-992C-5B68C98DA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9C1B-F176-402A-92E9-1C3CB340B8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BFEB-46ED-498C-BC01-914BFBF4A8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shows astronaut Edwin E. Aldrin Jr. walking on the lunar surface during the Apollo 11 mission to the Moon in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5EA3-A0E6-4BCA-A50F-0018EB5DFE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ultiple-choice quiz could be used as a plenary activity to assess students’ understanding of weight and mass calculations. Class voting or the use of coloured traffic light cards could be used to make this a whole-clas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10D3-65BA-4B3C-A69E-2DF85300C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E3A8-F413-4691-AD13-46196A5A1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E986-1125-49CA-84C3-E94B049FA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63A8-3079-4423-B1AA-3C6F1EFA1B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1DE5-DE77-43BC-94D9-C2AA62D77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DCDC-E465-4241-A755-CF39248AB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859D-642B-482E-86AB-DB014962C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B5E4-1EE7-44D0-B936-8A8DF9176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4BD6-53AD-4FDD-9826-EDB698B5B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0FA-61E0-4C03-8893-2F3CA9E4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A21-8327-4807-88ED-5232B3C4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062-1FDC-4E7B-8C1B-62B74D25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B69-3786-426D-A744-36DCD7ED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9E7-2F6D-4292-86E5-97409BEF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F0D-21B7-4B29-9D5E-B75DA8B4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D99-53D3-4C86-BEA1-7BB3FA7F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527-2450-4DBB-A942-0A845680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955-64AF-4C73-A344-57C7EE10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12B-6AC0-47A2-BAD7-D3E7BB0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AFC-CB6C-4E6F-86DC-EA423EF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00F-E753-435F-A88B-1DB0CAC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A810-F856-4A47-90BA-4B2D1F7FB5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2f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g00140_"/>
          <p:cNvPicPr/>
          <p:nvPr/>
        </p:nvPicPr>
        <p:blipFill>
          <a:blip r:embed="rId1"/>
          <a:stretch/>
        </p:blipFill>
        <p:spPr>
          <a:xfrm>
            <a:off x="395280" y="333360"/>
            <a:ext cx="261288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caleplanets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63400" y="1468440"/>
            <a:ext cx="450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ave you ever heard anyone saying that “the scales don’t tell the truth about their weight”? You may be surprised to hear that they are 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63400" y="3551400"/>
            <a:ext cx="49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ales give a reading in kilograms, which are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not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98600" y="78408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WARNING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his lesson may alter your we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63400" y="490536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onfusion arises because most people use the word ‘weight’ when scientists would use the word ‘mas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ales_man"/>
          <p:cNvPicPr/>
          <p:nvPr/>
        </p:nvPicPr>
        <p:blipFill>
          <a:blip r:embed="rId1"/>
          <a:stretch/>
        </p:blipFill>
        <p:spPr>
          <a:xfrm>
            <a:off x="5624640" y="1600200"/>
            <a:ext cx="2990880" cy="47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63400" y="1795320"/>
            <a:ext cx="78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mount of matter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n an object and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63400" y="388764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is caused by the pull of gravity acting on a mass. Like other forces, weight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has both magnitude and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63400" y="5299200"/>
            <a:ext cx="78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ight has different values depending on where the object is in the Un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1692360" y="1052640"/>
            <a:ext cx="5759280" cy="649080"/>
            <a:chOff x="1692360" y="1052640"/>
            <a:chExt cx="5759280" cy="649080"/>
          </a:xfrm>
        </p:grpSpPr>
        <p:sp>
          <p:nvSpPr>
            <p:cNvPr id="78" name="AutoShape 7"/>
            <p:cNvSpPr/>
            <p:nvPr/>
          </p:nvSpPr>
          <p:spPr>
            <a:xfrm>
              <a:off x="1692360" y="1052640"/>
              <a:ext cx="5759280" cy="64908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1901880" y="1149120"/>
              <a:ext cx="53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ass and weight are not the sam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9"/>
          <p:cNvSpPr/>
          <p:nvPr/>
        </p:nvSpPr>
        <p:spPr>
          <a:xfrm>
            <a:off x="563400" y="2841480"/>
            <a:ext cx="77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ass is not a force and has the same value anywhere in the Universe, including ou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ight and mass on differen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179280" y="1052640"/>
          <a:ext cx="86997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6997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3400" y="7840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Gravit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the force that attracts objects with mass towards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63400" y="4836960"/>
            <a:ext cx="41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arth has a bigger mass than the Moon and so exerts a stronger gravitational pull on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63400" y="3192480"/>
            <a:ext cx="39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an apple will have the same mass on Earth as on the Moon, but its weight will b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newton"/>
          <p:cNvPicPr/>
          <p:nvPr/>
        </p:nvPicPr>
        <p:blipFill>
          <a:blip r:embed="rId1"/>
          <a:stretch/>
        </p:blipFill>
        <p:spPr>
          <a:xfrm>
            <a:off x="4703760" y="976320"/>
            <a:ext cx="424332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58720" y="19908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bigger the mass of the object, the stronger the force of gr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ight and mass 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250920" y="1341360"/>
          <a:ext cx="86994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83664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weight of an object depends on its mass and the gravitational field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116000" y="1844640"/>
            <a:ext cx="6862680" cy="649440"/>
            <a:chOff x="1116000" y="1844640"/>
            <a:chExt cx="6862680" cy="649440"/>
          </a:xfrm>
        </p:grpSpPr>
        <p:sp>
          <p:nvSpPr>
            <p:cNvPr id="97" name="AutoShape 5"/>
            <p:cNvSpPr/>
            <p:nvPr/>
          </p:nvSpPr>
          <p:spPr>
            <a:xfrm>
              <a:off x="1116000" y="1844640"/>
              <a:ext cx="6862680" cy="64944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1289160" y="1918080"/>
              <a:ext cx="65116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weight = mass x gravitational field str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716040" y="334152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ight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16040" y="3803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ss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ilograms (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16040" y="4253040"/>
            <a:ext cx="72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ravitational field strength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per kilogram (N/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60240" y="5283360"/>
            <a:ext cx="8456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avitational field strength depends on the force of gravity. On Earth it is 10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/kg, but it varies depending on planet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67720" y="2668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units for these quantitie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the weight of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3400" y="78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car has a mass of 10,00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63400" y="351648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63400" y="443232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0,00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kg x 1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3400" y="507852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100,00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63400" y="143028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is the weight of the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400" y="2076480"/>
            <a:ext cx="43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Use 1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value of 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24234678"/>
          <p:cNvPicPr/>
          <p:nvPr/>
        </p:nvPicPr>
        <p:blipFill>
          <a:blip r:embed="rId1"/>
          <a:stretch/>
        </p:blipFill>
        <p:spPr>
          <a:xfrm>
            <a:off x="5141880" y="912960"/>
            <a:ext cx="37641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lculating the weight of an astrona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63400" y="78408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An astronaut and his equipment have a mass of 150</a:t>
            </a:r>
            <a:r>
              <a:rPr b="0" lang="en-GB" sz="1000" spc="-1" strike="noStrike">
                <a:solidFill>
                  <a:srgbClr val="00006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7673958"/>
          <p:cNvPicPr/>
          <p:nvPr/>
        </p:nvPicPr>
        <p:blipFill>
          <a:blip r:embed="rId1"/>
          <a:stretch/>
        </p:blipFill>
        <p:spPr>
          <a:xfrm>
            <a:off x="5405400" y="903240"/>
            <a:ext cx="3265560" cy="5133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63400" y="2852640"/>
            <a:ext cx="44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(Use 1.6 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the value of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63400" y="1817640"/>
            <a:ext cx="43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What is the weight when he is standing on the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3400" y="385920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63400" y="477504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50 kg x 1.6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63400" y="542124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24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ShockwaveFlash1"/>
          <p:cNvGraphicFramePr/>
          <p:nvPr/>
        </p:nvGraphicFramePr>
        <p:xfrm>
          <a:off x="444600" y="1125360"/>
          <a:ext cx="8699400" cy="530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125360"/>
                    <a:ext cx="869940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5"/>
          <a:stretch/>
        </p:blipFill>
        <p:spPr>
          <a:xfrm>
            <a:off x="324000" y="5300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5889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609480"/>
            <a:ext cx="83059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the fastest speed that could EVER be achie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300 000 km per SECOND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(That’s 186 000 miles per se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ight takes  2 seconds to reach the Earth from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it takes it 8 minutes to reach the Earth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0"/>
            <a:ext cx="8458200" cy="66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were in a spaceship that travelled at the speed of light and you started a journey from the Sun it would t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bou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 minutes to reach Mercu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minutes to reach Ven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8 minutes to reach the Ea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ours to reach Plu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4 years to reach the next st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0 years to reach the edge of the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 000 years to reach the next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 000 years to reach the next Clus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609480"/>
            <a:ext cx="8001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al rockets don’t travel at the speed of light, they travel MUCH s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Apollo missions took 4 days to reach the moon - at the speed of light it would have taken 2 second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se rockets were travelling roughly 200 000 times slower than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t this speed it would take 125 YEARS to get to Plu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16:07Z</dcterms:created>
  <dc:creator>Heather Murphy</dc:creator>
  <dc:description/>
  <dc:language>en-US</dc:language>
  <cp:lastModifiedBy>RomaK</cp:lastModifiedBy>
  <dcterms:modified xsi:type="dcterms:W3CDTF">2015-07-31T22:40:50Z</dcterms:modified>
  <cp:revision>6</cp:revision>
  <dc:subject/>
  <dc:title>Exploring our Solar System</dc:title>
</cp:coreProperties>
</file>