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212E-78B9-453A-AA9B-78BA4A8E36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18AF-B194-4AF5-8276-C957B513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C8E-2204-4283-A294-369C3BFD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279-5C1B-4625-8D34-3A794D26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C79-97EA-4CE9-BE31-45D378B7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BD12-AE0D-4BF7-882E-8F3D71AC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0483-E08B-42E5-8AF6-1F236BD7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A586-51A7-4E25-BE7D-B145C7D0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62AE-32DD-434C-BF5E-CDC45EDE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999D-B1C5-46A2-9426-BA942083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9A91-1673-400F-877C-DFF93C0F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1F42-BDCE-4ECE-AB10-18F7FAFE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E37-6618-48BD-86EB-1C9E9158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B18B-7027-4C9B-9D74-E36CDC08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1532-DEB7-4BDB-83F6-B8110D39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2C52-1B16-4265-90FE-3EF1ECCD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875C-93E6-44D8-BB9C-56089551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E2BE-A522-4115-AA0C-CB7762AB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06C09-C2F9-41F4-861F-AE4C48F2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C3102-B2C3-46FC-97DE-852A6A61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A0C5C-DCB4-4045-A174-521F0E6B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4B939-7C1A-4B57-B361-60ABF9CC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A7F96-1C54-4F79-A1D6-50EA9BA6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252-8727-425C-B365-67482FBC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7E58D-8C09-4A69-B610-13740168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E43B6-10D9-4B38-9DDD-07D70F32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0BE0B-9019-4CE3-9EB8-76A40FBA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359368-9795-4D11-8A54-39358BBA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E1366-D784-49BE-A2A9-8480DC82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22FFA4-A66D-42B9-BDD5-F46E5C89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BE78B-B448-4B3C-A3C6-88521F51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753DB-06FF-4586-8B88-E586076A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6DB52-D717-46F6-84CA-13FAA2A1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544D11-7BFC-4F5C-9ABA-49DCAEFB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DDB9-68C1-424C-9BD4-3184E187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E7034F-B43E-490A-9CCD-617FD9F6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A0507-D678-4612-9298-60CAD2E9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F8781-1245-4485-876B-77F5C731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3817B-D528-411A-802D-10E86050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592DD-B46E-4399-AAFB-0CFC8771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2EB19-1431-4F81-BB9D-BE6CF965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0FEB5-B2E5-41B0-964F-C852FB03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83874-3FAA-41C6-A7A2-DF78D948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288E3-940A-4EEF-8849-409C64E6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9B484-BCCA-439F-A4EE-7ABF6E36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954D-3F39-40FE-BD52-5FA35E63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E86176-D354-423A-B5DB-3D844025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1C7E3-5E58-4B33-8275-38D34521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CA535-11D4-4448-AA38-10E5923E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E695B-0C94-4375-8AEA-859F7D9E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23184E-ECFD-4E7B-A7FD-B7AF5529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1D807-14A3-4473-B1B7-825AABF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2766E-D6BB-45B4-8195-04BE7465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0BADB-9CB5-4466-8B51-2CC86AC4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89475-1466-40C8-B962-42253271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FB871-1D47-44A9-95F6-27AEFDB9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0EB-7F89-4B3A-AFDD-0071D091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42F21-B412-4F55-8FE1-9162E217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CA597-8573-4595-B4CF-B8184826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4DADD-BDDD-4EAF-97B3-550FD7B2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C310-998B-4BB2-8A6A-EF3E0B77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68CF6-825C-4F9C-8870-0993C5C3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E2DE5-E4BD-4AA4-B56B-3A5B5A7D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AA30F-EA78-450A-80DA-5CB9D6D5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E25D2-06D0-43DC-810F-EC81020D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C3AEC-1C76-4982-9776-0371F7EA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4FA60-C279-4207-AFB0-D45524B9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CF4-5ADE-4D32-B45D-48FAD0F5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7E444-2E68-4EA2-B645-62309F0D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3373F-665F-4505-9872-600E3B71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5E521-3A69-4167-9C61-22D39B37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BD221-04E4-4BA9-AB8E-93A84F62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F292E-6B10-4563-8201-48CCA3ED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A120F-A3D2-4DDB-BA1E-929646B3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EEABF-7F7B-47DF-9C84-C1FFF945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95BFA-0E2A-40E2-B3C4-A59EB33C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D21EDE-4A9E-4B90-9886-3982F5EC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7248A-F6B3-408A-89A8-15A5DD47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2B1-A28E-45A6-8B05-53DB6A0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CE30E8-4329-4BE3-8F46-A1DFF751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66F70C-669C-4EE0-AFB5-2312B746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988FA-5167-480A-89E0-5BD33BC6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ADBFC3-10AE-446E-9F22-E24ECD05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CDAC9A-AB29-4E95-A5A3-4B588664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247A6-AD2B-4408-AAEB-F003B14A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B4160-4856-427C-AED4-556C4E34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4D299-6349-4C78-A4B6-50B076F4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F60C1-FF0F-483B-A1F4-910F7697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73BA4-F18E-4358-BBDC-E810F920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C29-FC60-4EFF-8816-D42D1A24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AE59D-5C8C-4A12-8FE6-4F1B556D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C4781-F088-42D8-867A-68EB02F9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98E04-8986-47AC-9F81-DD0211C3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07751-CB6D-4011-A45A-47A08EA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40DFA-414F-42A5-A9D2-8DBEA7C3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FFAB4-7FBD-410B-AAB5-63556FFF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DE31B-3B99-4CA5-B7D1-34E360AD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9776-64AA-4552-853E-0E3C101D943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9230-2C27-441D-A059-4CF2F793C18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18E9-3BB7-43F0-9A5E-16C74185857D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3D7E-01CF-45E8-B796-EC2414B2DECC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6A48-8A13-436C-AE12-188E118F689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7F81-11DB-4C8C-9933-0D27F92074C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7C59-7D8E-418D-84CD-A596FB52F2A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D89B-1DC0-407D-BA47-6661C8A1CD4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70E2-C306-4244-8BA8-A69690CBA7F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220D-6DCE-425C-A022-10FAC915141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3053-9BD2-436E-843D-0E3742EFEBC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044E-FA67-4F7F-8250-250523A1EA6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1865-6977-4641-8615-18EE4CBDFAA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4E24-A5AF-4643-9B22-46F0181E1D2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3410-0E99-43EE-8637-26C7DDB451B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535B-9902-47C8-8671-841AA20239D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OSSI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races of the past……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2" descr="C:\Documents and Settings\carolyn.kinne\Local Settings\Temporary Internet Files\Content.IE5\E2LUDJLQ\MPj04386170000[1].jpg"/>
          <p:cNvPicPr/>
          <p:nvPr/>
        </p:nvPicPr>
        <p:blipFill>
          <a:blip r:embed="rId1"/>
          <a:stretch/>
        </p:blipFill>
        <p:spPr>
          <a:xfrm>
            <a:off x="1219320" y="533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happened befor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traces of things that happened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and animals can become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only discovered a small number of the plants and animals from the p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not the original, only a cop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C:\Documents and Settings\carolyn.kinne\Local Settings\Temporary Internet Files\Content.IE5\E2LUDJLQ\MCj02863140000[1].wmf"/>
          <p:cNvPicPr/>
          <p:nvPr/>
        </p:nvPicPr>
        <p:blipFill>
          <a:blip r:embed="rId1"/>
          <a:stretch/>
        </p:blipFill>
        <p:spPr>
          <a:xfrm>
            <a:off x="3657600" y="4495680"/>
            <a:ext cx="1778040" cy="18129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example of fossilized plants is petrified w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rns, tree leaves, and other plants have been found, to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C:\Documents and Settings\carolyn.kinne\Local Settings\Temporary Internet Files\Content.IE5\E2LUDJLQ\MCj02938980000[1].wmf"/>
          <p:cNvPicPr/>
          <p:nvPr/>
        </p:nvPicPr>
        <p:blipFill>
          <a:blip r:embed="rId1"/>
          <a:stretch/>
        </p:blipFill>
        <p:spPr>
          <a:xfrm>
            <a:off x="3733920" y="3886200"/>
            <a:ext cx="1465200" cy="182736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imal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fossils are of dinosau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also fossils of sea creatures and mam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many fossils are found in one place because of a flood, earthquake, or other disa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C:\Documents and Settings\carolyn.kinne\Local Settings\Temporary Internet Files\Content.IE5\E2LUDJLQ\MPj03857610000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276720" cy="23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Documents and Settings\carolyn.kinne\Local Settings\Temporary Internet Files\Content.IE5\60TCN93U\MCAN01357_0000[1].wmf"/>
          <p:cNvPicPr/>
          <p:nvPr/>
        </p:nvPicPr>
        <p:blipFill>
          <a:blip r:embed="rId2"/>
          <a:stretch/>
        </p:blipFill>
        <p:spPr>
          <a:xfrm>
            <a:off x="1371600" y="4267080"/>
            <a:ext cx="254484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fossils are fo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often found by acci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leontologists and geologists use clues in the rocks to find good places to hunt for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avating fossils is hard work, and must be done carefu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2" descr="C:\Documents and Settings\carolyn.kinne\Local Settings\Temporary Internet Files\Content.IE5\MNV8FF4K\MCj01557110000[1].wmf"/>
          <p:cNvPicPr/>
          <p:nvPr/>
        </p:nvPicPr>
        <p:blipFill>
          <a:blip r:embed="rId1"/>
          <a:stretch/>
        </p:blipFill>
        <p:spPr>
          <a:xfrm>
            <a:off x="3276720" y="4343400"/>
            <a:ext cx="1820880" cy="144468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How are fossils made?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fossil is made when a plant or animal is covered quickly with mud or as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organism’s tissues are replaced over a long period of time with minerals from the soil it was buried 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can be dated by the layer of rock they were found in, or by radiocarbon da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2" descr="C:\Documents and Settings\carolyn.kinne\Local Settings\Temporary Internet Files\Content.IE5\XKKQW3N2\MCNA00178_0000[1].wmf"/>
          <p:cNvPicPr/>
          <p:nvPr/>
        </p:nvPicPr>
        <p:blipFill>
          <a:blip r:embed="rId1"/>
          <a:stretch/>
        </p:blipFill>
        <p:spPr>
          <a:xfrm>
            <a:off x="3505320" y="5029200"/>
            <a:ext cx="1828800" cy="159876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ues to the pa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fossils give us an idea of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give clues about the diet of ani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imals give clues about the availability of plants and the climate when they liv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clues fit together to make a more complete picture of what the world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carolyn.kinne\Local Settings\Temporary Internet Files\Content.IE5\60TCN93U\MCj01985300000[1].wmf"/>
          <p:cNvPicPr/>
          <p:nvPr/>
        </p:nvPicPr>
        <p:blipFill>
          <a:blip r:embed="rId1"/>
          <a:stretch/>
        </p:blipFill>
        <p:spPr>
          <a:xfrm>
            <a:off x="3657600" y="5105520"/>
            <a:ext cx="1173240" cy="15094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n we ever really know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matter how many clues we have, we can never really know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can make an educated guess, and fill in the gaps using what we know about life to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’s fun to imagine what it was like when the dinosaurs lived.  Try it next time you feel bor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8:59:39Z</dcterms:created>
  <dc:creator>Ector County ISD Employee</dc:creator>
  <dc:description/>
  <dc:language>en-US</dc:language>
  <cp:lastModifiedBy>LEGION2</cp:lastModifiedBy>
  <dcterms:modified xsi:type="dcterms:W3CDTF">2016-01-13T07:22:22Z</dcterms:modified>
  <cp:revision>8</cp:revision>
  <dc:subject/>
  <dc:title>Fossils</dc:title>
</cp:coreProperties>
</file>