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7130-F90B-4799-A08A-9C66BCE8A9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D0C-4183-4BFA-A483-7A4EEBCF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A94-EBAA-44C3-9AD2-D6B84803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AD3-E96C-407D-B7BF-19687B3B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07D-6B54-4EFA-BEAF-B0DBD9A2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D67E-FAA9-426E-B2B3-EDC42B5B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BADE-000C-47E3-B1EF-123D2555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4F0C-8B11-471B-B23B-818B60D2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931B-6CA8-4A16-870F-1E90176E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01CA-B76C-481E-B2DF-8633A14E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50F3-457C-453A-A5F1-2C46B23E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BB74-C079-4F8D-801F-5212C377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E81-EB2B-4E9D-9E95-2916884F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F41C-47C1-4A48-BD69-FE7E20D8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9550-B3D5-46A1-88BE-F09271BB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21A2-72E1-495C-8A92-88498C96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1771-73E0-4104-8943-B7D2D52E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F46F-546B-47CC-BF33-299F2BF8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CD06D-42C3-4841-B6DE-4D4CA4F9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98411-9040-4676-AF1D-1E9FFEB9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767C7-44C4-4389-9CDF-39FC1586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C8891-FAF0-45F6-A8CA-C026F60B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990D1-7FC7-4F63-98E6-A4B85103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8D8-DC07-491E-8E08-DF79E862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51CF4-801E-4E97-B69A-C93AB36C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7C568-2CDD-445B-B680-A8F42CF3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813CF-AC86-4649-9A15-5461D2EB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2BBE3-654D-4F37-9408-8E209358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84A61-CADA-47CA-9D4A-34D5C97B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9A30E-45BC-46BF-BC23-E9D5FD7D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606FA-6F36-4A65-9C0F-6BF291C4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3F9DA-50E1-4BE8-A3AA-6430613A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1B19C-00AE-4CE8-9E90-1C87A2E5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1D7FB-FC00-4618-AFD2-07AD2BA3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95D-4CE8-470D-AA88-7617F3C2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F0BAEB-B810-4AF8-A65C-9D396F83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ED8D1-9F14-4D0B-BC55-9B908F44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35DD1-3AC9-47FD-8A51-524B6247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E858D2-C5F5-434E-A242-060FECAF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72E3C-9BA2-46A7-98D5-33D47C75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45E63-F10F-44E6-8732-0F9EACA5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358BD-4FA5-47E3-B6D5-F09B2483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31E8F-6C98-47F5-9285-6E07FB66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FC20E-A658-4052-A604-4C4C0509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9473D-FA3B-44E8-AD3F-6FEFB3AC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D08-B3F5-45AA-8445-81B3219C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CBC783-D10A-493B-AD07-93CF2A1E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D586D-D10C-4165-8708-BAA450AF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DD9FA-616B-4220-B99F-4D2ADE11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C461F-7DA0-4167-B1EB-C36383DD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0F678-41D7-46D1-9E10-85C05998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3B4DE-3B07-4E3F-853C-1F4E1A94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F75B8-8875-4CEC-8A74-8297D7B6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666ABE-AEB4-4DE5-A5C4-81338B4C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F5800-5D51-42F6-8F5A-F4C463D6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18C12-110D-4A75-A6B1-94ABB034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FAA-19E6-4A18-A4F8-39E8D507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2AF95-3583-4B2F-83C4-97262496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1CFEE-FD2D-48FF-8DBC-1BA3A4A6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2773C-A9D8-4AD9-BFD1-58C90F06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229EF-A54D-4B0B-A571-D6BDF82D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DA7F1-8CCF-458F-8E28-54DA621A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7A712-22AC-4494-8B76-3C7FDA70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2204F-6CDB-42F2-8CED-7CC21081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4FED-8CB6-4221-BDDF-76815613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2DCDB-176F-48AF-926E-0E14EF63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5C7F3-9BA2-4B33-BF28-6E484876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CCF-DB5F-4E3B-A28A-F894196D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8BA7D-4752-4493-A947-BAA7D521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B0CEC-7619-46CC-844B-932C2BE1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C2F90-C7EF-41A8-9D84-80DA924A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D51C5-FA45-460B-A3EE-47A22FA5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A1F58-8425-459F-BDE3-B05391C8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22584-E5E9-406D-A898-526D1E9A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8CC43-10FA-4887-9C9B-EA5760CC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C9A43-1E3D-49AA-BD17-FA986BFD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DE650-9617-4215-AB25-01A4E16C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0AF28-8190-4047-9EDC-DCBEE44B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384-0D14-42EE-8481-7063ED95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D4268-6C22-4314-A78C-8EDC445B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377B9D-B5C9-44CF-93E2-818136CA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2B6F7-6B7A-4040-8F03-34CA78F6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BB1F57-F431-4B96-BFE3-B7BAE256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09D70-F11D-4E7C-B2C5-8F1643D2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02E48-C10A-4B21-8D84-6DE7844B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68960-1D73-4378-B37D-94C32174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62AF3-F72F-40AB-9F42-E224CBF5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4C9AF-74E4-4A26-9CD4-F3E2FCC6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EFF87-398B-4705-BA9F-0D258EEA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A5B-0686-46E4-AFEA-52DD5E3C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66308-F4AA-401C-96D0-C3D26C46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5A832-6275-408C-859B-F604992E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06269-4C80-4B10-9967-0B7F037D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DD6C5-1679-4A8C-8C8F-81919584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38126-3615-4179-9529-D0BFAA0C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824BF-0077-4112-8A12-79AF8DEB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0F164-8EF9-47FE-A66B-F1900974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D32A-64ED-4910-9789-FD77680D337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2CEC-40B1-46B0-87A1-BEDBBFDCDAE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BA4C-3E62-4CBE-8205-B749A180FB0B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EF73-8B35-4729-9014-9D99E8AA6339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6B36-E9E9-45E6-A6B2-1646E1D1C72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4907-9043-4B66-BC3A-FAB13954434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B156-226A-48CB-976A-A9107EF4CFD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AADC-954B-4DA4-AD90-2F0987F74DA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242E-7BB2-4C05-B85B-931DA0297C1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0F37-71FF-4751-92A0-B955C07C26B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AD47-A85D-45E2-8883-0E0E1B63ADE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F61B-E79C-4E72-AF62-BA1AB873293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7CBB-1471-4090-90DE-F9774F94F53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3998-A2B4-4B7B-B863-83971AA9320B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B65D-7882-4C5C-AA5E-2FA558302BE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F5FA-184A-4994-AAC5-0E14B6E0383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OSSI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races of the past……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2" descr="C:\Documents and Settings\carolyn.kinne\Local Settings\Temporary Internet Files\Content.IE5\E2LUDJLQ\MPj04386170000[1].jpg"/>
          <p:cNvPicPr/>
          <p:nvPr/>
        </p:nvPicPr>
        <p:blipFill>
          <a:blip r:embed="rId1"/>
          <a:stretch/>
        </p:blipFill>
        <p:spPr>
          <a:xfrm>
            <a:off x="1219320" y="533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happened befor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traces of things that happened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and animals can become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only discovered a small number of the plants and animals from the p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not the original, only a cop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C:\Documents and Settings\carolyn.kinne\Local Settings\Temporary Internet Files\Content.IE5\E2LUDJLQ\MCj02863140000[1].wmf"/>
          <p:cNvPicPr/>
          <p:nvPr/>
        </p:nvPicPr>
        <p:blipFill>
          <a:blip r:embed="rId1"/>
          <a:stretch/>
        </p:blipFill>
        <p:spPr>
          <a:xfrm>
            <a:off x="3657600" y="4495680"/>
            <a:ext cx="1778040" cy="18129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example of fossilized plants is petrified w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rns, tree leaves, and other plants have been found, to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C:\Documents and Settings\carolyn.kinne\Local Settings\Temporary Internet Files\Content.IE5\E2LUDJLQ\MCj02938980000[1].wmf"/>
          <p:cNvPicPr/>
          <p:nvPr/>
        </p:nvPicPr>
        <p:blipFill>
          <a:blip r:embed="rId1"/>
          <a:stretch/>
        </p:blipFill>
        <p:spPr>
          <a:xfrm>
            <a:off x="3733920" y="3886200"/>
            <a:ext cx="1465200" cy="182736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imals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fossils are of dinosau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also fossils of sea creatures and mam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many fossils are found in one place because of a flood, earthquake, or other disa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3" descr="C:\Documents and Settings\carolyn.kinne\Local Settings\Temporary Internet Files\Content.IE5\E2LUDJLQ\MPj03857610000[1].jpg"/>
          <p:cNvPicPr/>
          <p:nvPr/>
        </p:nvPicPr>
        <p:blipFill>
          <a:blip r:embed="rId1"/>
          <a:stretch/>
        </p:blipFill>
        <p:spPr>
          <a:xfrm>
            <a:off x="5486400" y="3962520"/>
            <a:ext cx="3276720" cy="234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Documents and Settings\carolyn.kinne\Local Settings\Temporary Internet Files\Content.IE5\60TCN93U\MCAN01357_0000[1].wmf"/>
          <p:cNvPicPr/>
          <p:nvPr/>
        </p:nvPicPr>
        <p:blipFill>
          <a:blip r:embed="rId2"/>
          <a:stretch/>
        </p:blipFill>
        <p:spPr>
          <a:xfrm>
            <a:off x="1371600" y="4267080"/>
            <a:ext cx="254484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w fossils are fou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often found by accid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leontologists and geologists use clues in the rocks to find good places to hunt for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avating fossils is hard work, and must be done carefu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2" descr="C:\Documents and Settings\carolyn.kinne\Local Settings\Temporary Internet Files\Content.IE5\MNV8FF4K\MCj01557110000[1].wmf"/>
          <p:cNvPicPr/>
          <p:nvPr/>
        </p:nvPicPr>
        <p:blipFill>
          <a:blip r:embed="rId1"/>
          <a:stretch/>
        </p:blipFill>
        <p:spPr>
          <a:xfrm>
            <a:off x="3276720" y="4343400"/>
            <a:ext cx="1820880" cy="144468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How are fossils made?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fossil is made when a plant or animal is covered quickly with mud or as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organism’s tissues are replaced over a long period of time with minerals from the soil it was buried 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can be dated by the layer of rock they were found in, or by radiocarbon da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2" descr="C:\Documents and Settings\carolyn.kinne\Local Settings\Temporary Internet Files\Content.IE5\XKKQW3N2\MCNA00178_0000[1].wmf"/>
          <p:cNvPicPr/>
          <p:nvPr/>
        </p:nvPicPr>
        <p:blipFill>
          <a:blip r:embed="rId1"/>
          <a:stretch/>
        </p:blipFill>
        <p:spPr>
          <a:xfrm>
            <a:off x="3505320" y="5029200"/>
            <a:ext cx="1828800" cy="159876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ues to the pa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fossils give us an idea of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give clues about the diet of ani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imals give clues about the availability of plants and the climate when they liv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clues fit together to make a more complete picture of what the world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2" descr="C:\Documents and Settings\carolyn.kinne\Local Settings\Temporary Internet Files\Content.IE5\60TCN93U\MCj01985300000[1].wmf"/>
          <p:cNvPicPr/>
          <p:nvPr/>
        </p:nvPicPr>
        <p:blipFill>
          <a:blip r:embed="rId1"/>
          <a:stretch/>
        </p:blipFill>
        <p:spPr>
          <a:xfrm>
            <a:off x="3657600" y="5105520"/>
            <a:ext cx="1173240" cy="15094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n we ever really know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matter how many clues we have, we can never really know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can make an educated guess, and fill in the gaps using what we know about life to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’s fun to imagine what it was like when the dinosaurs lived.  Try it next time you feel bore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8:59:39Z</dcterms:created>
  <dc:creator>Ector County ISD Employee</dc:creator>
  <dc:description/>
  <dc:language>en-US</dc:language>
  <cp:lastModifiedBy>LEGION2</cp:lastModifiedBy>
  <dcterms:modified xsi:type="dcterms:W3CDTF">2016-01-13T07:22:22Z</dcterms:modified>
  <cp:revision>8</cp:revision>
  <dc:subject/>
  <dc:title>Fossils</dc:title>
</cp:coreProperties>
</file>