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10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85E2F-F32D-4605-B564-8238363FE93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ssi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ces of the past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ss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ces of the past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happened befo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ssils are traces of things that happened long a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ts and animals can become fossi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have only discovered a small number of the plants and animals from the p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ssils are not the original, only a cop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happened befo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ssils are traces of things that happened long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ts and animals can become foss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have only discovered a small number of the plants and animals from the p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ssils are not the original, only a cop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st famous example of fossilized plants is petrified w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rns, tree leaves, and other plants have been found, to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st famous example of fossilized plants is petrified w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rns, tree leaves, and other plants have been found, to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l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st famous fossils are of dinosa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also fossils of sea creatures and mamm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imes many fossils are found in one place because of a flood, earthquake, or other disas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l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st famous fossils are of dinosa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also fossils of sea creatures and 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imes many fossils are found in one place because of a flood, earthquake, or other dis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fossils are f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ssils are often found by accid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leontologists and geologists use clues in the rocks to find good places to hunt for fossi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cavating fossils is hard work, and must be done careful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fossils are f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ssils are often found by accid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leontologists and geologists use clues in the rocks to find good places to hunt for foss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cavating fossils is hard work, and must be done carefu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re fossils made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fossil is made when a plant or animal is covered quickly with mud or a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rganism’s tissues are replaced over a long period of time with minerals from the soil it was buried 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ssils can be dated by the layer of rock they were found in, or by radiocarbon da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re fossils made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fossil is made when a plant or animal is covered quickly with mud or a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rganism’s tissues are replaced over a long period of time with minerals from the soil it was buried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ssils can be dated by the layer of rock they were found in, or by radiocarbon d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ues to the p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fossils give us an idea of what life was like long a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ts give clues about the diet of anim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ls give clues about the availability of plants and the climate when they li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clues fit together to make a more complete picture of what the world was like long a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ues to the p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fossils give us an idea of what life was like long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ts give clues about the diet of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ls give clues about the availability of plants and the climate when they li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clues fit together to make a more complete picture of what the world was like long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we ever really kn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matter how many clues we have, we can never really know what life was like long a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make an educated guess, and fill in the gaps using what we know about life to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fun to imagine what it was like when the dinosaurs lived.  Try it next time you feel bore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we ever really k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matter how many clues we have, we can never really know what life was like long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make an educated guess, and fill in the gaps using what we know about life to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fun to imagine what it was like when the dinosaurs lived.  Try it next time you feel bor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E96D-BD29-46BF-A002-6FD8D0E5E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0ACB-950B-492A-8CE7-54091D745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9180-19AE-4E93-8C7D-774F4BB85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8B45-4940-4516-A7AF-1592329F0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CCBA7-17D1-421F-B426-3C233A6FE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5BF79-8687-482D-99AC-E68AFC392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9ECE1-3EC7-4994-9518-619C25FB8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8ED92-43B1-4628-AC73-6A18CE0DB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EA71B-8807-4D1F-B141-90EC9B38C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C68D9-1C44-4D57-992E-77EF8CBE3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D2A6D-2863-42C2-AA41-12722F96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FBA7-661F-43B7-85A2-5B392A580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0B935-CBB4-45AC-8920-81AB35C49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322E5-1A8B-4E44-BA0B-A6E518A8C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76C32-CE5F-4227-9DAE-739659071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A4B00-D7C4-4451-B6EC-DECABFCA5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24843-4887-4C87-92D6-0E547F925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F0F84B-2A98-4155-A4D4-551A82DB3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3B9691-45DE-4A10-A8E8-09502AFE4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1AD7CF-FE17-49A5-8ED2-DD77CDD4D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90C967-ECEA-4E28-8422-3EAF65B84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649076-5CAF-42DB-916C-D65F31B71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FD3A-8876-4624-8640-795848718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3AD9DD-898A-46A2-A905-8291E9667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F3150C-78D6-46B6-879B-4561B9754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A335BC-D193-4797-85F5-939FD81E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872084-E140-461D-9967-BE00892DF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7089F5-E583-4CEE-8994-8E7C2564C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CE90B7-A74F-446A-93B2-93917A0C1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817D6C-8652-4419-8D36-0F6053C9F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A85AFE-F137-44BB-B149-CAD235A05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180F25-BD24-4BD3-AA04-1A698D77E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1982B2-6531-4BAA-B200-2DBD4E2B9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F0AC-E42D-4003-8566-5706CB5F2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10AF1A-4C8B-4BA7-BDA2-5B79EEBD4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156DDC-B2D1-422B-ADEE-B3966EA3B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DF7CE6-E0B0-4D1E-95B2-561360AA0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E46497-C227-458C-A77E-EAAB2F836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E630B6-5C11-45DE-8FBF-983D22899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D086B8-B27B-4F49-B6A4-95DAD2043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A0A82D-10C0-43A6-A9E4-E5A75AA22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F36842-2C9A-4733-8F9B-80AEC5CE9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9D43C5-46D2-4779-B44F-2F91B0F89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DB2891-0FEC-45C2-9509-EA36D8615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FBB1-3665-412C-8FF0-6D8533A74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939E24-FCDF-44FF-A01E-47AB86B2F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D916BE-A932-4EE1-961B-687F7226B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DF53F5-C2C2-4899-B611-BBE1D38B3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A59136-488E-4DFE-AD6B-180CBCD30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10C3B8-9BE8-49B7-8A2E-30546D26F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1FEEF0-9779-4E14-A592-FDA46AFB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12C539-C778-464D-A9BE-1B189812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1A6C75-9138-4919-9537-DF8533A4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7502FF-EA9C-4B0C-961D-BDD55ED8C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64C713-ECB3-4F7B-8E04-0655CF6D4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76C7-46B1-4346-828C-070E0B708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10B449-ABF4-4C46-ACA3-ADE3E87AF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FBFF53-1F68-4A99-BCD0-72BF3D299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9C47B-17A3-432F-8B24-E5378EACC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CFF95A-333B-4366-A019-AFBF8C533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050407-4F13-4D86-9131-4B6259FAD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4FA5AD-847B-442F-B1B8-0255CEDE0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2C6FB1-CDE4-4645-BA5A-D714D8F71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001465-0799-4062-B500-DAA5EEF9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A91250-8D48-4587-968F-0F0DE64CB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21C7E5-6A45-4D74-8B19-31DEF7CA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7DC2-3E02-46DC-92BA-6F67DCE2F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7F10DA-91A4-4A56-8E62-095B0DE71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65DE7E-6060-4041-B9D6-D1DDA81E5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74CA1E-928E-4B04-B930-AE1580055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36B0E9-3E38-4F2B-B051-CC729D547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A850F1-8C7B-4063-A140-81A97F6A4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8024B4-7AB3-4954-BEB9-F96B8D026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B3C0D8-0D0B-4E5E-9C05-4E0DE2C19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C8F266-ED3A-4726-82C4-96C3ADAFF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A61FC5-2BFC-4DD0-AE4C-9139D0962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7338B1-73EF-48A0-BBCF-A609BAC42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28DA-A389-42C2-B43F-71B34CA9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177482-6201-4101-A25F-5A824C1F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6834C7-D4ED-4D97-B037-6DC79E8B0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DF9B5E-FAB3-481E-9429-F0277825B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1BD3D6-6C3D-4079-9E34-9B1DA7E21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F253E4-911B-4D42-B14D-95C00EF04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C0F947-F439-4A36-9956-AC9351C08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8C51E9-AFDD-4514-933C-455D15854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4927B4-F06D-4848-8573-67C581908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01A641-CD49-4BA5-9686-D61457A89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DC44F8-D9E6-4D79-A2F5-E70B3EE8A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CC08-E4F2-4566-A566-652482A8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67A232-BEAA-4950-98B3-30298E6F2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E33557-E22C-4567-9732-6074CFC09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FF1035-24D9-470B-AAE0-4401F4C09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4E6789-6655-4717-83B3-D17495DC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25C685-8FAC-4B6B-80D8-ABC57D005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875FDE-E2E1-4673-914D-B2A2C57D8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97EBF4-F51F-4C20-8AFC-DF05FB8C5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68AC4-AACD-4C46-8A36-0EF51212468B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67F41-297D-4E6F-B771-C1A3DEC1D46E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C9E3E-814A-4367-B6A3-22637C8352DF}" type="datetime">
              <a:rPr b="0" lang="en-US" sz="2000" spc="-1" strike="noStrike">
                <a:solidFill>
                  <a:srgbClr val="ffffff"/>
                </a:solidFill>
                <a:latin typeface="Tw Cen MT"/>
              </a:rPr>
              <a:t>07/28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49EA7-9388-402C-8BD8-0849D408E0D7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B601F-C72C-405E-8341-21C89873E577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18EC2-5B83-44AE-AE8F-C2AE3783DF31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275E1-B7F1-498F-9A51-B41D082E8343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6E552-4D92-4A87-BE92-AFCABCA1EBFF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A5DF2-AAA4-4A56-A49E-14C2DC49492A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3077A-08CF-4781-A9C7-41218CBFF655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1F6F6-3478-460D-A670-174F13338AFC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59CDC-B00F-43B0-9E9E-0AC7DD583496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04210-BDA7-42B6-87A1-F8F581EAA590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930B0-85ED-4BD9-8508-7CDB60C01F9D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4F88B-C6F0-4325-9758-79EFB8A9AE19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C86C9-9FED-4F77-93DD-1009F8ACA445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FOSSILS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Traces of the past……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59" name="Picture 2" descr="C:\Documents and Settings\carolyn.kinne\Local Settings\Temporary Internet Files\Content.IE5\E2LUDJLQ\MPj04386170000[1].jpg"/>
          <p:cNvPicPr/>
          <p:nvPr/>
        </p:nvPicPr>
        <p:blipFill>
          <a:blip r:embed="rId1"/>
          <a:stretch/>
        </p:blipFill>
        <p:spPr>
          <a:xfrm>
            <a:off x="1219320" y="533520"/>
            <a:ext cx="6400800" cy="4260600"/>
          </a:xfrm>
          <a:prstGeom prst="rect">
            <a:avLst/>
          </a:prstGeom>
          <a:ln w="0">
            <a:noFill/>
          </a:ln>
        </p:spPr>
      </p:pic>
      <p:sp>
        <p:nvSpPr>
          <p:cNvPr id="360" name="Місце для нижнього колонтитула 2"/>
          <p:cNvSpPr/>
          <p:nvPr/>
        </p:nvSpPr>
        <p:spPr>
          <a:xfrm>
            <a:off x="208584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hat happened before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ssils are traces of things that happened long ag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lants and animals can become fossil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e have only discovered a small number of the plants and animals from the pas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ssils are not the original, only a copy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3" name="Picture 2" descr="C:\Documents and Settings\carolyn.kinne\Local Settings\Temporary Internet Files\Content.IE5\E2LUDJLQ\MCj02863140000[1].wmf"/>
          <p:cNvPicPr/>
          <p:nvPr/>
        </p:nvPicPr>
        <p:blipFill>
          <a:blip r:embed="rId1"/>
          <a:stretch/>
        </p:blipFill>
        <p:spPr>
          <a:xfrm>
            <a:off x="3657600" y="4495680"/>
            <a:ext cx="1778040" cy="1812960"/>
          </a:xfrm>
          <a:prstGeom prst="rect">
            <a:avLst/>
          </a:prstGeom>
          <a:ln w="0">
            <a:noFill/>
          </a:ln>
        </p:spPr>
      </p:pic>
      <p:sp>
        <p:nvSpPr>
          <p:cNvPr id="364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Plan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most famous example of fossilized plants is petrified woo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erns, tree leaves, and other plants have been found, to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7" name="Picture 7" descr="C:\Documents and Settings\carolyn.kinne\Local Settings\Temporary Internet Files\Content.IE5\E2LUDJLQ\MCj02938980000[1].wmf"/>
          <p:cNvPicPr/>
          <p:nvPr/>
        </p:nvPicPr>
        <p:blipFill>
          <a:blip r:embed="rId1"/>
          <a:stretch/>
        </p:blipFill>
        <p:spPr>
          <a:xfrm>
            <a:off x="3733920" y="3886200"/>
            <a:ext cx="1465200" cy="1827360"/>
          </a:xfrm>
          <a:prstGeom prst="rect">
            <a:avLst/>
          </a:prstGeom>
          <a:ln w="0">
            <a:noFill/>
          </a:ln>
        </p:spPr>
      </p:pic>
      <p:sp>
        <p:nvSpPr>
          <p:cNvPr id="368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Animals</a:t>
            </a:r>
            <a:br>
              <a:rPr sz="4000"/>
            </a:b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most famous fossils are of dinosaur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re are also fossils of sea creatures and mammal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ometimes many fossils are found in one place because of a flood, earthquake, or other disaster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1" name="Picture 3" descr="C:\Documents and Settings\carolyn.kinne\Local Settings\Temporary Internet Files\Content.IE5\E2LUDJLQ\MPj03857610000[1].jpg"/>
          <p:cNvPicPr/>
          <p:nvPr/>
        </p:nvPicPr>
        <p:blipFill>
          <a:blip r:embed="rId1"/>
          <a:stretch/>
        </p:blipFill>
        <p:spPr>
          <a:xfrm>
            <a:off x="5486400" y="3962520"/>
            <a:ext cx="3276720" cy="23400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4" descr="C:\Documents and Settings\carolyn.kinne\Local Settings\Temporary Internet Files\Content.IE5\60TCN93U\MCAN01357_0000[1].wmf"/>
          <p:cNvPicPr/>
          <p:nvPr/>
        </p:nvPicPr>
        <p:blipFill>
          <a:blip r:embed="rId2"/>
          <a:stretch/>
        </p:blipFill>
        <p:spPr>
          <a:xfrm>
            <a:off x="1371600" y="4267080"/>
            <a:ext cx="2544840" cy="1565280"/>
          </a:xfrm>
          <a:prstGeom prst="rect">
            <a:avLst/>
          </a:prstGeom>
          <a:ln w="0">
            <a:noFill/>
          </a:ln>
        </p:spPr>
      </p:pic>
      <p:sp>
        <p:nvSpPr>
          <p:cNvPr id="373" name="Місце для нижнього колонтитула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How fossils are found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ssils are often found by acciden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aleontologists and geologists use clues in the rocks to find good places to hunt for fossil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xcavating fossils is hard work, and must be done carefull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6" name="Picture 2" descr="C:\Documents and Settings\carolyn.kinne\Local Settings\Temporary Internet Files\Content.IE5\MNV8FF4K\MCj01557110000[1].wmf"/>
          <p:cNvPicPr/>
          <p:nvPr/>
        </p:nvPicPr>
        <p:blipFill>
          <a:blip r:embed="rId1"/>
          <a:stretch/>
        </p:blipFill>
        <p:spPr>
          <a:xfrm>
            <a:off x="3276720" y="4343400"/>
            <a:ext cx="1820880" cy="1444680"/>
          </a:xfrm>
          <a:prstGeom prst="rect">
            <a:avLst/>
          </a:prstGeom>
          <a:ln w="0">
            <a:noFill/>
          </a:ln>
        </p:spPr>
      </p:pic>
      <p:sp>
        <p:nvSpPr>
          <p:cNvPr id="377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How are fossils made?</a:t>
            </a:r>
            <a:br>
              <a:rPr sz="4000"/>
            </a:b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 fossil is made when a plant or animal is covered quickly with mud or ash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organism’s tissues are replaced over a long period of time with minerals from the soil it was buried i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ssils can be dated by the layer of rock they were found in, or by radiocarbon datin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0" name="Picture 2" descr="C:\Documents and Settings\carolyn.kinne\Local Settings\Temporary Internet Files\Content.IE5\XKKQW3N2\MCNA00178_0000[1].wmf"/>
          <p:cNvPicPr/>
          <p:nvPr/>
        </p:nvPicPr>
        <p:blipFill>
          <a:blip r:embed="rId1"/>
          <a:stretch/>
        </p:blipFill>
        <p:spPr>
          <a:xfrm>
            <a:off x="3505320" y="5029200"/>
            <a:ext cx="1828800" cy="1598760"/>
          </a:xfrm>
          <a:prstGeom prst="rect">
            <a:avLst/>
          </a:prstGeom>
          <a:ln w="0">
            <a:noFill/>
          </a:ln>
        </p:spPr>
      </p:pic>
      <p:sp>
        <p:nvSpPr>
          <p:cNvPr id="381" name="Місце для нижнього колонтитула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ues to the pas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any fossils give us an idea of what life was like long ag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lants give clues about the diet of animal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nimals give clues about the availability of plants and the climate when they live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any clues fit together to make a more complete picture of what the world was like long ag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4" name="Picture 2" descr="C:\Documents and Settings\carolyn.kinne\Local Settings\Temporary Internet Files\Content.IE5\60TCN93U\MCj01985300000[1].wmf"/>
          <p:cNvPicPr/>
          <p:nvPr/>
        </p:nvPicPr>
        <p:blipFill>
          <a:blip r:embed="rId1"/>
          <a:stretch/>
        </p:blipFill>
        <p:spPr>
          <a:xfrm>
            <a:off x="3657600" y="5105520"/>
            <a:ext cx="1173240" cy="1509480"/>
          </a:xfrm>
          <a:prstGeom prst="rect">
            <a:avLst/>
          </a:prstGeom>
          <a:ln w="0">
            <a:noFill/>
          </a:ln>
        </p:spPr>
      </p:pic>
      <p:sp>
        <p:nvSpPr>
          <p:cNvPr id="385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an we ever really know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No matter how many clues we have, we can never really know what life was like long ag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e can make an educated guess, and fill in the gaps using what we know about life toda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t’s fun to imagine what it was like when the dinosaurs lived.  Try it next time you feel bored!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8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6T18:59:39Z</dcterms:created>
  <dc:creator>Ector County ISD Employee</dc:creator>
  <dc:description/>
  <dc:language>en-US</dc:language>
  <cp:lastModifiedBy>LEGION2</cp:lastModifiedBy>
  <dcterms:modified xsi:type="dcterms:W3CDTF">2016-01-13T07:22:22Z</dcterms:modified>
  <cp:revision>8</cp:revision>
  <dc:subject/>
  <dc:title>Fossils</dc:title>
</cp:coreProperties>
</file>