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1.wmf" ContentType="image/x-wmf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3.jpeg" ContentType="image/jpeg"/>
  <Override PartName="/ppt/media/image2.jpeg" ContentType="image/jpeg"/>
  <Override PartName="/ppt/media/image5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86F9-3E35-441D-A9C2-B0C90ECB50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 of the session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fertilisers and their effects on the environment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nswer exam questions on the effects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Pesticides and their effec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ise the key points about pes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 of the se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fertilisers and their effects on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nswer exam questions on the eff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Pesticides and their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ise the key points about pes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ate concentration falls during spring and summer and rises during autumn and winter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algal growth as autumn begin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y all plants have die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ate concentration falls during spring and summer and rises during autumn and wi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algal growth as autumn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y all plants have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c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ng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b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c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g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sistence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+ Lipid solubility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Bioacculmulatio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ste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Lipid solu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Bioaccul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ioaccumulatio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.g DDT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accu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 D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sers and Pes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ers and Pes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ser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process of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utrophicatio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ces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troph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cess of Eutrophication cont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cess of Eutrophication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chemical Oxygen Demand (BOD).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sures the rate of oxygen consumption by a sample of water, and therefore gives a good indication of eutrophication. A high BOD means lots of organic material and aerobic microbes, i.e. eutrophication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chemical Oxygen Demand (BOD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sures the rate of oxygen consumption by a sample of water, and therefore gives a good indication of eutrophication. A high BOD means lots of organic material and aerobic microbes, i.e. eutroph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4812-A814-40BA-8B66-525374FA4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76A8-4352-4848-B074-22D63B9C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5849-2A7E-472E-AB7E-59B72B725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B081-5CAD-45B0-89CE-4779C65F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9004-4FB3-45C2-AB72-C7744F50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2F8C-7F94-4706-988A-505D02DD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A82F-0202-457A-A7F7-B60E6987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B8BA-5222-409E-A6B1-0CA8D8C7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32A4-55FB-466F-9028-5148FB0D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6D94-FA0F-4789-A761-0EF1A632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9197-20F5-4FBE-9C7C-06F73868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1611-7510-401B-8001-6EF8F392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C865-251C-4834-9B22-417EBD0B9C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26"/>
          <p:cNvSpPr/>
          <p:nvPr/>
        </p:nvSpPr>
        <p:spPr>
          <a:xfrm>
            <a:off x="0" y="1371600"/>
            <a:ext cx="9144000" cy="41911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27"/>
          <p:cNvSpPr/>
          <p:nvPr/>
        </p:nvSpPr>
        <p:spPr>
          <a:xfrm>
            <a:off x="-39600" y="1440000"/>
            <a:ext cx="89694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00"/>
                </a:solidFill>
                <a:latin typeface="Tahoma"/>
              </a:rPr>
              <a:t>Aims of the session: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Learn about fertilisers and their effects on the environment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Be able to answer exam questions on the effect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Learn about Pesticides and their effec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Summarise the key points about pesticid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norfolk broads"/>
          <p:cNvPicPr/>
          <p:nvPr/>
        </p:nvPicPr>
        <p:blipFill>
          <a:blip r:embed="rId1"/>
          <a:srcRect l="0" t="32980" r="0" b="0"/>
          <a:stretch/>
        </p:blipFill>
        <p:spPr>
          <a:xfrm>
            <a:off x="152280" y="0"/>
            <a:ext cx="8763120" cy="684216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river"/>
          <p:cNvPicPr/>
          <p:nvPr/>
        </p:nvPicPr>
        <p:blipFill>
          <a:blip r:embed="rId1"/>
          <a:srcRect l="0" t="1879" r="0" b="24885"/>
          <a:stretch/>
        </p:blipFill>
        <p:spPr>
          <a:xfrm>
            <a:off x="1066680" y="0"/>
            <a:ext cx="7162920" cy="68166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209680" y="4876920"/>
            <a:ext cx="519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empus Sans ITC"/>
              </a:rPr>
              <a:t>The nitrate concentration falls during spring and summer and rises during autumn and winte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362320" y="6064200"/>
            <a:ext cx="51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empus Sans ITC"/>
              </a:rPr>
              <a:t>Less algal growth as autumn begin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empus Sans ITC"/>
              </a:rPr>
              <a:t>Possibly all plants have die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river"/>
          <p:cNvPicPr/>
          <p:nvPr/>
        </p:nvPicPr>
        <p:blipFill>
          <a:blip r:embed="rId1"/>
          <a:srcRect l="7501" t="76059" r="0" b="0"/>
          <a:stretch/>
        </p:blipFill>
        <p:spPr>
          <a:xfrm>
            <a:off x="609480" y="401760"/>
            <a:ext cx="8458200" cy="2844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river 1"/>
          <p:cNvPicPr/>
          <p:nvPr/>
        </p:nvPicPr>
        <p:blipFill>
          <a:blip r:embed="rId2"/>
          <a:srcRect l="0" t="2723" r="1834" b="0"/>
          <a:stretch/>
        </p:blipFill>
        <p:spPr>
          <a:xfrm>
            <a:off x="1143000" y="3170160"/>
            <a:ext cx="7848720" cy="262116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1371600"/>
            <a:ext cx="9144000" cy="41911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620800" y="2819520"/>
            <a:ext cx="360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Pesticides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49120" y="152280"/>
            <a:ext cx="360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Pesticides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13920" y="1879560"/>
            <a:ext cx="306828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ahoma"/>
              </a:rPr>
              <a:t>Include: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Herbicid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Insecticid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Fungicid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Bactericid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Crop Spraying"/>
          <p:cNvPicPr/>
          <p:nvPr/>
        </p:nvPicPr>
        <p:blipFill>
          <a:blip r:embed="rId1"/>
          <a:stretch/>
        </p:blipFill>
        <p:spPr>
          <a:xfrm>
            <a:off x="0" y="387360"/>
            <a:ext cx="9144000" cy="60818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garden2"/>
          <p:cNvPicPr/>
          <p:nvPr/>
        </p:nvPicPr>
        <p:blipFill>
          <a:blip r:embed="rId1"/>
          <a:srcRect l="0" t="0" r="5991" b="0"/>
          <a:stretch/>
        </p:blipFill>
        <p:spPr>
          <a:xfrm>
            <a:off x="4361040" y="0"/>
            <a:ext cx="478296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fungicide"/>
          <p:cNvPicPr/>
          <p:nvPr/>
        </p:nvPicPr>
        <p:blipFill>
          <a:blip r:embed="rId2"/>
          <a:stretch/>
        </p:blipFill>
        <p:spPr>
          <a:xfrm>
            <a:off x="0" y="0"/>
            <a:ext cx="4800600" cy="3203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lama5"/>
          <p:cNvPicPr/>
          <p:nvPr/>
        </p:nvPicPr>
        <p:blipFill>
          <a:blip r:embed="rId3"/>
          <a:srcRect l="2500" t="12951" r="0" b="0"/>
          <a:stretch/>
        </p:blipFill>
        <p:spPr>
          <a:xfrm>
            <a:off x="0" y="2951280"/>
            <a:ext cx="4800600" cy="2154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crop"/>
          <p:cNvPicPr/>
          <p:nvPr/>
        </p:nvPicPr>
        <p:blipFill>
          <a:blip r:embed="rId4"/>
          <a:srcRect l="0" t="18770" r="0" b="36926"/>
          <a:stretch/>
        </p:blipFill>
        <p:spPr>
          <a:xfrm>
            <a:off x="0" y="5057640"/>
            <a:ext cx="4800600" cy="18003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49120" y="152280"/>
            <a:ext cx="360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Pesticides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54080" y="31989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Persistence 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+ Lipid solubility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4303800" y="3452760"/>
            <a:ext cx="45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= Bioacculmulatio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04120" y="152280"/>
            <a:ext cx="59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Bioaccumulation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205740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Object 4"/>
          <p:cNvGraphicFramePr/>
          <p:nvPr/>
        </p:nvGraphicFramePr>
        <p:xfrm>
          <a:off x="0" y="3168720"/>
          <a:ext cx="9144000" cy="52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68720"/>
                    <a:ext cx="91440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 Box 6"/>
          <p:cNvSpPr/>
          <p:nvPr/>
        </p:nvSpPr>
        <p:spPr>
          <a:xfrm>
            <a:off x="375480" y="2031840"/>
            <a:ext cx="16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.g DD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14"/>
          <p:cNvGrpSpPr/>
          <p:nvPr/>
        </p:nvGrpSpPr>
        <p:grpSpPr>
          <a:xfrm>
            <a:off x="2082960" y="2171880"/>
            <a:ext cx="4875120" cy="2514600"/>
            <a:chOff x="2082960" y="2171880"/>
            <a:chExt cx="4875120" cy="2514600"/>
          </a:xfrm>
        </p:grpSpPr>
        <p:sp>
          <p:nvSpPr>
            <p:cNvPr id="125" name="Rectangle 7"/>
            <p:cNvSpPr/>
            <p:nvPr/>
          </p:nvSpPr>
          <p:spPr>
            <a:xfrm>
              <a:off x="2082960" y="2171880"/>
              <a:ext cx="487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Group 13"/>
            <p:cNvGrpSpPr/>
            <p:nvPr/>
          </p:nvGrpSpPr>
          <p:grpSpPr>
            <a:xfrm>
              <a:off x="2082960" y="2217960"/>
              <a:ext cx="4768920" cy="2468520"/>
              <a:chOff x="2082960" y="2217960"/>
              <a:chExt cx="4768920" cy="2468520"/>
            </a:xfrm>
          </p:grpSpPr>
          <p:sp>
            <p:nvSpPr>
              <p:cNvPr id="127" name="Rectangle 8"/>
              <p:cNvSpPr/>
              <p:nvPr/>
            </p:nvSpPr>
            <p:spPr>
              <a:xfrm>
                <a:off x="2082960" y="2217960"/>
                <a:ext cx="4768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Group 12"/>
              <p:cNvGrpSpPr/>
              <p:nvPr/>
            </p:nvGrpSpPr>
            <p:grpSpPr>
              <a:xfrm>
                <a:off x="2082960" y="2264040"/>
                <a:ext cx="4680000" cy="2422440"/>
                <a:chOff x="2082960" y="2264040"/>
                <a:chExt cx="4680000" cy="2422440"/>
              </a:xfrm>
            </p:grpSpPr>
            <p:sp>
              <p:nvSpPr>
                <p:cNvPr id="129" name="Rectangle 9"/>
                <p:cNvSpPr/>
                <p:nvPr/>
              </p:nvSpPr>
              <p:spPr>
                <a:xfrm>
                  <a:off x="2082960" y="2264040"/>
                  <a:ext cx="4680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Rectangle 10"/>
                <p:cNvSpPr/>
                <p:nvPr/>
              </p:nvSpPr>
              <p:spPr>
                <a:xfrm>
                  <a:off x="2082960" y="2264040"/>
                  <a:ext cx="4465800" cy="242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86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29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                                                </a:t>
                  </a: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31" name="Picture 11" descr="bioaccumulation"/>
          <p:cNvPicPr/>
          <p:nvPr/>
        </p:nvPicPr>
        <p:blipFill>
          <a:blip r:embed="rId3"/>
          <a:stretch/>
        </p:blipFill>
        <p:spPr>
          <a:xfrm>
            <a:off x="2046240" y="4267080"/>
            <a:ext cx="4811760" cy="20574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Bioaccumulation%20l"/>
          <p:cNvPicPr/>
          <p:nvPr/>
        </p:nvPicPr>
        <p:blipFill>
          <a:blip r:embed="rId1"/>
          <a:stretch/>
        </p:blipFill>
        <p:spPr>
          <a:xfrm>
            <a:off x="1241280" y="0"/>
            <a:ext cx="638676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1371600"/>
            <a:ext cx="9144000" cy="41911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76480" y="2819520"/>
            <a:ext cx="867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Fertilisers and Pesticides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9"/>
          <p:cNvGrpSpPr/>
          <p:nvPr/>
        </p:nvGrpSpPr>
        <p:grpSpPr>
          <a:xfrm>
            <a:off x="2135160" y="1706400"/>
            <a:ext cx="4875120" cy="3444840"/>
            <a:chOff x="2135160" y="1706400"/>
            <a:chExt cx="4875120" cy="3444840"/>
          </a:xfrm>
        </p:grpSpPr>
        <p:sp>
          <p:nvSpPr>
            <p:cNvPr id="136" name="Rectangle 2"/>
            <p:cNvSpPr/>
            <p:nvPr/>
          </p:nvSpPr>
          <p:spPr>
            <a:xfrm>
              <a:off x="2135160" y="1706400"/>
              <a:ext cx="487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Group 8"/>
            <p:cNvGrpSpPr/>
            <p:nvPr/>
          </p:nvGrpSpPr>
          <p:grpSpPr>
            <a:xfrm>
              <a:off x="2135160" y="1752480"/>
              <a:ext cx="4768920" cy="3398760"/>
              <a:chOff x="2135160" y="1752480"/>
              <a:chExt cx="4768920" cy="3398760"/>
            </a:xfrm>
          </p:grpSpPr>
          <p:sp>
            <p:nvSpPr>
              <p:cNvPr id="138" name="Rectangle 3"/>
              <p:cNvSpPr/>
              <p:nvPr/>
            </p:nvSpPr>
            <p:spPr>
              <a:xfrm>
                <a:off x="2135160" y="1752480"/>
                <a:ext cx="4768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Group 7"/>
              <p:cNvGrpSpPr/>
              <p:nvPr/>
            </p:nvGrpSpPr>
            <p:grpSpPr>
              <a:xfrm>
                <a:off x="2135160" y="1798560"/>
                <a:ext cx="4680000" cy="3352680"/>
                <a:chOff x="2135160" y="1798560"/>
                <a:chExt cx="4680000" cy="3352680"/>
              </a:xfrm>
            </p:grpSpPr>
            <p:sp>
              <p:nvSpPr>
                <p:cNvPr id="140" name="Rectangle 4"/>
                <p:cNvSpPr/>
                <p:nvPr/>
              </p:nvSpPr>
              <p:spPr>
                <a:xfrm>
                  <a:off x="2135160" y="1798560"/>
                  <a:ext cx="4680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Rectangle 5"/>
                <p:cNvSpPr/>
                <p:nvPr/>
              </p:nvSpPr>
              <p:spPr>
                <a:xfrm>
                  <a:off x="2135160" y="1798560"/>
                  <a:ext cx="4562640" cy="33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89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9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                                             </a:t>
                  </a: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42" name="Picture 6" descr="pcbs"/>
          <p:cNvPicPr/>
          <p:nvPr/>
        </p:nvPicPr>
        <p:blipFill>
          <a:blip r:embed="rId1"/>
          <a:stretch/>
        </p:blipFill>
        <p:spPr>
          <a:xfrm>
            <a:off x="380880" y="531720"/>
            <a:ext cx="8229600" cy="54118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1371600"/>
            <a:ext cx="9144000" cy="41911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649240" y="2895480"/>
            <a:ext cx="35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Fertilisers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7"/>
          <p:cNvGrpSpPr/>
          <p:nvPr/>
        </p:nvGrpSpPr>
        <p:grpSpPr>
          <a:xfrm>
            <a:off x="3083040" y="1943280"/>
            <a:ext cx="2977920" cy="2895480"/>
            <a:chOff x="3083040" y="1943280"/>
            <a:chExt cx="2977920" cy="2895480"/>
          </a:xfrm>
        </p:grpSpPr>
        <p:sp>
          <p:nvSpPr>
            <p:cNvPr id="57" name="Rectangle 4"/>
            <p:cNvSpPr/>
            <p:nvPr/>
          </p:nvSpPr>
          <p:spPr>
            <a:xfrm>
              <a:off x="3083040" y="19432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5"/>
            <p:cNvSpPr/>
            <p:nvPr/>
          </p:nvSpPr>
          <p:spPr>
            <a:xfrm>
              <a:off x="3083040" y="1943280"/>
              <a:ext cx="29779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GB" sz="18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" name="Picture 6" descr="clay-2-text"/>
          <p:cNvPicPr/>
          <p:nvPr/>
        </p:nvPicPr>
        <p:blipFill>
          <a:blip r:embed="rId1"/>
          <a:stretch/>
        </p:blipFill>
        <p:spPr>
          <a:xfrm>
            <a:off x="0" y="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7"/>
          <p:cNvPicPr/>
          <p:nvPr/>
        </p:nvPicPr>
        <p:blipFill>
          <a:blip r:embed="rId2"/>
          <a:stretch/>
        </p:blipFill>
        <p:spPr>
          <a:xfrm>
            <a:off x="5410080" y="0"/>
            <a:ext cx="3733920" cy="27576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2"/>
          <p:cNvSpPr/>
          <p:nvPr/>
        </p:nvSpPr>
        <p:spPr>
          <a:xfrm>
            <a:off x="0" y="8841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0" y="432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0" y="5151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4" descr="3"/>
          <p:cNvPicPr/>
          <p:nvPr/>
        </p:nvPicPr>
        <p:blipFill>
          <a:blip r:embed="rId3"/>
          <a:stretch/>
        </p:blipFill>
        <p:spPr>
          <a:xfrm>
            <a:off x="0" y="4038480"/>
            <a:ext cx="2808360" cy="2819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boat"/>
          <p:cNvPicPr/>
          <p:nvPr/>
        </p:nvPicPr>
        <p:blipFill>
          <a:blip r:embed="rId4"/>
          <a:stretch/>
        </p:blipFill>
        <p:spPr>
          <a:xfrm>
            <a:off x="1981080" y="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fertiliser02"/>
          <p:cNvPicPr/>
          <p:nvPr/>
        </p:nvPicPr>
        <p:blipFill>
          <a:blip r:embed="rId5"/>
          <a:stretch/>
        </p:blipFill>
        <p:spPr>
          <a:xfrm>
            <a:off x="2590920" y="40384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fertiliser_spreading"/>
          <p:cNvPicPr/>
          <p:nvPr/>
        </p:nvPicPr>
        <p:blipFill>
          <a:blip r:embed="rId6"/>
          <a:srcRect l="32010" t="0" r="0" b="0"/>
          <a:stretch/>
        </p:blipFill>
        <p:spPr>
          <a:xfrm>
            <a:off x="6248520" y="4030560"/>
            <a:ext cx="2895480" cy="282744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3262320" y="8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3581280" y="304920"/>
          <a:ext cx="495000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304920"/>
                    <a:ext cx="4950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Rectangle 6"/>
          <p:cNvSpPr/>
          <p:nvPr/>
        </p:nvSpPr>
        <p:spPr>
          <a:xfrm>
            <a:off x="0" y="0"/>
            <a:ext cx="2743200" cy="68580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"/>
          <p:cNvSpPr/>
          <p:nvPr/>
        </p:nvSpPr>
        <p:spPr>
          <a:xfrm rot="16200000">
            <a:off x="-907560" y="2459160"/>
            <a:ext cx="434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ahoma"/>
              </a:rPr>
              <a:t>The process of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ahoma"/>
              </a:rPr>
              <a:t>Eutrophic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2"/>
          <p:cNvGraphicFramePr/>
          <p:nvPr/>
        </p:nvGraphicFramePr>
        <p:xfrm>
          <a:off x="1523880" y="1712880"/>
          <a:ext cx="6324840" cy="50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712880"/>
                    <a:ext cx="6324840" cy="50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3"/>
          <p:cNvSpPr/>
          <p:nvPr/>
        </p:nvSpPr>
        <p:spPr>
          <a:xfrm>
            <a:off x="414720" y="380880"/>
            <a:ext cx="824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The process of Eutrophication cont.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28600" y="438120"/>
            <a:ext cx="8686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  <a:ea typeface="Times New Roman"/>
              </a:rPr>
              <a:t>Biochemical Oxygen Demand (BOD).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measures the rate of oxygen consumption by a sample of water, and therefore gives a good indication of eutrophication. A high BOD means lots of organic material and aerobic microbes, i.e. eutrophication</a:t>
            </a: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i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227484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photo2"/>
          <p:cNvPicPr/>
          <p:nvPr/>
        </p:nvPicPr>
        <p:blipFill>
          <a:blip r:embed="rId1"/>
          <a:stretch/>
        </p:blipFill>
        <p:spPr>
          <a:xfrm>
            <a:off x="0" y="301680"/>
            <a:ext cx="9144000" cy="62546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norfolk broads 1"/>
          <p:cNvPicPr/>
          <p:nvPr/>
        </p:nvPicPr>
        <p:blipFill>
          <a:blip r:embed="rId1"/>
          <a:srcRect l="5538" t="2043" r="7270" b="6001"/>
          <a:stretch/>
        </p:blipFill>
        <p:spPr>
          <a:xfrm>
            <a:off x="1981080" y="76320"/>
            <a:ext cx="4694400" cy="67053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norfolk broads"/>
          <p:cNvPicPr/>
          <p:nvPr/>
        </p:nvPicPr>
        <p:blipFill>
          <a:blip r:embed="rId1"/>
          <a:srcRect l="0" t="0" r="0" b="65961"/>
          <a:stretch/>
        </p:blipFill>
        <p:spPr>
          <a:xfrm>
            <a:off x="0" y="1098720"/>
            <a:ext cx="9144000" cy="362556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0T14:59:29Z</dcterms:created>
  <dc:creator>I C Smith</dc:creator>
  <dc:description/>
  <dc:language>en-US</dc:language>
  <cp:lastModifiedBy>LEGION2</cp:lastModifiedBy>
  <dcterms:modified xsi:type="dcterms:W3CDTF">2016-01-12T14:41:58Z</dcterms:modified>
  <cp:revision>21</cp:revision>
  <dc:subject/>
  <dc:title>PowerPoint Presentation</dc:title>
</cp:coreProperties>
</file>