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685E-CAB7-4463-A649-A35269F998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38B-B854-4F51-B849-46E22AFF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042-05CA-4D02-A1BD-187E3AA1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2B8-CA3F-4908-881F-20780F78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8B1-59E3-4B2E-B4B4-BF502A1C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3C9-B255-44F4-9818-1CC1BED9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708-75DF-4DEE-AE06-16A46ADC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261-5C73-40DE-854C-F32537EA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DCD-F938-4C32-BD28-A26FFB54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56A-3B08-4676-9BA6-C7934EA8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F13-2180-45D2-86A4-7C6569D9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B5E-512A-47FD-AC6B-0F8A57B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E6E-6BCB-4FFF-881D-1BB5C141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267C-0995-4847-AABD-7068922E30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-39600" y="1440000"/>
            <a:ext cx="8969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Tahoma"/>
              </a:rPr>
              <a:t>Aims of the session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fertilisers and their effects on the environmen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e able to answer exam questions on the effect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Pesticides and their effec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ummarise the key points about pesticid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norfolk broads"/>
          <p:cNvPicPr/>
          <p:nvPr/>
        </p:nvPicPr>
        <p:blipFill>
          <a:blip r:embed="rId1"/>
          <a:srcRect l="0" t="32980" r="0" b="0"/>
          <a:stretch/>
        </p:blipFill>
        <p:spPr>
          <a:xfrm>
            <a:off x="152280" y="0"/>
            <a:ext cx="8763120" cy="68421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river"/>
          <p:cNvPicPr/>
          <p:nvPr/>
        </p:nvPicPr>
        <p:blipFill>
          <a:blip r:embed="rId1"/>
          <a:srcRect l="0" t="1879" r="0" b="24885"/>
          <a:stretch/>
        </p:blipFill>
        <p:spPr>
          <a:xfrm>
            <a:off x="1066680" y="0"/>
            <a:ext cx="7162920" cy="6816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09680" y="4876920"/>
            <a:ext cx="51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The nitrate concentration falls during spring and summer and rises during autumn and wint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362320" y="606420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Less algal growth as autumn begi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Possibly all plants have die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river"/>
          <p:cNvPicPr/>
          <p:nvPr/>
        </p:nvPicPr>
        <p:blipFill>
          <a:blip r:embed="rId1"/>
          <a:srcRect l="7501" t="76059" r="0" b="0"/>
          <a:stretch/>
        </p:blipFill>
        <p:spPr>
          <a:xfrm>
            <a:off x="609480" y="401760"/>
            <a:ext cx="8458200" cy="284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river 1"/>
          <p:cNvPicPr/>
          <p:nvPr/>
        </p:nvPicPr>
        <p:blipFill>
          <a:blip r:embed="rId2"/>
          <a:srcRect l="0" t="2723" r="1834" b="0"/>
          <a:stretch/>
        </p:blipFill>
        <p:spPr>
          <a:xfrm>
            <a:off x="1143000" y="3170160"/>
            <a:ext cx="7848720" cy="2621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20800" y="281952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13920" y="1879560"/>
            <a:ext cx="30682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Include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Herb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nsect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Fung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acter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rop Sprayin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garden2"/>
          <p:cNvPicPr/>
          <p:nvPr/>
        </p:nvPicPr>
        <p:blipFill>
          <a:blip r:embed="rId1"/>
          <a:srcRect l="0" t="0" r="5991" b="0"/>
          <a:stretch/>
        </p:blipFill>
        <p:spPr>
          <a:xfrm>
            <a:off x="4361040" y="0"/>
            <a:ext cx="478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fungicide"/>
          <p:cNvPicPr/>
          <p:nvPr/>
        </p:nvPicPr>
        <p:blipFill>
          <a:blip r:embed="rId2"/>
          <a:stretch/>
        </p:blipFill>
        <p:spPr>
          <a:xfrm>
            <a:off x="0" y="0"/>
            <a:ext cx="4800600" cy="320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lama5"/>
          <p:cNvPicPr/>
          <p:nvPr/>
        </p:nvPicPr>
        <p:blipFill>
          <a:blip r:embed="rId3"/>
          <a:srcRect l="2500" t="12951" r="0" b="0"/>
          <a:stretch/>
        </p:blipFill>
        <p:spPr>
          <a:xfrm>
            <a:off x="0" y="2951280"/>
            <a:ext cx="4800600" cy="215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rop"/>
          <p:cNvPicPr/>
          <p:nvPr/>
        </p:nvPicPr>
        <p:blipFill>
          <a:blip r:embed="rId4"/>
          <a:srcRect l="0" t="18770" r="0" b="36926"/>
          <a:stretch/>
        </p:blipFill>
        <p:spPr>
          <a:xfrm>
            <a:off x="0" y="5057640"/>
            <a:ext cx="480060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4080" y="31989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Persistence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+ Lipid solubilit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303800" y="345276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= Bioacculmul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4120" y="152280"/>
            <a:ext cx="59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Bioaccumulation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740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0" y="3168720"/>
          <a:ext cx="914400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8720"/>
                    <a:ext cx="9144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375480" y="203184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.g DD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4"/>
          <p:cNvGrpSpPr/>
          <p:nvPr/>
        </p:nvGrpSpPr>
        <p:grpSpPr>
          <a:xfrm>
            <a:off x="2082960" y="2171880"/>
            <a:ext cx="4875120" cy="2514600"/>
            <a:chOff x="2082960" y="2171880"/>
            <a:chExt cx="4875120" cy="2514600"/>
          </a:xfrm>
        </p:grpSpPr>
        <p:sp>
          <p:nvSpPr>
            <p:cNvPr id="125" name="Rectangle 7"/>
            <p:cNvSpPr/>
            <p:nvPr/>
          </p:nvSpPr>
          <p:spPr>
            <a:xfrm>
              <a:off x="2082960" y="217188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3"/>
            <p:cNvGrpSpPr/>
            <p:nvPr/>
          </p:nvGrpSpPr>
          <p:grpSpPr>
            <a:xfrm>
              <a:off x="2082960" y="2217960"/>
              <a:ext cx="4768920" cy="2468520"/>
              <a:chOff x="2082960" y="2217960"/>
              <a:chExt cx="4768920" cy="2468520"/>
            </a:xfrm>
          </p:grpSpPr>
          <p:sp>
            <p:nvSpPr>
              <p:cNvPr id="127" name="Rectangle 8"/>
              <p:cNvSpPr/>
              <p:nvPr/>
            </p:nvSpPr>
            <p:spPr>
              <a:xfrm>
                <a:off x="2082960" y="221796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Group 12"/>
              <p:cNvGrpSpPr/>
              <p:nvPr/>
            </p:nvGrpSpPr>
            <p:grpSpPr>
              <a:xfrm>
                <a:off x="2082960" y="2264040"/>
                <a:ext cx="4680000" cy="2422440"/>
                <a:chOff x="2082960" y="2264040"/>
                <a:chExt cx="4680000" cy="2422440"/>
              </a:xfrm>
            </p:grpSpPr>
            <p:sp>
              <p:nvSpPr>
                <p:cNvPr id="129" name="Rectangle 9"/>
                <p:cNvSpPr/>
                <p:nvPr/>
              </p:nvSpPr>
              <p:spPr>
                <a:xfrm>
                  <a:off x="2082960" y="226404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0"/>
                <p:cNvSpPr/>
                <p:nvPr/>
              </p:nvSpPr>
              <p:spPr>
                <a:xfrm>
                  <a:off x="2082960" y="2264040"/>
                  <a:ext cx="4465800" cy="24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2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31" name="Picture 11" descr="bioaccumulation"/>
          <p:cNvPicPr/>
          <p:nvPr/>
        </p:nvPicPr>
        <p:blipFill>
          <a:blip r:embed="rId3"/>
          <a:stretch/>
        </p:blipFill>
        <p:spPr>
          <a:xfrm>
            <a:off x="2046240" y="4267080"/>
            <a:ext cx="4811760" cy="205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Bioaccumulation%20l"/>
          <p:cNvPicPr/>
          <p:nvPr/>
        </p:nvPicPr>
        <p:blipFill>
          <a:blip r:embed="rId1"/>
          <a:stretch/>
        </p:blipFill>
        <p:spPr>
          <a:xfrm>
            <a:off x="1241280" y="0"/>
            <a:ext cx="6386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76480" y="2819520"/>
            <a:ext cx="867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 and 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9"/>
          <p:cNvGrpSpPr/>
          <p:nvPr/>
        </p:nvGrpSpPr>
        <p:grpSpPr>
          <a:xfrm>
            <a:off x="2135160" y="1706400"/>
            <a:ext cx="4875120" cy="3444840"/>
            <a:chOff x="2135160" y="1706400"/>
            <a:chExt cx="4875120" cy="3444840"/>
          </a:xfrm>
        </p:grpSpPr>
        <p:sp>
          <p:nvSpPr>
            <p:cNvPr id="136" name="Rectangle 2"/>
            <p:cNvSpPr/>
            <p:nvPr/>
          </p:nvSpPr>
          <p:spPr>
            <a:xfrm>
              <a:off x="2135160" y="170640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135160" y="1752480"/>
              <a:ext cx="4768920" cy="3398760"/>
              <a:chOff x="2135160" y="1752480"/>
              <a:chExt cx="4768920" cy="33987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135160" y="175248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135160" y="1798560"/>
                <a:ext cx="4680000" cy="3352680"/>
                <a:chOff x="2135160" y="1798560"/>
                <a:chExt cx="4680000" cy="3352680"/>
              </a:xfrm>
            </p:grpSpPr>
            <p:sp>
              <p:nvSpPr>
                <p:cNvPr id="140" name="Rectangle 4"/>
                <p:cNvSpPr/>
                <p:nvPr/>
              </p:nvSpPr>
              <p:spPr>
                <a:xfrm>
                  <a:off x="2135160" y="179856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5"/>
                <p:cNvSpPr/>
                <p:nvPr/>
              </p:nvSpPr>
              <p:spPr>
                <a:xfrm>
                  <a:off x="2135160" y="1798560"/>
                  <a:ext cx="4562640" cy="33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9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2" name="Picture 6" descr="pcbs"/>
          <p:cNvPicPr/>
          <p:nvPr/>
        </p:nvPicPr>
        <p:blipFill>
          <a:blip r:embed="rId1"/>
          <a:stretch/>
        </p:blipFill>
        <p:spPr>
          <a:xfrm>
            <a:off x="380880" y="531720"/>
            <a:ext cx="8229600" cy="54118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649240" y="2895480"/>
            <a:ext cx="35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083040" y="1943280"/>
            <a:ext cx="2977920" cy="2895480"/>
            <a:chOff x="3083040" y="1943280"/>
            <a:chExt cx="2977920" cy="2895480"/>
          </a:xfrm>
        </p:grpSpPr>
        <p:sp>
          <p:nvSpPr>
            <p:cNvPr id="57" name="Rectangle 4"/>
            <p:cNvSpPr/>
            <p:nvPr/>
          </p:nvSpPr>
          <p:spPr>
            <a:xfrm>
              <a:off x="3083040" y="194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3083040" y="1943280"/>
              <a:ext cx="29779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GB" sz="1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Picture 6" descr="clay-2-text"/>
          <p:cNvPicPr/>
          <p:nvPr/>
        </p:nvPicPr>
        <p:blipFill>
          <a:blip r:embed="rId1"/>
          <a:stretch/>
        </p:blipFill>
        <p:spPr>
          <a:xfrm>
            <a:off x="0" y="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7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7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0" y="884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43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515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4" descr="3"/>
          <p:cNvPicPr/>
          <p:nvPr/>
        </p:nvPicPr>
        <p:blipFill>
          <a:blip r:embed="rId3"/>
          <a:stretch/>
        </p:blipFill>
        <p:spPr>
          <a:xfrm>
            <a:off x="0" y="4038480"/>
            <a:ext cx="280836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boat"/>
          <p:cNvPicPr/>
          <p:nvPr/>
        </p:nvPicPr>
        <p:blipFill>
          <a:blip r:embed="rId4"/>
          <a:stretch/>
        </p:blipFill>
        <p:spPr>
          <a:xfrm>
            <a:off x="198108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fertiliser02"/>
          <p:cNvPicPr/>
          <p:nvPr/>
        </p:nvPicPr>
        <p:blipFill>
          <a:blip r:embed="rId5"/>
          <a:stretch/>
        </p:blipFill>
        <p:spPr>
          <a:xfrm>
            <a:off x="2590920" y="4038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fertiliser_spreading"/>
          <p:cNvPicPr/>
          <p:nvPr/>
        </p:nvPicPr>
        <p:blipFill>
          <a:blip r:embed="rId6"/>
          <a:srcRect l="32010" t="0" r="0" b="0"/>
          <a:stretch/>
        </p:blipFill>
        <p:spPr>
          <a:xfrm>
            <a:off x="6248520" y="4030560"/>
            <a:ext cx="2895480" cy="2827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26232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3581280" y="304920"/>
          <a:ext cx="4950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04920"/>
                    <a:ext cx="4950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 rot="16200000">
            <a:off x="-907560" y="2459160"/>
            <a:ext cx="434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The process of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Eutrophi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1523880" y="1712880"/>
          <a:ext cx="632484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12880"/>
                    <a:ext cx="632484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3"/>
          <p:cNvSpPr/>
          <p:nvPr/>
        </p:nvSpPr>
        <p:spPr>
          <a:xfrm>
            <a:off x="414720" y="380880"/>
            <a:ext cx="82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process of Eutrophication cont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28600" y="43812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imes New Roman"/>
              </a:rPr>
              <a:t>Biochemical Oxygen Demand (BOD).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measures the rate of oxygen consumption by a sample of water, and therefore gives a good indication of eutrophication. A high BOD means lots of organic material and aerobic microbes, i.e. eutrophication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27484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photo2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orfolk broads 1"/>
          <p:cNvPicPr/>
          <p:nvPr/>
        </p:nvPicPr>
        <p:blipFill>
          <a:blip r:embed="rId1"/>
          <a:srcRect l="5538" t="2043" r="7270" b="6001"/>
          <a:stretch/>
        </p:blipFill>
        <p:spPr>
          <a:xfrm>
            <a:off x="1981080" y="76320"/>
            <a:ext cx="4694400" cy="6705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orfolk broads"/>
          <p:cNvPicPr/>
          <p:nvPr/>
        </p:nvPicPr>
        <p:blipFill>
          <a:blip r:embed="rId1"/>
          <a:srcRect l="0" t="0" r="0" b="65961"/>
          <a:stretch/>
        </p:blipFill>
        <p:spPr>
          <a:xfrm>
            <a:off x="0" y="1098720"/>
            <a:ext cx="9144000" cy="36255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14:59:29Z</dcterms:created>
  <dc:creator>I C Smith</dc:creator>
  <dc:description/>
  <dc:language>en-US</dc:language>
  <cp:lastModifiedBy>LEGION2</cp:lastModifiedBy>
  <dcterms:modified xsi:type="dcterms:W3CDTF">2016-01-12T14:41:58Z</dcterms:modified>
  <cp:revision>21</cp:revision>
  <dc:subject/>
  <dc:title>PowerPoint Presentation</dc:title>
</cp:coreProperties>
</file>