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A153-5115-46F4-9811-77D5CA4F0C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960-0989-40FA-8792-497641CF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D6B-14E8-4796-B32B-E56F1BD6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842-1D86-4780-88EE-CCD81FA3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D6C-AEC2-41E7-803A-116A5383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544D-F3C5-41D7-AA0C-F63938C1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6A2B-A85E-4201-9B59-F65F36A1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3E87-DF9D-4ABA-9724-7B475D1F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AC83-69CE-40AC-8334-B0C9BF4E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94EC-246D-4554-81CD-64623A82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2698-4153-43EE-8745-1B07A30C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4D6F-4F4A-4058-A604-CD260374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2060-4E4C-4B63-BFFD-C092445F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66F8-E66A-4F02-A144-B372EF01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E84A-9CB0-430C-A91E-C3EA8A57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F487-D49B-45C0-AD78-587C811D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86D4-46D3-4D60-BAAC-C306D2C4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B4D3-80EB-44A7-AC7F-914A6353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B13-9E29-40B1-A129-C694EA6D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217-6704-4BC9-8BC6-9570F9B1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8F6-2608-4BD8-B260-F26913FB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D15-F12C-4D7A-BD1A-E9AF4114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B62-8CF7-4985-AEF9-679BF588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B04A-C18D-4703-82BA-DFE50881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396E-E895-4FB3-9FC9-719888B5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FFCF-7F89-40E5-B62A-6FDF2A379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1A15-483F-4947-9C3E-8F97734A6E96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4759"/>
          <p:cNvPicPr/>
          <p:nvPr/>
        </p:nvPicPr>
        <p:blipFill>
          <a:blip r:embed="rId1"/>
          <a:stretch/>
        </p:blipFill>
        <p:spPr>
          <a:xfrm>
            <a:off x="7196040" y="4292640"/>
            <a:ext cx="1947960" cy="256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j0234633"/>
          <p:cNvPicPr/>
          <p:nvPr/>
        </p:nvPicPr>
        <p:blipFill>
          <a:blip r:embed="rId1"/>
          <a:stretch/>
        </p:blipFill>
        <p:spPr>
          <a:xfrm>
            <a:off x="2411280" y="2205000"/>
            <a:ext cx="2633760" cy="3456000"/>
          </a:xfrm>
          <a:prstGeom prst="rect">
            <a:avLst/>
          </a:prstGeom>
          <a:ln w="0">
            <a:noFill/>
          </a:ln>
        </p:spPr>
      </p:pic>
      <p:sp>
        <p:nvSpPr>
          <p:cNvPr id="101" name="Line 7"/>
          <p:cNvSpPr/>
          <p:nvPr/>
        </p:nvSpPr>
        <p:spPr>
          <a:xfrm flipH="1">
            <a:off x="4284720" y="278136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H="1">
            <a:off x="3995280" y="508464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 flipH="1">
            <a:off x="4067280" y="414972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H="1">
            <a:off x="3634920" y="378936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5"/>
          <p:cNvGraphicFramePr/>
          <p:nvPr/>
        </p:nvGraphicFramePr>
        <p:xfrm>
          <a:off x="3305160" y="2025720"/>
          <a:ext cx="3571920" cy="39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2025720"/>
                    <a:ext cx="357192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Line 6"/>
          <p:cNvSpPr/>
          <p:nvPr/>
        </p:nvSpPr>
        <p:spPr>
          <a:xfrm flipV="1">
            <a:off x="4708440" y="28987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 flipV="1">
            <a:off x="5292720" y="2334960"/>
            <a:ext cx="720720" cy="730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2800440" y="420840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2800440" y="3217680"/>
            <a:ext cx="1044360" cy="1983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 flipV="1">
            <a:off x="5140440" y="40813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V="1">
            <a:off x="2873520" y="5143320"/>
            <a:ext cx="718920" cy="14436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5176800" y="363204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124000" y="6165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085914[1]"/>
          <p:cNvPicPr/>
          <p:nvPr/>
        </p:nvPicPr>
        <p:blipFill>
          <a:blip r:embed="rId1"/>
          <a:stretch/>
        </p:blipFill>
        <p:spPr>
          <a:xfrm>
            <a:off x="2322360" y="2852640"/>
            <a:ext cx="1197000" cy="201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j0085914[1]"/>
          <p:cNvPicPr/>
          <p:nvPr/>
        </p:nvPicPr>
        <p:blipFill>
          <a:blip r:embed="rId2"/>
          <a:stretch/>
        </p:blipFill>
        <p:spPr>
          <a:xfrm>
            <a:off x="5580000" y="2924280"/>
            <a:ext cx="1154160" cy="1942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6"/>
          <p:cNvSpPr/>
          <p:nvPr/>
        </p:nvSpPr>
        <p:spPr>
          <a:xfrm>
            <a:off x="4643280" y="2565360"/>
            <a:ext cx="3097440" cy="28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10:44Z</dcterms:created>
  <dc:creator>Paul</dc:creator>
  <dc:description/>
  <dc:language>en-US</dc:language>
  <cp:lastModifiedBy>RomaK</cp:lastModifiedBy>
  <dcterms:modified xsi:type="dcterms:W3CDTF">2015-09-04T11:38:12Z</dcterms:modified>
  <cp:revision>7</cp:revision>
  <dc:subject/>
  <dc:title>Pl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