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93F8-F5D0-4769-BC87-B878806650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33C-6243-49AC-A218-68A65903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F9E-2A26-44B0-940E-B59098C0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275-19E1-445F-AC4C-42087CF2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D2C3-0391-4889-A218-876E8EDA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0706-CFA2-407A-8455-ABD3185C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5510-BEF5-441F-92AD-DA8F81EE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CAD8-AA00-4796-AE41-F8A75A2A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BF0E-1FF7-4CF8-804A-D959F87A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3003-3DA4-4DC4-A12F-38A45763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EF45-C3E5-46F7-AEC0-43DB2C46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31D0-9F67-4083-B3E5-274A6AFB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6B0-1647-48C0-80A7-41EB4690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A057-5E86-4072-BD3E-A5495660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8312-CC5D-423F-A1AA-CEB71F1D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AB6C-70DB-444D-8A16-9B212685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5C90-CBFE-4030-8962-5EF19657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6D69-3EF0-4911-8794-4B576A33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3486-8232-4DA5-BA31-F37FB3CA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2FD-EFCA-4C14-9033-78634EAE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426-8B69-4361-981A-C37E3B18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61D-F922-4C36-8F41-D51A9604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037C-24D4-45FE-B9EE-AFE69CF1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027-6204-4BB7-B687-4BA139C5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ACC-6204-469B-8F3E-1E99FC90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8F94-337E-455A-A59A-9910C7F22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4F3A-9F61-4012-AA74-63834595B30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4759"/>
          <p:cNvPicPr/>
          <p:nvPr/>
        </p:nvPicPr>
        <p:blipFill>
          <a:blip r:embed="rId1"/>
          <a:stretch/>
        </p:blipFill>
        <p:spPr>
          <a:xfrm>
            <a:off x="7196040" y="4292640"/>
            <a:ext cx="1947960" cy="25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34633"/>
          <p:cNvPicPr/>
          <p:nvPr/>
        </p:nvPicPr>
        <p:blipFill>
          <a:blip r:embed="rId1"/>
          <a:stretch/>
        </p:blipFill>
        <p:spPr>
          <a:xfrm>
            <a:off x="2411280" y="2205000"/>
            <a:ext cx="263376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Line 7"/>
          <p:cNvSpPr/>
          <p:nvPr/>
        </p:nvSpPr>
        <p:spPr>
          <a:xfrm flipH="1">
            <a:off x="4284720" y="278136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3995280" y="508464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4067280" y="414972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>
            <a:off x="3634920" y="378936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3305160" y="2025720"/>
          <a:ext cx="357192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2025720"/>
                    <a:ext cx="357192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Line 6"/>
          <p:cNvSpPr/>
          <p:nvPr/>
        </p:nvSpPr>
        <p:spPr>
          <a:xfrm flipV="1">
            <a:off x="4708440" y="28987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5292720" y="2334960"/>
            <a:ext cx="720720" cy="730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2800440" y="420840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2800440" y="3217680"/>
            <a:ext cx="1044360" cy="1983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5140440" y="40813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2873520" y="5143320"/>
            <a:ext cx="718920" cy="1443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5176800" y="363204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24000" y="6165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085914[1]"/>
          <p:cNvPicPr/>
          <p:nvPr/>
        </p:nvPicPr>
        <p:blipFill>
          <a:blip r:embed="rId1"/>
          <a:stretch/>
        </p:blipFill>
        <p:spPr>
          <a:xfrm>
            <a:off x="2322360" y="2852640"/>
            <a:ext cx="1197000" cy="201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j0085914[1]"/>
          <p:cNvPicPr/>
          <p:nvPr/>
        </p:nvPicPr>
        <p:blipFill>
          <a:blip r:embed="rId2"/>
          <a:stretch/>
        </p:blipFill>
        <p:spPr>
          <a:xfrm>
            <a:off x="5580000" y="2924280"/>
            <a:ext cx="1154160" cy="1942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4643280" y="2565360"/>
            <a:ext cx="3097440" cy="28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10:44Z</dcterms:created>
  <dc:creator>Paul</dc:creator>
  <dc:description/>
  <dc:language>en-US</dc:language>
  <cp:lastModifiedBy>RomaK</cp:lastModifiedBy>
  <dcterms:modified xsi:type="dcterms:W3CDTF">2015-09-04T11:38:12Z</dcterms:modified>
  <cp:revision>7</cp:revision>
  <dc:subject/>
  <dc:title>Pl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