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wmf" ContentType="image/x-wmf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C7F6F-D920-4108-9F70-18D26140A71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lant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imple stuff!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mple stuff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lant cells.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t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What is photosynthesis?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So why did you mention starch?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photosynthes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y did you mention starc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The experiment!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xperim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Take a leaf!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ke a leaf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Boil it in alcohol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il it in 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Add iodin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d iod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What do you write down?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An outline of what you are doing and why you are doing it.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A prediction as to what you expect to find and why.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A conclusion explaining what you actually did find out (this MUST contain the chemical equation for photosynthesis).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write dow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utline of what you are doing and why you are doing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ediction as to what you expect to find and w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clusion explaining what you actually did find out (this MUST contain the chemical equation for photosynthesi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889F-1E45-49D9-A4FC-7EB67AD0D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67CF-3031-4ADB-B542-A6433A33A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88AE-C8AD-447E-A88A-B3E5D90A1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5B2C-4CA4-44F0-B771-B88B93DF5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F5F6D-3870-4B22-8CBB-C7089346C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ABA45-CDDB-450F-A959-438B3F1E2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B9FC9-A8B0-4C47-AF0B-CCD7434E8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6C19E-5249-4677-B7F1-EB48C283F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DDE58-E0CB-4445-B433-5047DCCA9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767ED-2BC5-4D63-B0A5-2C1D03C01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3EA4D-5B3F-406C-965A-9800B08B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A347-C013-4D79-B75B-183FF6221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64BD2-9C02-4886-8A9D-FB0E2BB5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D1888-9CDD-42B8-9672-BE1B412D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56469-177B-4B65-B248-3EABAE99B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0F8E6-6B6F-46D9-B6A2-AB3950D4A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C5827-AD37-46A5-B2DD-D66DDA15C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5822-BB80-497A-9CAF-CA4B5BFE9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5027-5499-4790-97AE-F03E0F83D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EA51-16A2-4DF9-9385-DA938A207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35F9-8537-4939-B051-497EF93F7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94E9-B4B8-4A0C-924E-19748676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D436-DA70-443A-A43A-4DA03CDB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A347-8756-4B45-BCF9-DBBA9E44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3B4AA-BC3E-49F2-860A-EAE96F6CAF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2EE9D-908A-4F52-8FBF-3AD41DF57A2C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j0234759"/>
          <p:cNvPicPr/>
          <p:nvPr/>
        </p:nvPicPr>
        <p:blipFill>
          <a:blip r:embed="rId1"/>
          <a:stretch/>
        </p:blipFill>
        <p:spPr>
          <a:xfrm>
            <a:off x="7196040" y="4292640"/>
            <a:ext cx="1947960" cy="2565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Simple stuff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j0234633"/>
          <p:cNvPicPr/>
          <p:nvPr/>
        </p:nvPicPr>
        <p:blipFill>
          <a:blip r:embed="rId1"/>
          <a:stretch/>
        </p:blipFill>
        <p:spPr>
          <a:xfrm>
            <a:off x="2411280" y="2205000"/>
            <a:ext cx="2633760" cy="3456000"/>
          </a:xfrm>
          <a:prstGeom prst="rect">
            <a:avLst/>
          </a:prstGeom>
          <a:ln w="0">
            <a:noFill/>
          </a:ln>
        </p:spPr>
      </p:pic>
      <p:sp>
        <p:nvSpPr>
          <p:cNvPr id="101" name="Line 7"/>
          <p:cNvSpPr/>
          <p:nvPr/>
        </p:nvSpPr>
        <p:spPr>
          <a:xfrm flipH="1">
            <a:off x="4284720" y="2781360"/>
            <a:ext cx="180000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 flipH="1">
            <a:off x="3995280" y="5084640"/>
            <a:ext cx="180036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3" name="Line 9"/>
          <p:cNvSpPr/>
          <p:nvPr/>
        </p:nvSpPr>
        <p:spPr>
          <a:xfrm flipH="1">
            <a:off x="4067280" y="4149720"/>
            <a:ext cx="180000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4" name="Line 10"/>
          <p:cNvSpPr/>
          <p:nvPr/>
        </p:nvSpPr>
        <p:spPr>
          <a:xfrm flipH="1">
            <a:off x="3634920" y="3789360"/>
            <a:ext cx="180036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Plant cells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5"/>
          <p:cNvGraphicFramePr/>
          <p:nvPr/>
        </p:nvGraphicFramePr>
        <p:xfrm>
          <a:off x="3305160" y="2025720"/>
          <a:ext cx="3571920" cy="39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5160" y="2025720"/>
                    <a:ext cx="3571920" cy="39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Line 6"/>
          <p:cNvSpPr/>
          <p:nvPr/>
        </p:nvSpPr>
        <p:spPr>
          <a:xfrm flipV="1">
            <a:off x="4708440" y="2898720"/>
            <a:ext cx="1368360" cy="21600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9" name="Line 7"/>
          <p:cNvSpPr/>
          <p:nvPr/>
        </p:nvSpPr>
        <p:spPr>
          <a:xfrm flipV="1">
            <a:off x="5292720" y="2334960"/>
            <a:ext cx="720720" cy="7308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 flipV="1">
            <a:off x="2800440" y="4208400"/>
            <a:ext cx="863640" cy="21600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1" name="Line 9"/>
          <p:cNvSpPr/>
          <p:nvPr/>
        </p:nvSpPr>
        <p:spPr>
          <a:xfrm flipV="1">
            <a:off x="2800440" y="3217680"/>
            <a:ext cx="1044360" cy="19836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2" name="Line 10"/>
          <p:cNvSpPr/>
          <p:nvPr/>
        </p:nvSpPr>
        <p:spPr>
          <a:xfrm flipV="1">
            <a:off x="5140440" y="4081320"/>
            <a:ext cx="1368360" cy="21600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3" name="Line 11"/>
          <p:cNvSpPr/>
          <p:nvPr/>
        </p:nvSpPr>
        <p:spPr>
          <a:xfrm flipV="1">
            <a:off x="2873520" y="5143320"/>
            <a:ext cx="718920" cy="14436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4" name="Line 12"/>
          <p:cNvSpPr/>
          <p:nvPr/>
        </p:nvSpPr>
        <p:spPr>
          <a:xfrm flipV="1">
            <a:off x="5176800" y="3632040"/>
            <a:ext cx="863640" cy="21600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What is photosynthesis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124000" y="616572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66"/>
                </a:solidFill>
                <a:latin typeface="Arial"/>
              </a:rPr>
              <a:t>So why did you mention starch?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The experiment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j0085914[1]"/>
          <p:cNvPicPr/>
          <p:nvPr/>
        </p:nvPicPr>
        <p:blipFill>
          <a:blip r:embed="rId1"/>
          <a:stretch/>
        </p:blipFill>
        <p:spPr>
          <a:xfrm>
            <a:off x="2322360" y="2852640"/>
            <a:ext cx="1197000" cy="20145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4" descr="j0085914[1]"/>
          <p:cNvPicPr/>
          <p:nvPr/>
        </p:nvPicPr>
        <p:blipFill>
          <a:blip r:embed="rId2"/>
          <a:stretch/>
        </p:blipFill>
        <p:spPr>
          <a:xfrm>
            <a:off x="5580000" y="2924280"/>
            <a:ext cx="1154160" cy="19429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6"/>
          <p:cNvSpPr/>
          <p:nvPr/>
        </p:nvSpPr>
        <p:spPr>
          <a:xfrm>
            <a:off x="4643280" y="2565360"/>
            <a:ext cx="3097440" cy="2881440"/>
          </a:xfrm>
          <a:prstGeom prst="rect">
            <a:avLst/>
          </a:prstGeom>
          <a:solidFill>
            <a:srgbClr val="00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Take a leaf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Boil it in alcoho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Add iodi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What do you write dow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n outline of what you are doing and why you are doing i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 prediction as to what you expect to find and wh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 conclusion explaining what you actually did find out (this MUST contain the chemical equation for photosynthesi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2T19:10:44Z</dcterms:created>
  <dc:creator>Paul</dc:creator>
  <dc:description/>
  <dc:language>en-US</dc:language>
  <cp:lastModifiedBy>RomaK</cp:lastModifiedBy>
  <dcterms:modified xsi:type="dcterms:W3CDTF">2015-09-04T11:38:12Z</dcterms:modified>
  <cp:revision>7</cp:revision>
  <dc:subject/>
  <dc:title>Pla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