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F710-24D6-4E70-BF43-026E14174A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1B6-48EE-4736-B5FC-6E05A955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3CEE-5988-4D08-B6F2-EF341662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14F-79D5-47D4-97F1-13028C53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C54-A3F4-4154-B2CF-44DE720F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D235-CF4F-4A1F-A1A5-8EF3138F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5487-A52F-4E21-8E1E-5675FB77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62A8-D8EC-4C9A-9F86-199BA567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C45E-2E5E-479F-A085-979B806B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3C46-2405-43B5-B21F-A5F0D933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BFC7-063A-432D-82D5-D9937261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7913-0EC4-4A9B-956F-1171A0CF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C6D1-D451-449E-B063-E54DF4BC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A25D-2439-47B9-B6E4-740B0700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AEBC-71F4-4584-A93D-64FA1A4F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B600-F65D-49BC-A697-CD7B7720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1294-66E8-424D-B89E-52131901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CE2C-CDED-43D9-ABFD-0882E0A1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F84-5C7C-4B9B-B097-718DFA4F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6C22-EDF8-458C-BEE5-F9F54B81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368-0208-494C-8F4A-1DE32E30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28FB-9297-4171-80E6-9DACDF17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FA8-9856-4242-971F-330ADD91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162-4ABB-4FE5-B0BE-448BD108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05F-D069-4475-8353-78396DCA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2FF8-257C-48C5-AC51-8D6E02567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3D4E-5940-4C42-9853-51014B8E9EC7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4759"/>
          <p:cNvPicPr/>
          <p:nvPr/>
        </p:nvPicPr>
        <p:blipFill>
          <a:blip r:embed="rId1"/>
          <a:stretch/>
        </p:blipFill>
        <p:spPr>
          <a:xfrm>
            <a:off x="7196040" y="4292640"/>
            <a:ext cx="1947960" cy="256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j0234633"/>
          <p:cNvPicPr/>
          <p:nvPr/>
        </p:nvPicPr>
        <p:blipFill>
          <a:blip r:embed="rId1"/>
          <a:stretch/>
        </p:blipFill>
        <p:spPr>
          <a:xfrm>
            <a:off x="2411280" y="2205000"/>
            <a:ext cx="2633760" cy="3456000"/>
          </a:xfrm>
          <a:prstGeom prst="rect">
            <a:avLst/>
          </a:prstGeom>
          <a:ln w="0">
            <a:noFill/>
          </a:ln>
        </p:spPr>
      </p:pic>
      <p:sp>
        <p:nvSpPr>
          <p:cNvPr id="101" name="Line 7"/>
          <p:cNvSpPr/>
          <p:nvPr/>
        </p:nvSpPr>
        <p:spPr>
          <a:xfrm flipH="1">
            <a:off x="4284720" y="278136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H="1">
            <a:off x="3995280" y="508464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 flipH="1">
            <a:off x="4067280" y="414972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H="1">
            <a:off x="3634920" y="378936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5"/>
          <p:cNvGraphicFramePr/>
          <p:nvPr/>
        </p:nvGraphicFramePr>
        <p:xfrm>
          <a:off x="3305160" y="2025720"/>
          <a:ext cx="3571920" cy="39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2025720"/>
                    <a:ext cx="357192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Line 6"/>
          <p:cNvSpPr/>
          <p:nvPr/>
        </p:nvSpPr>
        <p:spPr>
          <a:xfrm flipV="1">
            <a:off x="4708440" y="28987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 flipV="1">
            <a:off x="5292720" y="2334960"/>
            <a:ext cx="720720" cy="730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2800440" y="420840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2800440" y="3217680"/>
            <a:ext cx="1044360" cy="1983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 flipV="1">
            <a:off x="5140440" y="40813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V="1">
            <a:off x="2873520" y="5143320"/>
            <a:ext cx="718920" cy="14436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5176800" y="363204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124000" y="6165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085914[1]"/>
          <p:cNvPicPr/>
          <p:nvPr/>
        </p:nvPicPr>
        <p:blipFill>
          <a:blip r:embed="rId1"/>
          <a:stretch/>
        </p:blipFill>
        <p:spPr>
          <a:xfrm>
            <a:off x="2322360" y="2852640"/>
            <a:ext cx="1197000" cy="201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j0085914[1]"/>
          <p:cNvPicPr/>
          <p:nvPr/>
        </p:nvPicPr>
        <p:blipFill>
          <a:blip r:embed="rId2"/>
          <a:stretch/>
        </p:blipFill>
        <p:spPr>
          <a:xfrm>
            <a:off x="5580000" y="2924280"/>
            <a:ext cx="1154160" cy="1942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6"/>
          <p:cNvSpPr/>
          <p:nvPr/>
        </p:nvSpPr>
        <p:spPr>
          <a:xfrm>
            <a:off x="4643280" y="2565360"/>
            <a:ext cx="3097440" cy="28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10:44Z</dcterms:created>
  <dc:creator>Paul</dc:creator>
  <dc:description/>
  <dc:language>en-US</dc:language>
  <cp:lastModifiedBy>RomaK</cp:lastModifiedBy>
  <dcterms:modified xsi:type="dcterms:W3CDTF">2015-09-04T11:38:12Z</dcterms:modified>
  <cp:revision>7</cp:revision>
  <dc:subject/>
  <dc:title>Pl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