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AD1F-63C9-4FEC-AB3F-954D788ED2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B78-44FF-4D7B-9FA7-41FFCBDC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867-7C26-4485-9EDE-E5AC259B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4E0-BCE4-46A3-B43E-CF54E58C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E71-E6DC-4366-8D7D-BEACA465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5214-5196-4DE3-AFB9-E60F817B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1DD8-99EE-4214-AC09-51856C31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C71D-BB44-4439-8B12-BB34E55A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6AAF-84B1-46C3-9666-6CBC897E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47A5-B25F-4E33-A826-60FFE070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811A-F89F-4662-ACBF-C2A87084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ADA1-1A82-4E7E-814E-9D75692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C63-E035-4432-A853-BAF4CE6D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E447-0C1F-48FC-8828-8530F10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437C-3FD2-4C10-82B4-0712687F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F455-06B9-4D72-A635-E2EFEBCC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621F-F8E8-42D1-AC4D-4AF2FF7F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B38F-83A0-44B4-8AAA-811F14A3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3C23-3E62-4906-ADA0-CAC5A349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220F-DFB7-439C-B0F1-24DFAAD5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3E13-D926-440A-BD34-320AEC12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1AAF-CDE1-4912-AE44-A2419131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0DEBD-113B-4F6B-B871-6A4BE011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EC7-DFB9-478D-9CB1-DB339398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A049-B586-4545-9BA6-3B648AE9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7DF1-3580-4900-A92E-6D2E10A7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0A35-945C-4FFD-A176-2833C33F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AB76-2A18-440B-BCB9-C4ACC9E7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E78D-0870-403D-934E-37AEAE2A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F225-B73B-482A-A76F-AECD7FF6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533A-3653-42D4-BB59-A890DCB4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B25A-C0D4-4CAA-B09A-CA5A1A27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1225-F2C4-411C-ADC9-253FED94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F89AF-4A00-4949-B58F-C2752CF2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54E-6D9C-4B08-A0F6-885F93E7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97F5-9683-4C43-9064-317D4000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3092-4766-4D89-90FB-B3CC0032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BA174-4C7F-46DE-8017-74F52862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FAF02-09F1-489D-9D7E-E2D9643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0E24-ECFA-43E0-9B96-13B695E7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7366-D1A5-48D7-8716-D76A69DD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5FCDD-9634-493E-919F-883AE1F7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DE1E-CA49-45C7-B145-7DDAE898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9D9C-0B41-4C1D-AA48-A216F9A5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27918-0B59-405D-A4FD-E81B36A1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242-EBCC-4D72-84D9-72768DC9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0063-E2DE-426F-95DA-1E7FE322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4D60-9347-4D14-9A09-6D2D3212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E86D-AAF2-45F8-809E-784AE8F0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3BAC4-0828-4FB1-B26D-BFF0EA4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6B574-73C7-4AFA-A920-AC3D6A55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8C798-B69A-4933-B1E5-C85883A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8FF0-C73E-4031-9556-612A202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5574-87C1-461E-AE2F-9DE9113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0BE5F-F1D4-48A4-9E93-809DE1B1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EE449-9BFA-470F-A63A-2B55ACBF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61C-2491-454C-9F04-CE7C905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AC2D8-60A5-42C5-86FE-0546888E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F0A-6499-407A-9EDB-91C64B13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F69-5BBF-44B1-B3BA-A8393702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F12-6A4A-4EFE-B32F-8E137B02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103-D93E-468F-8D4D-6F270968EC01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E97-5B35-4612-B896-01CAEA98092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6FDE-1E1B-46F6-8255-1F4CE761F5C6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4689-4E5D-4594-AFBA-155D5EE78CA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7A14-1FF5-4CDF-B0EF-CE3D8D8E16B4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8D69-49A0-4CF6-8188-F806A1B63BA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1AE3-BCEA-4EDD-98AB-A6E7A7C97455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BA91-94FC-4EA0-87AD-84BBA70928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A336-1EDB-41B2-AAD0-DF2B8FD7C76E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BD8E-17BC-47C4-8516-021CA37357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We will study two types of animal behav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You are the mouse in the ma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nimal Behavio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237" name="Picture 5" descr="C:\Documents and Settings\carolyn.kinne\Local Settings\Temporary Internet Files\Content.IE5\XKKQW3N2\MCj04125760000[1].wmf"/>
          <p:cNvPicPr/>
          <p:nvPr/>
        </p:nvPicPr>
        <p:blipFill>
          <a:blip r:embed="rId1"/>
          <a:stretch/>
        </p:blipFill>
        <p:spPr>
          <a:xfrm>
            <a:off x="3581280" y="4191120"/>
            <a:ext cx="1903680" cy="2322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Book"/>
              </a:rPr>
              <a:t>The first type is instinctive behavior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inctive behavior is something the animal is born knowing how to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fish swimming and geese migratin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other examples can you think of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Documents and Settings\carolyn.kinne\Local Settings\Temporary Internet Files\Content.IE5\E2LUDJLQ\MPj04310460000[1].jpg"/>
          <p:cNvPicPr/>
          <p:nvPr/>
        </p:nvPicPr>
        <p:blipFill>
          <a:blip r:embed="rId1"/>
          <a:stretch/>
        </p:blipFill>
        <p:spPr>
          <a:xfrm>
            <a:off x="304920" y="342900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carolyn.kinne\Local Settings\Temporary Internet Files\Content.IE5\60TCN93U\MPj02627520000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The other type is learned behavior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you can probably guess, learned behavior i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tin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s are not born knowing what to do or how to d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rned behavior is learned by experience and sometimes from a par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lions and leopards learning how to hunt by watching and practicing with their m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Documents and Settings\carolyn.kinne\Local Settings\Temporary Internet Files\Content.IE5\60TCN93U\MPj03138350000[1].jpg"/>
          <p:cNvPicPr/>
          <p:nvPr/>
        </p:nvPicPr>
        <p:blipFill>
          <a:blip r:embed="rId1"/>
          <a:stretch/>
        </p:blipFill>
        <p:spPr>
          <a:xfrm>
            <a:off x="1295280" y="4648320"/>
            <a:ext cx="2895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Documents and Settings\carolyn.kinne\Local Settings\Temporary Internet Files\Content.IE5\60TCN93U\MPj04038420000[1]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Your behavior – think, think, think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of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behavior are instinctiv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are learned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o do you learn from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me three things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 have learned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 the last week…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C:\Documents and Settings\carolyn.kinne\Local Settings\Temporary Internet Files\Content.IE5\E2LUDJLQ\MPj04387390000[1].jpg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carolyn.kinne\Local Settings\Temporary Internet Files\Content.IE5\E2LUDJLQ\MPj04365880000[1].jpg"/>
          <p:cNvPicPr/>
          <p:nvPr/>
        </p:nvPicPr>
        <p:blipFill>
          <a:blip r:embed="rId2"/>
          <a:stretch/>
        </p:blipFill>
        <p:spPr>
          <a:xfrm>
            <a:off x="1066680" y="4419720"/>
            <a:ext cx="1474920" cy="220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carolyn.kinne\Local Settings\Temporary Internet Files\Content.IE5\60TCN93U\MCj04151440000[1].wmf"/>
          <p:cNvPicPr/>
          <p:nvPr/>
        </p:nvPicPr>
        <p:blipFill>
          <a:blip r:embed="rId3"/>
          <a:stretch/>
        </p:blipFill>
        <p:spPr>
          <a:xfrm>
            <a:off x="2895480" y="4038480"/>
            <a:ext cx="1609920" cy="26434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2Z</dcterms:created>
  <dc:creator>Ector County ISD Employee</dc:creator>
  <dc:description/>
  <dc:language>en-US</dc:language>
  <cp:lastModifiedBy>LEGION2</cp:lastModifiedBy>
  <dcterms:modified xsi:type="dcterms:W3CDTF">2016-01-12T13:42:21Z</dcterms:modified>
  <cp:revision>8</cp:revision>
  <dc:subject/>
  <dc:title>Animal Behavior</dc:title>
</cp:coreProperties>
</file>