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6CB12-80E3-4084-80D0-01766022D35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study two types of animal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the mouse in the ma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 Behavi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will study two types of animal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the mouse in the m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 Behav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ype is instinctive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inctive behavior is something the animal is born knowing how to d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fish swimming and geese migrating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ther examples can you think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rst type is instinctive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inctive behavior is something the animal is born knowing how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fish swimming and geese migrat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other examples can you think 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type is learned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you can probably guess, learned behavior is not instin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are not born knowing what to do or how to do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ed behavior is learned by experience and sometimes from a par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lions and leopards learning how to hunt by watching and practicing with their moth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type is learned behav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you can probably guess, learned behavior is not instin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are not born knowing what to do or how to d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rned behavior is learned by experience and sometimes from a pa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include lions and leopards learning how to hunt by watching and practicing with their m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behavior – think, think, think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of your behavior are instinc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are learn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do you learn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three things you have learned in the last week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behavior – think, think, thin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of your behavior are instin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parts are lear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do you learn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 three things you have learned in the last week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311D-64D3-4DD0-868F-09588EA2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7845-BA3C-4E01-8A7C-18D0A2BC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E31A-43F0-445E-961F-62C29C32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9BDB-F217-4017-9C39-2E7EC450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76970-9C52-4375-A824-02353F35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B4DE-EE24-42BC-BDFB-776368B2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01AF-3D1A-450F-B2AD-0613CE65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77BE-6A9D-4CDA-82EC-2A77D9F3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B659-DECE-456C-B48B-A52B8E1C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9B9B-AED5-4082-A5D9-9BB26A9A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E4CB-BD8E-4BBD-8A02-BEF23F1A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7C19-1ECE-4B98-B382-63C12095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2D0D-53B0-4460-B258-C42BBB64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5CD7-38E3-44E9-9FBB-0F3F8BE7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D99A5-3A11-43D4-935C-942BDBD3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D594A-378A-4588-B1C3-4BC644EF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1BAA-4415-4657-AF81-AD0E628E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B2D88-A2E5-4E9E-9096-2CBFD666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215FE-04B4-4ACA-B3BF-DBB397F4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E2DBA-884E-40A2-80B5-4ED4DF5E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E9485-D8EB-4660-AC5F-C423F6FF7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53C6C-4E8F-4C2F-917E-CB5E75E5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72B7-BF92-4964-B479-1D52AB81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40748-D1DB-4152-A5B7-2FEF136B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1469B-395F-4F2B-838D-F5D68670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CBAE9-E73F-4BA5-AF9D-45883391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C38E8-7411-4C07-8FC3-564D1460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E6DB0-7F7C-4152-B494-7A063C93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223D5-EFEF-4F48-9683-54A1AC40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A6D65-CBC3-41B0-B53F-04782570C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0201D-9950-4683-A494-E031CBCCC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15AA3-F5ED-4597-B41B-B483987C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03AAD-855D-41DF-B710-0395924C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1E7B-D1CE-40C9-B231-8ADE53EC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31719-C58E-4742-8349-BB984845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913C9-C608-484D-8A87-265117AF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DFF7E-29CB-4BF0-A076-950AD37D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FF5BA-C9BC-4203-8819-500F7BAA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36BD0-CC27-44F7-A9D7-2D6CE0DE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9422D-9F15-465A-908B-3B45BAFA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BF7F5-20F5-4A24-9B74-380358F1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D1371-6FEA-4A78-A2B3-64086365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C175F-1E8C-4CEB-B58B-8AFFDF1D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7D960-5A37-467B-9171-AE609B665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A23A-2863-42DB-B73C-B5FEFBF1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B7E3F-DEFB-4E38-AEA5-51F97BBF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9CB4E-FC29-426E-9221-59028865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8702F-D0D1-40A8-B5AF-D1A9D1200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63DF6-DCE9-4CD1-AC25-F4672B79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C9C25-B220-4267-A90C-531C7AAE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DC0A7-B424-4AFC-BD03-2F43CD89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8CCA2-D65E-4CA7-BD70-B8878807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751FC-06BC-4C50-A970-3A984B20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0FC77-7C4A-4CBD-99BF-A002772B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E3A89-7AAB-4090-B88E-92FF8308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B9E9-638A-47EC-B251-07B43EAE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807D7-323E-41AF-94D4-604B10B0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AFDA-40D6-44E0-A7CF-4DD1DABB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B3BD-91BC-4C5F-B970-17C92D5E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B310-FC5A-4400-9194-3A9FEF8D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D2FC-D8C3-4448-B313-716D2F0EB76D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D688-1072-4B1B-954B-795980A2680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441E-C6D5-4D2A-8249-E8D5356F9014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10F0-1117-4BB4-B861-C160EC1E961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561A-E8E8-4ADD-83C8-E28B1BB61726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6105-9BFF-412F-800D-56CEB3915AA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112B-CD09-4497-A8F8-8F26137A57A3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5425-A1A4-4457-81F1-E28364E61D2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ad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474b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da1f2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adced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eb641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eb641b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261F-404D-43E8-9C7B-17267A00372E}" type="datetime">
              <a:rPr b="0" lang="en-US" sz="1400" spc="-1" strike="noStrike">
                <a:solidFill>
                  <a:srgbClr val="464646"/>
                </a:solidFill>
                <a:latin typeface="Perpetu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46"/>
                </a:solidFill>
                <a:latin typeface="Perpet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EA0D-D6F2-4011-95C0-2177B1EB497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Perpetua"/>
              </a:rPr>
              <a:t>We will study two types of animal behavior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64646"/>
                </a:solidFill>
                <a:latin typeface="Perpetua"/>
              </a:rPr>
              <a:t>You are the mouse in the maz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Animal Behavior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pic>
        <p:nvPicPr>
          <p:cNvPr id="237" name="Picture 5" descr="C:\Documents and Settings\carolyn.kinne\Local Settings\Temporary Internet Files\Content.IE5\XKKQW3N2\MCj04125760000[1].wmf"/>
          <p:cNvPicPr/>
          <p:nvPr/>
        </p:nvPicPr>
        <p:blipFill>
          <a:blip r:embed="rId1"/>
          <a:stretch/>
        </p:blipFill>
        <p:spPr>
          <a:xfrm>
            <a:off x="3581280" y="4191120"/>
            <a:ext cx="1903680" cy="232236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Franklin Gothic Book"/>
              </a:rPr>
              <a:t>The first type is instinctive behavior.</a:t>
            </a:r>
            <a:endParaRPr b="0" lang="en-US" sz="36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Instinctive behavior is something the animal is born knowing how to do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 include fish swimming and geese migrating. 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What other examples can you think of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Picture 2" descr="C:\Documents and Settings\carolyn.kinne\Local Settings\Temporary Internet Files\Content.IE5\E2LUDJLQ\MPj04310460000[1].jpg"/>
          <p:cNvPicPr/>
          <p:nvPr/>
        </p:nvPicPr>
        <p:blipFill>
          <a:blip r:embed="rId1"/>
          <a:stretch/>
        </p:blipFill>
        <p:spPr>
          <a:xfrm>
            <a:off x="304920" y="3429000"/>
            <a:ext cx="4495680" cy="3068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Documents and Settings\carolyn.kinne\Local Settings\Temporary Internet Files\Content.IE5\60TCN93U\MPj02627520000[1].jpg"/>
          <p:cNvPicPr/>
          <p:nvPr/>
        </p:nvPicPr>
        <p:blipFill>
          <a:blip r:embed="rId2"/>
          <a:stretch/>
        </p:blipFill>
        <p:spPr>
          <a:xfrm>
            <a:off x="4952880" y="3429000"/>
            <a:ext cx="3886200" cy="304812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The other type is learned behavior.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s you can probably guess, learned behavior is </a:t>
            </a:r>
            <a:r>
              <a:rPr b="0" i="1" lang="en-US" sz="2600" spc="-1" strike="noStrike">
                <a:solidFill>
                  <a:srgbClr val="000000"/>
                </a:solidFill>
                <a:latin typeface="Perpetua"/>
              </a:rPr>
              <a:t>not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instinctive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nimals are not born knowing what to do or how to do i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arned behavior is learned by experience and sometimes from a parent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xamples include lions and leopards learning how to hunt by watching and practicing with their mothers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2" descr="C:\Documents and Settings\carolyn.kinne\Local Settings\Temporary Internet Files\Content.IE5\60TCN93U\MPj03138350000[1].jpg"/>
          <p:cNvPicPr/>
          <p:nvPr/>
        </p:nvPicPr>
        <p:blipFill>
          <a:blip r:embed="rId1"/>
          <a:stretch/>
        </p:blipFill>
        <p:spPr>
          <a:xfrm>
            <a:off x="1295280" y="4648320"/>
            <a:ext cx="2895840" cy="194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C:\Documents and Settings\carolyn.kinne\Local Settings\Temporary Internet Files\Content.IE5\60TCN93U\MPj04038420000[1].jpg"/>
          <p:cNvPicPr/>
          <p:nvPr/>
        </p:nvPicPr>
        <p:blipFill>
          <a:blip r:embed="rId2"/>
          <a:stretch/>
        </p:blipFill>
        <p:spPr>
          <a:xfrm>
            <a:off x="5257800" y="4648320"/>
            <a:ext cx="2895480" cy="193032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Franklin Gothic Book"/>
              </a:rPr>
              <a:t>Your behavior – think, think, think…</a:t>
            </a:r>
            <a:endParaRPr b="0" lang="en-US" sz="4000" spc="-1" strike="noStrike">
              <a:solidFill>
                <a:srgbClr val="464646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What parts of </a:t>
            </a: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your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 behavior are instinctive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What parts are learned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Who do you learn from?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Name three things </a:t>
            </a: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you have learned 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n the last week….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1" name="Picture 4" descr="C:\Documents and Settings\carolyn.kinne\Local Settings\Temporary Internet Files\Content.IE5\E2LUDJLQ\MPj04387390000[1].jpg"/>
          <p:cNvPicPr/>
          <p:nvPr/>
        </p:nvPicPr>
        <p:blipFill>
          <a:blip r:embed="rId1"/>
          <a:stretch/>
        </p:blipFill>
        <p:spPr>
          <a:xfrm>
            <a:off x="4876920" y="388620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:\Documents and Settings\carolyn.kinne\Local Settings\Temporary Internet Files\Content.IE5\E2LUDJLQ\MPj04365880000[1].jpg"/>
          <p:cNvPicPr/>
          <p:nvPr/>
        </p:nvPicPr>
        <p:blipFill>
          <a:blip r:embed="rId2"/>
          <a:stretch/>
        </p:blipFill>
        <p:spPr>
          <a:xfrm>
            <a:off x="1066680" y="4419720"/>
            <a:ext cx="1474920" cy="2209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C:\Documents and Settings\carolyn.kinne\Local Settings\Temporary Internet Files\Content.IE5\60TCN93U\MCj04151440000[1].wmf"/>
          <p:cNvPicPr/>
          <p:nvPr/>
        </p:nvPicPr>
        <p:blipFill>
          <a:blip r:embed="rId3"/>
          <a:stretch/>
        </p:blipFill>
        <p:spPr>
          <a:xfrm>
            <a:off x="2895480" y="4038480"/>
            <a:ext cx="1609920" cy="264348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46"/>
                </a:solidFill>
                <a:latin typeface="Perpetu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8:49:12Z</dcterms:created>
  <dc:creator>Ector County ISD Employee</dc:creator>
  <dc:description/>
  <dc:language>en-US</dc:language>
  <cp:lastModifiedBy>LEGION2</cp:lastModifiedBy>
  <dcterms:modified xsi:type="dcterms:W3CDTF">2016-01-12T13:42:21Z</dcterms:modified>
  <cp:revision>8</cp:revision>
  <dc:subject/>
  <dc:title>Animal Behavior</dc:title>
</cp:coreProperties>
</file>