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whoosh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1D75-AC6B-4BED-8F90-4DF1A62CD5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absorption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bsorption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light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trometer is used to measure the amount of absorption at each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ion spectrum shows the rate of photosynthesis at different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light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trometer is used to measure the amount of absorption at each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ion spectrum shows the rate of photosynthesis at different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 and B absorb light mostly in the red and blue regions of th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e and xanthophyll absorb light from other regions and pass the energy to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 and B absorb light mostly in the red and blue regions of th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e and xanthophyll absorb light from other regions and pass the energy to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low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C instead of 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wide absorption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sorbs light in parts of the spectrum where chlorophyll is less e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low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C instead of 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wide absorption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sorbs light in parts of the spectrum where chlorophyll is less e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ve chlorophyll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chlorophyll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have 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have 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8052-E48C-4374-8BD4-B476EFCB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CF0B-9D6B-4CC1-9BB6-1E34AA5A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9807-9CDB-4DB4-92E2-AD8E011C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3703-3876-4830-98F6-6328E3D0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CDD6-29A7-42C1-A720-1625F9BE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4EE6-E6D4-466E-8664-9D9BC412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1EB4-82ED-4EDC-8E22-817FAE14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DE6-BA90-4C30-9808-7D657089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574B-5B65-406E-98DE-06C5BE0C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E69-EFCA-424D-9C46-AABA6BB3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0654-C033-44CC-A07C-76684CAF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1D36-C015-4451-A398-17A7E89E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A52F-D70A-4BF1-AA5D-D9DDA197B9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bsorption of Light by Chlorophy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ght absorption by chlorophy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06test_wavelength"/>
          <p:cNvPicPr/>
          <p:nvPr/>
        </p:nvPicPr>
        <p:blipFill>
          <a:blip r:embed="rId1"/>
          <a:stretch/>
        </p:blipFill>
        <p:spPr>
          <a:xfrm>
            <a:off x="380880" y="1981080"/>
            <a:ext cx="8763120" cy="47386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asuring light 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pectrometer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used to measure the amount of absorption at each wave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ction spectru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hows the rate of photosynthesis at different light int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ig5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486400" y="533520"/>
            <a:ext cx="3276720" cy="45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lorophyll A and B absorb light mostly in the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red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blu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gions of th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otene and xanthophyll absorb light from other regions and pass the energy to chlorophy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rown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jected to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ow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light int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lorophyll C instead of chlorophyll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fucoxan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wide absorption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absorbs light in parts of the spectrum where chlorophyll is less 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ve chlorophyll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hycoeryth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red seaweed"/>
          <p:cNvPicPr/>
          <p:nvPr/>
        </p:nvPicPr>
        <p:blipFill>
          <a:blip r:embed="rId1"/>
          <a:stretch/>
        </p:blipFill>
        <p:spPr>
          <a:xfrm>
            <a:off x="533520" y="3276720"/>
            <a:ext cx="2865240" cy="3581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55071581"/>
          <p:cNvPicPr/>
          <p:nvPr/>
        </p:nvPicPr>
        <p:blipFill>
          <a:blip r:embed="rId2"/>
          <a:stretch/>
        </p:blipFill>
        <p:spPr>
          <a:xfrm>
            <a:off x="6116760" y="3355920"/>
            <a:ext cx="3027240" cy="3502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een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nd in shallow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 not have fucoxan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es not have phycoeryth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15021526"/>
          <p:cNvPicPr/>
          <p:nvPr/>
        </p:nvPicPr>
        <p:blipFill>
          <a:blip r:embed="rId1"/>
          <a:stretch/>
        </p:blipFill>
        <p:spPr>
          <a:xfrm>
            <a:off x="4697280" y="2133720"/>
            <a:ext cx="4446720" cy="47242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Chloroplast"/>
          <p:cNvPicPr/>
          <p:nvPr/>
        </p:nvPicPr>
        <p:blipFill>
          <a:blip r:embed="rId1"/>
          <a:stretch/>
        </p:blipFill>
        <p:spPr>
          <a:xfrm>
            <a:off x="838080" y="0"/>
            <a:ext cx="7239240" cy="67532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1219320" y="2743200"/>
            <a:ext cx="1066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56:35Z</dcterms:created>
  <dc:creator>hhashmi</dc:creator>
  <dc:description/>
  <dc:language>en-US</dc:language>
  <cp:lastModifiedBy>LEGION2</cp:lastModifiedBy>
  <dcterms:modified xsi:type="dcterms:W3CDTF">2016-01-12T13:34:01Z</dcterms:modified>
  <cp:revision>6</cp:revision>
  <dc:subject/>
  <dc:title>Absorption of Light by Chlorophyll</dc:title>
</cp:coreProperties>
</file>