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F40C-7E6B-4A00-8F99-8F2111D7AA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6B45-F11E-4C0A-8171-13086789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877-5CF3-4CE9-9A3D-717EDB60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3453-A712-4790-9C56-9CF537AD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B9A-772E-4201-9253-A7C96846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C90-4BBE-4314-B04A-81283EC6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C58F-A875-4270-9CC2-034B8FC7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CAFF-FFC7-49B2-AE87-32A90C62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B4D-1F05-4F26-B134-B93C56C5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C74-2DBB-455F-B9DC-45CC4CE7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096E-5900-470B-B70B-7B17E882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069-30B2-47D9-8426-1A5828E0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5CB-F68F-448C-8153-5B00857A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4B18-3FFB-40C1-806D-3DF4837AEE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absorption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06test_wavelength"/>
          <p:cNvPicPr/>
          <p:nvPr/>
        </p:nvPicPr>
        <p:blipFill>
          <a:blip r:embed="rId1"/>
          <a:stretch/>
        </p:blipFill>
        <p:spPr>
          <a:xfrm>
            <a:off x="380880" y="1981080"/>
            <a:ext cx="8763120" cy="47386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asuring light 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ectrometer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used to measure the amount of absorption at each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ction spectru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hows the rate of photosynthesis at different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ig5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486400" y="533520"/>
            <a:ext cx="327672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lorophyll A and B absorb light mostly in the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red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lu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gions of th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otene and xanthophyll absorb light from other regions and pass the energy to chlorophy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ow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ject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ow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lorophyll C instead of chlorophyll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wide absorption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absorbs light in parts of the spectrum where chlorophyll is less 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ve chlorophyll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red seaweed"/>
          <p:cNvPicPr/>
          <p:nvPr/>
        </p:nvPicPr>
        <p:blipFill>
          <a:blip r:embed="rId1"/>
          <a:stretch/>
        </p:blipFill>
        <p:spPr>
          <a:xfrm>
            <a:off x="533520" y="3276720"/>
            <a:ext cx="2865240" cy="3581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55071581"/>
          <p:cNvPicPr/>
          <p:nvPr/>
        </p:nvPicPr>
        <p:blipFill>
          <a:blip r:embed="rId2"/>
          <a:stretch/>
        </p:blipFill>
        <p:spPr>
          <a:xfrm>
            <a:off x="6116760" y="3355920"/>
            <a:ext cx="3027240" cy="3502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ee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nd in shallow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 not have 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es not have 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15021526"/>
          <p:cNvPicPr/>
          <p:nvPr/>
        </p:nvPicPr>
        <p:blipFill>
          <a:blip r:embed="rId1"/>
          <a:stretch/>
        </p:blipFill>
        <p:spPr>
          <a:xfrm>
            <a:off x="4697280" y="2133720"/>
            <a:ext cx="4446720" cy="47242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hloroplast"/>
          <p:cNvPicPr/>
          <p:nvPr/>
        </p:nvPicPr>
        <p:blipFill>
          <a:blip r:embed="rId1"/>
          <a:stretch/>
        </p:blipFill>
        <p:spPr>
          <a:xfrm>
            <a:off x="838080" y="0"/>
            <a:ext cx="7239240" cy="6753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1219320" y="2743200"/>
            <a:ext cx="1066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56:35Z</dcterms:created>
  <dc:creator>hhashmi</dc:creator>
  <dc:description/>
  <dc:language>en-US</dc:language>
  <cp:lastModifiedBy>LEGION2</cp:lastModifiedBy>
  <dcterms:modified xsi:type="dcterms:W3CDTF">2016-01-12T13:34:01Z</dcterms:modified>
  <cp:revision>6</cp:revision>
  <dc:subject/>
  <dc:title>Absorption of Light by Chlorophyll</dc:title>
</cp:coreProperties>
</file>