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04CF-38C1-4DF4-BFF4-DE8427FEBC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x Lin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x Lin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ex Link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ir role in determining sex, the sex chromosomes have genes for many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located on a sex chromosome are called sex linke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 the term usually refers to X-linked characters: genes located only on X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s can pass X-linked alleles to their daughters, but not 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ers can pass sex-linked alleles to both sons and daugh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ex Link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ir role in determining sex, the sex chromosomes have genes for many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located on a sex chromosome are called sex linke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 the term usually refers to X-linked characters: genes located only on X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s can pass X-linked alleles to their daughters, but not 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ers can pass sex-linked alleles to both sons and daugh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sex linked trait is due to a recessive all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male will express the phenotype only if she is homozygou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recessive allele from his mother he will express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more males have disorders that are inherited as sex linked recessives than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ph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sex linked trait is due to a recessive all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male will express the phenotype only if she is homozygou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recessive allele from his mother he will express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more males have disorders that are inherited as sex linked recessives than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ph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chromosome has a locus for colour vision with two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Normal col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hromosome does not have a colour vision l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Xn allele he will have impaired colour vision, whereas a female with XNXn will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chromosome has a locus for colour vision with two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Normal col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hromosome does not have a colour vision l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Xn allele he will have impaired colour vision, whereas a female with XNXn will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Carrier Female x Normal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                   XNXn                   X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Female : Carrier Female : Normal Male : Colour blind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          :            1             :           1         :      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Carrier Female x Normal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                   XNXn                   X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Female : Carrier Female : Normal Male : Colour blind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          :            1             :           1         :      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genetic pedi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genetic pedi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5: Sex-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6: Extens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5: Sex-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6: Extens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F5E2-CB97-47E7-BE38-0A3B33DC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853E-1A10-4AEE-851E-7132DB03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A015-9B14-44B6-A93C-711848BA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1D6-8D72-4887-BDBE-E55363AA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1A1-5C1F-40AB-9286-4007C19C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13C5-9636-434A-8412-AA41332E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6D7-A3A1-4681-A86B-710F9B14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85C-3399-428C-960C-F0EAF76E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353F-87EB-44CC-9013-D8695513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4C5-847F-4995-B2C0-408E8BB8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9C99-92FB-4277-B589-38FDC069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73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801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2888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5B43-0D64-4242-8335-5BBB3B1A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0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0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B640-02A2-44A3-8295-83BDA3C8C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Inheritanc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 L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Sex Linkag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their role in determining sex, the sex chromosomes have genes for many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s located on a sex chromosome are called sex linked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umans the term usually refers to X-linked characters: genes located only on X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s can pass X-linked alleles to their daughters, but not 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ers can pass sex-linked alleles to both sons and daugh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cessive alle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ex linked trait is due to a recessive alle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male will express the phenotype only if she is homozygous reces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male receives the recessive allele from his mother he will express the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 more males have disorders that are inherited as sex linked recessives than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 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emoph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-green colour blind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chromosome has a locus for colour vision with two alle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ormal colour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ed-green colour 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chromosome does not have a colour vision loc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male receives th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ele he will have impaired colour vision, whereas a female with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-green colour blind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arrier Female x Normal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s  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pr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135800" y="5486400"/>
            <a:ext cx="7675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Female : Carrier Female : Normal Male : Colour blind 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  :            1             :           1         :    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457200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518148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685800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746748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76720" y="3352680"/>
          <a:ext cx="5181480" cy="210816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640"/>
                <a:gridCol w="12952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male Gam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e Gam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howing genetic pedigr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40082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ffected fem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173240" y="1981080"/>
            <a:ext cx="400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fe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173240" y="2514600"/>
            <a:ext cx="400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ffected 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173240" y="3048120"/>
            <a:ext cx="4008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5181480" y="15238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5181480" y="205740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5181480" y="25909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5181480" y="30481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35053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3048120" y="48006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6"/>
          <p:cNvSpPr/>
          <p:nvPr/>
        </p:nvSpPr>
        <p:spPr>
          <a:xfrm>
            <a:off x="3809880" y="48006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48006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8"/>
          <p:cNvSpPr/>
          <p:nvPr/>
        </p:nvSpPr>
        <p:spPr>
          <a:xfrm>
            <a:off x="5715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3048120" y="5638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20"/>
          <p:cNvSpPr/>
          <p:nvPr/>
        </p:nvSpPr>
        <p:spPr>
          <a:xfrm>
            <a:off x="3809880" y="56386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1"/>
          <p:cNvSpPr/>
          <p:nvPr/>
        </p:nvSpPr>
        <p:spPr>
          <a:xfrm>
            <a:off x="4648320" y="5638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22"/>
          <p:cNvSpPr/>
          <p:nvPr/>
        </p:nvSpPr>
        <p:spPr>
          <a:xfrm>
            <a:off x="5334120" y="5638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5943600" y="5638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38862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5"/>
          <p:cNvSpPr/>
          <p:nvPr/>
        </p:nvSpPr>
        <p:spPr>
          <a:xfrm>
            <a:off x="342900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6"/>
          <p:cNvSpPr/>
          <p:nvPr/>
        </p:nvSpPr>
        <p:spPr>
          <a:xfrm>
            <a:off x="51814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7"/>
          <p:cNvSpPr/>
          <p:nvPr/>
        </p:nvSpPr>
        <p:spPr>
          <a:xfrm>
            <a:off x="2362320" y="44956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8"/>
          <p:cNvSpPr/>
          <p:nvPr/>
        </p:nvSpPr>
        <p:spPr>
          <a:xfrm>
            <a:off x="23623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9"/>
          <p:cNvSpPr/>
          <p:nvPr/>
        </p:nvSpPr>
        <p:spPr>
          <a:xfrm>
            <a:off x="39625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0"/>
          <p:cNvSpPr/>
          <p:nvPr/>
        </p:nvSpPr>
        <p:spPr>
          <a:xfrm>
            <a:off x="41911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1"/>
          <p:cNvSpPr/>
          <p:nvPr/>
        </p:nvSpPr>
        <p:spPr>
          <a:xfrm>
            <a:off x="495288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2"/>
          <p:cNvSpPr/>
          <p:nvPr/>
        </p:nvSpPr>
        <p:spPr>
          <a:xfrm>
            <a:off x="3200400" y="5486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3"/>
          <p:cNvSpPr/>
          <p:nvPr/>
        </p:nvSpPr>
        <p:spPr>
          <a:xfrm>
            <a:off x="365760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34"/>
          <p:cNvSpPr/>
          <p:nvPr/>
        </p:nvSpPr>
        <p:spPr>
          <a:xfrm>
            <a:off x="32004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6"/>
          <p:cNvSpPr/>
          <p:nvPr/>
        </p:nvSpPr>
        <p:spPr>
          <a:xfrm>
            <a:off x="39625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7"/>
          <p:cNvSpPr/>
          <p:nvPr/>
        </p:nvSpPr>
        <p:spPr>
          <a:xfrm>
            <a:off x="4800600" y="5486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8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48006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54864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6095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3"/>
          <p:cNvSpPr/>
          <p:nvPr/>
        </p:nvSpPr>
        <p:spPr>
          <a:xfrm>
            <a:off x="3596040" y="426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4"/>
          <p:cNvSpPr/>
          <p:nvPr/>
        </p:nvSpPr>
        <p:spPr>
          <a:xfrm>
            <a:off x="4510440" y="426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5"/>
          <p:cNvSpPr/>
          <p:nvPr/>
        </p:nvSpPr>
        <p:spPr>
          <a:xfrm>
            <a:off x="222444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6"/>
          <p:cNvSpPr/>
          <p:nvPr/>
        </p:nvSpPr>
        <p:spPr>
          <a:xfrm>
            <a:off x="3130920" y="5176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7"/>
          <p:cNvSpPr/>
          <p:nvPr/>
        </p:nvSpPr>
        <p:spPr>
          <a:xfrm>
            <a:off x="389304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8"/>
          <p:cNvSpPr/>
          <p:nvPr/>
        </p:nvSpPr>
        <p:spPr>
          <a:xfrm>
            <a:off x="4883760" y="5176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9"/>
          <p:cNvSpPr/>
          <p:nvPr/>
        </p:nvSpPr>
        <p:spPr>
          <a:xfrm>
            <a:off x="580608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0"/>
          <p:cNvSpPr/>
          <p:nvPr/>
        </p:nvSpPr>
        <p:spPr>
          <a:xfrm>
            <a:off x="306288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1"/>
          <p:cNvSpPr/>
          <p:nvPr/>
        </p:nvSpPr>
        <p:spPr>
          <a:xfrm>
            <a:off x="3900960" y="6010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2"/>
          <p:cNvSpPr/>
          <p:nvPr/>
        </p:nvSpPr>
        <p:spPr>
          <a:xfrm>
            <a:off x="473112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3"/>
          <p:cNvSpPr/>
          <p:nvPr/>
        </p:nvSpPr>
        <p:spPr>
          <a:xfrm>
            <a:off x="5348880" y="6010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4"/>
          <p:cNvSpPr/>
          <p:nvPr/>
        </p:nvSpPr>
        <p:spPr>
          <a:xfrm>
            <a:off x="603468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5"/>
          <p:cNvSpPr/>
          <p:nvPr/>
        </p:nvSpPr>
        <p:spPr>
          <a:xfrm>
            <a:off x="1144440" y="3886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6"/>
          <p:cNvSpPr/>
          <p:nvPr/>
        </p:nvSpPr>
        <p:spPr>
          <a:xfrm>
            <a:off x="1144080" y="47242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7"/>
          <p:cNvSpPr/>
          <p:nvPr/>
        </p:nvSpPr>
        <p:spPr>
          <a:xfrm>
            <a:off x="1143720" y="55627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now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5: Sex-Linked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6: Extens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2925720" y="3075120"/>
            <a:ext cx="4389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9:42:59Z</dcterms:created>
  <dc:creator>Fearghal Kelly</dc:creator>
  <dc:description/>
  <dc:language>en-US</dc:language>
  <cp:lastModifiedBy>LEGION2</cp:lastModifiedBy>
  <cp:lastPrinted>1904-01-01T00:00:00Z</cp:lastPrinted>
  <dcterms:modified xsi:type="dcterms:W3CDTF">2016-01-12T12:25:20Z</dcterms:modified>
  <cp:revision>39</cp:revision>
  <dc:subject/>
  <dc:title>Inheritance</dc:title>
</cp:coreProperties>
</file>