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46B-9DDB-4D2E-BE7D-5733A4FE99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and the 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Firs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le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a gene exist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amet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each pair pass into different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gamete contains only one allele of each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ce of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provides the opportunity for new combinations of the existing alleles of genes to ar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pairs line up at equato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position of any one pair is random relative to any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iotic division brings about independent assortment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y lead to new phenotypes in the next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ing over and separation of 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is aligned with its homologous partner during first meio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s of chromatid exchanged at points called 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as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ds become bro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end of one joins with that of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of linked genes can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allele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species adapt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al of the fittest’ then occurs as a result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between true-breeding parents with different alleles of the sam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s the individu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esses of a particular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ppearance of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63A-BDC3-41A4-BA97-BA2CDDE7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2FD-5B53-4EE3-AFC9-21DCDB4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F97-29E6-4C5D-AC59-E73A6582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1F1-9C2A-46CA-ACB3-FD18857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793-B3A5-403A-98B4-657D2AC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740-DC5A-478B-A31D-A5469BB3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0E0-81BA-4CF6-9A95-1BCA81FF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C00-2A92-4353-87CB-A250D77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B09-74F0-43C0-A945-2A2FD9F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43E-217A-4828-84DA-B03CC07E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22E-84BD-4066-B300-53671A6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6BA-C1F1-4488-8695-4D38C3D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DF97-24B8-48E0-8521-B0E057C86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Recombination%20Between%20Linked%20Genes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ariation and the 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ndel’s Firs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inciple of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s of a gene exist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gametes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 of each pair pass into different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gamete contains only 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49001" b="0"/>
          <a:stretch/>
        </p:blipFill>
        <p:spPr>
          <a:xfrm>
            <a:off x="2209680" y="1066680"/>
            <a:ext cx="495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gnificance of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lele: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ent forms of the same 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Meiosis provides the opportunity for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new combination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of the existing alleles of genes to ari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ependent assortment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line up at equator during first meiotic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l position of any one pair i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ando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lative to any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cond meiotic division brings about independent assortment of chrom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may lead to new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h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over and separation of linked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 is aligned with its homologous partner during first meiotic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rtions of chromatid exchanged at point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ias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atids become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roken end of one joins with tha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s of linked genes can becom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allele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new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9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mportance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s species adapt to a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of the fittest’ then occurs as a result of natur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ss betwee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ue-breed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ents wit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erent alle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m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otyp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lleles the individua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sesses of a particular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henotype: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hysical appearance of 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49:51Z</dcterms:created>
  <dc:creator>hhashmi</dc:creator>
  <dc:description/>
  <dc:language>en-US</dc:language>
  <cp:lastModifiedBy>RomaK</cp:lastModifiedBy>
  <dcterms:modified xsi:type="dcterms:W3CDTF">2015-09-04T11:36:39Z</dcterms:modified>
  <cp:revision>7</cp:revision>
  <dc:subject/>
  <dc:title>Variation and the Monohybrid Cross</dc:title>
</cp:coreProperties>
</file>