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4AD5-52C0-4EA4-9102-1A38D6C27E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and the 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and the 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First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a gene exist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amet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each pair pass into different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gamete contains only one allele of each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First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a gene exist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amet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each pair pass into different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gamete contains only one allele of each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ce of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form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provides the opportunity for new combinations of the existing alleles of genes to ari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ce of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form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provides the opportunity for new combinations of the existing alleles of genes to ari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pairs line up at equato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position of any one pair is random relative to any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iotic division brings about 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ay lead to new phenotypes in the next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pairs line up at equato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position of any one pair is random relative to any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iotic division brings about 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ay lead to new phenotypes in the next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ing over and separation of 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is aligned with its homologous partne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s of chromatid exchanged at points called 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ing over and separation of 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is aligned with its homologous partne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s of chromatid exchanged at points called 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ds become bro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end of one joins with that of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linked genes can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allele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ds become bro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end of one joins with that of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linked genes can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allele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s species adapt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al of the fittest’ then occurs as a result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s species adapt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al of the fittest’ then occurs as a result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between true-breeding parents with different allele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s the individu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esses of a particular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appearance of 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between true-breeding parents with different allele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s the individu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esses of a particular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appearance of 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4C87-CBD5-4B90-A024-40F0F237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783C-5C6F-44F6-B865-2E727F60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6B04-D08E-4E45-812B-DB6E9E1E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6EC8-6CF5-4E65-9269-086C8F51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9027-A93C-43AA-879C-898C18D2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0805-D362-490C-BD83-20515D75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BA92-9015-44BC-B9CC-02002A5D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89A4-4906-48DA-AFCF-EF73FC27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F683-8EF5-4975-B02C-30BE93AE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1DB5-2715-4499-81A1-D1C122AB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59FD-5CCE-4959-8F24-E9CD2C00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3097-272E-48DB-99FA-6A5EBB1C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696E-59DA-4169-9695-F9DEE7642E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iostudio.com/d_%20Meiotic%20Recombination%20Between%20Linked%20Genes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ariation and the Mono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ndel’s First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rinciple of segr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eles of a gene exist in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gametes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mbers of each pair pass into different gam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ach gamete contains only one allele of each g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complete domi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0" t="0" r="49001" b="0"/>
          <a:stretch/>
        </p:blipFill>
        <p:spPr>
          <a:xfrm>
            <a:off x="2209680" y="1066680"/>
            <a:ext cx="49532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gnificance of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lele: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fferent forms of the same g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Meiosis provides the opportunity for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new combinations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of the existing alleles of genes to ari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dependent assortment of chrom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mologous pairs line up at equator during first meiotic di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al position of any one pair i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rando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elative to any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cond meiotic division brings about independent assortment of chromos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may lead to new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henotyp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n the nex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rossing over and separation of linked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 is aligned with its homologous partner during first meiotic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rtions of chromatid exchanged at points call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hiasm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ias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atids become br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roken end of one joins with that of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eles of linked genes can become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mation of new allele combi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mation of new phen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0"/>
            <a:ext cx="49723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mportance of Var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s species adapt to a changing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rvival of the fittest’ then occurs as a result of natural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ono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oss between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rue-breed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arents with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fferent alle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the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ame 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enotyp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lleles the individual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ssesses of a particular 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henotype: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hysical appearance of an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dividu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6:49:51Z</dcterms:created>
  <dc:creator>hhashmi</dc:creator>
  <dc:description/>
  <dc:language>en-US</dc:language>
  <cp:lastModifiedBy>RomaK</cp:lastModifiedBy>
  <dcterms:modified xsi:type="dcterms:W3CDTF">2015-09-04T11:36:39Z</dcterms:modified>
  <cp:revision>7</cp:revision>
  <dc:subject/>
  <dc:title>Variation and the Monohybrid Cross</dc:title>
</cp:coreProperties>
</file>