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1348-9351-4704-BC71-8198DAAA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DD0-6DCF-4829-B3A4-565A71CF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1ED-D54C-42FA-B4F3-16934716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B8B-B8D0-46E2-B882-5A8D9EBB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DB7-F55E-48F1-B5FE-0FE489E0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E31-2444-4C42-9997-3C74AA47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849-AAE4-4872-9883-F819472A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514-FB61-4C30-8BC6-392DA22B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4BA-D351-4B47-80A2-C253655B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4EC-50AF-40BB-8655-FD6FA3A1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92E-2CBF-41DE-9235-F5D2EC2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1BD-4ABF-43A5-AFED-C5F31490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20E-F5F1-408E-B96A-6A691C3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5D43-FCBE-465C-8E0A-21CA88A9E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ary Concepts: Variation and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ominant and Recessive Allel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ther important frequenc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the change in genotype frequencies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ige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2006640" cy="252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3987720"/>
            <a:ext cx="3492360" cy="287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2374920" cy="19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5715000" y="4040280"/>
            <a:ext cx="3429000" cy="28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5"/>
          <a:stretch/>
        </p:blipFill>
        <p:spPr>
          <a:xfrm>
            <a:off x="3124080" y="4305240"/>
            <a:ext cx="3111480" cy="255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6"/>
          <a:stretch/>
        </p:blipFill>
        <p:spPr>
          <a:xfrm>
            <a:off x="3346560" y="2521080"/>
            <a:ext cx="2450880" cy="181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7"/>
          <a:stretch/>
        </p:blipFill>
        <p:spPr>
          <a:xfrm>
            <a:off x="6337440" y="0"/>
            <a:ext cx="2806560" cy="2908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upp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51080" y="1739880"/>
            <a:ext cx="6440400" cy="4813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y is phenotypic variation not as importa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and Terminolog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ardy-Weinberg Equilibriu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Five condi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5 viol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lur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gamete per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error every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IV-AIDS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ffect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can mutations lead to big change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rmal fly hea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tennapedia fl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ephant seal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Drift Activ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Zygos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57:40Z</dcterms:created>
  <dc:creator>Cheryl A. Heinz</dc:creator>
  <dc:description/>
  <dc:language>en-US</dc:language>
  <cp:lastModifiedBy>LEGION2</cp:lastModifiedBy>
  <cp:lastPrinted>2003-02-06T20:57:53Z</cp:lastPrinted>
  <dcterms:modified xsi:type="dcterms:W3CDTF">2016-01-12T12:54:58Z</dcterms:modified>
  <cp:revision>28</cp:revision>
  <dc:subject/>
  <dc:title>Evolutionary Concepts: Variation and Mutation</dc:title>
</cp:coreProperties>
</file>