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FD97-27CD-4E16-9461-97A4274377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Human Genom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Human Genome Projec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ion: GENOME – the whole hereditary information of an organism that is encoded in the DNA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s of the projec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o identify the approximate 100,000 genes in the human DN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etermine the sequences of the 3 billion bases that make up human DN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store this information in databa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evelop tools for data analys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dress the ethical, legal, and social issues that arise from genome research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Human Genome Proj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GENOME – the whole hereditary information of an organism that is encoded in the 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of the proje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identify the approximate 100,000 genes in the human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termine the sequences of the 3 billion bases that make up human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ore this information in data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velop tools for data ana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ddress the ethical, legal, and social issues that arise from genome resear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se genome is being sequenc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reference genome is a composite genome from several different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genome is being sequen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reference genome is a composite genome from several different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efits of Human Genome Project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improvements in medic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microbial genome research for fuel and environmental cleanup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NA foren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improved agriculture and livestoc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better understanding of evolution and human migr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more accurate risk assess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rovements in medic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crobial genome research for fuel and environmental clean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NA forens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roved agriculture and livest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tter understanding of evolution and human mig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re accurate risk assess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each area benefited specifically by the Human Genome Projec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rovements in medicine: improved diagnosis of dise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bial research: new energy sources, bio fue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forensics: identifying potential suspects at a crime sce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: more nutritious produ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olution and human migration: study migration of different population groups based on female genetic inherita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Risk assessment: reduce the likelihood of heritable mut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each area benefited specifically by the Human Genome Proj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ine: improved diagnosis of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ial research: new energy sources, bio fu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forensics: identifying potential suspects at a crime sc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: more nutritious produ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and human migration: study migration of different population groups based on female genetic inheri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sk assessment: reduce the likelihood of heritable mu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thical, legal and social implications of the Human Genom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 in the use of genetic inform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vacy and confidentia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logical impact and stigmatiz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tes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ve iss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ion, standards, and quality 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ercializ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ptual and philosophical implic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ical, legal and social implications of the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in the use of genetic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acy and confidenti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 and stigmat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t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, standards, and quality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ual and philosophical impl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questions to consid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 and privacy: who should have access to your genetic infor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logical stigmatization: how does knowing your predisposition to disease affect an individu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testing: should screening be done when there is no treatment availab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ther iss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ve issues: use of genetic information in decision makin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issues: implementation of standards and quality control measures in testing procedu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to consi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and privacy: who should have access to your genetic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stigmatization: how does knowing your predisposition to disease affect an individu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testing: should screening be done when there is no treatment avail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ther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issues: use of genetic information in decision ma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issues: implementation of standards and quality control measures in testing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F2E5-9FB3-4D3A-9FBA-3999EDD8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1757-DCEC-4DC2-B968-175C90E2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F3E0-6F44-4649-9815-C1C932CD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B9B3-C009-4215-A08B-5B0B5EE3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1D9-80FA-4829-9B73-5BEA2EE4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BF43-3498-4208-96A6-B2DE77B8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715E-C2AC-455A-A0F8-A98392BD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2FFF-EBDC-41D5-8BB5-8579D765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04A-7D11-4EEC-B4BA-8EE16817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08DA-DAA1-4831-84BE-7572F854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A869-E1D1-40BF-B63B-8961F2C6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B4D4-B8AD-460C-8F57-5858DAFF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5976-5F4F-43F8-AB63-DA1C87F5D3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The Human Genom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human genoome project logo 2"/>
          <p:cNvPicPr/>
          <p:nvPr/>
        </p:nvPicPr>
        <p:blipFill>
          <a:blip r:embed="rId1"/>
          <a:stretch/>
        </p:blipFill>
        <p:spPr>
          <a:xfrm>
            <a:off x="3203640" y="3789360"/>
            <a:ext cx="2243160" cy="22176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is the Human Genome Pro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Definition: GENOME – the whole hereditary information of an organism that is encoded in the DNA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ims of the proj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to identify the approximate 100,000 genes in the human D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sequences of the 3 billion bases that make up human D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tore this information in datab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evelop tools for data analy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ddress the ethical, legal, and social issues that arise from genome researc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ff"/>
                </a:solidFill>
                <a:latin typeface="Arial"/>
              </a:rPr>
              <a:t>Whose genome is being sequenc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7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rst reference genome is a composite genome from several different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2484360" y="3213000"/>
          <a:ext cx="5767560" cy="31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213000"/>
                    <a:ext cx="57675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ff"/>
                </a:solidFill>
                <a:latin typeface="Arial"/>
              </a:rPr>
              <a:t>Benefits of Human Genome Project resear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improvements in medic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microbial genome research for fuel and environmental clean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DNA forens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improved agriculture and livestoc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better understanding of evolution and human mig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more accurate risk assess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genome3"/>
          <p:cNvPicPr/>
          <p:nvPr/>
        </p:nvPicPr>
        <p:blipFill>
          <a:blip r:embed="rId1"/>
          <a:stretch/>
        </p:blipFill>
        <p:spPr>
          <a:xfrm>
            <a:off x="5076720" y="1557360"/>
            <a:ext cx="3581640" cy="4680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How is each area benefited specifically by the Human Genome Projec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rovements in medicine: improved diagnosis of dise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Microbial research: new energy sources, bio fue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NA forensics: identifying potential suspects at a crime sce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Agriculture: more nutritious produ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olution and human migration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migration of different population groups based on female genetic inherit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- Risk assessment: 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reduce the likelihood of heritable mut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detectives"/>
          <p:cNvPicPr/>
          <p:nvPr/>
        </p:nvPicPr>
        <p:blipFill>
          <a:blip r:embed="rId1"/>
          <a:stretch/>
        </p:blipFill>
        <p:spPr>
          <a:xfrm>
            <a:off x="4788000" y="2133720"/>
            <a:ext cx="4038480" cy="29350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ff"/>
                </a:solidFill>
                <a:latin typeface="Arial"/>
              </a:rPr>
              <a:t>Ethical, legal and social implications of the Human Genome Proj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fairness in the use of genetic inform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acy and confidentia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psychological impact and stigmatiz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tic tes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reproductive iss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ucation, standards, and quality contr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commercializ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ptual and philosophical im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Genetics%202_tcm6-12673"/>
          <p:cNvPicPr/>
          <p:nvPr/>
        </p:nvPicPr>
        <p:blipFill>
          <a:blip r:embed="rId1"/>
          <a:stretch/>
        </p:blipFill>
        <p:spPr>
          <a:xfrm>
            <a:off x="4788000" y="1844640"/>
            <a:ext cx="4079880" cy="3745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me questions to consid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irness and privacy: who should have access to your genetic informa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Arial"/>
              </a:rPr>
              <a:t>Psychological stigmatization: </a:t>
            </a: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how does knowing your predisposition to disease affect an individu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tic testing: should screening be done when there is no treatment availab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me other issu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Arial"/>
              </a:rPr>
              <a:t>Reproductive issues: use of genetic information in decision mak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inical issues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tion of standards and quality control measures in testing procedur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6227640" y="1268280"/>
          <a:ext cx="204948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268280"/>
                    <a:ext cx="204948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27:32Z</dcterms:created>
  <dc:creator>Customer</dc:creator>
  <dc:description/>
  <dc:language>en-US</dc:language>
  <cp:lastModifiedBy>LEGION2</cp:lastModifiedBy>
  <dcterms:modified xsi:type="dcterms:W3CDTF">2016-01-12T12:48:26Z</dcterms:modified>
  <cp:revision>7</cp:revision>
  <dc:subject/>
  <dc:title>The Human Genome Project</dc:title>
</cp:coreProperties>
</file>