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A9D9-F4F3-4111-A85A-CE9A9F85A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GENOME – the whole hereditary information of an organism that is encoded in the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s of the proje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identify the approximate 100,000 genes in the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termine the sequences of the 3 billion bases that make up human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ore this information in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velop tools for data ana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dress the ethical, legal, and social issues that arise from genome resear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genome is being seque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reference genome is a composite genome from several different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Human Genome Project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ments in medic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crobial genome research for fuel and environmental clean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NA forens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roved agriculture and livest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tter understanding of evolution and human 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re accurate risk 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each area benefited specifically by the Human Genome Proj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medicine: improved diagnosis of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ial research: new energy sources, bio fu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forensics: identifying potential suspects at a crime sc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: more nutritious 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and human migration: study migration of different population groups based on female genetic inheri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k assessment: reduce the likelihood of heritable m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ical, legal and social implications of the Human Genom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in the use of genetic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acy and confident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 and stigmat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, standards, and quality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ual and philosophical impl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questions to consi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 and privacy: who should have access to your genetic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tigmatization: how does knowing your predisposition to disease affect an individu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testing: should screening be done when there is no treatment avail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ther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issues: use of genetic information in decision ma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issues: implementation of standards and quality control measures in testing proced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50B-83F7-4348-A0E1-5AA32388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8C7-BBAE-42EF-9470-FCC49240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C5A-EAD4-46E0-94FD-486527EE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76D-1E39-466B-A7E1-0DA6134C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B9C-AE1A-4A89-8CF8-327BB7D0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D5E3-4059-400E-B9E5-4AACFED0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EA1-83C8-4B9A-BC9D-FBB54A90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184-AF84-4280-AF2C-F22F39C2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A5B-725C-40F6-B865-E3686FC5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73C-48E0-4CF7-AF21-843B6C07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A26-AE17-44A7-8657-0A34F706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18DB-1F6D-4CBF-8E6C-4BB4FF4B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3279-BE03-4B5E-B31C-3E4EB818C9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he Human Genom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human genoome project logo 2"/>
          <p:cNvPicPr/>
          <p:nvPr/>
        </p:nvPicPr>
        <p:blipFill>
          <a:blip r:embed="rId1"/>
          <a:stretch/>
        </p:blipFill>
        <p:spPr>
          <a:xfrm>
            <a:off x="3203640" y="3789360"/>
            <a:ext cx="2243160" cy="22176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is the Human Genome Pro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.S. govt. project coordinated by the Department of Energy and the National Institutes of Health, launched in 1986 by Charles DeLisi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Definition: GENOME – the whole hereditary information of an organism that is encoded in the DNA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ims of the proj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o identify the approximate 100,000 genes in the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sequences of the 3 billion bases that make up human D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tore this information in datab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velop tools for data analys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ddress the ethical, legal, and social issues that arise from genome research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Whose genome is being sequen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rst reference genome is a composite genome from several different peo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generated from 10-20 primary samples taken from numerous anonymous donors across racial and ethnic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2484360" y="3213000"/>
          <a:ext cx="5767560" cy="319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3213000"/>
                    <a:ext cx="5767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ff"/>
                </a:solidFill>
                <a:latin typeface="Arial"/>
              </a:rPr>
              <a:t>Benefits of Human Genome Project resear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improvements in medic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icrobial genome research for fuel and environmental clean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DNA forens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improved agriculture and livest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better understanding of evolution and human mig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- more accurate risk assess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genome3"/>
          <p:cNvPicPr/>
          <p:nvPr/>
        </p:nvPicPr>
        <p:blipFill>
          <a:blip r:embed="rId1"/>
          <a:stretch/>
        </p:blipFill>
        <p:spPr>
          <a:xfrm>
            <a:off x="5076720" y="1557360"/>
            <a:ext cx="3581640" cy="4680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How is each area benefited specifically by the Human Genome Projec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ments in medicine: improved diagnosis of dise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Microbial research: new energy sources, bio fu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NA forensics: identifying potential suspects at a crime sc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Agriculture: more nutritious produ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olution and human migrati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migration of different population groups based on female genetic inheri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Arial"/>
              </a:rPr>
              <a:t>- Risk assessment: 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duce the likelihood of heritable mut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detectives"/>
          <p:cNvPicPr/>
          <p:nvPr/>
        </p:nvPicPr>
        <p:blipFill>
          <a:blip r:embed="rId1"/>
          <a:stretch/>
        </p:blipFill>
        <p:spPr>
          <a:xfrm>
            <a:off x="4788000" y="2133720"/>
            <a:ext cx="4038480" cy="29350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ff"/>
                </a:solidFill>
                <a:latin typeface="Arial"/>
              </a:rPr>
              <a:t>Ethical, legal and social implications of the Human Genome Proj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airness in the use of genetic inform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cy and confidenti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psychological impact and stigmat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tic tes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reproductive iss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ucation, standards, and quality contr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commercializ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ual and philosophical im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Genetics%202_tcm6-12673"/>
          <p:cNvPicPr/>
          <p:nvPr/>
        </p:nvPicPr>
        <p:blipFill>
          <a:blip r:embed="rId1"/>
          <a:stretch/>
        </p:blipFill>
        <p:spPr>
          <a:xfrm>
            <a:off x="4788000" y="1844640"/>
            <a:ext cx="4079880" cy="3745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What are the implications of the Human Genome Project specifically to each of these are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questions to consi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irness and privacy: who should have access to your genetic inform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Psychological stigmatization: </a:t>
            </a:r>
            <a:r>
              <a:rPr b="0" lang="en-US" sz="1800" spc="-1" strike="noStrike">
                <a:solidFill>
                  <a:srgbClr val="99ccff"/>
                </a:solidFill>
                <a:latin typeface="Arial"/>
              </a:rPr>
              <a:t>how does knowing your predisposition to disease affect an individu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netic testing: should screening be done when there is no treatment availab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me other issu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ccff"/>
                </a:solidFill>
                <a:latin typeface="Arial"/>
              </a:rPr>
              <a:t>Reproductive issues: use of genetic information in decision making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linical issue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tion of standards and quality control measures in testing procedure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6227640" y="1268280"/>
          <a:ext cx="20494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1268280"/>
                    <a:ext cx="204948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9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27:32Z</dcterms:created>
  <dc:creator>Customer</dc:creator>
  <dc:description/>
  <dc:language>en-US</dc:language>
  <cp:lastModifiedBy>LEGION2</cp:lastModifiedBy>
  <dcterms:modified xsi:type="dcterms:W3CDTF">2016-01-12T12:48:26Z</dcterms:modified>
  <cp:revision>7</cp:revision>
  <dc:subject/>
  <dc:title>The Human Genome Project</dc:title>
</cp:coreProperties>
</file>