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D721-2E06-493F-B6FE-B04E0164EE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E4F-27B4-4C54-9FC4-2784D8B0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BAF-2110-4F36-9466-68140E63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C2A-0677-41D7-89C6-E6181849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121-7689-40F5-BA13-A5682876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61B-9AD1-44A2-8823-FF185D0F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08B-17B9-4650-BF8B-76D912DF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8D6-A8F2-42E7-8A34-E47DD095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C3A-A30F-4475-B215-BBED7414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E7D-9B3B-435A-A40C-43DB9D55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65C-BB25-4916-B49E-105A8CE1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DA7-175C-4C85-B415-9579B200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C1C-F122-4CED-B0A8-0ABC48BC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161C-3863-4C3A-ADCA-EDE91A1045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The Human Genom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human genoome project logo 2"/>
          <p:cNvPicPr/>
          <p:nvPr/>
        </p:nvPicPr>
        <p:blipFill>
          <a:blip r:embed="rId1"/>
          <a:stretch/>
        </p:blipFill>
        <p:spPr>
          <a:xfrm>
            <a:off x="3203640" y="3789360"/>
            <a:ext cx="2243160" cy="2217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Definition: GENOME – the whole hereditary information of an organism that is encoded in the DNA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sequences of the 3 billion bases that make up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Whose genome is being sequen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2484360" y="3213000"/>
          <a:ext cx="5767560" cy="31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213000"/>
                    <a:ext cx="57675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Benefits of Human Genome Project rese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improvements in medic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icrobial genome research for fuel and environmental clean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DNA forens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improved agriculture and livest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better understanding of evolution and human mig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ore accurate risk assess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genome3"/>
          <p:cNvPicPr/>
          <p:nvPr/>
        </p:nvPicPr>
        <p:blipFill>
          <a:blip r:embed="rId1"/>
          <a:stretch/>
        </p:blipFill>
        <p:spPr>
          <a:xfrm>
            <a:off x="5076720" y="1557360"/>
            <a:ext cx="3581640" cy="4680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Microbial research: new energy sources, bio fu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Agriculture: more nutritious produ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olution and human migrati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migration of different population groups based on female genetic inherit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Risk assessment: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duce the likelihood of heritable mut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detectives"/>
          <p:cNvPicPr/>
          <p:nvPr/>
        </p:nvPicPr>
        <p:blipFill>
          <a:blip r:embed="rId1"/>
          <a:stretch/>
        </p:blipFill>
        <p:spPr>
          <a:xfrm>
            <a:off x="4788000" y="2133720"/>
            <a:ext cx="4038480" cy="29350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ff"/>
                </a:solidFill>
                <a:latin typeface="Arial"/>
              </a:rPr>
              <a:t>Ethical, legal and social implications of the Human Genome Proj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airness in the use of genetic inform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psychological impact and stigmat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productive iss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commercial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Genetics%202_tcm6-12673"/>
          <p:cNvPicPr/>
          <p:nvPr/>
        </p:nvPicPr>
        <p:blipFill>
          <a:blip r:embed="rId1"/>
          <a:stretch/>
        </p:blipFill>
        <p:spPr>
          <a:xfrm>
            <a:off x="4788000" y="1844640"/>
            <a:ext cx="4079880" cy="3745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Psychological stigmatization: </a:t>
            </a: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how does knowing your predisposition to disease affect an individu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Reproductive issues: use of genetic information in decision mak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inical issue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tion of standards and quality control measures in testing procedur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6227640" y="1268280"/>
          <a:ext cx="20494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268280"/>
                    <a:ext cx="20494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27:32Z</dcterms:created>
  <dc:creator>Customer</dc:creator>
  <dc:description/>
  <dc:language>en-US</dc:language>
  <cp:lastModifiedBy>LEGION2</cp:lastModifiedBy>
  <dcterms:modified xsi:type="dcterms:W3CDTF">2016-01-12T12:48:26Z</dcterms:modified>
  <cp:revision>7</cp:revision>
  <dc:subject/>
  <dc:title>The Human Genome Project</dc:title>
</cp:coreProperties>
</file>