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carbrake.wav" ContentType="audio/x-wav"/>
  <Override PartName="/ppt/media/image12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52F3-80FF-4FD1-895D-113AEDFBAEEA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who discovered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Chargaf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i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50, biochemist Erwin Chargaff found that the arrangement of nitrogen bases in DNA varied widel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certain bases always occurred in a one-to-one rati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 bases always match up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– Thymine and Cytosine -- Guan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920-195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X-ray techniques took pictures of DNA and discovered the double helix shape of D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d of cancer due to unknown harmful affects of X-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Watson and Francis Cr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s to create a model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till the model used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s are made of sugar and phosphat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gs of the ladder are made of        nitrogen b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5 elements: carbon,            hydrogen, oxygen, nitrogen, and phosph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gor Mend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ian mo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18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nastery known f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and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death (1884) acknowledgment of 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es in 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n as “The Father of Genetics“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Pea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 to describe how traits are inher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ed at pea plants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udied 9 generation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noticed that peas are easy to breed for pure traits and he called the pure strains purebr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eveloped pure strains of peas for seven different traits (i.e. tall or short, round or wrinkled, yellow or green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rossed these pure strains to produce hybr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rossed purebred tall plants with purebred short plants and the first generation plants were all 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tall offspring were crossed the result was a ratio of 3 tall to 1 sh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ts Mendel Looked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Hereditary traits cover weak tra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strong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– Represented by CAPITAL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weak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– Represented by lower case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rick Griff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d in the 1920’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xonomist – a scientist who classifies      and names organisms – He specialized in pathogens (disease-causing organis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mice and bacterium (Streptococcus pneumonia) to see if inherited material is passed though DNA or prote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wald A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 Griffith’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d DNA as the material that passes on the inherited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used large amounts of bacteria and a process of heating and mixing the liquids to extract the nitrogen bases away from the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me world’s first genetic engin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B4E-CB0D-482C-A958-8556B20B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DD7-6E1B-40BD-B813-7F9E1B15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3FA-2D7A-4F13-990F-2A0E5133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2970-5FC4-4FD9-981D-6C32129C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9F8-9A5E-43AA-A195-EDE7D43E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A023-C78E-48E0-BBBA-3E0BD346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F0A-0B27-4CC8-BCFE-BF325928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685-21B0-4137-906F-FB31869D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3EF-6811-44D3-974F-D70FA141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A30-E880-467F-9257-E6BC229B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0E9-F75E-46B0-B2F0-F7C27E4E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0CE-9652-46C5-AFE5-7CD2982B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3797-0C54-45C9-8D31-EC964D5A900B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71600" y="3833640"/>
            <a:ext cx="6400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Erwin Chargaf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 his rul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2" name="Picture 2" descr="Erwin Chargaff"/>
          <p:cNvPicPr/>
          <p:nvPr/>
        </p:nvPicPr>
        <p:blipFill>
          <a:blip r:embed="rId1"/>
          <a:stretch/>
        </p:blipFill>
        <p:spPr>
          <a:xfrm>
            <a:off x="6746760" y="0"/>
            <a:ext cx="2397240" cy="3230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2209320"/>
            <a:ext cx="7086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n 1950, biochemist Erwin Chargaff found that the arrangement of nitrogen bases in DNA varied widely,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e amount of certain bases always occurred in a one-to-one ratio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Nitrogen bases always match up like this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denine – Thymine and Cytosine -- Guanine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Rosalind Frankl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(1920-1953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ing X-ray techniques took pictures of DNA and discovered the double helix shape of DN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ed of cancer due to unknown harmful affects of X-r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Picture 2" descr="http://upload.wikimedia.org/wikipedia/en/thumb/9/97/Rosalind_Franklin.jpg/180px-Rosalind_Franklin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upload.wikimedia.org/wikipedia/commons/d/d5/Dna-split2.png"/>
          <p:cNvPicPr/>
          <p:nvPr/>
        </p:nvPicPr>
        <p:blipFill>
          <a:blip r:embed="rId2"/>
          <a:stretch/>
        </p:blipFill>
        <p:spPr>
          <a:xfrm>
            <a:off x="3733920" y="4343400"/>
            <a:ext cx="3047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James Watson and Francis Cric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rst scientists to create a model of DN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t is still the model used tod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des are made of sugar and phosphate molecu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ngs of the ladder are made of        nitrogen base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de of 5 elements: carbon,            hydrogen, oxygen, nitrogen, and phosphoru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" name="Picture 10" descr="http://www.chemheritage.org/classroom/chemach/images/smfotos/07pharma/watson-crick.jpg"/>
          <p:cNvPicPr/>
          <p:nvPr/>
        </p:nvPicPr>
        <p:blipFill>
          <a:blip r:embed="rId1"/>
          <a:stretch/>
        </p:blipFill>
        <p:spPr>
          <a:xfrm>
            <a:off x="6629400" y="3733920"/>
            <a:ext cx="241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regor Mendel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" name="Picture 6" descr="mendel"/>
          <p:cNvPicPr/>
          <p:nvPr/>
        </p:nvPicPr>
        <p:blipFill>
          <a:blip r:embed="rId1"/>
          <a:stretch/>
        </p:blipFill>
        <p:spPr>
          <a:xfrm>
            <a:off x="152280" y="0"/>
            <a:ext cx="1876680" cy="24098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200400" y="1295280"/>
            <a:ext cx="5334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ustrian m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Born in 182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In monastery known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research and t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fter his death (1884) acknowledgment of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discoveries in 1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Known as “The Father of Genetics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Pea Pla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rst scientist to describe how traits are inherit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ooked at pea plants for 8 yea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 studied 9 generations of pla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" name="Picture 3" descr="pea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Observation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noticed that peas are easy to breed for pure traits and he called the pure strains purebre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developed pure strains of peas for seven different traits (i.e. tall or short, round or wrinkled, yellow or green, etc.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crossed these pure strains to produce hybri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Resul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1599840"/>
            <a:ext cx="792468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ndel crossed purebred tall plants with purebred short plants and the first generation plants were all tal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these tall offspring were crossed the result was a ratio of 3 tall to 1 sho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Picture 19" descr="hal"/>
          <p:cNvPicPr/>
          <p:nvPr/>
        </p:nvPicPr>
        <p:blipFill>
          <a:blip r:embed="rId1"/>
          <a:stretch/>
        </p:blipFill>
        <p:spPr>
          <a:xfrm>
            <a:off x="380880" y="4038480"/>
            <a:ext cx="8382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Traits Mendel Looked 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3" descr="pea"/>
          <p:cNvPicPr/>
          <p:nvPr/>
        </p:nvPicPr>
        <p:blipFill>
          <a:blip r:embed="rId1"/>
          <a:stretch/>
        </p:blipFill>
        <p:spPr>
          <a:xfrm>
            <a:off x="344520" y="1676520"/>
            <a:ext cx="8397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ominant Trait Ru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rong Hereditary traits cover weak trait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strong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MINANT – Represented by CAPITAL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weak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essive – Represented by lower case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Fredrick Griffith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orked in the 1920’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axonomist – a scientist who classifies      and names organisms – He specialized in pathogens (disease-causing organism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ed mice and bacterium (Streptococcus pneumonia) to see if inherited material is passed though DNA or protein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Picture 2" descr="File:Griffithm.jpg"/>
          <p:cNvPicPr/>
          <p:nvPr/>
        </p:nvPicPr>
        <p:blipFill>
          <a:blip r:embed="rId1"/>
          <a:stretch/>
        </p:blipFill>
        <p:spPr>
          <a:xfrm>
            <a:off x="7319880" y="0"/>
            <a:ext cx="182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Oswald Aver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tinued Griffith’s wo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dentified DNA as the material that passes on the inherited informati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e used large amounts of bacteria and a process of heating and mixing the liquids to extract the nitrogen bases away from the protei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me world’s first genetic engine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Picture 2" descr="http://upload.wikimedia.org/wikipedia/commons/thumb/e/eb/Oswald_T._Avery_portrait_1937.jpg/150px-Oswald_T._Avery_portrait_1937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0:13:48Z</dcterms:created>
  <dc:creator>CCSD</dc:creator>
  <dc:description/>
  <dc:language>en-US</dc:language>
  <cp:lastModifiedBy>RomaK</cp:lastModifiedBy>
  <dcterms:modified xsi:type="dcterms:W3CDTF">2015-09-04T11:36:04Z</dcterms:modified>
  <cp:revision>17</cp:revision>
  <dc:subject/>
  <dc:title>The History of D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1251033</vt:lpwstr>
  </property>
</Properties>
</file>