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4D4-2E4F-4017-8C33-A8614F6BF5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884-2C4D-4595-9790-3F5AF632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C65-C141-4DEE-9002-CA22204E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871-B085-46DE-B25E-569BD93C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C76-CD94-4704-A813-CF14C8CB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811-B771-4180-AD8C-F480ACF8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701-03C0-42A5-B0BA-CF7C3ACB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4A8-701E-4C56-A6D9-C1EC4691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3EC-14F5-4464-9547-B5836765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9C1-B0FF-496D-AC14-7C17DE54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E4E-F3A5-48DF-B230-F50FDFE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B86-917A-4248-A721-51C0E1B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7B6-E3EC-4866-BFFE-DB080F5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16AE-C0B0-4800-9EA5-4DCFE9999E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3520" y="2133720"/>
            <a:ext cx="8075160" cy="3047760"/>
            <a:chOff x="533520" y="2133720"/>
            <a:chExt cx="8075160" cy="3047760"/>
          </a:xfrm>
        </p:grpSpPr>
        <p:sp>
          <p:nvSpPr>
            <p:cNvPr id="52" name="Text Box 8"/>
            <p:cNvSpPr/>
            <p:nvPr/>
          </p:nvSpPr>
          <p:spPr>
            <a:xfrm>
              <a:off x="2764800" y="2133720"/>
              <a:ext cx="201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33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Tahoma"/>
                </a:rPr>
                <a:t>Structur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358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tereo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6586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0099"/>
                  </a:solidFill>
                  <a:latin typeface="Tahoma"/>
                </a:rPr>
                <a:t>Geometric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60588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ptic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13"/>
            <p:cNvGrpSpPr/>
            <p:nvPr/>
          </p:nvGrpSpPr>
          <p:grpSpPr>
            <a:xfrm>
              <a:off x="1702080" y="2705040"/>
              <a:ext cx="4037760" cy="476280"/>
              <a:chOff x="1702080" y="2705040"/>
              <a:chExt cx="4037760" cy="47628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1702080" y="2990880"/>
                <a:ext cx="40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3827160" y="27050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70208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573984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8"/>
            <p:cNvGrpSpPr/>
            <p:nvPr/>
          </p:nvGrpSpPr>
          <p:grpSpPr>
            <a:xfrm>
              <a:off x="3827520" y="3943440"/>
              <a:ext cx="3825000" cy="476280"/>
              <a:chOff x="3827520" y="3943440"/>
              <a:chExt cx="3825000" cy="476280"/>
            </a:xfrm>
          </p:grpSpPr>
          <p:sp>
            <p:nvSpPr>
              <p:cNvPr id="63" name="Line 19"/>
              <p:cNvSpPr/>
              <p:nvPr/>
            </p:nvSpPr>
            <p:spPr>
              <a:xfrm>
                <a:off x="3827520" y="4229280"/>
                <a:ext cx="38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>
                <a:off x="3827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>
                <a:off x="7652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5740200" y="39434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is structure"/>
          <p:cNvPicPr/>
          <p:nvPr/>
        </p:nvPicPr>
        <p:blipFill>
          <a:blip r:embed="rId1"/>
          <a:stretch/>
        </p:blipFill>
        <p:spPr>
          <a:xfrm>
            <a:off x="990720" y="4114800"/>
            <a:ext cx="2743200" cy="149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rans model"/>
          <p:cNvPicPr/>
          <p:nvPr/>
        </p:nvPicPr>
        <p:blipFill>
          <a:blip r:embed="rId2"/>
          <a:stretch/>
        </p:blipFill>
        <p:spPr>
          <a:xfrm>
            <a:off x="5105520" y="3276720"/>
            <a:ext cx="2971800" cy="255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is model"/>
          <p:cNvPicPr/>
          <p:nvPr/>
        </p:nvPicPr>
        <p:blipFill>
          <a:blip r:embed="rId3"/>
          <a:stretch/>
        </p:blipFill>
        <p:spPr>
          <a:xfrm>
            <a:off x="762120" y="1728720"/>
            <a:ext cx="28954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rans structure"/>
          <p:cNvPicPr/>
          <p:nvPr/>
        </p:nvPicPr>
        <p:blipFill>
          <a:blip r:embed="rId4"/>
          <a:stretch/>
        </p:blipFill>
        <p:spPr>
          <a:xfrm>
            <a:off x="5486400" y="1752480"/>
            <a:ext cx="2514600" cy="141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5238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6294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270 kJ 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ergy needed to break this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762120" y="1447920"/>
            <a:ext cx="3047760" cy="4692600"/>
            <a:chOff x="762120" y="1447920"/>
            <a:chExt cx="3047760" cy="4692600"/>
          </a:xfrm>
        </p:grpSpPr>
        <p:pic>
          <p:nvPicPr>
            <p:cNvPr id="77" name="Picture 4" descr="cis model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28954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trans model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971800" cy="25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228600" y="2286000"/>
            <a:ext cx="4114800" cy="2669400"/>
            <a:chOff x="228600" y="2286000"/>
            <a:chExt cx="4114800" cy="2669400"/>
          </a:xfrm>
        </p:grpSpPr>
        <p:pic>
          <p:nvPicPr>
            <p:cNvPr id="82" name="Picture 4" descr="cis structure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114800" cy="22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219320" y="4495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Cis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means other side or cross over e.g. trans Atlantic, transplant, trans…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04920" y="2209680"/>
            <a:ext cx="4190760" cy="2669760"/>
            <a:chOff x="304920" y="2209680"/>
            <a:chExt cx="4190760" cy="2669760"/>
          </a:xfrm>
        </p:grpSpPr>
        <p:pic>
          <p:nvPicPr>
            <p:cNvPr id="87" name="Picture 4" descr="trans structure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41907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1447920" y="44197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8000"/>
                  </a:solidFill>
                  <a:latin typeface="Times New Roman"/>
                </a:rPr>
                <a:t>trans</a:t>
              </a:r>
              <a:r>
                <a:rPr b="0" lang="en-GB" sz="2400" spc="-1" strike="noStrike">
                  <a:solidFill>
                    <a:srgbClr val="008000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able"/>
          <p:cNvPicPr/>
          <p:nvPr/>
        </p:nvPicPr>
        <p:blipFill>
          <a:blip r:embed="rId1"/>
          <a:stretch/>
        </p:blipFill>
        <p:spPr>
          <a:xfrm>
            <a:off x="455760" y="1905120"/>
            <a:ext cx="868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erp"/>
          <p:cNvPicPr/>
          <p:nvPr/>
        </p:nvPicPr>
        <p:blipFill>
          <a:blip r:embed="rId1"/>
          <a:stretch/>
        </p:blipFill>
        <p:spPr>
          <a:xfrm>
            <a:off x="609480" y="1295280"/>
            <a:ext cx="388152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moles of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be needed to saturate one mole of gerani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54:21Z</dcterms:created>
  <dc:creator>M Tyrrell</dc:creator>
  <dc:description/>
  <dc:language>en-US</dc:language>
  <cp:lastModifiedBy>RomaK</cp:lastModifiedBy>
  <dcterms:modified xsi:type="dcterms:W3CDTF">2015-09-01T16:24:59Z</dcterms:modified>
  <cp:revision>17</cp:revision>
  <dc:subject/>
  <dc:title>Geometric isomerism</dc:title>
</cp:coreProperties>
</file>