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19.png" ContentType="image/pn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2.png" ContentType="image/png"/>
  <Override PartName="/ppt/media/image35.jpeg" ContentType="image/jpeg"/>
  <Override PartName="/ppt/media/image1.jpeg" ContentType="image/jpeg"/>
  <Override PartName="/ppt/media/image5.jpeg" ContentType="image/jpeg"/>
  <Override PartName="/ppt/media/image26.jpeg" ContentType="image/jpeg"/>
  <Override PartName="/ppt/media/image30.png" ContentType="image/png"/>
  <Override PartName="/ppt/media/image3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 type="sldNum" idx="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BCC7-C018-43E5-A425-C8FBA189D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ntures in Biology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Week in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scussed the different forms of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scussed the costs/benefits of each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eek we’ll discuss 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iation - how sexually reproducing organisms devel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separate sexes.  Specifically, as it applies to us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ntures in Biology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Week in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scussed the different forms of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scussed the costs/benefits of each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eek we’ll discuss 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iation - how sexually reproducing organisms devel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separate sexes.  Specifically, as it applies to us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reproductive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reproductive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…How Do We Get Fro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sentially a cl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undifferentia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ully developed adult fe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ully developed adult 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…How Do We Get Fro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sentially a cl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undifferentia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ully developed adult fe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ully developed adult 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How do our bodies know if we are meant to use the little boys’ room or the little girls’ ro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the             fact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How do our bodies know if we are meant to use the little boys’ room or the little girls’ ro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the             fact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chromosome contains a gene known as the SRY (sex determining region on the Y chromosome)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 is responsible for the development of te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about the        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chromosome contains a gene known as the SRY (sex determining region on the Y chromosome)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 is responsible for the development of te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about the        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develops an area known as the urogenital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 testes develop, this area will naturally develop into the female reproduc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we are all female by defa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develops an area known as the urogenital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 testes develop, this area will naturally develop into the female reproduc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we are all female by defa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…how does this happen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estes form they release 2 hormones - testosterone &amp; MIS (mullerian inhibiting subst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osterone causes the male reproductive system to 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 causes the ducts of the female system to degen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…how does this happen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estes form they release 2 hormones - testosterone &amp; MIS (mullerian inhibiting subst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osterone causes the male reproductive system to 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 causes the ducts of the female system to degen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ature m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ature m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281E-CA94-4582-873D-9625EAD92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4B91-150B-4DC8-8BBC-168EB0C6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1609A-3FA2-4EBB-B0E1-DA337C4B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2A561-C11F-425B-9EA4-F0DE6AE1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A94A1-30FA-4ADB-8724-2D82E31E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95BE85-37F2-4E8D-AC7B-150B660B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05EC4-BD98-45C7-BB02-F17BF00C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86D7B-18D9-4E4A-AE54-B92A3CFB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4D500-E7DD-47B1-8927-AC4DE380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95057-8C41-4307-937A-3038E125D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0F922-70E3-49EC-A703-732F31881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92BB84-A82F-4665-AB92-B46A161FE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3757-0275-4594-B125-570137167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41B025-3588-40A2-B6E5-D8AE31CF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B75A4F-C590-4B56-BFA9-9BC6F209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33F6F5-25E7-4800-963C-7BF0B34F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98065-797B-4663-AC6F-FCE7F81A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F4744D-CD57-45A1-8FB6-11EB2FB8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EFDD12-D265-478D-895B-3B74343F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C27E0B-C6F4-4E5B-8F54-503E5C95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43E2CE-F08C-4858-B6B9-24719641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F7D167-9052-408D-881D-7BCCA235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65FB6-5EFD-4A31-A3EA-2C783F9BC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AD9C-DE76-4C4F-9B4A-5E7CA9A6C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99AF6-FE0D-47F9-9344-CCF65042B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F2478-05BE-49C8-B1DD-6E32F49C4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DDDE12-BE98-4C02-9759-B1F3D9D2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896A8-5D62-4C9F-B3D9-3B6288F9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1A53D-0DA3-4BAB-80CD-41E60AF0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A5754-4BE1-4EBC-9284-D8260D24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80AFC-A082-4FBF-A115-C9474B72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BFFEA8-F3FA-453D-8E63-A76527A8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02E82E-CCD0-4C03-8EF9-13D19CB2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D11CB-CBD9-43D0-A405-D2F0D4E7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E911-75DB-46B1-BCC3-4DE8BA68C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B3E53-DE2A-4B92-91A7-312E5F54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A7DEC-9F86-440F-8EC9-24D5B6CB2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2D8BD-E247-4331-96F7-0AB2058E6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BB743F-B5AA-438D-9408-20F597814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E51338-1D97-48CC-AEE6-210029CF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D16823-AB0C-4116-94C2-8305124F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37A54-6A17-4EF7-8490-5670C6B5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32BB86-0ACF-45C1-97D5-6B711756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573EE9-4463-46D9-A6F1-BD101EA3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D63B8E-B29F-4629-8987-BE0EEE86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9C9F-2A14-4B1E-BE78-04A7E047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4B5F2-5112-4C4C-A563-A0B0DCE0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870B0F-71BF-4C23-91C4-CB48F622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4B3E87-6447-4EAD-8AB9-30194682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17AE73-ECB6-492C-B57B-431FDAA50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4DC9F4-334C-4484-8DEC-7155C8A8E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A16D3C-7E69-4D5D-B3B3-3A9C9289D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3B28C8-2405-4C45-8ACD-D317FB06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EC0F1C-9478-40BC-B6C2-8BB9345F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9A37C1-CFBF-491E-9BAF-8E58FC68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A7A4AA-F6E0-4383-8E96-C883C07A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B11D-F123-44BC-968F-1C94102E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9D8F84-01AF-4B81-A3D2-22C61C57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C805BC-4E18-408F-9B08-8CF2488E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51B74C-3B02-4B6A-BE1F-3CE97C81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A596FB-0EB8-4EC2-BC46-9F46D1E0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0B008A-8122-49CA-B829-6B164795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B27B22-F504-4896-AF94-336325A06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65FED4-5EAC-4244-A088-FEC07C2FC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54227E-AD34-4F04-863B-BB009CB07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483905-B130-40D9-88A1-51377C38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EB168C-CB66-4B19-89DD-5FAA0604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0F5B-A072-4CF2-99B9-3DCF9E3E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7068FE-6CAE-4530-A3DD-58C7D6DB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E2D842-A252-4C2D-B859-8FDB5E70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8F9CEC-5B22-4B1F-8BA2-F0D370D1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95B788-216A-4D03-99B6-950456A4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8473B3-711E-4D6C-A4D9-5D5FF72B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1E60AF-4B80-4B86-A445-BFFE431C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02EBE6-C237-49F5-98F2-8566D091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078042-6A9A-4D80-B1CC-4BB5EBB62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4BB28B-18BF-4E00-AEDE-D71D92664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99A73E-8A45-48F0-BCEB-C1E38E45A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D343-3770-4F73-A2D5-0BD6724F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F17587-F340-4E54-9287-70022AE4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9FFC34-7193-4985-9D62-1530B802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69136C-B303-456C-9EAF-95DB93AE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82CE71-D3D4-4659-8B14-6C57CC37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FE9901-74FE-44F2-937B-3E5C41B4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FA94DD-28F5-43A8-A452-F452270A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C63F7A-A5B2-4DF2-B626-5FAE0B08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5FAE96-82CC-49EE-A2B3-7809F0F8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5FAA7E-1CAB-4B76-A595-7D013B27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E940FB-B0EA-4952-A530-89860FB31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512B-281D-4AE1-8644-90372C88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D24211-FDD7-4977-8B90-5004673C4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A444D6-AD11-45C3-8927-639602109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9041D8-767D-48CD-A36D-04CA1F77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BB72D8-B98A-458D-873A-1F3E9EF6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15F468-96D7-438D-89C7-B82792B4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57CEE5-3F49-4CFB-9EFE-DD232A42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0C08AA-0A4D-4357-AD96-14E33E55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76EDA3-DD75-49C2-843F-799A2E75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9E62AA-4993-48C4-A532-349AE2EA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203CB7-41A8-4AF3-927D-6B126357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1ABA-3580-43EC-AEEC-E056F492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CE2D1B-8692-40E7-8CAC-F468744B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9822EE-419D-4A94-BACA-209D44B17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CDAB35-A486-44FE-921D-50C5051FF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8C42D7-E1F8-44E4-A6DA-A74C3D91E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43F7EE-5B4C-42BF-8B8E-B4AF1B23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DCFB09-694F-4BE7-9146-CD633C18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C5D8C6-1592-45B2-B1ED-C6BBBD3B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1FA4A3-9745-4CB5-9C45-091DC194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05343B-4E34-41D9-971F-2B15A83A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8C6FA3-6F42-4FE6-8700-07BA671E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33C5-FD4B-4D14-9747-C20A768E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071E-EE8A-4097-9F10-22E3A837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FBB8FF-C9AF-4D7D-99C3-43EB5A47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8C6DE5-8ACF-41E2-B8A5-82C5A864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C269DA-B50D-48F2-B2FC-3870127E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0A0B3E-F96E-4AE9-86BF-3FE704848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AA139B-5724-4032-B21E-659D225D7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93DA18-C67F-4634-81B4-2E74CCDC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79C6D5-CE11-4266-B739-F3EA4B3C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AEC383-3293-4624-93D2-6A19CC9E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74DBD6-68DC-4F37-B469-C0DD4E4B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D94146-EC9A-41BE-8FE2-0EE9ACF1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D84C-79B0-48E1-A312-F40FA381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A542FA-4518-4BB5-856B-D21804B1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E69C38-0FD7-4C86-A783-D5E3D0F9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3BBC89-C30A-4B26-8E7C-2F0A8E6A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3EAB52-F512-46F9-B63B-9D5C38E4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99AA2F-14DC-4B39-9D35-5B679CFA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3C11C0-7FE5-411F-8B4D-0CFB28287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8BBFBD-5BF1-421C-B214-EA1DA44FE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AA3277-293B-4387-967E-E674A2D5F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970E74-5E33-4C5B-AA77-9C4FF87B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04F06B-8FB0-4CC9-A9E1-17765118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0F1A-05E4-4FC1-B007-2FBA1D9C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161E08-FADB-4337-83F4-1FA681E0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D99003-F447-468A-B0E0-5B123346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AB5CB0-E762-48B8-87D4-1510908F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CC4EF2-1ECC-4954-A59B-6AC69637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711295-CC01-49E9-B1B6-81B8C009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E196E3-5E38-4EEC-BBB1-45818936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C8E98A-E647-49F4-BC51-DA5584D3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E6FA56-F7E6-4E2D-880D-F7AA06A24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CB5680-1548-46EC-8D4F-FB263E774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E4C0C7-CD9E-4F55-BBD8-5ACF93BFB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5608-C140-4662-B5D4-B59CC4FE6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839B3D-92B0-475E-8098-560FAD4F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0E0F7F-B05B-49FD-9BA0-32A0E269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3E54BF-9528-4C42-B6D0-90889EEC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3801FC-B0C6-40A4-B2F9-ECAA7C91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F706AA-4156-43E0-B87D-D701FCEB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EB6B82-7913-40C5-B824-A1F6D87C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42B214-7E43-4BFB-A3D3-496AB216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9C1149-A091-48AA-A7F8-A85C1950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525059-C428-4326-A15D-628D7BCA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D3DF4D-DFB7-448D-A5EA-DA94430F5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9356-EEF3-42CC-A3CF-02078B85D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A75FED-6B98-40DB-9DD9-0FBFAA20C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5A5D3D-37C2-490B-B67C-121F2C1DA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A81009-6063-4130-82E9-AA5F4E05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93804A-B74F-4093-95E5-CBD24C39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815F3D-B5C4-46DD-9267-FB0FBA94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7A490E-F22F-4ED2-B0E1-BB835AE9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DEBDAE-4BCE-4450-A7C3-CF03B0FF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CFB3D8-A54F-428D-BAFD-8B3B381D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532FCB-3B56-4CDD-A5A5-1B83CE03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63FB1F-F140-4757-A967-B373BC82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CD56F-35AF-450B-82C4-5C7E0B158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D92A5E-1179-4D2F-8EB9-72005E64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35C306-F476-47A1-8347-921F91931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101548-7C7E-4CCF-B300-078E352E6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7461E9-1C2D-4BB5-AED9-FFA487B9D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F1B95F-1DF4-4FC2-AF9D-34D0C813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081B61-9353-441D-9094-6A21ECC7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186B6B-E62A-4325-B498-2C1198DA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1E8343-C0C7-4A7F-9F07-D0B59DE0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7B12CF-A7A1-426C-BA2A-DA5A4BEC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6C6101-516A-48C0-BE20-272D194E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CF305-1264-4E43-B6EA-4B3189F1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E5CDD0-BD2E-417B-9A0D-117AD54B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EBCC87-0827-431A-9FA4-D566FD40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56DAF2-514B-4089-AD0B-3DE6F36E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CD189C-ACB5-4B6C-B8EA-5C5350D10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F09078-90D9-4F00-9F8B-695ED4748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A7C757-215B-4EC2-89F4-D1F2CC6AA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338487-CA26-45B6-934A-468C6312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8D7F27-DEA5-493C-9972-E1EFE50D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72E950-25FF-42B5-B246-9668E54F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C12F5E-9293-4DDE-9FD2-D6C9AFD5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E7B7A-E655-47D9-B9CB-86B4333C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A3A60E-6D8E-4C3C-9873-CE992F39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D2014F-3EE4-4815-8C82-EE77B789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023171-84BF-4D8A-9419-0AF136F2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0C420E-BAA4-412C-A5E6-059280A7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2A4BEF-BF8F-4462-A1E1-66590470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4D8DFB-517E-4439-8C3D-2FD793397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F78609-7DB4-478C-913B-A0E9C7C94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79A227-14E0-410D-AF96-16A0CD1B2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DD4B52-62FD-423D-81C1-A35EDE26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C1E5AA-F16D-440B-B919-4A86ED4B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DE9E6-9507-40C0-83AB-212B6C99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39B3F9-1A0D-4BBF-AB6E-9AB4E8E6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91091C-E2C0-4C3A-8A88-EABA4812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4A6D0E-2367-4081-BF5C-940F0DAC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57B942-46AF-42B0-A99A-399980A2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434BA4-9DBA-45BB-89A5-705001D1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B1E728-0FA0-490E-81CC-9764C8A4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D474E6-35DB-4471-ADA0-DC68D729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F6A362-F43E-428C-A70C-6A39A5D00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4260C0-DF3D-451D-9E84-6CB11D741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FFB3E-6E80-42EC-B5E0-535B7595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04BB-053D-41DA-A9A9-5B23CF25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48DD1-EF2B-4EFC-BEBA-970349A7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0563E-9904-466A-B6CF-F2122412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37BA7-7D13-4E4D-969C-0334E4D0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0F1FE-A2B4-42F8-9783-0E03AD66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06612-7164-4DF0-A563-483CB688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563DC-38FD-4B79-8DA7-B8FE4D9D2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F1E61-49C2-4CBC-8115-C488E55B0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83613-9D96-4478-B515-0DD76C14E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880C3-02E2-4672-8CD2-0CA0580C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48FB6-9312-47C5-899E-35906933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5231-8E8D-4F29-8998-18185278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90CB2-E78A-40A0-887D-0C7792B7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60D05-EF4F-4E05-B7B1-9B8F1254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4B97E-43E1-4622-9D57-A1B2A961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8FBD8-A439-4237-80CC-5A86E93F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1D7C3-CEF0-4CC8-817F-AEFD5D41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73C5B-762B-46C3-8754-0A78549E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8A161-2ECF-4C7F-992C-D352A926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A8783-B67D-406B-9DEA-76A909114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BB55C-0878-417D-8451-89D502E3E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3A54F-B626-454B-A3D4-A5B29BEA7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93C5-F703-4D97-9DA1-03339214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A234A-1ABC-490C-B50D-3830AE98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82512-8946-4D7F-9E60-99CCF133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DFC92-8CF0-4A59-BF5A-4C781F47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9D183-18EE-4322-8AEB-80243ED0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A284E-C00D-431C-A31A-EC53EE10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A4C84-AD5A-4528-840D-B8EBDE87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3E6FC-7B72-40D1-A9BE-D61AB7AE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4E983-D74E-40B0-8018-5179AEBD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EAD24-4A8A-4DB8-BD29-A0721734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E6DCC-F0AA-48B3-92A7-D6AB2ADC6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53AA-72A8-4661-9CAD-0F44E258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334B0-FDA2-4863-AF3B-FFD98976E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91C14-0179-4031-811A-E285C378A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C786E-BAAC-40F0-9A29-428DF96D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ECEC3-8D9A-4BD4-8A54-82230DCF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50699-D213-4418-B78F-31BCE10F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DAE58-5C88-496C-86A7-10A9AFE4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BAB37-80B0-45B3-BA52-E6838171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2ABD7-C17B-42EE-BA42-66DBE6A6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E7CC4-A341-4B82-803F-E002F662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11F17-07E4-40E3-A2B6-886E1D2A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6D3F-6F37-47EC-88C3-2F75CBC6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E3DD9-0504-48AF-BA4D-7075E080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81D05-DAE1-4A05-9D72-50BAA7870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8F8E6-38A8-4E98-AD3A-81748AD67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D1C9A-F2CE-4577-9347-D3B2BE545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35280-113B-4D4D-BA93-A38C956E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D28DD-8401-4EF1-A52F-7405EF42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F3643-D085-40DA-ADE5-41CC3650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5CFDF-AFC3-4511-8F68-29475E8B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D6CCD-8DAB-417D-A11D-AEFEFC1A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E815F-CDC7-462F-8DCC-D4901EDA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5716-8182-4456-9F3A-D6622CCE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515FB-9193-4197-9049-40C89426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03903-37F5-468E-86A0-1A6DEAC8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0BD22-D989-4D04-A120-B637A9A8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45EA6-50B7-444E-AF38-6A6F598AF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5E4EF-B736-40C2-A9CD-CA4FBC4A1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94D55-2DCB-4B6C-9941-49ECE30F5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38232-5940-4597-9579-EA3C0773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AEE2B-B03A-406B-B072-420057A1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14356-3078-4841-AF68-30D059C2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997A1-7F82-4A63-9429-B98F641A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AF73-6AD8-4429-AF2C-D57AD98E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B002C-3D4B-431E-A4EF-0FDD1D83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F91F9-FB67-4E97-AB39-83783F90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331AD-C887-4F2B-A804-E088D3B2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A748B-DBA4-4005-9108-F5197A17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59EE9-15E8-40AB-9B2A-70318677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BB017-9C80-4811-8003-B5B190552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79958-D8FE-446F-8678-F36DFF4D5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51321-395E-433F-8903-E68043922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3DEB1-B46A-409C-9677-57982D08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FED5E-7B62-4703-B222-26E603DF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D2E6-1343-4ED0-8A4A-9B4475C55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171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1CFB-28A4-45E5-902C-A5E9445DE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4D41-5B56-47AD-B788-C392DD32AC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828440" y="297180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BA49-AFE8-46D4-8E42-473119F51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3712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C414-F7B2-42A2-9DB9-6412DBD4DE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EC84-70FC-4497-980E-9EFC562655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3C54-C5B9-4225-B56D-7B21D53038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F59A-7F26-4AA9-9D55-A421CC020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3871-F7CD-4E69-B16A-75A79D9465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FA7F-82D1-48EE-8342-5D288882C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B0BF-9AF0-45C8-AECA-E328AB3A96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171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2492-2CE5-450B-B042-BC20D0E2E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499F-0C26-4683-9CB3-64C5BF1B46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3C59-3A7F-438C-BCE2-36209B721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9179-F9D3-4ED4-95D3-5544125DAED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07FF-276F-48EF-84B1-5D0027508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731F-75A0-4E7E-8B13-BAD259A0541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171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264B-C70D-47C3-A6FB-93BF65BB7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0ED9-32A9-4C19-A94E-1E48EC35D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6C60-921F-41B6-80FB-BAD48EE06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171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BB7F-78A6-4C00-B901-931A89AA9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4941-9471-458A-BF2F-704D506D4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C151-5A8D-42FC-90C6-FCE500548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6EFA-2B3E-423C-A028-DF10EA729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205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0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0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0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WordArt 4"/>
          <p:cNvSpPr txBox="1"/>
          <p:nvPr/>
        </p:nvSpPr>
        <p:spPr>
          <a:xfrm>
            <a:off x="2286000" y="762120"/>
            <a:ext cx="5638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Adventures in Biology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92" name="Text Box 5"/>
          <p:cNvSpPr/>
          <p:nvPr/>
        </p:nvSpPr>
        <p:spPr>
          <a:xfrm>
            <a:off x="914400" y="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Week in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/>
          </p:nvPr>
        </p:nvSpPr>
        <p:spPr>
          <a:xfrm>
            <a:off x="990720" y="190512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We discussed the different forms of Reproductio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We discussed the costs/benefits of each form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Broadway"/>
              </a:rPr>
              <a:t>This week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 we’ll discuss </a:t>
            </a:r>
            <a:r>
              <a:rPr b="0" lang="en-US" sz="2400" spc="-1" strike="noStrike">
                <a:solidFill>
                  <a:srgbClr val="ff0000"/>
                </a:solidFill>
                <a:latin typeface="Broadway"/>
              </a:rPr>
              <a:t>sexual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roadway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Broadway"/>
              </a:rPr>
              <a:t>differentiation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- how sexually reproducing organisms develop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into separate sexes.  Specifically, as it applies to us human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4" name="Місце для нижнього колонтитула 1"/>
          <p:cNvSpPr/>
          <p:nvPr/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2" descr="XX genotype"/>
          <p:cNvPicPr/>
          <p:nvPr/>
        </p:nvPicPr>
        <p:blipFill>
          <a:blip r:embed="rId1"/>
          <a:stretch/>
        </p:blipFill>
        <p:spPr>
          <a:xfrm>
            <a:off x="990720" y="0"/>
            <a:ext cx="1430280" cy="25909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3" descr="Female Reproductive System 3"/>
          <p:cNvPicPr/>
          <p:nvPr/>
        </p:nvPicPr>
        <p:blipFill>
          <a:blip r:embed="rId2"/>
          <a:stretch/>
        </p:blipFill>
        <p:spPr>
          <a:xfrm>
            <a:off x="4191120" y="457200"/>
            <a:ext cx="2971800" cy="1806480"/>
          </a:xfrm>
          <a:prstGeom prst="rect">
            <a:avLst/>
          </a:prstGeom>
          <a:ln w="0">
            <a:noFill/>
          </a:ln>
        </p:spPr>
      </p:pic>
      <p:sp>
        <p:nvSpPr>
          <p:cNvPr id="1050" name="Line 4"/>
          <p:cNvSpPr/>
          <p:nvPr/>
        </p:nvSpPr>
        <p:spPr>
          <a:xfrm>
            <a:off x="2590920" y="1219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5"/>
          <p:cNvSpPr/>
          <p:nvPr/>
        </p:nvSpPr>
        <p:spPr>
          <a:xfrm>
            <a:off x="2670120" y="609480"/>
            <a:ext cx="148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s to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6"/>
          <p:cNvSpPr/>
          <p:nvPr/>
        </p:nvSpPr>
        <p:spPr>
          <a:xfrm>
            <a:off x="4271400" y="228600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 reproductive org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7"/>
          <p:cNvSpPr/>
          <p:nvPr/>
        </p:nvSpPr>
        <p:spPr>
          <a:xfrm>
            <a:off x="7315200" y="1295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8"/>
          <p:cNvSpPr/>
          <p:nvPr/>
        </p:nvSpPr>
        <p:spPr>
          <a:xfrm>
            <a:off x="7165800" y="99072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5" name="Picture 9" descr="Estradiol"/>
          <p:cNvPicPr/>
          <p:nvPr/>
        </p:nvPicPr>
        <p:blipFill>
          <a:blip r:embed="rId3"/>
          <a:stretch/>
        </p:blipFill>
        <p:spPr>
          <a:xfrm>
            <a:off x="457200" y="3352680"/>
            <a:ext cx="3429000" cy="2075040"/>
          </a:xfrm>
          <a:prstGeom prst="rect">
            <a:avLst/>
          </a:prstGeom>
          <a:ln w="0">
            <a:noFill/>
          </a:ln>
        </p:spPr>
      </p:pic>
      <p:sp>
        <p:nvSpPr>
          <p:cNvPr id="1056" name="Text Box 10"/>
          <p:cNvSpPr/>
          <p:nvPr/>
        </p:nvSpPr>
        <p:spPr>
          <a:xfrm>
            <a:off x="1663560" y="5370480"/>
            <a:ext cx="17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Progester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Line 11"/>
          <p:cNvSpPr/>
          <p:nvPr/>
        </p:nvSpPr>
        <p:spPr>
          <a:xfrm>
            <a:off x="3962520" y="46483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2"/>
          <p:cNvSpPr/>
          <p:nvPr/>
        </p:nvSpPr>
        <p:spPr>
          <a:xfrm>
            <a:off x="4041720" y="4038480"/>
            <a:ext cx="148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m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9" name="Picture 13" descr="Female body"/>
          <p:cNvPicPr/>
          <p:nvPr/>
        </p:nvPicPr>
        <p:blipFill>
          <a:blip r:embed="rId4"/>
          <a:stretch/>
        </p:blipFill>
        <p:spPr>
          <a:xfrm>
            <a:off x="6095880" y="2971800"/>
            <a:ext cx="1300320" cy="3638520"/>
          </a:xfrm>
          <a:prstGeom prst="rect">
            <a:avLst/>
          </a:prstGeom>
          <a:ln w="0">
            <a:noFill/>
          </a:ln>
        </p:spPr>
      </p:pic>
      <p:sp>
        <p:nvSpPr>
          <p:cNvPr id="10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SO…How Do We Get From…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996" name="Picture 4" descr="blastuala"/>
          <p:cNvPicPr/>
          <p:nvPr/>
        </p:nvPicPr>
        <p:blipFill>
          <a:blip r:embed="rId1"/>
          <a:stretch/>
        </p:blipFill>
        <p:spPr>
          <a:xfrm>
            <a:off x="914400" y="3124080"/>
            <a:ext cx="1981080" cy="1474920"/>
          </a:xfrm>
          <a:prstGeom prst="rect">
            <a:avLst/>
          </a:prstGeom>
          <a:ln w="0">
            <a:noFill/>
          </a:ln>
        </p:spPr>
      </p:pic>
      <p:sp>
        <p:nvSpPr>
          <p:cNvPr id="997" name="Line 5"/>
          <p:cNvSpPr/>
          <p:nvPr/>
        </p:nvSpPr>
        <p:spPr>
          <a:xfrm flipV="1">
            <a:off x="2819520" y="2438280"/>
            <a:ext cx="15238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7"/>
          <p:cNvSpPr/>
          <p:nvPr/>
        </p:nvSpPr>
        <p:spPr>
          <a:xfrm>
            <a:off x="2819520" y="3809880"/>
            <a:ext cx="1676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9" name="Picture 8" descr="Female Reproductive System 2"/>
          <p:cNvPicPr/>
          <p:nvPr/>
        </p:nvPicPr>
        <p:blipFill>
          <a:blip r:embed="rId2"/>
          <a:stretch/>
        </p:blipFill>
        <p:spPr>
          <a:xfrm>
            <a:off x="4419720" y="838080"/>
            <a:ext cx="1166760" cy="281952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9" descr="Male Reproductive System"/>
          <p:cNvPicPr/>
          <p:nvPr/>
        </p:nvPicPr>
        <p:blipFill>
          <a:blip r:embed="rId3"/>
          <a:stretch/>
        </p:blipFill>
        <p:spPr>
          <a:xfrm>
            <a:off x="4419720" y="3429000"/>
            <a:ext cx="1225440" cy="3048120"/>
          </a:xfrm>
          <a:prstGeom prst="rect">
            <a:avLst/>
          </a:prstGeom>
          <a:ln w="0">
            <a:noFill/>
          </a:ln>
        </p:spPr>
      </p:pic>
      <p:sp>
        <p:nvSpPr>
          <p:cNvPr id="1001" name="Text Box 10"/>
          <p:cNvSpPr/>
          <p:nvPr/>
        </p:nvSpPr>
        <p:spPr>
          <a:xfrm>
            <a:off x="901440" y="2503440"/>
            <a:ext cx="13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11"/>
          <p:cNvSpPr/>
          <p:nvPr/>
        </p:nvSpPr>
        <p:spPr>
          <a:xfrm rot="19003200">
            <a:off x="2974320" y="27428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12"/>
          <p:cNvSpPr/>
          <p:nvPr/>
        </p:nvSpPr>
        <p:spPr>
          <a:xfrm rot="1708200">
            <a:off x="2896920" y="4266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13"/>
          <p:cNvSpPr/>
          <p:nvPr/>
        </p:nvSpPr>
        <p:spPr>
          <a:xfrm>
            <a:off x="3262320" y="3618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14"/>
          <p:cNvSpPr/>
          <p:nvPr/>
        </p:nvSpPr>
        <p:spPr>
          <a:xfrm>
            <a:off x="5563800" y="308304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15"/>
          <p:cNvSpPr/>
          <p:nvPr/>
        </p:nvSpPr>
        <p:spPr>
          <a:xfrm>
            <a:off x="978480" y="4608360"/>
            <a:ext cx="218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ssentially a cl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undifferenti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16"/>
          <p:cNvSpPr/>
          <p:nvPr/>
        </p:nvSpPr>
        <p:spPr>
          <a:xfrm>
            <a:off x="5338800" y="2666880"/>
            <a:ext cx="31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ully developed adult fe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17"/>
          <p:cNvSpPr/>
          <p:nvPr/>
        </p:nvSpPr>
        <p:spPr>
          <a:xfrm>
            <a:off x="5415120" y="5257800"/>
            <a:ext cx="29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ully developed adult 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In other words, How do our bodies know if we are meant to use the little boys’ room or the little girls’ room?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33160" y="38858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t’s the             factor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Picture 5" descr="Y chromosome"/>
          <p:cNvPicPr/>
          <p:nvPr/>
        </p:nvPicPr>
        <p:blipFill>
          <a:blip r:embed="rId1"/>
          <a:stretch/>
        </p:blipFill>
        <p:spPr>
          <a:xfrm>
            <a:off x="2971800" y="4191120"/>
            <a:ext cx="1593720" cy="22096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9" descr="Bathrooms"/>
          <p:cNvPicPr/>
          <p:nvPr/>
        </p:nvPicPr>
        <p:blipFill>
          <a:blip r:embed="rId2"/>
          <a:stretch/>
        </p:blipFill>
        <p:spPr>
          <a:xfrm>
            <a:off x="4876920" y="1752480"/>
            <a:ext cx="3047760" cy="1898640"/>
          </a:xfrm>
          <a:prstGeom prst="rect">
            <a:avLst/>
          </a:prstGeom>
          <a:ln w="0">
            <a:noFill/>
          </a:ln>
        </p:spPr>
      </p:pic>
      <p:sp>
        <p:nvSpPr>
          <p:cNvPr id="10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/>
          </p:nvPr>
        </p:nvSpPr>
        <p:spPr>
          <a:xfrm>
            <a:off x="1279080" y="1600200"/>
            <a:ext cx="71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Y chromosome contains a gene known as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 determinin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ion on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romosome) g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gene is responsible for the development of te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10"/>
          <p:cNvSpPr/>
          <p:nvPr/>
        </p:nvSpPr>
        <p:spPr>
          <a:xfrm>
            <a:off x="1066680" y="57150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But what about the         fac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Picture 11" descr="chromosome"/>
          <p:cNvPicPr/>
          <p:nvPr/>
        </p:nvPicPr>
        <p:blipFill>
          <a:blip r:embed="rId1"/>
          <a:stretch/>
        </p:blipFill>
        <p:spPr>
          <a:xfrm>
            <a:off x="4267080" y="5105520"/>
            <a:ext cx="974880" cy="1752480"/>
          </a:xfrm>
          <a:prstGeom prst="rect">
            <a:avLst/>
          </a:prstGeom>
          <a:ln w="0">
            <a:noFill/>
          </a:ln>
        </p:spPr>
      </p:pic>
      <p:sp>
        <p:nvSpPr>
          <p:cNvPr id="10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1294920" y="838080"/>
            <a:ext cx="63406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one develops an area known as the urogenital 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ess testes develop, this area will naturally develop into the female reproductiv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ther words, we are all female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5" descr="fetal sex organ development 2"/>
          <p:cNvPicPr/>
          <p:nvPr/>
        </p:nvPicPr>
        <p:blipFill>
          <a:blip r:embed="rId1"/>
          <a:stretch/>
        </p:blipFill>
        <p:spPr>
          <a:xfrm>
            <a:off x="1219320" y="0"/>
            <a:ext cx="6546600" cy="6858000"/>
          </a:xfrm>
          <a:prstGeom prst="rect">
            <a:avLst/>
          </a:prstGeom>
          <a:ln w="0">
            <a:noFill/>
          </a:ln>
        </p:spPr>
      </p:pic>
      <p:sp>
        <p:nvSpPr>
          <p:cNvPr id="10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024" name="Picture 4" descr="fetal sex organ development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429080"/>
          </a:xfrm>
          <a:prstGeom prst="rect">
            <a:avLst/>
          </a:prstGeom>
          <a:ln w="0">
            <a:noFill/>
          </a:ln>
        </p:spPr>
      </p:pic>
      <p:sp>
        <p:nvSpPr>
          <p:cNvPr id="10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BUT…how does this happen??</a:t>
            </a: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407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estes form they releas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 hormon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estosterone &amp; MIS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leria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hibitin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b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estoster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uses the male reproductive system to devel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uses the ducts of the female system to degene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2" descr="Male Body"/>
          <p:cNvPicPr/>
          <p:nvPr/>
        </p:nvPicPr>
        <p:blipFill>
          <a:blip r:embed="rId1"/>
          <a:stretch/>
        </p:blipFill>
        <p:spPr>
          <a:xfrm>
            <a:off x="6095880" y="3505320"/>
            <a:ext cx="1347840" cy="2971800"/>
          </a:xfrm>
          <a:prstGeom prst="rect">
            <a:avLst/>
          </a:prstGeom>
          <a:ln w="0">
            <a:noFill/>
          </a:ln>
        </p:spPr>
      </p:pic>
      <p:sp>
        <p:nvSpPr>
          <p:cNvPr id="1030" name="Line 3"/>
          <p:cNvSpPr/>
          <p:nvPr/>
        </p:nvSpPr>
        <p:spPr>
          <a:xfrm>
            <a:off x="4343400" y="4876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1" name="Group 4"/>
          <p:cNvGrpSpPr/>
          <p:nvPr/>
        </p:nvGrpSpPr>
        <p:grpSpPr>
          <a:xfrm>
            <a:off x="990720" y="3657600"/>
            <a:ext cx="2743200" cy="2471400"/>
            <a:chOff x="990720" y="3657600"/>
            <a:chExt cx="2743200" cy="2471400"/>
          </a:xfrm>
        </p:grpSpPr>
        <p:pic>
          <p:nvPicPr>
            <p:cNvPr id="1032" name="Picture 5" descr="testosterone"/>
            <p:cNvPicPr/>
            <p:nvPr/>
          </p:nvPicPr>
          <p:blipFill>
            <a:blip r:embed="rId2"/>
            <a:stretch/>
          </p:blipFill>
          <p:spPr>
            <a:xfrm>
              <a:off x="990720" y="3657600"/>
              <a:ext cx="2743200" cy="18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3" name="Text Box 6"/>
            <p:cNvSpPr/>
            <p:nvPr/>
          </p:nvSpPr>
          <p:spPr>
            <a:xfrm>
              <a:off x="1831320" y="548640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stoster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amp; M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Group 7"/>
          <p:cNvGrpSpPr/>
          <p:nvPr/>
        </p:nvGrpSpPr>
        <p:grpSpPr>
          <a:xfrm>
            <a:off x="3278880" y="1523880"/>
            <a:ext cx="1386360" cy="642600"/>
            <a:chOff x="3278880" y="1523880"/>
            <a:chExt cx="1386360" cy="642600"/>
          </a:xfrm>
        </p:grpSpPr>
        <p:sp>
          <p:nvSpPr>
            <p:cNvPr id="1035" name="Line 8"/>
            <p:cNvSpPr/>
            <p:nvPr/>
          </p:nvSpPr>
          <p:spPr>
            <a:xfrm>
              <a:off x="3353040" y="18284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Text Box 9"/>
            <p:cNvSpPr/>
            <p:nvPr/>
          </p:nvSpPr>
          <p:spPr>
            <a:xfrm>
              <a:off x="3278880" y="1523880"/>
              <a:ext cx="138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des f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mation 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10"/>
          <p:cNvGrpSpPr/>
          <p:nvPr/>
        </p:nvGrpSpPr>
        <p:grpSpPr>
          <a:xfrm>
            <a:off x="6477120" y="1523880"/>
            <a:ext cx="1295280" cy="368280"/>
            <a:chOff x="6477120" y="1523880"/>
            <a:chExt cx="1295280" cy="368280"/>
          </a:xfrm>
        </p:grpSpPr>
        <p:sp>
          <p:nvSpPr>
            <p:cNvPr id="1038" name="Line 11"/>
            <p:cNvSpPr/>
            <p:nvPr/>
          </p:nvSpPr>
          <p:spPr>
            <a:xfrm>
              <a:off x="6477120" y="18284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Text Box 12"/>
            <p:cNvSpPr/>
            <p:nvPr/>
          </p:nvSpPr>
          <p:spPr>
            <a:xfrm>
              <a:off x="6480000" y="152388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du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Text Box 13"/>
          <p:cNvSpPr/>
          <p:nvPr/>
        </p:nvSpPr>
        <p:spPr>
          <a:xfrm>
            <a:off x="4136040" y="4572000"/>
            <a:ext cx="1767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mature m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Group 14"/>
          <p:cNvGrpSpPr/>
          <p:nvPr/>
        </p:nvGrpSpPr>
        <p:grpSpPr>
          <a:xfrm>
            <a:off x="4800600" y="533520"/>
            <a:ext cx="1639800" cy="2501640"/>
            <a:chOff x="4800600" y="533520"/>
            <a:chExt cx="1639800" cy="2501640"/>
          </a:xfrm>
        </p:grpSpPr>
        <p:pic>
          <p:nvPicPr>
            <p:cNvPr id="1042" name="Picture 15" descr="testes"/>
            <p:cNvPicPr/>
            <p:nvPr/>
          </p:nvPicPr>
          <p:blipFill>
            <a:blip r:embed="rId3"/>
            <a:stretch/>
          </p:blipFill>
          <p:spPr>
            <a:xfrm>
              <a:off x="4800600" y="533520"/>
              <a:ext cx="16398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Text Box 16"/>
            <p:cNvSpPr/>
            <p:nvPr/>
          </p:nvSpPr>
          <p:spPr>
            <a:xfrm>
              <a:off x="5183280" y="266688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s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Group 17"/>
          <p:cNvGrpSpPr/>
          <p:nvPr/>
        </p:nvGrpSpPr>
        <p:grpSpPr>
          <a:xfrm>
            <a:off x="914400" y="609480"/>
            <a:ext cx="2438280" cy="3019320"/>
            <a:chOff x="914400" y="609480"/>
            <a:chExt cx="2438280" cy="3019320"/>
          </a:xfrm>
        </p:grpSpPr>
        <p:pic>
          <p:nvPicPr>
            <p:cNvPr id="1045" name="Picture 18" descr="SRY gene 2"/>
            <p:cNvPicPr/>
            <p:nvPr/>
          </p:nvPicPr>
          <p:blipFill>
            <a:blip r:embed="rId4"/>
            <a:stretch/>
          </p:blipFill>
          <p:spPr>
            <a:xfrm>
              <a:off x="914400" y="609480"/>
              <a:ext cx="243828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6" name="Text Box 19"/>
            <p:cNvSpPr/>
            <p:nvPr/>
          </p:nvSpPr>
          <p:spPr>
            <a:xfrm>
              <a:off x="1145520" y="3048120"/>
              <a:ext cx="1782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RY gene on th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 Chromoso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1T19:32:50Z</dcterms:created>
  <dc:creator>John Bojnowski</dc:creator>
  <dc:description/>
  <dc:language>en-US</dc:language>
  <cp:lastModifiedBy>LEGION2</cp:lastModifiedBy>
  <dcterms:modified xsi:type="dcterms:W3CDTF">2016-01-12T12:30:56Z</dcterms:modified>
  <cp:revision>8</cp:revision>
  <dc:subject/>
  <dc:title>Slide 1</dc:title>
</cp:coreProperties>
</file>