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DC25-D52E-4782-97D0-961C11806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s in Bio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different form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costs/benefits of each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ek we’ll discuss 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- how sexually reproducing organisms 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separate sexes.  Specifically, as it applies to us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s in Bio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different form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costs/benefits of each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ek we’ll discuss 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- how sexually reproducing organisms 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separate sexes.  Specifically, as it applies to us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How Do We Get Fr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How Do We Get Fr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chromosome contains a gene known as the SRY (sex determining region on the Y chromosome)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       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chromosome contains a gene known as the SRY (sex determining region on the Y chromosome)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       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how does this happen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estes form they release 2 hormones - testosterone &amp; MIS (mullerian inhibiting sub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osterone causes the male reproductive system to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 causes the ducts of the female system to 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how does this happen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estes form they release 2 hormones - testosterone &amp; MIS (mullerian inhibiting sub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osterone causes the male reproductive system to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 causes the ducts of the female system to 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273-B7A9-4E5E-AD96-3BE17D54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D36-25B7-43D6-B556-9C93BE37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D657A-301A-4489-893B-DDDEBA68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14E1B-2910-4D86-8D9B-EFFF4618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CE1E1-95A7-4559-AAD6-D9EAAE9D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73D03-6451-4B56-A18B-47755692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F0753-BEB0-40F0-962A-AA17B40D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BA766-7012-4F94-AD8F-9CD85876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B3C89-2DDC-443E-9557-C7BBBE0D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98E49-0A5D-41BB-8034-DFE04D58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D7765-E41B-4B76-B170-20655B27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E7917-9FFE-47AD-8A0B-124CA5F3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041-1863-4E6C-B6C9-4404C099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2FBEB-CA31-4F80-B902-E25441EC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E4ED2-2163-4C10-BBCF-0DFA83C0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967C2-5F3A-4D87-A76B-74C72853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1BF3C-A338-46EA-8ADB-92D813BE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40C8A-C3CD-42C5-B2A8-E739EBE4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CF178-B0A2-4541-809A-417AE7FA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D3D69-C464-4CFC-8DC2-E6FFC20A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A5B26-C38E-4C38-BE61-6766A0FE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1D754-DA45-4014-BB7C-0906C2F2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5B743-C3D2-402B-AE06-8CF1D15C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9A5-7B7D-42F9-8517-57F85607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1C0F5-A8EB-419C-9F47-5F39CB9F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998B9-03A7-4A7E-9902-49D2CE5F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A7985-617B-427E-B18B-1A96B540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7B2D8-71E0-4316-AB0A-1C3D4B77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DC3D1-921A-4CEF-AA7A-E91C2131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AC0AB-1B98-493A-8380-AAAE8B44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CEDD4-1DFD-413E-A664-EAF9D646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C510B-9345-49CF-A3D7-64F0D53A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1444D-1B95-495F-8347-34F9C676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343FD-99DB-44C6-B8C6-FA47B871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98D6-47B6-4B64-BC0A-0CFA94C9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D44EE-AD21-42B1-8B72-E5F0AE4E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1ABA6-30BA-4600-B0B4-EDA08EAC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AEF65-7172-4C78-9C53-9544ADCE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21CC0-1557-47CA-BD0D-1C528B63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20641-A21F-4C0C-9FA1-3B2077F1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7BB9E-5B9F-4641-ACC3-4DACC88D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2F56A-2054-46E0-A452-D79A0A64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8B250-DDC2-4E78-90D6-B4F09FD3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D9D97-D4E0-4EAB-B4F1-E81576D7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8D71E-C6BD-4DB7-9AEF-A6B8A614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804C-EE47-4747-9ACB-29792F54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5786A-FE38-4533-A6D1-BB332034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41C65-FBD2-446C-8250-AC224FDB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A4C96-F07D-4958-A2C0-03F08AB1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3E0E9-AE25-4BC1-A322-177F0607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065E7-FAA1-4607-B1A6-7A3C3CAA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9DDDF-FAC8-48C2-ADB2-5639AD5F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BC449-D8A6-44EF-8007-8F1782FF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822EC-3353-4156-B709-1FC9CA06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76C51-C83E-40B7-8C5C-86F8A6A5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5EAB9-471A-415F-B437-F9A37300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D1A6-982A-4FD8-91A8-4AC0F69A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97C0E-2C4A-4779-AE8A-792AD0D0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27A16-86F3-4914-AA8B-D0E43ED1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57570-2562-466B-9D83-1A3199AF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D24E1C-B52F-4074-A66E-C3EE301B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25DA4-1FFE-4111-9F24-2F6E6501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0CD26-4017-42B3-8731-118B63B1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561CD-D27E-416B-8733-367F4DB8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C7ECA-4A94-4BF8-B44F-A3180C43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654084-98E6-4B41-9EC9-90B05E91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81C4E4-FF97-4D1D-A7E2-69676310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CF45-4005-47A8-B76B-8158F5EB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F432F2-8B28-4635-B54F-CC5BC994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9025E-8C71-4333-846E-42DC5F51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B7588D-B0E7-4F7B-929D-EDA1D31D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6BC74E-76EB-4614-AE69-F4079995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08CA9-D5C4-416D-AC2C-F6A76345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A7F786-4875-4B60-A622-E62DF20F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99F47B-55A9-4F0B-8697-65CE4B51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8583CA-8278-4935-9B53-F2943C02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D32B49-07D5-4529-9CB2-F5B5609D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97A8F8-0861-434B-80E1-DAEB19C4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84AD-81AC-469A-B7C7-6479D4D6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494CAF-63AE-452D-8E27-76F8A405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6649C7-E172-4B28-AFF8-5B82084F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9541F1-0023-4E16-8B50-389251B8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485638-02F9-41B3-A02D-1C7BE798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5A25DF-0194-4968-B719-1447AFCD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2A7C23-59A0-49D5-BC4A-84BF528A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D11D5-8EFB-4D9F-B2D8-ED05DFCE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027D58-0FA5-4F7D-944A-E5B8B526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99F70C-A33E-40EC-97B3-3B244589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EAF64A-DA3E-4D7D-919C-72A3BA55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8840-012A-4D67-B67B-03A17E80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098E09-E19E-43F2-BB55-DD0E772A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FD8635-B2CD-452D-8ACB-2D203117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4F2C22-B25F-4E1A-A598-0A1FC858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0D863-AA3D-4438-99B5-300C0509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AD38DB-D286-4E90-9673-A7879866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2ADB16-053E-4C00-9F06-7D9987EB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A03BF3-FCBC-42C5-BBC0-9B03932C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0ACF5C-5224-4839-89BA-B9D00981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835327-61CB-445E-A2A5-6AE90E82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CA580A-91CF-4F60-9845-06FBBF7F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40E1-108C-4AC8-8407-F48F96FE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9F4CB1-2407-46E5-A719-842BF248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52B5E4-8DB6-4E15-BF30-091A0D7F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8CFC1C-41F4-4421-A2BA-47F36577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AFA9BC-36C7-4E74-9D54-066C245B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ACEE5-53BE-499E-93F1-DB746CDF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7E2E33-C78C-4E38-932B-33779488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A1FAD9-D763-4990-98F1-DF740090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F1682D-6D07-4598-82DD-5D9F5A03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AD1169-6D92-4098-AE09-3B6117D8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ECEEC5-C542-4EBA-A5EF-FDB4DFD5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9D60-1C26-4ADD-B5B0-45D04232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D8BA-98A7-4D87-83B3-2E3733A0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16620D-7E2B-4BB7-8536-8115B590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A2CF00-DF84-4647-A810-2970F6E1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723AD7-BF5A-46AA-A11C-37DB638A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9A3EA9-7427-483B-A34A-4AFA8215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1595A3-A934-4A74-8681-E6EF0FA0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FC3E26-AAEC-4F4C-9382-946319E0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9AD697-8D25-41A2-8996-4695BD3A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F864CA-8E7F-4EDA-BD15-40861C46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0FA6B5-6745-416B-8697-369C4847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93BE9E-9957-49CE-A44C-B42917D1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DFDC-9DCE-4BA4-A958-26B4166E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8E4588-15C5-43BB-8FBD-830D04A5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695E82-D8F0-4A0D-8ACE-1AB4DDA6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26C436-883C-46B0-8962-9D4FD284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E37FF2-A3B5-4484-8FAF-93550D55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F8E478-3888-40C3-B5A5-DE0E7FD4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D49021-96B2-4E15-9759-8A7B205C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95537A-C389-4FBF-BC28-FAA3C1F1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AB0900-B75E-4F74-9A2F-CFC6FFAB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70E4F0-4DF5-4256-B390-9B000BFA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170992-6521-4D96-B938-B68D6480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DB29-AA7D-4C21-81F0-63F3D95E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7A562C-F0B8-4189-8272-BA78D6FB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0557FA-C2F8-4BF8-843F-77966A04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DF89E5-E6DF-42D8-BFF2-067D6565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74E9B1-D526-476C-8CD1-F57A0A3D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FAC2D3-A13F-490F-B1DC-0DB08C04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989398-D5FB-4998-BDE1-DA61D1B5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E54797-EF64-42FA-9D0C-D441CBD1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73CAF9-626E-40DF-843F-B9AB24A1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CB6E0F-24B6-4D14-874C-B7A7A548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BA8017-E7FE-4533-AA78-F7375885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284F-EDEA-460E-8D47-6EA95143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C1FD56-8473-4B56-A428-5998FA1D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B0C517-2CC8-4342-9396-DE131929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F6589E-595E-4668-9D02-3CC43D79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752AB7-6D59-4007-A468-D05CC035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8B6715-B267-4BB4-8A34-2783567B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15529D-DCFD-4A4C-B009-394C06F9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951A1E-FFAB-487E-928D-6FC2066A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A21528-9D77-4890-B888-B99DD928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4C0734-34D5-4277-8524-382AB8DE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83FEC4-8518-4ED2-8551-18D9A206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A499-5CBC-4DE8-A35F-A1A052F6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A62A6D-457E-4625-9AAB-45F21EDD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D6D886-F45F-4E32-9977-B81D7E3C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9FC127-2430-4E0B-A26A-917DBA56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973DBD-4282-49F5-BD1B-BDA4FA02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F67BA8-37C1-407E-8E2D-665F4D9F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D8C4F6-6753-499F-9897-88EA0D02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98CB4F-C141-4D9B-8E50-5D896A2E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AE9B96-406A-48C7-B947-54F63FF3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9A58FD-7E85-4ABD-B75D-2D726B6D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E2E453-577C-4A09-9A8A-2B0533A2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F686A-F789-4964-A0F7-3726349C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9FB7BD-FDB9-414B-B9C5-DD15CE88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74A15F-47A5-4381-8E73-988EC60A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76237D-CC56-4EEA-91D0-943691E7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DC91A7-D44F-41B2-8F1F-CF8A4E8C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A9D858-D4DA-44C7-8087-8C36CEA0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CF0538-29FC-4EA9-8200-ACB27DB0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94C8E7-AA68-4037-9B34-D4D580F8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CA8654-AE61-46C0-9896-A84A1815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719F4F-336D-49C6-87E4-F7607C26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1CB95B-7863-41DA-97DF-A6EA5D07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234E2-FFAD-4892-BD91-735CCEAE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80BE02-A4D6-48BB-94C4-30D4FBE4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8D522E-0777-4737-A7EF-58A29F49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661954-0FB6-4ED9-81ED-A803CB51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5AD96E-2D45-4076-9AF3-33391A73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CE2E62-4618-4DDF-8FB8-8461AACB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3493E2-F2BC-488F-B7D3-E270CD70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0CA760-F1D9-40D8-A542-99F6E6E7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A36858-4509-4DEB-82EF-51F63238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E1E513-867D-4881-855D-E5336557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B90295-8800-4AA4-872D-CB5EC528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DE615-9861-4CD2-B2F1-EC23E8EA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4B2255-5FE5-4DF7-B08A-2CACAF73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2972EC-F621-419C-BFB5-1F31B87C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9BCE79-CC42-4962-AA2C-57BFADB3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B2E4AA-F1BF-4BB4-93BA-052F6C3C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515261-340D-4146-8BAB-C146C0F5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5C51AD-3E29-47DB-BE2C-B41EB5D3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279CF9-0047-4060-B939-5DC4ED1E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4B5B8A-825C-42E2-8EA2-3E1BF364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5C5BA2-C742-44A5-877B-5BDABE8A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26BEDB-1532-4052-9C66-08F323A9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FFB04-08E0-4E81-831A-3022315C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DA6A8B-7F1F-45B3-AAA8-C532E520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F3439D-7358-4122-9F12-6EDDAA37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FFF57D-0ECA-4A9D-A092-78F8423C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4A1D5C-B385-415B-8F10-ECBAC23F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200C97-8B9D-4CA3-B91E-B4CD127A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749A44-E8F5-4BE8-B088-AB860AA4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2F71FB-599A-4013-9DC8-584BFC03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9BF5F9-F690-4ACE-992F-1C0E0E18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5C69C3-3300-4356-B09C-DB1C9F0D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56E1B-F237-472A-AD37-60A0A3E8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CB6B-ACCF-47D1-A02F-23829D2E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B57D6-D2AD-457F-91B2-23F581D3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CB77D-0E97-46D0-A643-AE779AE5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184C8-547E-48F1-8F78-6497AA9A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C8099-AEC1-4D73-9E77-053B7D63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FD7C2-372F-4DA6-81A2-A45D3626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95E5B-BED1-4BE7-AB7C-D7D24BE4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7EBC1-2A96-4750-8EB5-EA9C1CED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9365C-8BC5-4323-9A75-D8796C92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AAD24-AAF7-4146-BE97-34E7CFAA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146AE-70B9-4952-B659-F813AD5C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0C5-28F0-4134-8AE9-49FBB2B5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BC22C-B0CB-4082-AD06-7FB2955F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091A1-DA6C-41A9-BF9D-D066C3D8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B66D3-3282-48A4-9C5B-A94E344C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8DC01-2562-40E8-B619-172107AB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D5113-0B62-4947-A462-65D8BED9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86429-2F8E-4289-9AEE-1BB93F04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77926-5941-4CAA-B7F7-284209AC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CFA75-D2CD-4558-84BE-2CAC9B76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58452-BDF3-481B-882F-385B4173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6386A-ECE4-443D-A5E6-69FE3393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E64-97EE-4E04-8C9A-01F30FFA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782EC-B5CB-4C6C-A042-59A429BD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1E9C7-7099-4F41-933A-8F3AFC38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4C00F-1DD2-4760-94F2-6CFACCAF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31555-1D5B-422C-A5DF-F2D5B7DF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6C8F7-EB34-4D06-AE0F-C2772DC0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E11CD-82A4-4652-B585-B14A1BB0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27D2B-DBDB-43A5-90E9-DE7A93D5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CEF47-9442-4C17-A206-E7B85C4C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88BCE-235F-4A77-B25D-C7CFF14C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3F027-B5B8-49B0-B417-66260A3C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592A-6112-4B40-9898-D1FA8521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DAE4F-9003-4008-8C4B-0C661473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63F43-ED45-4AA8-BE1D-203319D0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2CDD0-6B46-4541-9707-5FF203E5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B1512-8D69-49B4-9F0F-3E936CC0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4A730-1B8D-4FB7-B42A-A39C14A3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6B999-3E01-4529-AEF8-55D6F6DB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1668C-4C74-40EC-8FF5-B90131AE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237DF-549F-46AF-B414-89BE36FA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B5C2E-BA9B-4702-A751-FAE48296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53C76-9CB1-4F3E-918E-4136CA5F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F0A-16C4-43BE-ABC5-FB811912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B045A-027C-40C0-87AB-A6A46D5D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D3064-2A41-4D89-9359-39E19151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B4CDA-688D-4C75-98F1-6FA9DDB5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53DEE-C3ED-4CFB-ABC3-2CC0D0A6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777EE-C63F-4AFD-BE27-2BFCA566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3FDDE-A71E-486A-BD31-713BF8C9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A07D5-472B-44AC-8741-6E84801A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BEB90-A88C-4135-B633-65BB9B36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33C35-4EC9-4824-BA72-E9917268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78D9F-9CA3-44FE-B4AA-DB175F4B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85C-8D80-49EE-836E-708171A8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4EE9F-8A9A-4A48-8FFE-BFD82037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C7812-2DA8-4DD7-A6C4-A7397C2C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75701-B5B1-4D67-BC9B-A63FC38D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C581F-A3B8-415F-8D20-0995CCD4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6F9A2-7F33-4CD8-938F-AB02DE4B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8CC26-8A60-4C2A-9BD5-E9F8960F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E91BC-30C2-4E05-9194-0945126F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07B0F-B69E-411E-9E0D-2782CFBE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EEFD8-E832-45CF-86C8-3833D3D5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EC4DB-F1C3-4F13-9813-83347519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AE2-F46A-4F0F-9C96-1150E8AA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C3F96-4A69-4EE6-B3BD-233945DC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EBB56-BAFC-4408-B5E9-139C710F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E6CDD-5911-4672-9812-C11B5C37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6A678-EF83-48DC-879F-B856A219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FCB28-B258-4506-8E0C-CA6F390E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BCF0D-9499-4E6F-9BF3-B26CF387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C7B14-9528-4E63-A378-C7548C3D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57428-45A2-4E1C-860A-186173B9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019CC-732E-4FCB-8AD8-687D2E55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93735-14DF-426B-BC34-56EF6535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FFCB-5776-4759-BB29-A3B877B08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FF69-5AF9-492C-853D-6ACEF379E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DC65-DB6A-4877-9746-ECE047FD3C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828440" y="297180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6F77-CDCE-4A50-A521-9942528A8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3712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DBBB-A182-41DE-9FD1-3085DD129D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958D-F2E6-4472-A3A4-674C0D42C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FCE6-9383-4BFE-9BB3-5DA0D38EC3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D676-C094-4F4A-B178-9C514CE44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CA0F-F692-4928-9221-42D660B1B2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812E-ED6F-437D-8442-9B4E497BE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52BA-D8BF-46FC-9F22-FDEF24E85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761F-33DC-4B46-9A0B-EE9B79FE8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19C2-85D6-4A5F-B248-A3BDC7142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29C8-61B2-4A61-B5C3-87A8BCD54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4DE0-93BF-4995-9CDD-62A8F23DE03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877B-9ED0-4E92-90FB-1FAB0C431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6AA6-3CEB-4B3D-9CEE-D39E4CE30E3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89A5-B53D-4FC5-BE47-EF4EDC267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545E-73BF-4677-8576-4DE840978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8296-4E43-4C57-A91C-4073B9EFE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3DE1-D70E-47D1-A6B2-575792C90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67A5-C271-4592-AAF1-C509D7022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E427-1A22-4DB7-AF13-5661498AF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214E-7A9A-4486-B832-84892C47F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0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WordArt 4"/>
          <p:cNvSpPr txBox="1"/>
          <p:nvPr/>
        </p:nvSpPr>
        <p:spPr>
          <a:xfrm>
            <a:off x="2286000" y="762120"/>
            <a:ext cx="56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dventures in Biology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92" name="Text Box 5"/>
          <p:cNvSpPr/>
          <p:nvPr/>
        </p:nvSpPr>
        <p:spPr>
          <a:xfrm>
            <a:off x="914400" y="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990720" y="190512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discussed the different forms of Reproduc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discussed the costs/benefits of each for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roadway"/>
              </a:rPr>
              <a:t>This week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we’ll discuss </a:t>
            </a: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sexual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differentiation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- how sexually reproducing organisms develop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nto separate sexes.  Specifically, as it applies to us huma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4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2" descr="XX genotype"/>
          <p:cNvPicPr/>
          <p:nvPr/>
        </p:nvPicPr>
        <p:blipFill>
          <a:blip r:embed="rId1"/>
          <a:stretch/>
        </p:blipFill>
        <p:spPr>
          <a:xfrm>
            <a:off x="990720" y="0"/>
            <a:ext cx="1430280" cy="25909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Female Reproductive System 3"/>
          <p:cNvPicPr/>
          <p:nvPr/>
        </p:nvPicPr>
        <p:blipFill>
          <a:blip r:embed="rId2"/>
          <a:stretch/>
        </p:blipFill>
        <p:spPr>
          <a:xfrm>
            <a:off x="4191120" y="457200"/>
            <a:ext cx="2971800" cy="1806480"/>
          </a:xfrm>
          <a:prstGeom prst="rect">
            <a:avLst/>
          </a:prstGeom>
          <a:ln w="0">
            <a:noFill/>
          </a:ln>
        </p:spPr>
      </p:pic>
      <p:sp>
        <p:nvSpPr>
          <p:cNvPr id="1050" name="Line 4"/>
          <p:cNvSpPr/>
          <p:nvPr/>
        </p:nvSpPr>
        <p:spPr>
          <a:xfrm>
            <a:off x="2590920" y="1219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5"/>
          <p:cNvSpPr/>
          <p:nvPr/>
        </p:nvSpPr>
        <p:spPr>
          <a:xfrm>
            <a:off x="2670120" y="609480"/>
            <a:ext cx="14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6"/>
          <p:cNvSpPr/>
          <p:nvPr/>
        </p:nvSpPr>
        <p:spPr>
          <a:xfrm>
            <a:off x="4271400" y="2286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7"/>
          <p:cNvSpPr/>
          <p:nvPr/>
        </p:nvSpPr>
        <p:spPr>
          <a:xfrm>
            <a:off x="7315200" y="1295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8"/>
          <p:cNvSpPr/>
          <p:nvPr/>
        </p:nvSpPr>
        <p:spPr>
          <a:xfrm>
            <a:off x="7165800" y="9907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9" descr="Estradiol"/>
          <p:cNvPicPr/>
          <p:nvPr/>
        </p:nvPicPr>
        <p:blipFill>
          <a:blip r:embed="rId3"/>
          <a:stretch/>
        </p:blipFill>
        <p:spPr>
          <a:xfrm>
            <a:off x="457200" y="3352680"/>
            <a:ext cx="3429000" cy="2075040"/>
          </a:xfrm>
          <a:prstGeom prst="rect">
            <a:avLst/>
          </a:prstGeom>
          <a:ln w="0">
            <a:noFill/>
          </a:ln>
        </p:spPr>
      </p:pic>
      <p:sp>
        <p:nvSpPr>
          <p:cNvPr id="1056" name="Text Box 10"/>
          <p:cNvSpPr/>
          <p:nvPr/>
        </p:nvSpPr>
        <p:spPr>
          <a:xfrm>
            <a:off x="1663560" y="537048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1"/>
          <p:cNvSpPr/>
          <p:nvPr/>
        </p:nvSpPr>
        <p:spPr>
          <a:xfrm>
            <a:off x="3962520" y="4648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2"/>
          <p:cNvSpPr/>
          <p:nvPr/>
        </p:nvSpPr>
        <p:spPr>
          <a:xfrm>
            <a:off x="4041720" y="4038480"/>
            <a:ext cx="148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13" descr="Female body"/>
          <p:cNvPicPr/>
          <p:nvPr/>
        </p:nvPicPr>
        <p:blipFill>
          <a:blip r:embed="rId4"/>
          <a:stretch/>
        </p:blipFill>
        <p:spPr>
          <a:xfrm>
            <a:off x="6095880" y="2971800"/>
            <a:ext cx="1300320" cy="3638520"/>
          </a:xfrm>
          <a:prstGeom prst="rect">
            <a:avLst/>
          </a:prstGeom>
          <a:ln w="0">
            <a:noFill/>
          </a:ln>
        </p:spPr>
      </p:pic>
      <p:sp>
        <p:nvSpPr>
          <p:cNvPr id="10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SO…How Do We Get From…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96" name="Picture 4" descr="blastuala"/>
          <p:cNvPicPr/>
          <p:nvPr/>
        </p:nvPicPr>
        <p:blipFill>
          <a:blip r:embed="rId1"/>
          <a:stretch/>
        </p:blipFill>
        <p:spPr>
          <a:xfrm>
            <a:off x="914400" y="3124080"/>
            <a:ext cx="1981080" cy="1474920"/>
          </a:xfrm>
          <a:prstGeom prst="rect">
            <a:avLst/>
          </a:prstGeom>
          <a:ln w="0">
            <a:noFill/>
          </a:ln>
        </p:spPr>
      </p:pic>
      <p:sp>
        <p:nvSpPr>
          <p:cNvPr id="997" name="Line 5"/>
          <p:cNvSpPr/>
          <p:nvPr/>
        </p:nvSpPr>
        <p:spPr>
          <a:xfrm flipV="1">
            <a:off x="2819520" y="2438280"/>
            <a:ext cx="1523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7"/>
          <p:cNvSpPr/>
          <p:nvPr/>
        </p:nvSpPr>
        <p:spPr>
          <a:xfrm>
            <a:off x="2819520" y="3809880"/>
            <a:ext cx="1676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8" descr="Female Reproductive System 2"/>
          <p:cNvPicPr/>
          <p:nvPr/>
        </p:nvPicPr>
        <p:blipFill>
          <a:blip r:embed="rId2"/>
          <a:stretch/>
        </p:blipFill>
        <p:spPr>
          <a:xfrm>
            <a:off x="4419720" y="838080"/>
            <a:ext cx="1166760" cy="281952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9" descr="Male Reproductive System"/>
          <p:cNvPicPr/>
          <p:nvPr/>
        </p:nvPicPr>
        <p:blipFill>
          <a:blip r:embed="rId3"/>
          <a:stretch/>
        </p:blipFill>
        <p:spPr>
          <a:xfrm>
            <a:off x="4419720" y="3429000"/>
            <a:ext cx="1225440" cy="3048120"/>
          </a:xfrm>
          <a:prstGeom prst="rect">
            <a:avLst/>
          </a:prstGeom>
          <a:ln w="0">
            <a:noFill/>
          </a:ln>
        </p:spPr>
      </p:pic>
      <p:sp>
        <p:nvSpPr>
          <p:cNvPr id="1001" name="Text Box 10"/>
          <p:cNvSpPr/>
          <p:nvPr/>
        </p:nvSpPr>
        <p:spPr>
          <a:xfrm>
            <a:off x="901440" y="250344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1"/>
          <p:cNvSpPr/>
          <p:nvPr/>
        </p:nvSpPr>
        <p:spPr>
          <a:xfrm rot="19003200">
            <a:off x="2974320" y="2742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2"/>
          <p:cNvSpPr/>
          <p:nvPr/>
        </p:nvSpPr>
        <p:spPr>
          <a:xfrm rot="1708200">
            <a:off x="2896920" y="4266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3"/>
          <p:cNvSpPr/>
          <p:nvPr/>
        </p:nvSpPr>
        <p:spPr>
          <a:xfrm>
            <a:off x="3262320" y="3618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4"/>
          <p:cNvSpPr/>
          <p:nvPr/>
        </p:nvSpPr>
        <p:spPr>
          <a:xfrm>
            <a:off x="5563800" y="30830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978480" y="4608360"/>
            <a:ext cx="218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6"/>
          <p:cNvSpPr/>
          <p:nvPr/>
        </p:nvSpPr>
        <p:spPr>
          <a:xfrm>
            <a:off x="5338800" y="266688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7"/>
          <p:cNvSpPr/>
          <p:nvPr/>
        </p:nvSpPr>
        <p:spPr>
          <a:xfrm>
            <a:off x="5415120" y="525780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160" y="38858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5" descr="Y chromosome"/>
          <p:cNvPicPr/>
          <p:nvPr/>
        </p:nvPicPr>
        <p:blipFill>
          <a:blip r:embed="rId1"/>
          <a:stretch/>
        </p:blipFill>
        <p:spPr>
          <a:xfrm>
            <a:off x="2971800" y="4191120"/>
            <a:ext cx="1593720" cy="22096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9" descr="Bathrooms"/>
          <p:cNvPicPr/>
          <p:nvPr/>
        </p:nvPicPr>
        <p:blipFill>
          <a:blip r:embed="rId2"/>
          <a:stretch/>
        </p:blipFill>
        <p:spPr>
          <a:xfrm>
            <a:off x="4876920" y="1752480"/>
            <a:ext cx="3047760" cy="1898640"/>
          </a:xfrm>
          <a:prstGeom prst="rect">
            <a:avLst/>
          </a:prstGeom>
          <a:ln w="0">
            <a:noFill/>
          </a:ln>
        </p:spPr>
      </p:pic>
      <p:sp>
        <p:nvSpPr>
          <p:cNvPr id="10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71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 chromosome contains a gene known a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determin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ion on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romosome) g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0"/>
          <p:cNvSpPr/>
          <p:nvPr/>
        </p:nvSpPr>
        <p:spPr>
          <a:xfrm>
            <a:off x="1066680" y="5715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ut what about the         fa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Picture 11" descr="chromosome"/>
          <p:cNvPicPr/>
          <p:nvPr/>
        </p:nvPicPr>
        <p:blipFill>
          <a:blip r:embed="rId1"/>
          <a:stretch/>
        </p:blipFill>
        <p:spPr>
          <a:xfrm>
            <a:off x="4267080" y="5105520"/>
            <a:ext cx="974880" cy="1752480"/>
          </a:xfrm>
          <a:prstGeom prst="rect">
            <a:avLst/>
          </a:prstGeom>
          <a:ln w="0">
            <a:noFill/>
          </a:ln>
        </p:spPr>
      </p:pic>
      <p:sp>
        <p:nvSpPr>
          <p:cNvPr id="10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1294920" y="838080"/>
            <a:ext cx="6340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fetal sex organ development 2"/>
          <p:cNvPicPr/>
          <p:nvPr/>
        </p:nvPicPr>
        <p:blipFill>
          <a:blip r:embed="rId1"/>
          <a:stretch/>
        </p:blipFill>
        <p:spPr>
          <a:xfrm>
            <a:off x="1219320" y="0"/>
            <a:ext cx="6546600" cy="6858000"/>
          </a:xfrm>
          <a:prstGeom prst="rect">
            <a:avLst/>
          </a:prstGeom>
          <a:ln w="0">
            <a:noFill/>
          </a:ln>
        </p:spPr>
      </p:pic>
      <p:sp>
        <p:nvSpPr>
          <p:cNvPr id="10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24" name="Picture 4" descr="fetal sex organ development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429080"/>
          </a:xfrm>
          <a:prstGeom prst="rect">
            <a:avLst/>
          </a:prstGeom>
          <a:ln w="0">
            <a:noFill/>
          </a:ln>
        </p:spPr>
      </p:pic>
      <p:sp>
        <p:nvSpPr>
          <p:cNvPr id="10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BUT…how does this happen??</a:t>
            </a: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40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estes form they relea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 hormon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estosterone &amp; MIS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leri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ibit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male reproductive system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ducts of the female system to degen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Male Body"/>
          <p:cNvPicPr/>
          <p:nvPr/>
        </p:nvPicPr>
        <p:blipFill>
          <a:blip r:embed="rId1"/>
          <a:stretch/>
        </p:blipFill>
        <p:spPr>
          <a:xfrm>
            <a:off x="6095880" y="3505320"/>
            <a:ext cx="1347840" cy="2971800"/>
          </a:xfrm>
          <a:prstGeom prst="rect">
            <a:avLst/>
          </a:prstGeom>
          <a:ln w="0">
            <a:noFill/>
          </a:ln>
        </p:spPr>
      </p:pic>
      <p:sp>
        <p:nvSpPr>
          <p:cNvPr id="1030" name="Line 3"/>
          <p:cNvSpPr/>
          <p:nvPr/>
        </p:nvSpPr>
        <p:spPr>
          <a:xfrm>
            <a:off x="434340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Group 4"/>
          <p:cNvGrpSpPr/>
          <p:nvPr/>
        </p:nvGrpSpPr>
        <p:grpSpPr>
          <a:xfrm>
            <a:off x="990720" y="3657600"/>
            <a:ext cx="2743200" cy="2471400"/>
            <a:chOff x="990720" y="3657600"/>
            <a:chExt cx="2743200" cy="2471400"/>
          </a:xfrm>
        </p:grpSpPr>
        <p:pic>
          <p:nvPicPr>
            <p:cNvPr id="1032" name="Picture 5" descr="testosterone"/>
            <p:cNvPicPr/>
            <p:nvPr/>
          </p:nvPicPr>
          <p:blipFill>
            <a:blip r:embed="rId2"/>
            <a:stretch/>
          </p:blipFill>
          <p:spPr>
            <a:xfrm>
              <a:off x="990720" y="3657600"/>
              <a:ext cx="274320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Text Box 6"/>
            <p:cNvSpPr/>
            <p:nvPr/>
          </p:nvSpPr>
          <p:spPr>
            <a:xfrm>
              <a:off x="1831320" y="548640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stoster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 M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Group 7"/>
          <p:cNvGrpSpPr/>
          <p:nvPr/>
        </p:nvGrpSpPr>
        <p:grpSpPr>
          <a:xfrm>
            <a:off x="3278880" y="1523880"/>
            <a:ext cx="1386360" cy="642600"/>
            <a:chOff x="3278880" y="1523880"/>
            <a:chExt cx="1386360" cy="642600"/>
          </a:xfrm>
        </p:grpSpPr>
        <p:sp>
          <p:nvSpPr>
            <p:cNvPr id="1035" name="Line 8"/>
            <p:cNvSpPr/>
            <p:nvPr/>
          </p:nvSpPr>
          <p:spPr>
            <a:xfrm>
              <a:off x="3353040" y="1828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9"/>
            <p:cNvSpPr/>
            <p:nvPr/>
          </p:nvSpPr>
          <p:spPr>
            <a:xfrm>
              <a:off x="3278880" y="1523880"/>
              <a:ext cx="138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s 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mation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0"/>
          <p:cNvGrpSpPr/>
          <p:nvPr/>
        </p:nvGrpSpPr>
        <p:grpSpPr>
          <a:xfrm>
            <a:off x="6477120" y="1523880"/>
            <a:ext cx="1295280" cy="368280"/>
            <a:chOff x="6477120" y="1523880"/>
            <a:chExt cx="1295280" cy="368280"/>
          </a:xfrm>
        </p:grpSpPr>
        <p:sp>
          <p:nvSpPr>
            <p:cNvPr id="1038" name="Line 11"/>
            <p:cNvSpPr/>
            <p:nvPr/>
          </p:nvSpPr>
          <p:spPr>
            <a:xfrm>
              <a:off x="6477120" y="1828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12"/>
            <p:cNvSpPr/>
            <p:nvPr/>
          </p:nvSpPr>
          <p:spPr>
            <a:xfrm>
              <a:off x="6480000" y="152388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Text Box 13"/>
          <p:cNvSpPr/>
          <p:nvPr/>
        </p:nvSpPr>
        <p:spPr>
          <a:xfrm>
            <a:off x="4136040" y="4572000"/>
            <a:ext cx="176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14"/>
          <p:cNvGrpSpPr/>
          <p:nvPr/>
        </p:nvGrpSpPr>
        <p:grpSpPr>
          <a:xfrm>
            <a:off x="4800600" y="533520"/>
            <a:ext cx="1639800" cy="2501640"/>
            <a:chOff x="4800600" y="533520"/>
            <a:chExt cx="1639800" cy="2501640"/>
          </a:xfrm>
        </p:grpSpPr>
        <p:pic>
          <p:nvPicPr>
            <p:cNvPr id="1042" name="Picture 15" descr="testes"/>
            <p:cNvPicPr/>
            <p:nvPr/>
          </p:nvPicPr>
          <p:blipFill>
            <a:blip r:embed="rId3"/>
            <a:stretch/>
          </p:blipFill>
          <p:spPr>
            <a:xfrm>
              <a:off x="4800600" y="533520"/>
              <a:ext cx="16398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Text Box 16"/>
            <p:cNvSpPr/>
            <p:nvPr/>
          </p:nvSpPr>
          <p:spPr>
            <a:xfrm>
              <a:off x="5183280" y="266688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s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17"/>
          <p:cNvGrpSpPr/>
          <p:nvPr/>
        </p:nvGrpSpPr>
        <p:grpSpPr>
          <a:xfrm>
            <a:off x="914400" y="609480"/>
            <a:ext cx="2438280" cy="3019320"/>
            <a:chOff x="914400" y="609480"/>
            <a:chExt cx="2438280" cy="3019320"/>
          </a:xfrm>
        </p:grpSpPr>
        <p:pic>
          <p:nvPicPr>
            <p:cNvPr id="1045" name="Picture 18" descr="SRY gene 2"/>
            <p:cNvPicPr/>
            <p:nvPr/>
          </p:nvPicPr>
          <p:blipFill>
            <a:blip r:embed="rId4"/>
            <a:stretch/>
          </p:blipFill>
          <p:spPr>
            <a:xfrm>
              <a:off x="914400" y="609480"/>
              <a:ext cx="243828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Text Box 19"/>
            <p:cNvSpPr/>
            <p:nvPr/>
          </p:nvSpPr>
          <p:spPr>
            <a:xfrm>
              <a:off x="1145520" y="3048120"/>
              <a:ext cx="178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RY gene on th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 Chromoso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19:32:50Z</dcterms:created>
  <dc:creator>John Bojnowski</dc:creator>
  <dc:description/>
  <dc:language>en-US</dc:language>
  <cp:lastModifiedBy>LEGION2</cp:lastModifiedBy>
  <dcterms:modified xsi:type="dcterms:W3CDTF">2016-01-12T12:30:56Z</dcterms:modified>
  <cp:revision>8</cp:revision>
  <dc:subject/>
  <dc:title>Slide 1</dc:title>
</cp:coreProperties>
</file>