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03F6-1CCD-42F2-8B22-77913D98B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s in Bio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different form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costs/benefits of each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eek we’ll discuss 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ion - how sexually reproducing organisms 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separate sexes.  Specifically, as it applies to us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s in Bio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different form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costs/benefits of each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eek we’ll discuss 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ion - how sexually reproducing organisms 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separate sexes.  Specifically, as it applies to us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How Do We Get Fr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How Do We Get Fr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chromosome contains a gene known as the SRY (sex determining region on the Y chromosome)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       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chromosome contains a gene known as the SRY (sex determining region on the Y chromosome)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       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how does this happen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estes form they release 2 hormones - testosterone &amp; MIS (mullerian inhibiting sub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osterone causes the male reproductive system to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 causes the ducts of the female system to 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how does this happen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estes form they release 2 hormones - testosterone &amp; MIS (mullerian inhibiting sub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osterone causes the male reproductive system to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 causes the ducts of the female system to 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BCB-9921-4116-8671-4D2355CF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AEE-D5C7-4954-81F7-D3323708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FDD79-4C01-4758-9BCE-915B3156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AD6F9-55CF-4EB3-ABB1-D2EB7092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A574C-9D4A-470A-BD37-AFD1D354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418C7A-7694-49D7-9461-2919AFA3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C05C8-5B39-4C94-BD5B-88981DEA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B65B4-45AD-4CA7-ABD1-CAC2BEB0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4ACF4-CE3F-4561-8620-701CAB53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B144B-F915-43BB-84BD-464D6158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9F70A-EDC9-4AF7-A0AC-E2A7AD64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E39F4-2516-4955-BCB9-41A38862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4821-92D7-430C-B975-70ADB678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9D9AD-93BA-4361-8EE9-E37BED77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A616C-C7FF-4541-B51B-C1056F74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E7847-B59B-4670-B172-70429953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BD692-7918-49FC-BFDF-E3348921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6BCEF-FA85-4558-8F86-0BCF97E2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597CE-C4F4-4204-BD5E-7A122053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45E62-7299-4FC5-91E1-268C8722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C1961-C3CB-48FD-A4C2-B3941F92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6C58F-F29F-40A8-BE60-C1CB4440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0B558-21B0-454D-8510-CCC730DA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C3A-067A-446B-9214-88A53686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E2C8C-0AD5-40A7-93D7-D8718DA4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31865-B418-4C14-A28D-21B8B689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3A7C1-D161-47A4-87B4-811BDBC2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D0925-3543-4FC0-9100-29D5E9F3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DDF42-51F3-4792-AED0-9A46D66B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E2144-EB16-4E7D-895A-1E4C48E3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049D0-AA44-4B4B-BF58-0DD3F331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5AC2C-D87E-48D0-A3AB-EEE565A7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A55F8-BBBD-4046-8BC9-3BF4A530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9BF44-FF6F-4933-9F82-EDEF8C8F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36185-1160-4D19-AF59-B1568A4E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F8347-D1E5-4362-8D61-1B49BD5D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05BAC-8284-44DF-9AEB-F1B0BCA5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CCE9B9-49A3-404F-9407-D411EA2B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C3399-00CF-43AA-864A-8A392930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DEB0A-2848-4C7D-AEAB-070790E6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B329C-AB8D-47F2-9F8A-67211E14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F7D1B-0CE7-4356-A775-0CBCC8D2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77270-1793-40B8-A4DF-107FC422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1CA3C-7572-4FA1-A549-62262837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9F128-20BD-4987-B0E4-7C7EE75C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914C-B4DD-4D31-AAD6-D935D7F0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2765C-0300-4C05-B666-8E7346B6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482A8-43C9-4070-B954-7DBEDA78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EE57E-A249-4E53-988C-8939AABF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5CCA8-9639-4AED-8114-50A8C192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158E4-5D6B-4590-BC87-4975ECDB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8DDC0B-8B21-4BB3-9AF5-A5BDAC1BC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CBA0C9-3957-4FB4-811B-42D7423F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F2329-59DB-4741-850B-34A8A72F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0835D-2CCF-4FA9-A68D-6251733E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F14FC-6BBA-460E-8369-18EC97EF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77C5-C31C-4139-9158-41C50449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8B327-49CA-4D6F-95BE-74FFD100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F2C313-1E42-4C26-92C7-0AAEDA8E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13221-552B-4A2B-8EC1-09D15FB3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0D596-D1BC-4F5E-AF95-3C53C2B6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2E923-85B1-47B5-AF05-9E6B9FF6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F2137-DF85-41BA-A0FC-DACC0BD6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85BE38-F569-4B17-B71B-8F4672C30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F21F2-2B31-409B-B6BF-0236C9E1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36BBEF-24BF-4814-B2CC-8D8A2ED9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9CFDC7-84DD-4219-86BB-2C559F07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624F-AD1E-4F98-8D35-C86FD651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4BEB5F-A89F-4EB5-AD31-A0F28932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FAECD-4A83-4F31-9B76-60B1CB0B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04C873-B889-4B0C-B068-F7DA5317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9631B7-26C0-4C54-AF12-9FA15C50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4AF848-9B19-4889-B865-15FB6D83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3CB903-86A0-4D01-B64B-8BEA9C2A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A0CC5E-7C54-4258-B13F-63DBC66A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57DF09-3603-45C6-ABA8-B5C1FA81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331AE1-ED46-4580-A8C4-676F4E1C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A880F4-55FE-4182-B300-B5CE2711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D90A-A25E-4386-BE2A-4233FB36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01CCDA-AD99-4303-8FF8-5AEA5F89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5BDC2C-651E-4417-9350-02BACA18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B93020-B555-419F-86A5-4FAB564C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F9F576-0DA0-44E5-A3B3-F5BB1341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BE4B91-B463-4339-96DB-6582604A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9080DA-10D9-4DBC-A759-5BB8BC16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85D03D-A2A4-40F2-9512-17B488C5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49D7AE-A32B-45A1-B550-2C167DEC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B7DC40-49C8-431B-B55D-157AC610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F5FDBD-ADFD-4E01-A09E-8A644DC4E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C149-8CB6-45CD-A97F-E84ED53A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56B94E-CC84-406D-A965-385EE208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BA53F3-F1C6-4347-81D7-A00A8CD1A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05124F-0AD6-4B5A-8891-A827F76B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4A8358-9AA2-471D-A411-D3171523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3E0BE3-F003-484C-B011-112027E7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5EE367-7FB7-4AD0-9188-467B87BB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846795-F58A-468A-BA0C-A7BCFF0D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E6D024-1A41-4D6D-8CA8-9F086F58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FA3E80-F354-4734-8B00-DC9258A3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13A712-86C1-4FCD-9485-3CC84FA1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B228-D111-468F-8C54-17C78B5D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A4E269-C59F-442D-84BF-AF9BA026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C84170-BF21-49D4-96B3-5314BC038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40329F-89A5-44D3-A017-E3604A83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C035F0-689F-459C-A45B-CA032A81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DA0A03-2217-4005-A75A-352F05E4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336594-8566-4D98-ADE5-5569EF07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66D2A4-1CE1-4C2C-AB22-76113B17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441E98-9227-4B9B-BEC2-3C7F8EDD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F349E1-42DB-4114-B5EC-73E0E10F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BC9E31-B163-413B-82CF-47468ACD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04E-5527-4B9A-9C7C-41E237F3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B7B9-CF35-486A-853D-11A9BB5F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3870DB-8CEC-4834-9BB2-90E98E81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9E8A66-F711-4D55-9D55-D60ED487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B37168-65DF-40BA-97A9-483B330C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3E0D7D-2DAE-4848-8F65-A09F3A0E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0683C2-677C-42C1-BE38-1C8E8AE9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C2DA50-DC0C-4E3C-AC4B-D1D4EDC3D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D04E9-D023-4515-AD67-2FB58E81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823998-7EE3-4A40-8388-23300915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0BD27F-0A1E-4337-9BD0-AB6244A3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62DAFB-C6E9-433F-826C-798D8DD5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6B28-DDCC-437A-B02B-1961571D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2D798C-1428-403E-9983-C566638C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1CBD67-DFDE-44BB-99AA-3BEE648D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681CE1-ECC2-4948-9FFB-0472F0BF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D9BB60-20B6-467E-A380-B1C2CBD5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8EAB46-8634-468C-9A50-67572361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F8B30E-A977-4D18-8A98-CAEC784D9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D2DD64-7FE2-4A54-9725-C59F5984D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FBFC84-C7BF-4ED8-BD81-0F29CA5F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EAC2F6-D322-4337-8632-03B66FBB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774C3A-3287-45FC-9C4B-CB72DB3D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0D77-B080-4F68-855F-4FC83B0E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70B80E-96DD-4F18-8F5F-F80B660A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B82D42-6287-4C42-BFF8-EEBA79BB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630459-829B-4A83-AA8F-E56BB5A5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2C3624-C154-4DA7-854D-85D3A526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3298E6-A9E8-408B-AF23-E9B2E51D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46113B-C827-44C5-AE43-71463274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971018-FF12-44BA-96C9-8807AB36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987E11-559B-4DB0-AC99-7D3457007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6F01F0-6644-4528-94F9-90A55B1F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3F4064-9BAE-4DC3-BF03-A37E2F09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22C7-A386-4CDF-856A-7689A40F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E9268E-7E47-40F5-B9D1-83D80153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496785-DF9F-42BB-B847-8187734E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4BC9C2-9210-4F3D-8574-AC3B5BCC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56FD7D-61C6-44F4-94C6-CA701124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2FD742-F299-4048-B148-466DA379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44F831-4CE8-4A6D-B18E-85641D28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8F76DF-47D7-43DB-A16C-0A5DBC25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8B6367-B4C7-4C8D-AD56-3CD7B5CA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BEDE73-2A0B-4E5A-A24F-7668D324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FF7F2A-BF25-4436-BAE9-137BC694A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A1EA-CEAA-4A35-943B-77232D89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9590DF-C955-4BB1-9CFD-C2E4B4B1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2FD365-AA93-4BA1-817E-89D85836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57022D-F448-43CA-BAD1-36658F34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C2BF0F-7001-42D2-B865-6F81FB45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D16576-1A46-43C0-A043-2AE094B7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3B8230-1027-4248-BA04-82A70A55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56C0D6-0FA2-448B-B848-EBF1C99E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13F32E-68C5-4DD8-8D9D-420BABAE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DE56C9-BAB1-4751-8FE8-56F059E2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F31B33-2FEB-426B-A6DD-4D40BD3D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B7DA4-004B-4913-A8FD-4003410B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87AA68-B6FF-43EA-880A-2E097AAB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2EF3BA-E9D8-47B8-85F8-A986AE79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1F8138-BEAF-41E5-8D9E-7D8FFECE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19A575-3B5A-4BBA-9CEC-7E517594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52828D-8D97-4182-A7A0-4ADEB2F9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05721A-BFE3-45DD-935E-A4656BB5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1A8FB7-9D29-49FC-90D5-FE648F11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B77694-F5E3-4191-97FF-47C46E65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B8133C-0224-47A7-9486-601FE357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0FCAD7-D0CD-4D5B-96FD-9E80BD50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B89C3-C2BF-43C3-9DF6-5C9B2022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6A8CFF-7515-4BB2-A8F9-66F136E5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8B0981-44FD-49C7-A2AA-158DFC7B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CBB6EB-3F31-4B95-A8F1-F0211FA1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89C082-F97C-4C09-B9D4-5E6F2080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88229D-1E96-45C4-B93F-2C68BDDE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AAC134-8C2F-4714-B4C7-8555DFDE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8A0FAE-2811-4081-B58D-52A9E091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9CA933-278A-4C54-89BC-55DAF791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9032BA-5AF4-4C9F-B139-52A65162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36F356-B222-4CEF-BB47-D2332351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F5CB3-AE76-4728-9BA8-6824CE92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8D47E9-3856-4845-9F20-B81676AD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2AC885-F8A5-4353-A82C-53A55FA0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3F9B38-B78A-4A8B-917A-D0BB9C6F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8513C0-A9FC-45BB-A4FF-59F4936F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FDFA7C-4B47-487F-86D0-B3733E73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E1FF73-60DA-42B7-8F7D-87DBDC913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C0CA5E-4EE6-4E28-9A28-EB55B8010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43150E-90D1-45DB-8C71-274BCE6A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E901AE-6367-4318-BF27-42F934C4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6999BB-A5D0-4779-8F6F-27E27417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B0141-3745-4092-8188-FD2C8BDF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9F8C50-AD26-44EB-8051-DDB600B9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F2A1BD-B32F-48CD-A508-BE6CCA69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8CF68A-4D0B-41CB-9B2E-078AFD90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3F8E13-48B0-4EDA-957F-0AF6CF83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9B7000-AB3F-40A8-95D5-3AADD0DA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D4DA31-1EE7-4895-B284-E7D794E2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349E6A-B6BB-4DC8-BC82-C300585B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787F5E-1507-48CA-8FB1-A3F123A1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925E782-3BCC-4645-BD6E-4D410A27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B30E2-78A4-4273-991D-772D2E9D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902-08A1-4BF0-8F42-F5ECE959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5851C-F374-4D09-BDAD-E2A58321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31865-831D-478D-8F09-F431B827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3C078-CB31-4CE7-BDB0-0CD97D30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4F0BB-AAC6-4040-9937-1C13B2D6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5672F-34E5-4F91-831A-88B42E7F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C96A7-94E4-4654-A187-4CF90FDFE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5A512-0E01-4239-A9F5-EC57D6D5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A53A4-6225-4B99-8B19-22C1F85E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5A586-00EE-452F-817F-4E8054B0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555DB-663C-4E11-8580-D393E092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86E3-E0F1-4D27-A659-562F08E1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16BCE-83C1-47F2-B0ED-53A983D2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F46F6-1675-45DA-93F2-937881B82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EAF86-F693-4AFB-A80B-D91D13C1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8F611-DDA0-4E3B-8860-7569E57D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C42B2-3CF1-451D-9DC1-E1411E7A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5C10F-ABED-4F43-A8FC-39D17416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D94E6-BE3C-4FEF-88CD-19BDCFD8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ADC2E-BA58-49B9-BC64-1F53B1D9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CA5A5-7994-4FBD-813F-11851B2E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37EED-26DF-42BA-8CD9-4D2970B9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13A5-4DE4-43B2-B6B7-2632331D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D8B3C-E68C-40AE-BCA1-CCBC4487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E6972-7F4A-4218-B66D-28E79DA7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CEFE8-0963-461A-A36F-FFCDFC7B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DC344-DD04-49DF-B47E-DDAC2600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8DF28-CD36-427E-9971-3ED8B348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B22A5-A279-4CA1-8CFB-77A38039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CD6F1-CC63-4E7B-932B-E96AD166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C69FF-2A3D-49FC-882A-D1448348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084C1-4C96-4998-BE23-4429AE18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FFEFC-A80E-4B6F-A249-9F802FCCA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62C-B6D6-422B-9F49-050D064D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39431-1FF1-4860-8BB7-72A132ED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A2F07-8C8E-46E7-9576-90618DA9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63BB1-1CBC-450F-A4E5-E88A4BF3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9773A-7989-46AF-B4DE-3865C1CD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478C6-82E7-4C83-8831-875816A6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EBBFE-6B13-48EB-A20A-ECBA03B4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7B831-4CD1-47C0-A5BC-A7E88E58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80E54-CB51-4361-8398-0AA02913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18F3D-65F4-4CDE-92DD-A5E68484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DC7C5-0888-4F56-860B-F200CE53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841F-8A92-4A0D-9A67-4CBBCC31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ADDBE-28E9-4EEC-B930-69475138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1C239-5BB4-400E-817B-249E7F92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FA01A-B5E2-4F55-B9A1-548B92F3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39C81-BC76-4A5D-8ABA-7C371FAE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ABD0B-0E12-4167-9FF5-1C38CA21F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8CB3C-9893-4F31-B438-6A931C07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52CAA-6D6A-40F3-85F0-55377DDE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E6961-4A97-48B8-AB04-4E078B47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DE29D-80E2-488A-95D1-94D06315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80C2C-0086-4F54-95B7-8D9F449A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3E3D-C389-42F0-B296-BBACCFA0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D50F5-1145-4931-8FF3-919EA6E3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E795C-3B55-4447-AD8A-446A0455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84D90-C32A-4707-BEDE-A0DDF0E9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016D7-03C7-4CAA-8B5B-E8D34676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EEB0D-40D0-4026-BBC4-6BFB4202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2AEA7-E4BA-47FD-9386-B18C1EC1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23827-7380-4D1F-A529-98058083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D3935-8673-4E63-9D0D-668BE762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494DB-1F8D-4690-9671-B2EF4DC9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2612C-35D6-499D-A64C-F13B149E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4C9F-891B-4EAA-B10E-80497732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42FC9-E144-4836-9AA7-134787F7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06FDC-4217-4042-BB19-66103E4F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7E993-A577-43CE-A3B8-329B237B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5EDAB-18F1-4077-9497-521571AB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B7C39-AD34-407C-A04D-F2A16BCC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A05D1-2526-4F3D-81BF-AC693566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D252F-5371-46AD-9F75-526CE596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62957-C383-42F5-BCE2-E946FBF7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B2F22-79B5-4EEE-98A9-C70EB750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67E57-2AD3-423C-A385-A59E6907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360B-4E2F-4113-A442-4A6CAD29E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C3F4-10F6-456B-B97F-84D05DC418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DD70-5C14-4F9D-9E83-843BAFC4EC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828440" y="297180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23A9-7D68-4C14-B327-7F5467C25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3712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6800-CC86-4EBA-8639-33313F52C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1F78-CE3B-43C9-AF67-A686256424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1432-DECD-4FD8-913D-482520A829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FE49-D8DB-459E-A37E-7825B88AE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F17D-3EC4-4294-A25A-4E145BF34F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BF09-510B-4A13-A75D-F08E43BC9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4687-DEFE-44E3-BAA2-CA438A2F2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323B-428A-4412-8FC7-8E49ED45C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2B55-7D4B-4BE5-8149-F509C1521E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87EF-05F6-403C-84FC-D1F8734A7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0720-2132-4048-AE24-846DD542EC4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61E5-6AD0-4EF2-B465-2CC71E92B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E8CC-165D-4BC2-A61B-3AE4A8FF6E1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DDAD-2106-4DB6-9814-8C381D36C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555C-E3BE-4C37-BE81-04519F78C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F337-3379-4D19-B658-9060237C7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E7E5E-23D2-4C78-89E6-539AEDE17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CB89-FCF2-4F75-9BA2-06ADA8A48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B085-33AC-4F61-B065-2280756CC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7985-8B33-4D30-8DEB-18A23F208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205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0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0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WordArt 4"/>
          <p:cNvSpPr txBox="1"/>
          <p:nvPr/>
        </p:nvSpPr>
        <p:spPr>
          <a:xfrm>
            <a:off x="2286000" y="762120"/>
            <a:ext cx="563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dventures in Biology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92" name="Text Box 5"/>
          <p:cNvSpPr/>
          <p:nvPr/>
        </p:nvSpPr>
        <p:spPr>
          <a:xfrm>
            <a:off x="914400" y="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990720" y="190512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We discussed the different forms of Reproduc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We discussed the costs/benefits of each for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roadway"/>
              </a:rPr>
              <a:t>This week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we’ll discuss </a:t>
            </a: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sexual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differentiation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- how sexually reproducing organisms develop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nto separate sexes.  Specifically, as it applies to us huma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4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2" descr="XX genotype"/>
          <p:cNvPicPr/>
          <p:nvPr/>
        </p:nvPicPr>
        <p:blipFill>
          <a:blip r:embed="rId1"/>
          <a:stretch/>
        </p:blipFill>
        <p:spPr>
          <a:xfrm>
            <a:off x="990720" y="0"/>
            <a:ext cx="1430280" cy="25909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Female Reproductive System 3"/>
          <p:cNvPicPr/>
          <p:nvPr/>
        </p:nvPicPr>
        <p:blipFill>
          <a:blip r:embed="rId2"/>
          <a:stretch/>
        </p:blipFill>
        <p:spPr>
          <a:xfrm>
            <a:off x="4191120" y="457200"/>
            <a:ext cx="2971800" cy="1806480"/>
          </a:xfrm>
          <a:prstGeom prst="rect">
            <a:avLst/>
          </a:prstGeom>
          <a:ln w="0">
            <a:noFill/>
          </a:ln>
        </p:spPr>
      </p:pic>
      <p:sp>
        <p:nvSpPr>
          <p:cNvPr id="1050" name="Line 4"/>
          <p:cNvSpPr/>
          <p:nvPr/>
        </p:nvSpPr>
        <p:spPr>
          <a:xfrm>
            <a:off x="2590920" y="1219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5"/>
          <p:cNvSpPr/>
          <p:nvPr/>
        </p:nvSpPr>
        <p:spPr>
          <a:xfrm>
            <a:off x="2670120" y="609480"/>
            <a:ext cx="14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6"/>
          <p:cNvSpPr/>
          <p:nvPr/>
        </p:nvSpPr>
        <p:spPr>
          <a:xfrm>
            <a:off x="4271400" y="2286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7"/>
          <p:cNvSpPr/>
          <p:nvPr/>
        </p:nvSpPr>
        <p:spPr>
          <a:xfrm>
            <a:off x="7315200" y="1295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8"/>
          <p:cNvSpPr/>
          <p:nvPr/>
        </p:nvSpPr>
        <p:spPr>
          <a:xfrm>
            <a:off x="7165800" y="9907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9" descr="Estradiol"/>
          <p:cNvPicPr/>
          <p:nvPr/>
        </p:nvPicPr>
        <p:blipFill>
          <a:blip r:embed="rId3"/>
          <a:stretch/>
        </p:blipFill>
        <p:spPr>
          <a:xfrm>
            <a:off x="457200" y="3352680"/>
            <a:ext cx="3429000" cy="2075040"/>
          </a:xfrm>
          <a:prstGeom prst="rect">
            <a:avLst/>
          </a:prstGeom>
          <a:ln w="0">
            <a:noFill/>
          </a:ln>
        </p:spPr>
      </p:pic>
      <p:sp>
        <p:nvSpPr>
          <p:cNvPr id="1056" name="Text Box 10"/>
          <p:cNvSpPr/>
          <p:nvPr/>
        </p:nvSpPr>
        <p:spPr>
          <a:xfrm>
            <a:off x="1663560" y="537048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11"/>
          <p:cNvSpPr/>
          <p:nvPr/>
        </p:nvSpPr>
        <p:spPr>
          <a:xfrm>
            <a:off x="3962520" y="4648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2"/>
          <p:cNvSpPr/>
          <p:nvPr/>
        </p:nvSpPr>
        <p:spPr>
          <a:xfrm>
            <a:off x="4041720" y="4038480"/>
            <a:ext cx="148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13" descr="Female body"/>
          <p:cNvPicPr/>
          <p:nvPr/>
        </p:nvPicPr>
        <p:blipFill>
          <a:blip r:embed="rId4"/>
          <a:stretch/>
        </p:blipFill>
        <p:spPr>
          <a:xfrm>
            <a:off x="6095880" y="2971800"/>
            <a:ext cx="1300320" cy="3638520"/>
          </a:xfrm>
          <a:prstGeom prst="rect">
            <a:avLst/>
          </a:prstGeom>
          <a:ln w="0">
            <a:noFill/>
          </a:ln>
        </p:spPr>
      </p:pic>
      <p:sp>
        <p:nvSpPr>
          <p:cNvPr id="10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SO…How Do We Get From…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96" name="Picture 4" descr="blastuala"/>
          <p:cNvPicPr/>
          <p:nvPr/>
        </p:nvPicPr>
        <p:blipFill>
          <a:blip r:embed="rId1"/>
          <a:stretch/>
        </p:blipFill>
        <p:spPr>
          <a:xfrm>
            <a:off x="914400" y="3124080"/>
            <a:ext cx="1981080" cy="1474920"/>
          </a:xfrm>
          <a:prstGeom prst="rect">
            <a:avLst/>
          </a:prstGeom>
          <a:ln w="0">
            <a:noFill/>
          </a:ln>
        </p:spPr>
      </p:pic>
      <p:sp>
        <p:nvSpPr>
          <p:cNvPr id="997" name="Line 5"/>
          <p:cNvSpPr/>
          <p:nvPr/>
        </p:nvSpPr>
        <p:spPr>
          <a:xfrm flipV="1">
            <a:off x="2819520" y="2438280"/>
            <a:ext cx="1523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7"/>
          <p:cNvSpPr/>
          <p:nvPr/>
        </p:nvSpPr>
        <p:spPr>
          <a:xfrm>
            <a:off x="2819520" y="3809880"/>
            <a:ext cx="1676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8" descr="Female Reproductive System 2"/>
          <p:cNvPicPr/>
          <p:nvPr/>
        </p:nvPicPr>
        <p:blipFill>
          <a:blip r:embed="rId2"/>
          <a:stretch/>
        </p:blipFill>
        <p:spPr>
          <a:xfrm>
            <a:off x="4419720" y="838080"/>
            <a:ext cx="1166760" cy="281952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9" descr="Male Reproductive System"/>
          <p:cNvPicPr/>
          <p:nvPr/>
        </p:nvPicPr>
        <p:blipFill>
          <a:blip r:embed="rId3"/>
          <a:stretch/>
        </p:blipFill>
        <p:spPr>
          <a:xfrm>
            <a:off x="4419720" y="3429000"/>
            <a:ext cx="1225440" cy="3048120"/>
          </a:xfrm>
          <a:prstGeom prst="rect">
            <a:avLst/>
          </a:prstGeom>
          <a:ln w="0">
            <a:noFill/>
          </a:ln>
        </p:spPr>
      </p:pic>
      <p:sp>
        <p:nvSpPr>
          <p:cNvPr id="1001" name="Text Box 10"/>
          <p:cNvSpPr/>
          <p:nvPr/>
        </p:nvSpPr>
        <p:spPr>
          <a:xfrm>
            <a:off x="901440" y="250344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1"/>
          <p:cNvSpPr/>
          <p:nvPr/>
        </p:nvSpPr>
        <p:spPr>
          <a:xfrm rot="19003200">
            <a:off x="2974320" y="2742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12"/>
          <p:cNvSpPr/>
          <p:nvPr/>
        </p:nvSpPr>
        <p:spPr>
          <a:xfrm rot="1708200">
            <a:off x="2896920" y="4266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3"/>
          <p:cNvSpPr/>
          <p:nvPr/>
        </p:nvSpPr>
        <p:spPr>
          <a:xfrm>
            <a:off x="3262320" y="3618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4"/>
          <p:cNvSpPr/>
          <p:nvPr/>
        </p:nvSpPr>
        <p:spPr>
          <a:xfrm>
            <a:off x="5563800" y="30830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5"/>
          <p:cNvSpPr/>
          <p:nvPr/>
        </p:nvSpPr>
        <p:spPr>
          <a:xfrm>
            <a:off x="978480" y="4608360"/>
            <a:ext cx="218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6"/>
          <p:cNvSpPr/>
          <p:nvPr/>
        </p:nvSpPr>
        <p:spPr>
          <a:xfrm>
            <a:off x="5338800" y="266688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7"/>
          <p:cNvSpPr/>
          <p:nvPr/>
        </p:nvSpPr>
        <p:spPr>
          <a:xfrm>
            <a:off x="5415120" y="525780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160" y="38858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5" descr="Y chromosome"/>
          <p:cNvPicPr/>
          <p:nvPr/>
        </p:nvPicPr>
        <p:blipFill>
          <a:blip r:embed="rId1"/>
          <a:stretch/>
        </p:blipFill>
        <p:spPr>
          <a:xfrm>
            <a:off x="2971800" y="4191120"/>
            <a:ext cx="1593720" cy="22096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9" descr="Bathrooms"/>
          <p:cNvPicPr/>
          <p:nvPr/>
        </p:nvPicPr>
        <p:blipFill>
          <a:blip r:embed="rId2"/>
          <a:stretch/>
        </p:blipFill>
        <p:spPr>
          <a:xfrm>
            <a:off x="4876920" y="1752480"/>
            <a:ext cx="3047760" cy="1898640"/>
          </a:xfrm>
          <a:prstGeom prst="rect">
            <a:avLst/>
          </a:prstGeom>
          <a:ln w="0">
            <a:noFill/>
          </a:ln>
        </p:spPr>
      </p:pic>
      <p:sp>
        <p:nvSpPr>
          <p:cNvPr id="10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71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 chromosome contains a gene known a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determin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ion on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romosome) g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0"/>
          <p:cNvSpPr/>
          <p:nvPr/>
        </p:nvSpPr>
        <p:spPr>
          <a:xfrm>
            <a:off x="1066680" y="5715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ut what about the         fa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Picture 11" descr="chromosome"/>
          <p:cNvPicPr/>
          <p:nvPr/>
        </p:nvPicPr>
        <p:blipFill>
          <a:blip r:embed="rId1"/>
          <a:stretch/>
        </p:blipFill>
        <p:spPr>
          <a:xfrm>
            <a:off x="4267080" y="5105520"/>
            <a:ext cx="974880" cy="1752480"/>
          </a:xfrm>
          <a:prstGeom prst="rect">
            <a:avLst/>
          </a:prstGeom>
          <a:ln w="0">
            <a:noFill/>
          </a:ln>
        </p:spPr>
      </p:pic>
      <p:sp>
        <p:nvSpPr>
          <p:cNvPr id="10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1294920" y="838080"/>
            <a:ext cx="6340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fetal sex organ development 2"/>
          <p:cNvPicPr/>
          <p:nvPr/>
        </p:nvPicPr>
        <p:blipFill>
          <a:blip r:embed="rId1"/>
          <a:stretch/>
        </p:blipFill>
        <p:spPr>
          <a:xfrm>
            <a:off x="1219320" y="0"/>
            <a:ext cx="6546600" cy="6858000"/>
          </a:xfrm>
          <a:prstGeom prst="rect">
            <a:avLst/>
          </a:prstGeom>
          <a:ln w="0">
            <a:noFill/>
          </a:ln>
        </p:spPr>
      </p:pic>
      <p:sp>
        <p:nvSpPr>
          <p:cNvPr id="10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24" name="Picture 4" descr="fetal sex organ development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429080"/>
          </a:xfrm>
          <a:prstGeom prst="rect">
            <a:avLst/>
          </a:prstGeom>
          <a:ln w="0">
            <a:noFill/>
          </a:ln>
        </p:spPr>
      </p:pic>
      <p:sp>
        <p:nvSpPr>
          <p:cNvPr id="10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BUT…how does this happen??</a:t>
            </a: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407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estes form they relea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 hormon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estosterone &amp; MIS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leri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ibit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male reproductive system to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ducts of the female system to degen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Male Body"/>
          <p:cNvPicPr/>
          <p:nvPr/>
        </p:nvPicPr>
        <p:blipFill>
          <a:blip r:embed="rId1"/>
          <a:stretch/>
        </p:blipFill>
        <p:spPr>
          <a:xfrm>
            <a:off x="6095880" y="3505320"/>
            <a:ext cx="1347840" cy="2971800"/>
          </a:xfrm>
          <a:prstGeom prst="rect">
            <a:avLst/>
          </a:prstGeom>
          <a:ln w="0">
            <a:noFill/>
          </a:ln>
        </p:spPr>
      </p:pic>
      <p:sp>
        <p:nvSpPr>
          <p:cNvPr id="1030" name="Line 3"/>
          <p:cNvSpPr/>
          <p:nvPr/>
        </p:nvSpPr>
        <p:spPr>
          <a:xfrm>
            <a:off x="434340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Group 4"/>
          <p:cNvGrpSpPr/>
          <p:nvPr/>
        </p:nvGrpSpPr>
        <p:grpSpPr>
          <a:xfrm>
            <a:off x="990720" y="3657600"/>
            <a:ext cx="2743200" cy="2471400"/>
            <a:chOff x="990720" y="3657600"/>
            <a:chExt cx="2743200" cy="2471400"/>
          </a:xfrm>
        </p:grpSpPr>
        <p:pic>
          <p:nvPicPr>
            <p:cNvPr id="1032" name="Picture 5" descr="testosterone"/>
            <p:cNvPicPr/>
            <p:nvPr/>
          </p:nvPicPr>
          <p:blipFill>
            <a:blip r:embed="rId2"/>
            <a:stretch/>
          </p:blipFill>
          <p:spPr>
            <a:xfrm>
              <a:off x="990720" y="3657600"/>
              <a:ext cx="274320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3" name="Text Box 6"/>
            <p:cNvSpPr/>
            <p:nvPr/>
          </p:nvSpPr>
          <p:spPr>
            <a:xfrm>
              <a:off x="1831320" y="548640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stoster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 M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Group 7"/>
          <p:cNvGrpSpPr/>
          <p:nvPr/>
        </p:nvGrpSpPr>
        <p:grpSpPr>
          <a:xfrm>
            <a:off x="3278880" y="1523880"/>
            <a:ext cx="1386360" cy="642600"/>
            <a:chOff x="3278880" y="1523880"/>
            <a:chExt cx="1386360" cy="642600"/>
          </a:xfrm>
        </p:grpSpPr>
        <p:sp>
          <p:nvSpPr>
            <p:cNvPr id="1035" name="Line 8"/>
            <p:cNvSpPr/>
            <p:nvPr/>
          </p:nvSpPr>
          <p:spPr>
            <a:xfrm>
              <a:off x="3353040" y="1828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 Box 9"/>
            <p:cNvSpPr/>
            <p:nvPr/>
          </p:nvSpPr>
          <p:spPr>
            <a:xfrm>
              <a:off x="3278880" y="1523880"/>
              <a:ext cx="138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s 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mation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0"/>
          <p:cNvGrpSpPr/>
          <p:nvPr/>
        </p:nvGrpSpPr>
        <p:grpSpPr>
          <a:xfrm>
            <a:off x="6477120" y="1523880"/>
            <a:ext cx="1295280" cy="368280"/>
            <a:chOff x="6477120" y="1523880"/>
            <a:chExt cx="1295280" cy="368280"/>
          </a:xfrm>
        </p:grpSpPr>
        <p:sp>
          <p:nvSpPr>
            <p:cNvPr id="1038" name="Line 11"/>
            <p:cNvSpPr/>
            <p:nvPr/>
          </p:nvSpPr>
          <p:spPr>
            <a:xfrm>
              <a:off x="6477120" y="1828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 Box 12"/>
            <p:cNvSpPr/>
            <p:nvPr/>
          </p:nvSpPr>
          <p:spPr>
            <a:xfrm>
              <a:off x="6480000" y="152388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Text Box 13"/>
          <p:cNvSpPr/>
          <p:nvPr/>
        </p:nvSpPr>
        <p:spPr>
          <a:xfrm>
            <a:off x="4136040" y="4572000"/>
            <a:ext cx="176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14"/>
          <p:cNvGrpSpPr/>
          <p:nvPr/>
        </p:nvGrpSpPr>
        <p:grpSpPr>
          <a:xfrm>
            <a:off x="4800600" y="533520"/>
            <a:ext cx="1639800" cy="2501640"/>
            <a:chOff x="4800600" y="533520"/>
            <a:chExt cx="1639800" cy="2501640"/>
          </a:xfrm>
        </p:grpSpPr>
        <p:pic>
          <p:nvPicPr>
            <p:cNvPr id="1042" name="Picture 15" descr="testes"/>
            <p:cNvPicPr/>
            <p:nvPr/>
          </p:nvPicPr>
          <p:blipFill>
            <a:blip r:embed="rId3"/>
            <a:stretch/>
          </p:blipFill>
          <p:spPr>
            <a:xfrm>
              <a:off x="4800600" y="533520"/>
              <a:ext cx="16398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Text Box 16"/>
            <p:cNvSpPr/>
            <p:nvPr/>
          </p:nvSpPr>
          <p:spPr>
            <a:xfrm>
              <a:off x="5183280" y="266688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s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17"/>
          <p:cNvGrpSpPr/>
          <p:nvPr/>
        </p:nvGrpSpPr>
        <p:grpSpPr>
          <a:xfrm>
            <a:off x="914400" y="609480"/>
            <a:ext cx="2438280" cy="3019320"/>
            <a:chOff x="914400" y="609480"/>
            <a:chExt cx="2438280" cy="3019320"/>
          </a:xfrm>
        </p:grpSpPr>
        <p:pic>
          <p:nvPicPr>
            <p:cNvPr id="1045" name="Picture 18" descr="SRY gene 2"/>
            <p:cNvPicPr/>
            <p:nvPr/>
          </p:nvPicPr>
          <p:blipFill>
            <a:blip r:embed="rId4"/>
            <a:stretch/>
          </p:blipFill>
          <p:spPr>
            <a:xfrm>
              <a:off x="914400" y="609480"/>
              <a:ext cx="243828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6" name="Text Box 19"/>
            <p:cNvSpPr/>
            <p:nvPr/>
          </p:nvSpPr>
          <p:spPr>
            <a:xfrm>
              <a:off x="1145520" y="3048120"/>
              <a:ext cx="178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RY gene on th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 Chromoso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19:32:50Z</dcterms:created>
  <dc:creator>John Bojnowski</dc:creator>
  <dc:description/>
  <dc:language>en-US</dc:language>
  <cp:lastModifiedBy>LEGION2</cp:lastModifiedBy>
  <dcterms:modified xsi:type="dcterms:W3CDTF">2016-01-12T12:30:56Z</dcterms:modified>
  <cp:revision>8</cp:revision>
  <dc:subject/>
  <dc:title>Slide 1</dc:title>
</cp:coreProperties>
</file>