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9.png" ContentType="image/pn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4.png" ContentType="image/png"/>
  <Override PartName="/ppt/media/image6.jpeg" ContentType="image/jpeg"/>
  <Override PartName="/ppt/media/image33.jpeg" ContentType="image/jpeg"/>
  <Override PartName="/ppt/media/image27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png" ContentType="image/png"/>
  <Override PartName="/ppt/media/image35.jpeg" ContentType="image/jpeg"/>
  <Override PartName="/ppt/media/image1.jpeg" ContentType="image/jpeg"/>
  <Override PartName="/ppt/media/image5.jpeg" ContentType="image/jpeg"/>
  <Override PartName="/ppt/media/image26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dt" idx="7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 type="ftr" idx="7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 type="sldNum" idx="7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DA9A-A72C-4F8A-A2E2-4CF0AB771F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s in Bio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different form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costs/benefits of each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eek we’ll discuss 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ion - how sexually reproducing organisms 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separate sexes.  Specifically, as it applies to us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entures in Biology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different forms of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iscussed the costs/benefits of each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eek we’ll discuss sexu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ion - how sexually reproducing organisms develo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o separate sexes.  Specifically, as it applies to us hu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How Do We Get Fro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…How Do We Get Fro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chromosome contains a gene known as the SRY (sex determining region on the Y chromosome)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       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Y chromosome contains a gene known as the SRY (sex determining region on the Y chromosome)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about the        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how does this happen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estes form they release 2 hormones - testosterone &amp; MIS (mullerian inhibiting sub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osterone causes the male reproductive system to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 causes the ducts of the female system to 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…how does this happen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estes form they release 2 hormones - testosterone &amp; MIS (mullerian inhibiting substa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stosterone causes the male reproductive system to devel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 causes the ducts of the female system to degene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6B7-DE7A-4CFC-92AC-19711A8DE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19E9-BA5F-4E37-8606-B189217B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5FB238-8568-4709-A759-17B917F3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834D3F-4A52-468B-A69D-46C5B4B9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AB034-FFEE-4265-9D66-CC603B16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F05E5-4CC7-4649-BB4D-4BF3D3EC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060C22-F616-4A59-9A35-FCFF0094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0B83A-6B18-4B4E-B864-E3E043A75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DC5D3E-E71A-4840-8F86-DF454D4B6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46DF6-305A-4556-B0AE-CF011D7A0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1D069-38E3-442A-A93B-598E6750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90BBBB-B8ED-4B41-821F-6E62E8B3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733-F0EB-4DDC-9C09-1724F49A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1BA3C9-0B0F-429D-8649-FE029DEB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320664-A9C8-4159-94C8-866CEC61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D0A8E7-9B1C-486E-BF91-2982A0A4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5E3A28-1498-49AD-A4EB-86430858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C958DB-2C5C-4ABF-85D7-4A39C67D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8D080E-0075-49F6-9D2A-562699E8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20A0E7-098C-44F8-89D4-9297AE0F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972A0F-82E1-47AB-AC64-319CC4C96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A37FC7-4B49-42D3-8BCD-55FA621C8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4250B-AE3F-4CBA-A81D-6440217F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721F-B129-4393-950F-247522534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276B9F-94D8-4FB1-B9F2-6B08AC5C9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37D2A-C4B4-45EC-8E94-567F2A30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1CA43-4ED8-4258-97D4-44C722CF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7ACB6E-6BAC-4D91-A41E-AEBFF2AD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15711-DD1C-470C-B8E2-7B60E256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195E2-3D15-4346-B967-E8A3AC11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C2D71-916E-428A-BDDA-6595AEEE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D195D7-5663-4021-9194-26D02213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15EFC2-C4FF-42E9-B470-2F25C35B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0C712-2A55-4C49-BF68-72BFFDB75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55A0A-0672-4E66-9229-9F0F013E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2CEF3E-01CB-44E4-8F95-A9618030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3A6639-8168-46FB-91FA-750A6BD4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EB8FD-D77D-4319-8A37-19F1408A2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06B625-E738-4E1F-AFBD-D59E262A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A1A8B7-0232-4281-9E12-F1294B0C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52BA9-DD82-47CF-A3F5-7E942858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C8A195-D7B4-4953-8611-21CC4AEC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ED640-1BE2-4E1C-97C0-3E33931F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1BF5D-CC83-4D1A-947C-1B88EA72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95F332-E990-43D8-82B9-86FA95C6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36039-0584-4298-BBF0-F934133BD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5BC45D-4C6C-4AAC-B0DA-BE369788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10F9E-3CF4-41E9-85A9-3E9E5E2E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DA685-D386-48CE-B957-F6164AA8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AF91D0-A04B-4B03-8A1C-5BA81D8A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CE547B-5E5A-46CF-9114-F7488E94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06F901-CC27-4F6C-8169-A7EB54EBD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A948CA-4DC4-4D04-8619-4520E9AE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BF282E-9A8A-465C-AA09-031F1ED6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1F9107-B51E-4C15-9A84-698294B0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71D763-AFDB-4C01-88DE-894A27D96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A2CC-386E-470F-B6C3-C7A0EFB2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72556E-55DC-409A-A780-3A4BB4D12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2A5051-A133-4BBC-B135-E4847C9AF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9A0C08-91E3-4F97-9B4F-9C704D56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B8D06-66FD-4CB0-B573-2DAC0B55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7091C6-E80C-4D68-8506-DB961BA6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C161B3-8108-4C47-83A2-71A4AD8CC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34473-22C3-4074-834A-5F5D11AF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F91626-0698-4C2D-AA75-2177EDBB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5E5FD2-593A-46F6-88E2-0F789E21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22B540-23B1-4297-B07C-0F329496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5467-1BF9-4337-85A2-A409E578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EC615D-7968-4911-A2D1-199847CF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0E3EA-7EE4-4786-8575-6F0E93A0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458B64-E3D0-4BCB-9FA6-70EB1E01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A01EAB-FC61-4854-A53D-781036DA9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3BF0E5-85D6-40F5-BBFE-06303397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441323-C2FE-4F73-A2D9-70A59EE6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C00EA0-B026-46DF-BC76-608CD4801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1226E9-3F3C-4EAF-B03D-D08BCABEE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0A7571-D374-4B27-8811-AF36457ED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4ACB62-0F26-4A57-8504-75537847B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67015-03FF-4434-859A-1BEB0AF5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9F9185-A9B0-45AE-AAB3-DDD87F73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B82DB4-DD67-4849-951E-20C16AA4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8EF43CF-B587-46AB-94B3-5677C092A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BD2F7A-B628-4236-BC20-B8AB02F4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90A36E-966E-44C7-8611-78A983B5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3EDA7B-2621-4292-8790-1FDB3EC7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D3420F-B596-4489-B4D1-743D402C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9F2C6F-4D7C-4CC1-A4ED-5C789852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C17EE4-514A-42A9-93A1-2DFA1393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703F46-50DF-4663-9E5D-8068B9D0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61ED7-5B41-4C3D-B68C-DB4A9E093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3694C1-AA84-4D45-BDD7-72C58840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E038AC-4876-4045-AC1C-E340B7BCF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AE7E0D-21F4-4F64-A751-9583C278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0699C0-6591-4B57-A9D9-0A71643B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C895E5-D8B2-4AAA-91FF-9E73DD47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5003D6-6809-4D00-9A34-0E13A8C8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E1D4B0-81D7-4492-84DE-02E6A66F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2D0745-D96D-4F05-845B-1A5D9A5B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F598EE-99C2-468C-89C0-021AFE27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A3F59D-940C-4A69-AE8D-EE78DE1D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174A-0B50-4127-9851-6937EAE7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98392C-37A4-402A-8323-935060A0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52237F-98CC-48F2-9E1C-81BD61597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284EC3-14A5-40BC-ACF1-05799AA4B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16FE19-787F-454F-93DB-55706F59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D3A0D3-6A74-435E-8A7E-FEB5695E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AE71F8-C1ED-4FB2-9D16-C0CD5C46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C13B1D-0805-415E-A730-B84AFE281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7BF9CB-3E65-416F-848F-ED8D1361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DAA5E9-F366-4289-9FA4-32E6E3DA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7C24AA-F7CE-48F4-BD0D-7EEA665A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9ACB-F0F7-40EE-995B-19E665DD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A77D-C139-4001-9850-4C2584BD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B3D46C-6026-41A4-A7C0-00D167A2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B983AF-14CA-4DE4-B988-4A333A4D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B4BB69-0D7B-4C86-BEC4-66DDB4F0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33906E-C2E1-4E05-A227-614C3A7A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E5F8A9-1818-4893-BE1A-CC45036D0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F4DC0C-5847-46A1-96F1-1E2BBB37A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BDC97B-C184-4EF7-9CD5-4F532AA5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7E6D77-324E-4E48-B0BF-4C448DFEF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5FC03E-C8AD-4D5B-AD59-1C1B4A70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4CD104-F788-4E5D-B1E0-5CB9DB29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FC38-91B7-4425-A15E-9EF7DD5D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057D9E-A3D9-4201-A027-4C120A5BE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321D95-B2F5-4EF5-BB7A-EAE60A61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6B04C2-2822-4724-A707-9B1E7E77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392808-7C33-488E-9EFB-9C214C5CE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2C19FC-4DC8-4F06-BE1E-97DB60E6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A7586F-23F0-45D0-9C55-B275DA12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B6733E-09A1-4D4F-AD00-2FCFE34A3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3C7BF6-2052-4AA0-ACAD-E59C860D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0C7C13-81F6-4727-B16F-08E25C526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A0A29B-CD14-468D-B764-376A67A73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EFF2E-7123-4407-9A00-6E34558F3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C7609B-07CA-4A66-B87D-A4A482AF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67FA36-2F3D-4FCD-9609-FBD58F57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A29216-B719-4A1F-917D-FA6BCBCA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75332C-EEC3-48DB-B3AD-2BBF4F5B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DE90DE-E9F0-4062-8203-8847EDC4E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D475AA-1D25-4C5B-9A50-839E2024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A10678-DC4B-4993-A288-7C02B8BA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092756-438E-4FE7-85F8-CE4C761DF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AB7DFC-0A13-4082-BA43-09A1C43CD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B16817-A274-4AFD-B1CB-987DBF762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ECE9-C6C5-48FB-9E2C-A0BC1C2E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23B685-06AE-40E7-9BBB-C888D5B9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86F188-7DBC-4688-B969-B4AB8B3B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D2D1D9-4015-4DEF-AEB3-024942F6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5BA551-967D-45A8-B9BF-1F1117AB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3C3687-7DA0-44F6-93EC-046F1A79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95C1DB-DF46-46C9-8A9F-D0AE0392D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2D95AF-748A-43AF-BD90-9632DC87D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BECDE9-3A50-4182-BBF7-6D49C6F8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1266D2-7E68-4050-B5D9-5886FE111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698B44-872D-4A5E-BC5A-0E12C4A1F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9068D-C516-43E7-94C4-5A29EC811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CDA022-427C-4DBA-AF49-1FF4F4A71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3E6F9A-7C82-43C7-9045-E765BFB00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7F9177-6A1E-46B9-AC39-CAF570AB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41D7BD-CB0C-4963-A554-B13A190C1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624430-D315-43C6-B261-E9D1223E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F8EBDF-965C-4EF2-B660-6B4FDE0A2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C563950-5A42-45FA-8D28-15A67892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26C1D5-FD5A-485E-8C70-39C28517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C608B3-E5C9-49F8-B65F-86A5C762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BC99C7-7DB0-4DA3-B6B5-0D8FE0F91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01C7F-A067-47BA-A59B-FC30A8E0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872BCB-0892-430A-8E30-1E0AD20A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3C271E-A80F-434C-B6F4-63D1137C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3083FC-D9C5-444E-846B-9F338FB3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7A4B9C-ED2F-4CAE-B53D-87162E3FE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A9062F-4196-4E82-BA81-B617A4ED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1E1090-515E-4065-9791-460FDFFF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480759-88FB-4C53-A6F4-5B242FC8D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6B11003-65B6-4ECD-8A0B-A55479BC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D964B1-FA9D-4A29-9B66-CA8626FA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BF993A-5277-4B6E-A3B5-F607D0E9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DBDDE-4E9E-4B4F-8E64-2A966794B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E3A9F3-5BA6-4F41-96FF-205F6E2F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662115A-316F-4B06-89FA-D9CAC63B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2CD41C-4F34-4B97-B504-7C8D6614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4AE8411-217A-4A04-9570-D713AF43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C4982D-D7FC-4601-9CD9-7BADD5C04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61F5C8-0792-4D1B-96D7-528549CBE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7B166C5-678C-4E7B-8F53-6ADDCA11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ADF25A-F929-41B8-8024-554DB980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7DF15B-79F9-46FC-BB39-A36CB3AE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7CE204-9DC5-4EC2-AF19-5A75F98D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C7618-2016-4305-B3FC-7B183A742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92655D-5138-432B-B256-678BEED8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B671B1-0B41-4239-901C-50E258E6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68DF02-6957-4656-8BE7-2442C7A5D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E95E34-429B-4F5C-9E48-A38A511D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B4C294-EF31-4185-B324-B4F565E5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B3C39B-9A5D-448F-A964-AE20D0AA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FB1137-FB27-47BE-A473-0DF02C33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C78F9A-F76C-4FC7-A63E-8C2CB8272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D20B8F-EE29-4ADE-BB70-AD8862A4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F0138B-8E4E-45D9-9E07-0434CF1E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AB2DEF-E24B-4682-94C7-7D4884C4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F1BE3A-FCFA-423F-A279-210D834E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6CDF0A4-820A-4C0D-81A9-538DF6B9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EF73CE-C060-4E0E-83E1-7C66EA47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287C9E-9E4A-40EA-B16B-92D2F24A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6B9527-3C6F-493E-9F03-1036705B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663975-06BB-436B-B1E8-A101162BB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DEA45F-613A-44B2-8EC1-74D9746FD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7113C6-7E93-40D3-9099-8E0C496C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B60DCA-7854-480F-885E-A39B1930B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77B3D-6D44-4635-B2AF-D484CC89A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F6EE-B436-45A9-8338-783722E7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DFFB4-FD3F-451C-A33A-0A3A40AC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3108E9-82EE-47EA-A933-A4F823F3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63F6B-6931-496D-91EB-D08FBD2EC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D0C34-FBD1-4B89-8873-7DC1248E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DC6ED-7C4C-4D61-9D9B-AA0DAB34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96D36-2B3B-48F6-9B5C-9BA55C96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2A6AA-5A7C-4E7E-8BD9-500F5D8A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3A15E-7DC1-4205-9A2F-5F8AC813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A560F-9A85-4734-8466-21B9E2346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DF9AF-D9B5-483D-A868-CB67F9E0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CAC0-94DD-47AD-B903-201F1C4E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4FEB0D-68FC-42E4-B425-BE6EFA5F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4EB9D-10D5-4648-A400-AD6A7F98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98E89-0672-4BEC-86CA-0EF8F655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03A8A-5797-4EA9-8697-72252F8DF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EE7C9-3BA4-4018-A0BC-D495A14C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C1A7E-FB56-4D27-970C-004CC961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79895-72AE-4B99-AE9C-7CA1C044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1ABF1-137A-4987-A1E1-582E4151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489BA-DE77-4778-808D-FD954403E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61142-DD5F-47F5-812B-C810B104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B5DB-72F5-4EC0-ABEC-C4A9DC37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EF3D7-C3BF-4C9E-ABD8-59E0AAA45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FAE3B-4581-407A-859D-B0424BD9B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47CF7-C9AD-486A-A222-EE5F1E47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19BE1-5C70-49F6-A3F2-0AED7DD2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411A7-519C-47FA-BC35-2488003E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66B46-26DD-4C4E-B73E-AF812BEA0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DF56C-ECC6-48B4-96F3-6CF0DC17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3ADC2-3DB0-44F4-8350-38A7D4AA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8513D9-E917-48B4-B28A-DD572BC7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F2067-B027-4112-B075-7E18A5F0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3EA0-CB41-44AB-A41A-770E28E75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02F35-BA1B-4D58-9C0A-0965D6D4B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9C4CB-382E-4525-8224-E218C1ED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F947D-D3A3-4C88-A233-A8A50906F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2D33E-A74B-40E9-A1E8-123E79DD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296D0-2E67-460C-9C82-B6D7E926C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55B4E-F98C-4598-835C-43E23792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FF0A7-04CD-411F-A550-D8DEAA4F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2AA57-0864-4931-B34A-9312404E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22EB8-999D-4E93-8A71-C4C0E671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3EFA3-EF20-4EB7-949C-EFDDC04D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30B-371A-4D89-93E8-DB197144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E804A-82F9-45D8-894A-A41900E5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808D20-4676-48A6-B179-CF892A67C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941156-502A-45BD-9C6D-D585C083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58EC4-4DBC-40B4-8D52-3B65D5079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C2BAA4-B4CA-46F7-A661-F47744E09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B039D-B529-48E2-B1CC-C0658459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C88C7-72EF-49D8-893D-538C3878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25CDD-4DB3-4DCE-A659-B1619614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2CCD3-B2A5-44B6-B8A6-B93F102D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423FB-BEF4-4D7C-807A-E57CB1E50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A21-0B6E-4D36-87F4-B3E76F07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BAA2D-6F13-4623-852A-274EFDE8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6DDAF-30C9-487E-96DC-1160C49D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63472A-8765-4B9C-A894-BB092F73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B33AA-F006-4026-AED8-639FF504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00CFA-B65B-4A1E-9D20-C896BC0F0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1F993-7A5E-4EA0-AA40-F20E5E1D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07DD5-84FC-4346-A001-6CBD0B60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343EC-A675-4005-8778-7E68FF9E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C4F94-8C07-494B-9C8E-8443C2C6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F96E8-7034-4BDA-822F-523CA82A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2455-C19F-45EA-8883-7806A517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126FB5-D2E8-42B1-87BB-75A0963B4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FFDBEA-6B7A-405D-83E2-EB280508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24C58B-9C4B-4429-978F-E90EEA54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E680C-D742-4BA8-9066-3375CCE4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914400" y="3964320"/>
            <a:ext cx="7391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94F4A-42C5-4B58-BF78-03A9EF46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01960" y="160020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40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01960" y="3964320"/>
            <a:ext cx="360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6CC276-49D5-43EA-AD65-B24B09328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41388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13000" y="160020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9144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41388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13000" y="3964320"/>
            <a:ext cx="2379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90806B-91A5-439C-9CA8-E20B99EFC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DB020-28BF-45A1-813A-5454A25C9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EA4BE4-AC8B-4FE1-ACD0-2D9C87C0D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8F419-D3DA-4EED-BDB3-0A8A6A78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DB2B-BF70-4CC3-AE94-A52DCC93B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AF74-B346-4519-87C6-DFC7C7502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B1D0-FB47-4F46-BFC4-8BFED6A2AF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828440" y="2971800"/>
            <a:ext cx="5715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5292-B032-45B0-BC99-8032010B0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13712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0C2F8-1097-4FC2-BA46-16963BD287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A340-1743-4A87-BA6E-E6EC0B1598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5087-B348-400D-8E0E-CF7D46CFF0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565A-C270-4A9B-A92D-7FE47EC37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6C4F-08F9-4FF7-91C3-B8D5C0D83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280A3-949D-4333-842A-E69856BFF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DD6B9-9A10-49EE-A195-185C33502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B29F-FD51-4CE9-BC9A-C48F52CF5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0708-372C-49E2-BBD8-310FCF44F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7200B-54F5-4810-96F2-E697D1FE49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1D152-2662-4AE6-9912-78B24CB25E6E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CF3C-51F7-459F-9D58-8F64E9645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7341-B33F-4C0D-AEA3-AFCD8FF46FA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64E3-A7CC-48B5-BD8C-67838A597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C5FD3-4B82-4BE1-BB83-C72ECED60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919D-7C4B-40D6-AF41-7CF0C2739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160020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7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171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AD55-E248-402D-B133-906EE9B9F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F851-DE2D-496D-80C9-E49ED7B1AB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ddd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dddd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2243-EC06-446E-9045-BAB4258728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0253-0711-43CF-B30D-7AA6CB9F2F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205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0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0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0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0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WordArt 4"/>
          <p:cNvSpPr txBox="1"/>
          <p:nvPr/>
        </p:nvSpPr>
        <p:spPr>
          <a:xfrm>
            <a:off x="2286000" y="762120"/>
            <a:ext cx="5638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Adventures in Biology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992" name="Text Box 5"/>
          <p:cNvSpPr/>
          <p:nvPr/>
        </p:nvSpPr>
        <p:spPr>
          <a:xfrm>
            <a:off x="914400" y="0"/>
            <a:ext cx="44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Week in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/>
          </p:nvPr>
        </p:nvSpPr>
        <p:spPr>
          <a:xfrm>
            <a:off x="990720" y="190512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We discussed the different forms of Reproduc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We discussed the costs/benefits of each form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oadwa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Broadway"/>
              </a:rPr>
              <a:t>This week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 we’ll discuss </a:t>
            </a: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sexual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Broadway"/>
              </a:rPr>
              <a:t>differentiation 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- how sexually reproducing organisms develop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roadway"/>
              </a:rPr>
              <a:t>into separate sexes.  Specifically, as it applies to us human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4" name="Місце для нижнього колонтитула 1"/>
          <p:cNvSpPr/>
          <p:nvPr/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8" name="Picture 2" descr="XX genotype"/>
          <p:cNvPicPr/>
          <p:nvPr/>
        </p:nvPicPr>
        <p:blipFill>
          <a:blip r:embed="rId1"/>
          <a:stretch/>
        </p:blipFill>
        <p:spPr>
          <a:xfrm>
            <a:off x="990720" y="0"/>
            <a:ext cx="1430280" cy="25909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3" descr="Female Reproductive System 3"/>
          <p:cNvPicPr/>
          <p:nvPr/>
        </p:nvPicPr>
        <p:blipFill>
          <a:blip r:embed="rId2"/>
          <a:stretch/>
        </p:blipFill>
        <p:spPr>
          <a:xfrm>
            <a:off x="4191120" y="457200"/>
            <a:ext cx="2971800" cy="1806480"/>
          </a:xfrm>
          <a:prstGeom prst="rect">
            <a:avLst/>
          </a:prstGeom>
          <a:ln w="0">
            <a:noFill/>
          </a:ln>
        </p:spPr>
      </p:pic>
      <p:sp>
        <p:nvSpPr>
          <p:cNvPr id="1050" name="Line 4"/>
          <p:cNvSpPr/>
          <p:nvPr/>
        </p:nvSpPr>
        <p:spPr>
          <a:xfrm>
            <a:off x="2590920" y="12193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 Box 5"/>
          <p:cNvSpPr/>
          <p:nvPr/>
        </p:nvSpPr>
        <p:spPr>
          <a:xfrm>
            <a:off x="2670120" y="609480"/>
            <a:ext cx="148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 Box 6"/>
          <p:cNvSpPr/>
          <p:nvPr/>
        </p:nvSpPr>
        <p:spPr>
          <a:xfrm>
            <a:off x="4271400" y="2286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reproductive org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7"/>
          <p:cNvSpPr/>
          <p:nvPr/>
        </p:nvSpPr>
        <p:spPr>
          <a:xfrm>
            <a:off x="7315200" y="12952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Text Box 8"/>
          <p:cNvSpPr/>
          <p:nvPr/>
        </p:nvSpPr>
        <p:spPr>
          <a:xfrm>
            <a:off x="7165800" y="99072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du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5" name="Picture 9" descr="Estradiol"/>
          <p:cNvPicPr/>
          <p:nvPr/>
        </p:nvPicPr>
        <p:blipFill>
          <a:blip r:embed="rId3"/>
          <a:stretch/>
        </p:blipFill>
        <p:spPr>
          <a:xfrm>
            <a:off x="457200" y="3352680"/>
            <a:ext cx="3429000" cy="2075040"/>
          </a:xfrm>
          <a:prstGeom prst="rect">
            <a:avLst/>
          </a:prstGeom>
          <a:ln w="0">
            <a:noFill/>
          </a:ln>
        </p:spPr>
      </p:pic>
      <p:sp>
        <p:nvSpPr>
          <p:cNvPr id="1056" name="Text Box 10"/>
          <p:cNvSpPr/>
          <p:nvPr/>
        </p:nvSpPr>
        <p:spPr>
          <a:xfrm>
            <a:off x="1663560" y="5370480"/>
            <a:ext cx="17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amp; Progeste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Line 11"/>
          <p:cNvSpPr/>
          <p:nvPr/>
        </p:nvSpPr>
        <p:spPr>
          <a:xfrm>
            <a:off x="3962520" y="46483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Text Box 12"/>
          <p:cNvSpPr/>
          <p:nvPr/>
        </p:nvSpPr>
        <p:spPr>
          <a:xfrm>
            <a:off x="4041720" y="4038480"/>
            <a:ext cx="148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9" name="Picture 13" descr="Female body"/>
          <p:cNvPicPr/>
          <p:nvPr/>
        </p:nvPicPr>
        <p:blipFill>
          <a:blip r:embed="rId4"/>
          <a:stretch/>
        </p:blipFill>
        <p:spPr>
          <a:xfrm>
            <a:off x="6095880" y="2971800"/>
            <a:ext cx="1300320" cy="3638520"/>
          </a:xfrm>
          <a:prstGeom prst="rect">
            <a:avLst/>
          </a:prstGeom>
          <a:ln w="0">
            <a:noFill/>
          </a:ln>
        </p:spPr>
      </p:pic>
      <p:sp>
        <p:nvSpPr>
          <p:cNvPr id="10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SO…How Do We Get From…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96" name="Picture 4" descr="blastuala"/>
          <p:cNvPicPr/>
          <p:nvPr/>
        </p:nvPicPr>
        <p:blipFill>
          <a:blip r:embed="rId1"/>
          <a:stretch/>
        </p:blipFill>
        <p:spPr>
          <a:xfrm>
            <a:off x="914400" y="3124080"/>
            <a:ext cx="1981080" cy="1474920"/>
          </a:xfrm>
          <a:prstGeom prst="rect">
            <a:avLst/>
          </a:prstGeom>
          <a:ln w="0">
            <a:noFill/>
          </a:ln>
        </p:spPr>
      </p:pic>
      <p:sp>
        <p:nvSpPr>
          <p:cNvPr id="997" name="Line 5"/>
          <p:cNvSpPr/>
          <p:nvPr/>
        </p:nvSpPr>
        <p:spPr>
          <a:xfrm flipV="1">
            <a:off x="2819520" y="2438280"/>
            <a:ext cx="15238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7"/>
          <p:cNvSpPr/>
          <p:nvPr/>
        </p:nvSpPr>
        <p:spPr>
          <a:xfrm>
            <a:off x="2819520" y="3809880"/>
            <a:ext cx="1676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9" name="Picture 8" descr="Female Reproductive System 2"/>
          <p:cNvPicPr/>
          <p:nvPr/>
        </p:nvPicPr>
        <p:blipFill>
          <a:blip r:embed="rId2"/>
          <a:stretch/>
        </p:blipFill>
        <p:spPr>
          <a:xfrm>
            <a:off x="4419720" y="838080"/>
            <a:ext cx="1166760" cy="2819520"/>
          </a:xfrm>
          <a:prstGeom prst="rect">
            <a:avLst/>
          </a:prstGeom>
          <a:ln w="0">
            <a:noFill/>
          </a:ln>
        </p:spPr>
      </p:pic>
      <p:pic>
        <p:nvPicPr>
          <p:cNvPr id="1000" name="Picture 9" descr="Male Reproductive System"/>
          <p:cNvPicPr/>
          <p:nvPr/>
        </p:nvPicPr>
        <p:blipFill>
          <a:blip r:embed="rId3"/>
          <a:stretch/>
        </p:blipFill>
        <p:spPr>
          <a:xfrm>
            <a:off x="4419720" y="3429000"/>
            <a:ext cx="1225440" cy="3048120"/>
          </a:xfrm>
          <a:prstGeom prst="rect">
            <a:avLst/>
          </a:prstGeom>
          <a:ln w="0">
            <a:noFill/>
          </a:ln>
        </p:spPr>
      </p:pic>
      <p:sp>
        <p:nvSpPr>
          <p:cNvPr id="1001" name="Text Box 10"/>
          <p:cNvSpPr/>
          <p:nvPr/>
        </p:nvSpPr>
        <p:spPr>
          <a:xfrm>
            <a:off x="901440" y="2503440"/>
            <a:ext cx="130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 Box 11"/>
          <p:cNvSpPr/>
          <p:nvPr/>
        </p:nvSpPr>
        <p:spPr>
          <a:xfrm rot="19003200">
            <a:off x="2974320" y="274284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 Box 12"/>
          <p:cNvSpPr/>
          <p:nvPr/>
        </p:nvSpPr>
        <p:spPr>
          <a:xfrm rot="1708200">
            <a:off x="2896920" y="42667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13"/>
          <p:cNvSpPr/>
          <p:nvPr/>
        </p:nvSpPr>
        <p:spPr>
          <a:xfrm>
            <a:off x="3262320" y="36180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14"/>
          <p:cNvSpPr/>
          <p:nvPr/>
        </p:nvSpPr>
        <p:spPr>
          <a:xfrm>
            <a:off x="5563800" y="3083040"/>
            <a:ext cx="68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5"/>
          <p:cNvSpPr/>
          <p:nvPr/>
        </p:nvSpPr>
        <p:spPr>
          <a:xfrm>
            <a:off x="978480" y="4608360"/>
            <a:ext cx="218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ssentially a clu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undifferenti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16"/>
          <p:cNvSpPr/>
          <p:nvPr/>
        </p:nvSpPr>
        <p:spPr>
          <a:xfrm>
            <a:off x="5338800" y="2666880"/>
            <a:ext cx="315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lly developed adult fe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17"/>
          <p:cNvSpPr/>
          <p:nvPr/>
        </p:nvSpPr>
        <p:spPr>
          <a:xfrm>
            <a:off x="5415120" y="5257800"/>
            <a:ext cx="29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ully developed adult m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99036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In other words, How do our bodies know if we are meant to use the little boys’ room or the little girls’ room?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160" y="3885840"/>
            <a:ext cx="693396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the             factor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5" descr="Y chromosome"/>
          <p:cNvPicPr/>
          <p:nvPr/>
        </p:nvPicPr>
        <p:blipFill>
          <a:blip r:embed="rId1"/>
          <a:stretch/>
        </p:blipFill>
        <p:spPr>
          <a:xfrm>
            <a:off x="2971800" y="4191120"/>
            <a:ext cx="1593720" cy="22096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9" descr="Bathrooms"/>
          <p:cNvPicPr/>
          <p:nvPr/>
        </p:nvPicPr>
        <p:blipFill>
          <a:blip r:embed="rId2"/>
          <a:stretch/>
        </p:blipFill>
        <p:spPr>
          <a:xfrm>
            <a:off x="4876920" y="1752480"/>
            <a:ext cx="3047760" cy="1898640"/>
          </a:xfrm>
          <a:prstGeom prst="rect">
            <a:avLst/>
          </a:prstGeom>
          <a:ln w="0">
            <a:noFill/>
          </a:ln>
        </p:spPr>
      </p:pic>
      <p:sp>
        <p:nvSpPr>
          <p:cNvPr id="10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/>
          </p:nvPr>
        </p:nvSpPr>
        <p:spPr>
          <a:xfrm>
            <a:off x="1279080" y="1600200"/>
            <a:ext cx="71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Y chromosome contains a gene known as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 determin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gion on 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romosome) g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gene is responsible for the development of tes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10"/>
          <p:cNvSpPr/>
          <p:nvPr/>
        </p:nvSpPr>
        <p:spPr>
          <a:xfrm>
            <a:off x="1066680" y="571500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But what about the         fa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Picture 11" descr="chromosome"/>
          <p:cNvPicPr/>
          <p:nvPr/>
        </p:nvPicPr>
        <p:blipFill>
          <a:blip r:embed="rId1"/>
          <a:stretch/>
        </p:blipFill>
        <p:spPr>
          <a:xfrm>
            <a:off x="4267080" y="5105520"/>
            <a:ext cx="974880" cy="1752480"/>
          </a:xfrm>
          <a:prstGeom prst="rect">
            <a:avLst/>
          </a:prstGeom>
          <a:ln w="0">
            <a:noFill/>
          </a:ln>
        </p:spPr>
      </p:pic>
      <p:sp>
        <p:nvSpPr>
          <p:cNvPr id="10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1294920" y="838080"/>
            <a:ext cx="634068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develops an area known as the urogenital ri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ess testes develop, this area will naturally develop into the female reproductiv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ther words, we are all female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5" descr="fetal sex organ development 2"/>
          <p:cNvPicPr/>
          <p:nvPr/>
        </p:nvPicPr>
        <p:blipFill>
          <a:blip r:embed="rId1"/>
          <a:stretch/>
        </p:blipFill>
        <p:spPr>
          <a:xfrm>
            <a:off x="1219320" y="0"/>
            <a:ext cx="6546600" cy="6858000"/>
          </a:xfrm>
          <a:prstGeom prst="rect">
            <a:avLst/>
          </a:prstGeom>
          <a:ln w="0">
            <a:noFill/>
          </a:ln>
        </p:spPr>
      </p:pic>
      <p:sp>
        <p:nvSpPr>
          <p:cNvPr id="10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24" name="Picture 4" descr="fetal sex organ development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429080"/>
          </a:xfrm>
          <a:prstGeom prst="rect">
            <a:avLst/>
          </a:prstGeom>
          <a:ln w="0">
            <a:noFill/>
          </a:ln>
        </p:spPr>
      </p:pic>
      <p:sp>
        <p:nvSpPr>
          <p:cNvPr id="10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BUT…how does this happen??</a:t>
            </a:r>
            <a:r>
              <a:rPr b="0" lang="en-US" sz="4000" spc="-1" strike="noStrike">
                <a:solidFill>
                  <a:srgbClr val="1c1c1c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407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estes form they releas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 hormon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estosterone &amp; MIS (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lerian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ibiting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b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stoster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male reproductive system to devel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uses the ducts of the female system to degene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Picture 2" descr="Male Body"/>
          <p:cNvPicPr/>
          <p:nvPr/>
        </p:nvPicPr>
        <p:blipFill>
          <a:blip r:embed="rId1"/>
          <a:stretch/>
        </p:blipFill>
        <p:spPr>
          <a:xfrm>
            <a:off x="6095880" y="3505320"/>
            <a:ext cx="1347840" cy="2971800"/>
          </a:xfrm>
          <a:prstGeom prst="rect">
            <a:avLst/>
          </a:prstGeom>
          <a:ln w="0">
            <a:noFill/>
          </a:ln>
        </p:spPr>
      </p:pic>
      <p:sp>
        <p:nvSpPr>
          <p:cNvPr id="1030" name="Line 3"/>
          <p:cNvSpPr/>
          <p:nvPr/>
        </p:nvSpPr>
        <p:spPr>
          <a:xfrm>
            <a:off x="4343400" y="4876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1" name="Group 4"/>
          <p:cNvGrpSpPr/>
          <p:nvPr/>
        </p:nvGrpSpPr>
        <p:grpSpPr>
          <a:xfrm>
            <a:off x="990720" y="3657600"/>
            <a:ext cx="2743200" cy="2471400"/>
            <a:chOff x="990720" y="3657600"/>
            <a:chExt cx="2743200" cy="2471400"/>
          </a:xfrm>
        </p:grpSpPr>
        <p:pic>
          <p:nvPicPr>
            <p:cNvPr id="1032" name="Picture 5" descr="testosterone"/>
            <p:cNvPicPr/>
            <p:nvPr/>
          </p:nvPicPr>
          <p:blipFill>
            <a:blip r:embed="rId2"/>
            <a:stretch/>
          </p:blipFill>
          <p:spPr>
            <a:xfrm>
              <a:off x="990720" y="3657600"/>
              <a:ext cx="2743200" cy="18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3" name="Text Box 6"/>
            <p:cNvSpPr/>
            <p:nvPr/>
          </p:nvSpPr>
          <p:spPr>
            <a:xfrm>
              <a:off x="1831320" y="5486400"/>
              <a:ext cx="151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stoster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&amp; M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4" name="Group 7"/>
          <p:cNvGrpSpPr/>
          <p:nvPr/>
        </p:nvGrpSpPr>
        <p:grpSpPr>
          <a:xfrm>
            <a:off x="3278880" y="1523880"/>
            <a:ext cx="1386360" cy="642600"/>
            <a:chOff x="3278880" y="1523880"/>
            <a:chExt cx="1386360" cy="642600"/>
          </a:xfrm>
        </p:grpSpPr>
        <p:sp>
          <p:nvSpPr>
            <p:cNvPr id="1035" name="Line 8"/>
            <p:cNvSpPr/>
            <p:nvPr/>
          </p:nvSpPr>
          <p:spPr>
            <a:xfrm>
              <a:off x="3353040" y="1828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Text Box 9"/>
            <p:cNvSpPr/>
            <p:nvPr/>
          </p:nvSpPr>
          <p:spPr>
            <a:xfrm>
              <a:off x="3278880" y="1523880"/>
              <a:ext cx="1386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des 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mation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Group 10"/>
          <p:cNvGrpSpPr/>
          <p:nvPr/>
        </p:nvGrpSpPr>
        <p:grpSpPr>
          <a:xfrm>
            <a:off x="6477120" y="1523880"/>
            <a:ext cx="1295280" cy="368280"/>
            <a:chOff x="6477120" y="1523880"/>
            <a:chExt cx="1295280" cy="368280"/>
          </a:xfrm>
        </p:grpSpPr>
        <p:sp>
          <p:nvSpPr>
            <p:cNvPr id="1038" name="Line 11"/>
            <p:cNvSpPr/>
            <p:nvPr/>
          </p:nvSpPr>
          <p:spPr>
            <a:xfrm>
              <a:off x="6477120" y="1828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Text Box 12"/>
            <p:cNvSpPr/>
            <p:nvPr/>
          </p:nvSpPr>
          <p:spPr>
            <a:xfrm>
              <a:off x="6480000" y="1523880"/>
              <a:ext cx="111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rodu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0" name="Text Box 13"/>
          <p:cNvSpPr/>
          <p:nvPr/>
        </p:nvSpPr>
        <p:spPr>
          <a:xfrm>
            <a:off x="4136040" y="4572000"/>
            <a:ext cx="1767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mature m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Group 14"/>
          <p:cNvGrpSpPr/>
          <p:nvPr/>
        </p:nvGrpSpPr>
        <p:grpSpPr>
          <a:xfrm>
            <a:off x="4800600" y="533520"/>
            <a:ext cx="1639800" cy="2501640"/>
            <a:chOff x="4800600" y="533520"/>
            <a:chExt cx="1639800" cy="2501640"/>
          </a:xfrm>
        </p:grpSpPr>
        <p:pic>
          <p:nvPicPr>
            <p:cNvPr id="1042" name="Picture 15" descr="testes"/>
            <p:cNvPicPr/>
            <p:nvPr/>
          </p:nvPicPr>
          <p:blipFill>
            <a:blip r:embed="rId3"/>
            <a:stretch/>
          </p:blipFill>
          <p:spPr>
            <a:xfrm>
              <a:off x="4800600" y="533520"/>
              <a:ext cx="163980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Text Box 16"/>
            <p:cNvSpPr/>
            <p:nvPr/>
          </p:nvSpPr>
          <p:spPr>
            <a:xfrm>
              <a:off x="5183280" y="2666880"/>
              <a:ext cx="79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es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17"/>
          <p:cNvGrpSpPr/>
          <p:nvPr/>
        </p:nvGrpSpPr>
        <p:grpSpPr>
          <a:xfrm>
            <a:off x="914400" y="609480"/>
            <a:ext cx="2438280" cy="3019320"/>
            <a:chOff x="914400" y="609480"/>
            <a:chExt cx="2438280" cy="3019320"/>
          </a:xfrm>
        </p:grpSpPr>
        <p:pic>
          <p:nvPicPr>
            <p:cNvPr id="1045" name="Picture 18" descr="SRY gene 2"/>
            <p:cNvPicPr/>
            <p:nvPr/>
          </p:nvPicPr>
          <p:blipFill>
            <a:blip r:embed="rId4"/>
            <a:stretch/>
          </p:blipFill>
          <p:spPr>
            <a:xfrm>
              <a:off x="914400" y="609480"/>
              <a:ext cx="243828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6" name="Text Box 19"/>
            <p:cNvSpPr/>
            <p:nvPr/>
          </p:nvSpPr>
          <p:spPr>
            <a:xfrm>
              <a:off x="1145520" y="3048120"/>
              <a:ext cx="1782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RY gene on th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Y Chromoso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19:32:50Z</dcterms:created>
  <dc:creator>John Bojnowski</dc:creator>
  <dc:description/>
  <dc:language>en-US</dc:language>
  <cp:lastModifiedBy>LEGION2</cp:lastModifiedBy>
  <dcterms:modified xsi:type="dcterms:W3CDTF">2016-01-12T12:30:56Z</dcterms:modified>
  <cp:revision>8</cp:revision>
  <dc:subject/>
  <dc:title>Slide 1</dc:title>
</cp:coreProperties>
</file>