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CD763-25D2-4685-AB56-D88922F3623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everse Transcrip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verse Transcri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. First jump: DNA hybridizes with the remaining R sequence at the 3' end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. A DNA strand is extended from the 3' end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. Most viral RNA is removed by RNase H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First jump: DNA hybridizes with the remaining R sequence at the 3' e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A DNA strand is extended from the 3' e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 Most viral RNA is removed by RNase 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. A second DNA strand is extended from the viral RNA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. Both tRNA and the remaining viral RNA are removed by RNase H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9. Second jump: The PBS region of the second strand hybridizes with the PBS region of the first strand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0. Extension on both DNA strands. 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 A second DNA strand is extended from the viral RN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 Both tRNA and the remaining viral RNA are removed by RNase 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. Second jump: The PBS region of the second strand hybridizes with the PBS region of the first stra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 Extension on both DNA strands.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verse transcriptase has a high error rate when transcribing RNA into DNA  as unlike DNA Polymerase, since it has no proof reading abil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high error rate allows mutations to accumulat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commercially available RT produced by Promega are quoted high error rates in range of one in 17,000 bp for AMV and one in 30,000 bases for M-MLV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erse transcriptase has a high error rate when transcribing RNA into DNA  as unlike DNA Polymerase, since it has no proof reading 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high error rate allows mutations to accumu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mmercially available RT produced by Promega are quoted high error rates in range of one in 17,000 bp for AMV and one in 30,000 bases for M-ML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DNA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verse Transcriptase can use single stranded RNA into DS DNA – cDNA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DNA library: A set of clones representing as many as possible of the mRNAs in a given cell type at given time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the preparation cDNA library, mRNA is extracted, purified, and treated with the enzyme reverse transcriptase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plementary DNA (cDNA) analogs of the isolated mRNA are thereby obtaine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nce mature mRNA contains no introns or regulatory regions, a cDNA library composed of coding region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DN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erse Transcriptase can use single stranded RNA into DS DNA – cDN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DNA library: A set of clones representing as many as possible of the mRNAs in a given cell type at given tim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preparation cDNA library, mRNA is extracted, purified, and treated with the enzyme reverse transcriptas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mentary DNA (cDNA) analogs of the isolated mRNA are thereby obtain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mature mRNA contains no introns or regulatory regions, a cDNA library composed of coding reg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entral Dogm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entral Dog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rmal transcription involves synthesis of RNA from DNA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verse transcription is the transcription of single stranded RNA into double stranded DN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ith the help of the enzyme Reverse Transcriptas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l transcription involves synthesis of RNA from DN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erse transcription is the transcription of single stranded RNA into double stranded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the help of the enzyme Reverse Transcript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everse Transcriptase also known as RNA directed DNA Polymeras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- DNA Nucleotidyl transferase (RNA directed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- Revertase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everse Transcriptase was discovered by Howard Temin and Baltimore in 1970 independently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- shared Nobel Prize in Physiology or Medicine in 1975 for their discovery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verse Transcriptase also known as RNA directed DNA Polymer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DNA Nucleotidyl transferase (RNA direct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Reverta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verse Transcriptase was discovered by Howard Temin and Baltimore in 1970 independentl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shared Nobel Prize in Physiology or Medicine in 1975 for their discover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everse transcriptase common in Retroviru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- HIV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-MLV (Moloney Murine Leukemia Virus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MV (Avian Myeloblastosis Virus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everse Transcriptase enzyme includes two activity: DNA polymerase and RNase H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verse transcriptase common in Retroviru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HI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-MLV (Moloney Murine Leukemia Viru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MV (Avian Myeloblastosis Viru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verse Transcriptase enzyme includes two activity: DNA polymerase and RNase 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etrovirus Replication Cycl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ds DN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roviru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host DN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ackaging into virus ; buddin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trovirus Replication 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s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vi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st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ckaging into virus ; bud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ntiviral dru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Zidovudi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Lamivudi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enfovi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tiviral dru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Zidovud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amivud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nfov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ypical retrovirus has three or four gene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ag-pol- env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etrovirus are called + strand because viral RNA itself code for protein product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everse transcriptase enzyme code for proteins are called – strand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 : Redundant or repeating seq – 10-80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U5:  80 – 100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U3: 170-1350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Like DNA polymerase, Reverse transcriptase requires primer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RNA of the host is Prim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ypical retrovirus has three or four ge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ag-pol- en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trovirus are called + strand because viral RNA itself code for protein produ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verse transcriptase enzyme code for proteins are called – str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 : Redundant or repeating seq – 10-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5:  80 –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3: 170-13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ke DNA polymerase, Reverse transcriptase requires prim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NA of the host is Pri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ECHANSIM OF RETROVIRUS REPLIC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1. A Retrovirus specific cellular tRNA hybridizes with a complementary region called PBS (Primer Binding Sites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2. Reverse Transcriptase (RT) starts at this binding site and copies RNA into a single strand of complementary DNA. A DNA segment is extended from tRNA based on the sequence of the retroviral genomic RNA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3. The viral R and U5 sequences are removed by RNase H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LTR – Long Terminal Repea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Left LTR - Redundant sequence [R]+ 5’ untranslated region (U5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ight LTR  - Redundant sequence [R]+ 3’ untranslated region (U3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CHANSIM OF RETROVIRUS RE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. A Retrovirus specific cellular tRNA hybridizes with a complementary region called PBS (Primer Binding Sit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. Reverse Transcriptase (RT) starts at this binding site and copies RNA into a single strand of complementary DNA. A DNA segment is extended from tRNA based on the sequence of the retroviral genomic RN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. The viral R and U5 sequences are removed by RNase 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TR – Long Terminal Repe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ft LTR - Redundant sequence [R]+ 5’ untranslated region (U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ight LTR  - Redundant sequence [R]+ 3’ untranslated region (U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92A2-2ED3-49E3-9B71-B42D7DD63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E011-19D3-438E-B539-6EEB0C3E4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9B02-FA30-4C9D-8F06-582C49878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177D-D999-4F82-A34D-9A846F7F2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A1E1-E5DD-482F-B317-71B7F5D63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A443-3C5F-4D77-A002-25D8FBC50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E775-69D6-43CB-B7EB-9AD54E5DC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F772-ECD5-48A9-B7D1-5F8E2E85D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D750-4651-467D-AB10-7148F63A5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7206-C1F6-43DD-8DA5-3FC79A921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7740-9678-49DD-A60A-E71B88E02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007A-3033-40D1-BE8C-856D18BB2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3F952-59DD-4416-B413-04D3F12FC34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9810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5ffff"/>
                </a:solidFill>
                <a:latin typeface="Tahoma"/>
              </a:rPr>
              <a:t>Reverse Transcription</a:t>
            </a:r>
            <a:endParaRPr b="0" lang="en-US" sz="5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5ffff"/>
            </a:gs>
            <a:gs pos="50000">
              <a:srgbClr val="ccccff"/>
            </a:gs>
            <a:gs pos="100000">
              <a:srgbClr val="e5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5" descr="2"/>
          <p:cNvPicPr/>
          <p:nvPr/>
        </p:nvPicPr>
        <p:blipFill>
          <a:blip r:embed="rId1"/>
          <a:stretch/>
        </p:blipFill>
        <p:spPr>
          <a:xfrm>
            <a:off x="228600" y="228600"/>
            <a:ext cx="5324400" cy="5943600"/>
          </a:xfrm>
          <a:prstGeom prst="rect">
            <a:avLst/>
          </a:prstGeom>
          <a:ln w="0">
            <a:noFill/>
          </a:ln>
        </p:spPr>
      </p:pic>
      <p:sp>
        <p:nvSpPr>
          <p:cNvPr id="84" name="Text Box 7"/>
          <p:cNvSpPr/>
          <p:nvPr/>
        </p:nvSpPr>
        <p:spPr>
          <a:xfrm>
            <a:off x="5638680" y="457200"/>
            <a:ext cx="32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4. </a:t>
            </a:r>
            <a:r>
              <a:rPr b="1" lang="en-US" sz="1800" spc="-1" strike="noStrike">
                <a:solidFill>
                  <a:srgbClr val="990000"/>
                </a:solidFill>
                <a:latin typeface="Tahoma"/>
              </a:rPr>
              <a:t>First jump</a:t>
            </a: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: DNA hybridizes with the remaining R sequence at the 3' end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5562720" y="2286000"/>
            <a:ext cx="32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5. A DNA strand is extended from the 3' end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Text Box 10"/>
          <p:cNvSpPr/>
          <p:nvPr/>
        </p:nvSpPr>
        <p:spPr>
          <a:xfrm>
            <a:off x="5562720" y="4114800"/>
            <a:ext cx="32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6. Most viral RNA is removed by </a:t>
            </a:r>
            <a:r>
              <a:rPr b="0" lang="en-US" sz="1800" spc="-1" strike="noStrike">
                <a:solidFill>
                  <a:srgbClr val="990000"/>
                </a:solidFill>
                <a:latin typeface="Tahoma"/>
              </a:rPr>
              <a:t>RNase H</a:t>
            </a: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e5ffff"/>
            </a:gs>
            <a:gs pos="100000">
              <a:srgbClr val="ffff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3"/>
          <p:cNvPicPr/>
          <p:nvPr/>
        </p:nvPicPr>
        <p:blipFill>
          <a:blip r:embed="rId1"/>
          <a:stretch/>
        </p:blipFill>
        <p:spPr>
          <a:xfrm>
            <a:off x="380880" y="304920"/>
            <a:ext cx="4876920" cy="617220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5410080" y="45720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7. A second DNA strand is extended from the viral RNA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5410080" y="1905120"/>
            <a:ext cx="342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8. Both tRNA and the remaining viral RNA are removed by RNase H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Text Box 8"/>
          <p:cNvSpPr/>
          <p:nvPr/>
        </p:nvSpPr>
        <p:spPr>
          <a:xfrm>
            <a:off x="5410080" y="33526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9. </a:t>
            </a:r>
            <a:r>
              <a:rPr b="1" lang="en-US" sz="1800" spc="-1" strike="noStrike">
                <a:solidFill>
                  <a:srgbClr val="990000"/>
                </a:solidFill>
                <a:latin typeface="Tahoma"/>
              </a:rPr>
              <a:t>Second jump</a:t>
            </a: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: The PBS region of the second strand hybridizes with the PBS region of the first strand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5410080" y="502920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10. Extension on both DNA strands. 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1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verse transcriptase has a </a:t>
            </a:r>
            <a:r>
              <a:rPr b="0" lang="en-US" sz="2800" spc="-1" strike="noStrike">
                <a:solidFill>
                  <a:srgbClr val="ff00ff"/>
                </a:solidFill>
                <a:latin typeface="Tahoma"/>
              </a:rPr>
              <a:t>high error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rate when transcribing RNA into DNA  as unlike DNA Polymerase, since it has </a:t>
            </a:r>
            <a:r>
              <a:rPr b="0" lang="en-US" sz="2800" spc="-1" strike="noStrike">
                <a:solidFill>
                  <a:srgbClr val="ff00ff"/>
                </a:solidFill>
                <a:latin typeface="Tahoma"/>
              </a:rPr>
              <a:t>no proof reading abil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5000"/>
              </a:lnSpc>
              <a:spcBef>
                <a:spcPts val="1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s high error rate allows </a:t>
            </a:r>
            <a:r>
              <a:rPr b="0" lang="en-US" sz="2800" spc="-1" strike="noStrike">
                <a:solidFill>
                  <a:srgbClr val="ff00ff"/>
                </a:solidFill>
                <a:latin typeface="Tahoma"/>
              </a:rPr>
              <a:t>mutation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to accumula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5000"/>
              </a:lnSpc>
              <a:spcBef>
                <a:spcPts val="1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commercially available RT produced by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ff00ff"/>
                </a:solidFill>
                <a:latin typeface="Tahoma"/>
              </a:rPr>
              <a:t>Promega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re quoted high error rates in range of </a:t>
            </a:r>
            <a:r>
              <a:rPr b="0" lang="en-US" sz="2800" spc="-1" strike="noStrike">
                <a:solidFill>
                  <a:srgbClr val="ff00ff"/>
                </a:solidFill>
                <a:latin typeface="Tahoma"/>
              </a:rPr>
              <a:t>one in 17,000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bp for </a:t>
            </a:r>
            <a:r>
              <a:rPr b="0" lang="en-US" sz="2800" spc="-1" strike="noStrike">
                <a:solidFill>
                  <a:srgbClr val="ff00ff"/>
                </a:solidFill>
                <a:latin typeface="Tahoma"/>
              </a:rPr>
              <a:t>AMV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0" lang="en-US" sz="2800" spc="-1" strike="noStrike">
                <a:solidFill>
                  <a:srgbClr val="ff00ff"/>
                </a:solidFill>
                <a:latin typeface="Tahoma"/>
              </a:rPr>
              <a:t>one in 30,000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bases for </a:t>
            </a:r>
            <a:r>
              <a:rPr b="0" lang="en-US" sz="2800" spc="-1" strike="noStrike">
                <a:solidFill>
                  <a:srgbClr val="ff00ff"/>
                </a:solidFill>
                <a:latin typeface="Tahoma"/>
              </a:rPr>
              <a:t>M-MLV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304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cDNA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10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verse Transcriptase can use single stranded RNA into DS DNA – cDNA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5000"/>
              </a:lnSpc>
              <a:spcBef>
                <a:spcPts val="10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DNA library: A set of clones representing as many as possible of the mRNAs in a given cell type at given time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5000"/>
              </a:lnSpc>
              <a:spcBef>
                <a:spcPts val="10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 the preparation cDNA library, mRNA is extracted, purified, and treated with the enzyme reverse transcriptase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5000"/>
              </a:lnSpc>
              <a:spcBef>
                <a:spcPts val="10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mplementary DNA (cDNA) analogs of the isolated mRNA are thereby obtaine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5000"/>
              </a:lnSpc>
              <a:spcBef>
                <a:spcPts val="10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ince mature mRNA contains no introns or regulatory regions, a cDNA library composed of coding regions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Central Dogma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1066680" y="1752480"/>
            <a:ext cx="6248520" cy="453888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6840" y="1219320"/>
            <a:ext cx="8381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rmal transcription involves synthesis of </a:t>
            </a:r>
            <a:r>
              <a:rPr b="0" lang="en-US" sz="3200" spc="-1" strike="noStrike">
                <a:solidFill>
                  <a:srgbClr val="ff00ff"/>
                </a:solidFill>
                <a:latin typeface="Tahoma"/>
              </a:rPr>
              <a:t>RNA from DNA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verse transcription is the transcription of </a:t>
            </a:r>
            <a:r>
              <a:rPr b="0" lang="en-US" sz="3200" spc="-1" strike="noStrike">
                <a:solidFill>
                  <a:srgbClr val="ff00ff"/>
                </a:solidFill>
                <a:latin typeface="Tahoma"/>
              </a:rPr>
              <a:t>single stranded RNA into double stranded D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ith the help of the enzyme </a:t>
            </a:r>
            <a:r>
              <a:rPr b="0" lang="en-US" sz="3200" spc="-1" strike="noStrike">
                <a:solidFill>
                  <a:srgbClr val="ff00ff"/>
                </a:solidFill>
                <a:latin typeface="Tahoma"/>
              </a:rPr>
              <a:t>Reverse Transcriptas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228600" y="5331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verse Transcriptase also known as </a:t>
            </a:r>
            <a:r>
              <a:rPr b="0" lang="en-US" sz="3200" spc="-1" strike="noStrike">
                <a:solidFill>
                  <a:srgbClr val="ff00ff"/>
                </a:solidFill>
                <a:latin typeface="Tahoma"/>
              </a:rPr>
              <a:t>RNA directed DNA Polymera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n-US" sz="3200" spc="-1" strike="noStrike">
                <a:solidFill>
                  <a:srgbClr val="ff00ff"/>
                </a:solidFill>
                <a:latin typeface="Tahoma"/>
              </a:rPr>
              <a:t>DNA Nucleotidyl transferase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RNA directed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n-US" sz="3200" spc="-1" strike="noStrike">
                <a:solidFill>
                  <a:srgbClr val="ff00ff"/>
                </a:solidFill>
                <a:latin typeface="Tahoma"/>
              </a:rPr>
              <a:t>Revertas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verse Transcriptase was discovered by </a:t>
            </a:r>
            <a:r>
              <a:rPr b="0" lang="en-US" sz="3200" spc="-1" strike="noStrike">
                <a:solidFill>
                  <a:srgbClr val="ff00ff"/>
                </a:solidFill>
                <a:latin typeface="Tahoma"/>
              </a:rPr>
              <a:t>Howard Temin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d </a:t>
            </a:r>
            <a:r>
              <a:rPr b="0" lang="en-US" sz="3200" spc="-1" strike="noStrike">
                <a:solidFill>
                  <a:srgbClr val="ff00ff"/>
                </a:solidFill>
                <a:latin typeface="Tahoma"/>
              </a:rPr>
              <a:t>Baltimore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1970 independently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shared </a:t>
            </a:r>
            <a:r>
              <a:rPr b="0" lang="en-US" sz="3200" spc="-1" strike="noStrike">
                <a:solidFill>
                  <a:srgbClr val="ff00ff"/>
                </a:solidFill>
                <a:latin typeface="Tahoma"/>
              </a:rPr>
              <a:t>Nobel Prize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Physiology or Medicine in 1975 for their discovery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04920" y="533520"/>
            <a:ext cx="86868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verse transcriptase common in </a:t>
            </a:r>
            <a:r>
              <a:rPr b="0" lang="en-US" sz="3200" spc="-1" strike="noStrike">
                <a:solidFill>
                  <a:srgbClr val="ff00ff"/>
                </a:solidFill>
                <a:latin typeface="Tahoma"/>
              </a:rPr>
              <a:t>Retroviru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n-US" sz="3200" spc="-1" strike="noStrike">
                <a:solidFill>
                  <a:srgbClr val="ff00ff"/>
                </a:solidFill>
                <a:latin typeface="Tahoma"/>
              </a:rPr>
              <a:t>HIV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Tahoma"/>
              </a:rPr>
              <a:t>M-MLV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(Moloney Murine Leukemia Viru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Tahoma"/>
              </a:rPr>
              <a:t>AMV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(Avian Myeloblastosis Viru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verse Transcriptase enzyme includes two activity: </a:t>
            </a:r>
            <a:r>
              <a:rPr b="0" lang="en-US" sz="3200" spc="-1" strike="noStrike">
                <a:solidFill>
                  <a:srgbClr val="ff00ff"/>
                </a:solidFill>
                <a:latin typeface="Tahoma"/>
              </a:rPr>
              <a:t>DNA polymerase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d </a:t>
            </a:r>
            <a:r>
              <a:rPr b="0" lang="en-US" sz="3200" spc="-1" strike="noStrike">
                <a:solidFill>
                  <a:srgbClr val="ff00ff"/>
                </a:solidFill>
                <a:latin typeface="Tahoma"/>
              </a:rPr>
              <a:t>RNase H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Tahoma"/>
              </a:rPr>
              <a:t>Retrovirus Replication Cycle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0" name="Picture 5" descr="HIV5"/>
          <p:cNvPicPr/>
          <p:nvPr/>
        </p:nvPicPr>
        <p:blipFill>
          <a:blip r:embed="rId1"/>
          <a:stretch/>
        </p:blipFill>
        <p:spPr>
          <a:xfrm>
            <a:off x="1676520" y="2209680"/>
            <a:ext cx="5486400" cy="365760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6"/>
          <p:cNvSpPr/>
          <p:nvPr/>
        </p:nvSpPr>
        <p:spPr>
          <a:xfrm>
            <a:off x="7162920" y="3276720"/>
            <a:ext cx="1447560" cy="30456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s DN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Rectangle 7"/>
          <p:cNvSpPr/>
          <p:nvPr/>
        </p:nvSpPr>
        <p:spPr>
          <a:xfrm>
            <a:off x="7238880" y="4267080"/>
            <a:ext cx="1447920" cy="30492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oviru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Rectangle 8"/>
          <p:cNvSpPr/>
          <p:nvPr/>
        </p:nvSpPr>
        <p:spPr>
          <a:xfrm>
            <a:off x="304920" y="4114800"/>
            <a:ext cx="1447560" cy="30492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ost DN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Line 9"/>
          <p:cNvSpPr/>
          <p:nvPr/>
        </p:nvSpPr>
        <p:spPr>
          <a:xfrm>
            <a:off x="3962520" y="1600200"/>
            <a:ext cx="0" cy="457200"/>
          </a:xfrm>
          <a:prstGeom prst="line">
            <a:avLst/>
          </a:prstGeom>
          <a:ln w="9360">
            <a:solidFill>
              <a:srgbClr val="f15813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Line 10"/>
          <p:cNvSpPr/>
          <p:nvPr/>
        </p:nvSpPr>
        <p:spPr>
          <a:xfrm>
            <a:off x="3962520" y="6019920"/>
            <a:ext cx="0" cy="380880"/>
          </a:xfrm>
          <a:prstGeom prst="line">
            <a:avLst/>
          </a:prstGeom>
          <a:ln w="9360">
            <a:solidFill>
              <a:srgbClr val="f1581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Line 12"/>
          <p:cNvSpPr/>
          <p:nvPr/>
        </p:nvSpPr>
        <p:spPr>
          <a:xfrm>
            <a:off x="3962520" y="1600200"/>
            <a:ext cx="4952880" cy="0"/>
          </a:xfrm>
          <a:prstGeom prst="line">
            <a:avLst/>
          </a:prstGeom>
          <a:ln w="9360">
            <a:solidFill>
              <a:srgbClr val="f1581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Line 13"/>
          <p:cNvSpPr/>
          <p:nvPr/>
        </p:nvSpPr>
        <p:spPr>
          <a:xfrm>
            <a:off x="8915400" y="1600200"/>
            <a:ext cx="0" cy="4800600"/>
          </a:xfrm>
          <a:prstGeom prst="line">
            <a:avLst/>
          </a:prstGeom>
          <a:ln w="9360">
            <a:solidFill>
              <a:srgbClr val="f1581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Line 14"/>
          <p:cNvSpPr/>
          <p:nvPr/>
        </p:nvSpPr>
        <p:spPr>
          <a:xfrm>
            <a:off x="3962520" y="6400800"/>
            <a:ext cx="4952880" cy="0"/>
          </a:xfrm>
          <a:prstGeom prst="line">
            <a:avLst/>
          </a:prstGeom>
          <a:ln w="9360">
            <a:solidFill>
              <a:srgbClr val="f1581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Rectangle 17"/>
          <p:cNvSpPr/>
          <p:nvPr/>
        </p:nvSpPr>
        <p:spPr>
          <a:xfrm>
            <a:off x="685800" y="6248520"/>
            <a:ext cx="3200400" cy="30456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ackaging into virus ; buddin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ntiviral drug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idovudi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amivudi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nfovi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380520" y="533520"/>
            <a:ext cx="85345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ypical retrovirus has three or four gen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ag-pol- env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trovirus are called + strand because viral RNA itself code for protein product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verse transcriptase enzyme code for proteins are called – stran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 : Redundant or repeating seq – 10-8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5:  80 – 10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3: 170-135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ke DNA polymerase, Reverse transcriptase requires primer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NA of the host is Prim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6" descr="1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76320" y="1219320"/>
            <a:ext cx="5267160" cy="533376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7"/>
          <p:cNvSpPr/>
          <p:nvPr/>
        </p:nvSpPr>
        <p:spPr>
          <a:xfrm>
            <a:off x="609480" y="380880"/>
            <a:ext cx="76964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15813"/>
                </a:solidFill>
                <a:latin typeface="Tahoma"/>
              </a:rPr>
              <a:t>MECHANSIM OF RETROVIRUS REPLIC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Text Box 11"/>
          <p:cNvSpPr/>
          <p:nvPr/>
        </p:nvSpPr>
        <p:spPr>
          <a:xfrm>
            <a:off x="5410080" y="1371600"/>
            <a:ext cx="350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1. A Retrovirus specific cellular </a:t>
            </a:r>
            <a:r>
              <a:rPr b="0" lang="en-US" sz="1800" spc="-1" strike="noStrike">
                <a:solidFill>
                  <a:srgbClr val="990000"/>
                </a:solidFill>
                <a:latin typeface="Tahoma"/>
              </a:rPr>
              <a:t>tRNA</a:t>
            </a: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 hybridizes with a complementary region called </a:t>
            </a:r>
            <a:r>
              <a:rPr b="1" lang="en-US" sz="1800" spc="-1" strike="noStrike">
                <a:solidFill>
                  <a:srgbClr val="990000"/>
                </a:solidFill>
                <a:latin typeface="Tahoma"/>
              </a:rPr>
              <a:t>PBS </a:t>
            </a: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(Primer Binding Sites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Text Box 13"/>
          <p:cNvSpPr/>
          <p:nvPr/>
        </p:nvSpPr>
        <p:spPr>
          <a:xfrm>
            <a:off x="5334120" y="2666880"/>
            <a:ext cx="35049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2. </a:t>
            </a:r>
            <a:r>
              <a:rPr b="0" lang="en-US" sz="1800" spc="-1" strike="noStrike">
                <a:solidFill>
                  <a:srgbClr val="a50021"/>
                </a:solidFill>
                <a:latin typeface="Tahoma"/>
              </a:rPr>
              <a:t>Reverse Transcriptase </a:t>
            </a: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(RT) starts at this </a:t>
            </a:r>
            <a:r>
              <a:rPr b="0" lang="en-US" sz="1800" spc="-1" strike="noStrike">
                <a:solidFill>
                  <a:srgbClr val="a50021"/>
                </a:solidFill>
                <a:latin typeface="Tahoma"/>
              </a:rPr>
              <a:t>binding site </a:t>
            </a: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and </a:t>
            </a:r>
            <a:r>
              <a:rPr b="0" lang="en-US" sz="1800" spc="-1" strike="noStrike">
                <a:solidFill>
                  <a:srgbClr val="a50021"/>
                </a:solidFill>
                <a:latin typeface="Tahoma"/>
              </a:rPr>
              <a:t>copies RNA </a:t>
            </a: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into a single strand of complementary </a:t>
            </a:r>
            <a:r>
              <a:rPr b="0" lang="en-US" sz="1800" spc="-1" strike="noStrike">
                <a:solidFill>
                  <a:srgbClr val="a50021"/>
                </a:solidFill>
                <a:latin typeface="Tahoma"/>
              </a:rPr>
              <a:t>DNA</a:t>
            </a: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. A DNA segment is extended from tRNA based on the sequence of the retroviral genomic RNA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Text Box 14"/>
          <p:cNvSpPr/>
          <p:nvPr/>
        </p:nvSpPr>
        <p:spPr>
          <a:xfrm>
            <a:off x="5410080" y="5181480"/>
            <a:ext cx="3505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3. The viral R and U5 sequences are removed by </a:t>
            </a:r>
            <a:r>
              <a:rPr b="0" lang="en-US" sz="1800" spc="-1" strike="noStrike">
                <a:solidFill>
                  <a:srgbClr val="990000"/>
                </a:solidFill>
                <a:latin typeface="Tahoma"/>
              </a:rPr>
              <a:t>RNase H.</a:t>
            </a: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Rectangle 15"/>
          <p:cNvSpPr/>
          <p:nvPr/>
        </p:nvSpPr>
        <p:spPr>
          <a:xfrm>
            <a:off x="380880" y="5867280"/>
            <a:ext cx="8382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LTR</a:t>
            </a:r>
            <a:r>
              <a:rPr b="0" lang="en-US" sz="1800" spc="-1" strike="noStrike">
                <a:solidFill>
                  <a:srgbClr val="a50021"/>
                </a:solidFill>
                <a:latin typeface="Tahoma"/>
              </a:rPr>
              <a:t> – </a:t>
            </a:r>
            <a:r>
              <a:rPr b="0" lang="en-US" sz="1800" spc="-1" strike="noStrike">
                <a:solidFill>
                  <a:srgbClr val="9900cc"/>
                </a:solidFill>
                <a:latin typeface="Tahoma"/>
              </a:rPr>
              <a:t>Long Terminal Repea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Left LT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- </a:t>
            </a:r>
            <a:r>
              <a:rPr b="0" lang="en-US" sz="1800" spc="-1" strike="noStrike">
                <a:solidFill>
                  <a:srgbClr val="9900cc"/>
                </a:solidFill>
                <a:latin typeface="Tahoma"/>
              </a:rPr>
              <a:t>Redundant sequence [R]+ 5’ untranslated region (U5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Right LT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- </a:t>
            </a:r>
            <a:r>
              <a:rPr b="0" lang="en-US" sz="1800" spc="-1" strike="noStrike">
                <a:solidFill>
                  <a:srgbClr val="9900cc"/>
                </a:solidFill>
                <a:latin typeface="Tahoma"/>
              </a:rPr>
              <a:t>Redundant sequence [R]+ 3’ untranslated region (U3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30T22:55:33Z</dcterms:created>
  <dc:creator>Paul Rindler</dc:creator>
  <dc:description/>
  <dc:language>en-US</dc:language>
  <cp:lastModifiedBy>LEGION2</cp:lastModifiedBy>
  <dcterms:modified xsi:type="dcterms:W3CDTF">2016-01-12T12:22:08Z</dcterms:modified>
  <cp:revision>34</cp:revision>
  <dc:subject/>
  <dc:title>Molecular Genetics</dc:title>
</cp:coreProperties>
</file>