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31D2-3416-43F6-9554-E2F213D91B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First jump: DNA hybridizes with the remaining R sequence at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A DNA strand is extended from the 3' e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Most viral RNA is removed by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A second DNA strand is extended from the viral R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Both tRNA and the remaining viral RNA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Second jump: The PBS region of the second strand hybridizes with the PBS region of the first str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Extension on both DNA strands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has a high error rate when transcribing RNA into DNA  as unlike DNA Polymerase, since it has no proof reading 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 error rate allows mutations to accu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mercially available RT produced by Promega are quoted high error rates in range of one in 17,000 bp for AMV and one in 30,000 bases for M-ML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ase can use single stranded RNA into DS DNA – c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NA library: A set of clones representing as many as possible of the mRNAs in a given cell type at given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paration cDNA library, mRNA is extracted, purified, and treated with the enzyme reverse transcript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DNA (cDNA) analogs of the isolated mRNA are thereby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mature mRNA contains no introns or regulatory regions, a cDNA library composed of coding reg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al Do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transcription involves synthesis of RNA from D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erse transcription is the transcription of single stranded RNA into double stranded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help of the enzyme Reverse Transcript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also known as RNA directed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NA Nucleotidyl transferase (RNA dir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Revert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was discovered by Howard Temin and Baltimore in 1970 independen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hared Nobel Prize in Physiology or Medicine in 1975 for their discov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common in Retrovir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-MLV (Moloney Murine Leukemia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V (Avian Myeloblastosis 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includes two activity: DNA polymerase and RNase 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Replication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s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kaging into virus ; b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viral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ido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mivud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nfov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ical retrovirus has three or four ge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g-pol- 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 are called + strand because viral RNA itself code for protein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enzyme code for proteins are called – str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 : Redundant or repeating seq – 10-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5:  80 –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3: 170-13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ke DNA polymerase, Reverse transcriptase requires pri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NA of the host is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CHANSIM OF RETROVIRUS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 Retrovirus specific cellular tRNA hybridizes with a complementary region called PBS (Primer Binding S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Reverse Transcriptase (RT) starts at this binding site and copies RNA into a single strand of complementary DNA. A DNA segment is extended from tRNA based on the sequence of the retroviral genomic R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he viral R and U5 sequences are removed by RNase 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TR – Long Terminal Rep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ft LTR - Redundant sequence [R]+ 5’ untranslated region (U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ght LTR  - Redundant sequence [R]+ 3’ untranslated region (U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175-9C18-4A5B-B452-0F00C82A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775-4EF7-4919-BDDC-7346C50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D9D-8753-4A44-92C2-9B4AE858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AB4-2DBA-42BE-B3E9-DD0D732B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C3E-FED6-4B51-A779-535AE058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39D5-37A1-438D-8384-322D520E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82AB-20C6-41D2-95C4-7ADEF7E7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1DBC-7CD1-4BC4-BF93-26462CB0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B26-FED9-420E-BC1B-6E3E3948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023-7196-458E-86CB-C97AF436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1FBC-3F16-4CD8-91A2-EB502A0C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247A-7C5B-4CC4-BCD3-2AB7CB1D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FCAE-020A-4109-B49F-5D0B4F3832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5ffff"/>
                </a:solidFill>
                <a:latin typeface="Tahoma"/>
              </a:rPr>
              <a:t>Reverse Transcription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ff"/>
            </a:gs>
            <a:gs pos="50000">
              <a:srgbClr val="ccccff"/>
            </a:gs>
            <a:gs pos="100000">
              <a:srgbClr val="e5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2"/>
          <p:cNvPicPr/>
          <p:nvPr/>
        </p:nvPicPr>
        <p:blipFill>
          <a:blip r:embed="rId1"/>
          <a:stretch/>
        </p:blipFill>
        <p:spPr>
          <a:xfrm>
            <a:off x="228600" y="228600"/>
            <a:ext cx="5324400" cy="5943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5638680" y="457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4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First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DNA hybridizes with the remaining R sequence at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5562720" y="2286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5. A DNA strand is extended from the 3' e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5562720" y="411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6. Most viral RNA is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e5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3"/>
          <p:cNvPicPr/>
          <p:nvPr/>
        </p:nvPicPr>
        <p:blipFill>
          <a:blip r:embed="rId1"/>
          <a:stretch/>
        </p:blipFill>
        <p:spPr>
          <a:xfrm>
            <a:off x="380880" y="304920"/>
            <a:ext cx="4876920" cy="6172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410080" y="457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7. A second DNA strand is extended from the viral RNA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5410080" y="1905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8. Both tRNA and the remaining viral RNA are removed by RNase H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5410080" y="3352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9.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Second jump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: The PBS region of the second strand hybridizes with the PBS region of the first strand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410080" y="5029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0. Extension on both DNA strands.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has a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high erro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ate when transcribing RNA into DNA  as unlike DNA Polymerase, since it ha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no proof reading 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high error rate allows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ut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accumul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ommercially available RT produced by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Promeg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re quoted high error rates in range of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17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p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one in 30,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bases for </a:t>
            </a:r>
            <a:r>
              <a:rPr b="0" lang="en-US" sz="2800" spc="-1" strike="noStrike">
                <a:solidFill>
                  <a:srgbClr val="ff00ff"/>
                </a:solidFill>
                <a:latin typeface="Tahoma"/>
              </a:rPr>
              <a:t>M-ML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cDNA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erse Transcriptase can use single stranded RNA into DS DNA – cDN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NA library: A set of clones representing as many as possible of the mRNAs in a given cell type at given tim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preparation cDNA library, mRNA is extracted, purified, and treated with the enzyme reverse transcriptas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mentary DNA (cDNA) analogs of the isolated mRNA are thereby obtai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mature mRNA contains no introns or regulatory regions, a cDNA library composed of coding region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entral Dogm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248520" cy="45388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mal transcription involves synthesis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from DN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ion is the transcription of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single stranded RNA into double stranded D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th the help of the enzyme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se Transcriptas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also known as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 directed DNA Polymer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Nucleotidyl transf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RNA directed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vert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was discovered by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oward Temi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Baltimo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70 independent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hare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Nobel Priz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Physiology or Medicine in 1975 for their discover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common in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M-ML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Moloney Murine Leukemia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M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Avian Myeloblastosis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erse Transcriptase enzyme includes two activity: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DNA polymera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Nase 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Retrovirus Replication Cycle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5" descr="HIV5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162920" y="3276720"/>
            <a:ext cx="144756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s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38880" y="4267080"/>
            <a:ext cx="144792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r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304920" y="4114800"/>
            <a:ext cx="1447560" cy="304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st D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9"/>
          <p:cNvSpPr/>
          <p:nvPr/>
        </p:nvSpPr>
        <p:spPr>
          <a:xfrm>
            <a:off x="3962520" y="1600200"/>
            <a:ext cx="0" cy="4572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10"/>
          <p:cNvSpPr/>
          <p:nvPr/>
        </p:nvSpPr>
        <p:spPr>
          <a:xfrm>
            <a:off x="3962520" y="6019920"/>
            <a:ext cx="0" cy="38088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3962520" y="16002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13"/>
          <p:cNvSpPr/>
          <p:nvPr/>
        </p:nvSpPr>
        <p:spPr>
          <a:xfrm>
            <a:off x="8915400" y="1600200"/>
            <a:ext cx="0" cy="480060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f1581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685800" y="6248520"/>
            <a:ext cx="3200400" cy="3045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kaging into virus ; bud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tiviral dru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do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mivud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fovi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ical retrovirus has three or four ge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g-pol- en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rovirus are called + strand because viral RNA itself code for protein produc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verse transcriptase enzyme code for proteins are called – str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 : Redundant or repeating seq – 10-8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5:  80 – 1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3: 170-13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DNA polymerase, Reverse transcriptase requires primer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NA of the host is Pr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6" descr="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219320"/>
            <a:ext cx="5267160" cy="53337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609480" y="380880"/>
            <a:ext cx="7696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5813"/>
                </a:solidFill>
                <a:latin typeface="Tahoma"/>
              </a:rPr>
              <a:t>MECHANSIM OF RETROVIRUS REPLI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410080" y="137160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1. A Retrovirus specific cellular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tR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hybridizes with a complementary region called 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PBS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Primer Binding Si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334120" y="2666880"/>
            <a:ext cx="350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2.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everse Transcriptas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(RT) starts at this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inding site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and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copies RNA 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into a single strand of complementary 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DNA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. A DNA segment is extended from tRNA based on the sequence of the retroviral genomic R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5410080" y="51814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3. The viral R and U5 sequences are removed by </a:t>
            </a:r>
            <a:r>
              <a:rPr b="0" lang="en-US" sz="1800" spc="-1" strike="noStrike">
                <a:solidFill>
                  <a:srgbClr val="990000"/>
                </a:solidFill>
                <a:latin typeface="Tahoma"/>
              </a:rPr>
              <a:t>RNase H.</a:t>
            </a: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380880" y="58672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TR</a:t>
            </a: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 –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Long Terminal Repe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Lef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5’ untranslated region (U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Right LT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- </a:t>
            </a:r>
            <a:r>
              <a:rPr b="0" lang="en-US" sz="1800" spc="-1" strike="noStrike">
                <a:solidFill>
                  <a:srgbClr val="9900cc"/>
                </a:solidFill>
                <a:latin typeface="Tahoma"/>
              </a:rPr>
              <a:t>Redundant sequence [R]+ 3’ untranslated region (U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22:55:33Z</dcterms:created>
  <dc:creator>Paul Rindler</dc:creator>
  <dc:description/>
  <dc:language>en-US</dc:language>
  <cp:lastModifiedBy>LEGION2</cp:lastModifiedBy>
  <dcterms:modified xsi:type="dcterms:W3CDTF">2016-01-12T12:22:08Z</dcterms:modified>
  <cp:revision>34</cp:revision>
  <dc:subject/>
  <dc:title>Molecular Genetics</dc:title>
</cp:coreProperties>
</file>