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40.jpeg" ContentType="image/jpeg"/>
  <Override PartName="/ppt/media/image11.png" ContentType="image/png"/>
  <Override PartName="/ppt/media/image38.jpeg" ContentType="image/jpeg"/>
  <Override PartName="/ppt/media/image31.wmf" ContentType="image/x-wmf"/>
  <Override PartName="/ppt/media/image46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41.png" ContentType="image/png"/>
  <Override PartName="/ppt/media/image43.wmf" ContentType="image/x-wmf"/>
  <Override PartName="/ppt/media/image44.wmf" ContentType="image/x-wmf"/>
  <Override PartName="/ppt/media/image45.png" ContentType="image/png"/>
  <Override PartName="/ppt/media/image47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8.png" ContentType="image/pn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0220-BC83-4FD3-B5CA-6CFF705A6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MBINANT DNA AND POLYMERASE CHAIN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on of Alte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gene used to identify recombin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ion of Altere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iotic resistance gene used to identify recombinan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http://www.sumanasinc.com/webcontent/animations/content/plasmidcloning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NIMATION – RECOMBINANT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ids will not work as well in eukaryotic organisms like plants and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methods need to be used to insert the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al vectors can be used for animal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rus can ‘inject’ their DNA into an animal host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use this technique on all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 Gun can be used to insert genes into plan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rt.purdue.edu/hort/courses/HORT250/animations/Gene%20Gun%20Animation/Genegun1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 G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echnologists a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Solv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betics having reactions to porcine/animal insu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at crops being attacked by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sick with cystic fibr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se can be fixed by recombinant DNA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Flow Chart show the steps involved in making recombinant DNA for a desired gene.  From cutting of the gene to the final product (this may involve the delivery meth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e have made the gene – how do we get lots of copies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Coli Plasmid is cut with the same restriction enzyme used to cut the insulin g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lin gene is cut from a pancreatic cell DNA using a specific restriction enzy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lin - Bacterial cells when supplied with required polypeptides or proteins, the colonies will produce insul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 Vaccines- The plamids are isolated from the e.coli cells, the genes are then amplifyed via PCR  and used to create inactivated viruses for vacc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Properti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lementary strands of DNA can be separated and re-associated by heating and coo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rand of DNA specifies the sequence of the other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ful Properties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lementary strands of DNA can be separated and re-associated by heating and coo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trand of DNA specifies the sequence of the other str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make more copies of DNA from a tiny DNA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manasinc.com/webcontent/animations/content/pcr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 (PCR) Amplifies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 specify what DNA i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merase Chain Reaction (PCR) Amplifies D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ers specify what DNA is cop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– Double Helix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piral strand is composed of a sugar phosphate backbone and attache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Bases: Adenine (A), Guanine(G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 (C), and Thymine (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Base Pairs; A with T and C with G in the complementary strand v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(non- covalen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ands can be cut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riction enzymes, e.g. ECOR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already kn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mplifie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CR Amplifies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low Chart of PC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Insu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recombinant 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food crops with immunity to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nsic Crime scene analysi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profi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World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al issues related to “cloning” of human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genetically engineered organisms affect 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ead of genes to other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ill dec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ss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hical issues related to “cloning” of human 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ill genetically engineered organisms affect environ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ead of genes to other organis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will deci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are often used in biotechnology as they have plasm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asmid a circular piece of DNA that exists apart from the chromosome and replicates independently of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l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the blanks of the worksh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that has been cut from one strand of DNA and then inserted into the gap of another piece of DNA that has been bro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st DNA is often a bacterial cell such as E col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splicing the gene into the host DNA is to produce many copies of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acteria reproduce in a very short time it is possible to make million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ies of the gene fairly quick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Recombinant DN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quired gene e.g. Insulin, is cut from the DNA using a restriction enzy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ircular piece of DNA, called a plasmid, is removed from the bacterial cell and is cut open using the same restriction enzy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t out human gene is then mixed with the bacterial plasmids in a test tub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y have been cut with the same enzyme, the cut ends of the plasmid and the end of the human gene match. Often called ‘sticky end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 DNA ligase is used to stick the ends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ake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Introducing the Plasmid Back - 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 plasmids that contains the introduced gene (recombinant DNA) need to be reintroduced into the bacteria so they can multiply and make more of the ge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done by combining them in a test tube with CaCl2. The high concentration of calcium ions makes the membranes of the bacteria more poro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hen allows the plasmids to move into the bacterial ce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bacteria will take up a plasm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is is why the monitoring m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which bacteria have the ge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cessary to isolate the host bacteria that contain the gene that has been spliced as only want the recombinant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having a gene on the same plasmid that gives resistance to an antibiotic, the other bacteria can be removed by culturing the bacteria in a medium that contains the antibiot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a containing the resistance to the antibiotic will survive and the others will be killed by the antibio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7F85-228E-4F35-B65A-1175B761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0A2B-DDC8-4D38-8BB6-D3BACF01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2F175-9495-41BB-8F4C-A16F5334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EF54B-9CB7-4481-A88F-3CE5A12B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CFADA-9074-4055-AB6D-112FDDD3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04180-5421-486E-9203-A535D172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EA9E8-1983-4B42-8C2D-168EAB5E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B2ED3-6117-487F-A359-62BE0A82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3C778-DAB7-4068-B8C5-9D357D74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844D2-0094-466D-98C3-3ADF8859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63730-4D53-4AC1-9FB1-AA19D275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3664B-91B6-4758-B707-0B7CE4D2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B95A-FCA9-459E-B2B2-75C5712F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84956-7C3C-4515-92E7-3BF01EB1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B5E7C-3FF4-4F48-A4AC-F3F3B28C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6F432-173B-440B-A8F9-E811F669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3B9D1-85D2-4987-8294-D5D0822D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5C93A-0B07-48E8-B7A5-09E23F5B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ACABA-A0B2-4C1F-9BFA-4F85B05C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03E9B-B0D0-408E-9F77-D88B3287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3E348-D003-4F81-8E1C-55C3BFF7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3F5DB-2AC1-4E71-8E8A-FB1EEF02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E0554-E5B1-49E6-AFF0-8F4D37D2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576-7A3E-46D9-BF56-B88B3673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B4C0F-A878-4147-B788-177A2959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2AF9-AF0A-4DD2-B334-8544D16E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DB1A-D4B9-472D-BDB9-40B996ED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A4AD-1CB6-4461-8952-EA641982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055F-4C11-476B-80EE-827B814D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21CB-42A9-4271-BC7E-E0C6FFBC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F07D-D787-430A-B136-E67D7B6A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1B16-C9DD-45BD-888B-32D815BF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0BFA-BEF5-48C3-A03F-35811D83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565C-4D7C-4C48-BEB6-42F3BB0A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E2A4-F050-450E-B4BC-8B35B515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2BC0-2BAA-469F-A70A-8042C5AA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DFDD-4764-414F-A56F-EABAAB76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0548-9498-4F7D-9A09-30D412B8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CE2A2-C433-4FA1-999F-81EC3E32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6EEBF-69A0-4219-B83B-3D2B59EB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EE499-22A0-4965-8791-BA1AE5CA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6F477-E1A8-44DE-8C19-887D3FCB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92C55-FAEB-4558-A514-3E9F1493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0A3-4091-4433-9936-672C7569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4671-14EA-4B11-88FE-45111DC5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E5621-A85E-45E3-9052-C1163D81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B7FF3-BB6C-46E4-B871-7B1E7006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AF1EC-7DFB-43C8-B764-88B1555C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19408-FFE7-4EE0-8646-15CE9474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64E2C-36BF-4101-868F-0A3BC040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84C2E-A372-4F6E-A52B-0353A5C7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FEB80-3EE4-4917-9674-3B9C8066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8FABF-BF96-4755-8595-5C3A8FC7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3B47C-7161-47C4-B5F2-0530A004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CC2-B8E8-457C-A9EE-F279FB8E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98D45-32D3-40E4-BFBE-08F84CD6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AD670-90A5-4B1C-B79D-3FDA897A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BA8C4-D55C-434B-AFC9-EB6C9EB2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FAD6A-1A24-4EFA-A28E-6211B899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54C51-79B8-4520-9A2A-2C2BF681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66FBE-5697-419E-85A2-AA84E184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F6999-9429-414B-8422-676D91F2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EED34-BB88-422F-823D-4BCFE6E9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A16E0-D89C-400A-9964-E6436FE5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39727-5222-4D0D-B180-D9A77728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CCD-2D08-4A15-A448-ED61CEAA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ED43C-C6F5-4CD6-8FBA-FC358F7A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2957E-5B20-4C47-A0FD-C00901AF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3F6B3-9B3A-4B5F-8C01-0EB76AA8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25254-DDFD-4ED5-A7BE-DE52A9CF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D26D4-F188-44B4-929D-D3165210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325FF-2E1A-4099-96F6-BCE5001B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CC8B4-E192-4045-BBA6-179B62A9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DDA0B-7363-4054-A7FE-AE5BB519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8F5CB-EAC5-4A2F-A41B-C93DFB56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2B89C-0D13-45BD-BB02-D4AD2A07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1A8-CCBD-41C6-AE95-16CB4716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8E871-FA87-4B7F-8097-E44372BB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373F0-B2B9-4C6C-B0EB-EFAC9C9A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C7082-B485-4026-8188-7E440E63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2A666-C9C2-46E0-85C8-5BF57CE0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CF12C-1DB8-43C3-8EE5-8CB0BCBF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3FCA6-C80D-47F7-A6C7-525CDC12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D9031-FBAA-4D13-B108-D82C3767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CA828-120B-43BD-88FE-E9B9C8D2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2426C-0271-4821-8961-C29E92FD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A16C3-5F07-4748-96F7-0CBE3211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47C-842C-43DA-B97F-E97ECDD8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D87A3-3F75-4B18-9383-6E32DE9F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04D68-78DD-4529-A406-306ACCCF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0137D-F3E0-4DBB-9D92-7F0C8D55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54750-EC83-483C-85E4-85C8CCCF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C3128-48D9-4425-8A08-A428D85B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EA347-8B27-4D84-AE3D-53C3FED3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4FBCD-DD08-48A4-916C-F2F8E7CA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A95EA-C0BE-4B19-8A01-42AD9321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B0B8A-71AC-4C69-A059-48AAF77E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F0425-B249-4EC9-BC26-308FE525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3E01-C24B-4041-8F78-33D09D46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A748D-169F-471A-B392-3528EEBE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7675E-56B3-4087-9A59-CD9B1432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E1D9B-C44B-4981-AD4A-645A5D1C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49F87-3C3B-4730-ABFA-E706729C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A2AEC-22B0-48CE-9A77-BE731007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04BCB-686A-4BF9-A6AC-0FC3D02A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785F2-97FF-4E9D-B8D8-189CC5FA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10FA9-250B-451F-AB35-EFB4D94D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199FE-2EDC-476D-B77A-1A45C8CC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36CF6-F428-49EF-9053-ECC74B31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7F13-2F94-45D5-A163-BC7185E0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A2EA1-006C-451C-ABF6-9B4FD97E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2964C-6D90-411F-A79E-75D66CB3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A5AD2-A143-4600-9BB4-69178A7E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4E56A-5195-414C-94BD-8780DA6A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8CF3D-BA28-43B7-AF5D-D2BE9382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22864-7AF5-4CD7-90A3-BBF1B601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B77DB-409F-4C32-A0CF-45A45DEA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9BC3F-EDA1-4472-AF73-789C9E88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80A09-3F2E-450B-A8BB-619FA3C6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74F87-3DC3-4D51-ADCC-9F6E6F97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6927-BB4E-4307-B3E6-91F0F3D4C08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3E8B-934F-41EE-B1B2-91C028C0EB0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B2C5-4216-4876-948C-BF217E1E2C4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38D0-179E-42DC-86C3-918B231FDB0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4AAB-0FEB-4FAB-B947-EF7AF0177C0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F97F-883A-482A-A31B-0C1EF09F615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5471-C17D-47A4-ACE4-1534173CAB8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72BE-8596-448D-9B38-4EAB73FB04E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8AB7-EE86-4146-A38A-BE303B9FFE9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1DA6-CE11-4D29-91E3-B93FB10FB39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plasmidcloning.html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ort.purdue.edu/hort/courses/HORT250/animations/Gene%20Gun%20Animation/Genegun1.html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hyperlink" Target="http://www.sumanasinc.com/webcontent/animations/content/pcr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Title 1" descr=""/>
          <p:cNvPicPr/>
          <p:nvPr/>
        </p:nvPicPr>
        <p:blipFill>
          <a:blip r:embed="rId1"/>
          <a:stretch/>
        </p:blipFill>
        <p:spPr>
          <a:xfrm>
            <a:off x="237960" y="493560"/>
            <a:ext cx="8631360" cy="17431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73" name="Picture 3" descr="gejoke"/>
          <p:cNvPicPr/>
          <p:nvPr/>
        </p:nvPicPr>
        <p:blipFill>
          <a:blip r:embed="rId2"/>
          <a:stretch/>
        </p:blipFill>
        <p:spPr>
          <a:xfrm>
            <a:off x="1905120" y="2143080"/>
            <a:ext cx="5371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463680" y="133200"/>
            <a:ext cx="7997760" cy="10558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762120" y="556236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tibiotic resistance gene used to identify recombinant cel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Picture 7" descr="f10-10_one_method_for_s_c"/>
          <p:cNvPicPr/>
          <p:nvPr/>
        </p:nvPicPr>
        <p:blipFill>
          <a:blip r:embed="rId2"/>
          <a:stretch/>
        </p:blipFill>
        <p:spPr>
          <a:xfrm>
            <a:off x="1828800" y="1066680"/>
            <a:ext cx="53341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57200" y="1285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umanasinc.com/webcontent/animations/content/plasmidcloning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7" name="Title 1" descr=""/>
          <p:cNvPicPr/>
          <p:nvPr/>
        </p:nvPicPr>
        <p:blipFill>
          <a:blip r:embed="rId2"/>
          <a:stretch/>
        </p:blipFill>
        <p:spPr>
          <a:xfrm>
            <a:off x="244440" y="274680"/>
            <a:ext cx="8442360" cy="11890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"/>
          <p:cNvPicPr/>
          <p:nvPr/>
        </p:nvPicPr>
        <p:blipFill>
          <a:blip r:embed="rId3"/>
          <a:stretch/>
        </p:blipFill>
        <p:spPr>
          <a:xfrm>
            <a:off x="714240" y="2214720"/>
            <a:ext cx="77011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Plasmids will not work as well in eukaryotic organisms like plants and anim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Other methods need to be used to insert the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Viral vectors can be used for animal c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The virus can ‘inject’ their DNA into an animal host ce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9" descr="virus2"/>
          <p:cNvPicPr/>
          <p:nvPr/>
        </p:nvPicPr>
        <p:blipFill>
          <a:blip r:embed="rId2"/>
          <a:stretch/>
        </p:blipFill>
        <p:spPr>
          <a:xfrm rot="285000">
            <a:off x="6441840" y="4362120"/>
            <a:ext cx="244296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50920" y="17114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Gene Gun can be used to insert genes into plant ce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hort.purdue.edu/hort/courses/HORT250/animations/Gene%20Gun%20Animation/Genegun1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Title 2" descr=""/>
          <p:cNvPicPr/>
          <p:nvPr/>
        </p:nvPicPr>
        <p:blipFill>
          <a:blip r:embed="rId2"/>
          <a:stretch/>
        </p:blipFill>
        <p:spPr>
          <a:xfrm>
            <a:off x="2487600" y="274680"/>
            <a:ext cx="8485200" cy="1346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MCj02321110000[1]"/>
          <p:cNvPicPr/>
          <p:nvPr/>
        </p:nvPicPr>
        <p:blipFill>
          <a:blip r:embed="rId3"/>
          <a:stretch/>
        </p:blipFill>
        <p:spPr>
          <a:xfrm>
            <a:off x="108000" y="4653000"/>
            <a:ext cx="2232000" cy="2089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MCj03393020000[1]"/>
          <p:cNvPicPr/>
          <p:nvPr/>
        </p:nvPicPr>
        <p:blipFill>
          <a:blip r:embed="rId4"/>
          <a:stretch/>
        </p:blipFill>
        <p:spPr>
          <a:xfrm>
            <a:off x="7308720" y="4608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24912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3031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abetics having reactions to porcine/animal insul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at crops being attacked by ins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ople sick with cystic fibros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these can be fixed by recombinant DNA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a Flow Chart show the steps involved in making recombinant DNA for a desired gene.  From cutting of the gene to the final product (this may involve the delivery metho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Picture 5" descr="MCj04398510000[1]"/>
          <p:cNvPicPr/>
          <p:nvPr/>
        </p:nvPicPr>
        <p:blipFill>
          <a:blip r:embed="rId2"/>
          <a:stretch/>
        </p:blipFill>
        <p:spPr>
          <a:xfrm>
            <a:off x="7236000" y="189000"/>
            <a:ext cx="192384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-360" y="571680"/>
            <a:ext cx="871524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ucida Sans Unicode"/>
              </a:rPr>
              <a:t>Now we have made the gene – how do we get lots of copies?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Diagram 1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69268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2"/>
          <p:cNvSpPr/>
          <p:nvPr/>
        </p:nvSpPr>
        <p:spPr>
          <a:xfrm>
            <a:off x="857160" y="142920"/>
            <a:ext cx="207180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E.Coli Plasmid is cut with the same restriction enzyme used to cut the insulin ge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429240" y="142920"/>
            <a:ext cx="2143440" cy="5713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Insulin gene is cut from a pancreatic cell DNA using a specific restriction enzy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57120" y="6143760"/>
            <a:ext cx="2857680" cy="7142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insulin - Bacterial cells when supplied with required polypeptides or proteins, the colonies will produce insul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5929200" y="6143760"/>
            <a:ext cx="3000600" cy="7142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E.g Vaccines- The plamids are isolated from the e.coli cells, the genes are then amplifyed via PCR  and used to create inactivated viruses for vacc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ight Arrow 6"/>
          <p:cNvSpPr/>
          <p:nvPr/>
        </p:nvSpPr>
        <p:spPr>
          <a:xfrm>
            <a:off x="3071880" y="42876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eft Arrow 7"/>
          <p:cNvSpPr/>
          <p:nvPr/>
        </p:nvSpPr>
        <p:spPr>
          <a:xfrm>
            <a:off x="5929200" y="500040"/>
            <a:ext cx="357480" cy="1429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Straight Arrow Connector 12"/>
          <p:cNvCxnSpPr/>
          <p:nvPr/>
        </p:nvCxnSpPr>
        <p:spPr>
          <a:xfrm>
            <a:off x="4857480" y="6215040"/>
            <a:ext cx="786600" cy="286560"/>
          </a:xfrm>
          <a:prstGeom prst="straightConnector1">
            <a:avLst/>
          </a:prstGeom>
          <a:ln w="4428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18" name="Straight Arrow Connector 14"/>
          <p:cNvCxnSpPr/>
          <p:nvPr/>
        </p:nvCxnSpPr>
        <p:spPr>
          <a:xfrm flipH="1">
            <a:off x="3428640" y="6215040"/>
            <a:ext cx="1000800" cy="286560"/>
          </a:xfrm>
          <a:prstGeom prst="straightConnector1">
            <a:avLst/>
          </a:prstGeom>
          <a:ln w="50760">
            <a:solidFill>
              <a:srgbClr val="2da2b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Rectangle 2" descr=""/>
          <p:cNvPicPr/>
          <p:nvPr/>
        </p:nvPicPr>
        <p:blipFill>
          <a:blip r:embed="rId1"/>
          <a:stretch/>
        </p:blipFill>
        <p:spPr>
          <a:xfrm>
            <a:off x="463680" y="176040"/>
            <a:ext cx="7997760" cy="10494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523800" y="1576440"/>
            <a:ext cx="41911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complementary strands of DNA can be separated and re-associated by heating and cooling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One strand of DNA specifies the sequence of the other stra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1" name="Picture 6" descr="f10-1a_dna_heating_and__c"/>
          <p:cNvPicPr/>
          <p:nvPr/>
        </p:nvPicPr>
        <p:blipFill>
          <a:blip r:embed="rId2"/>
          <a:stretch/>
        </p:blipFill>
        <p:spPr>
          <a:xfrm>
            <a:off x="5029200" y="2057400"/>
            <a:ext cx="380988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sumanas_pcr.m4v" descr=""/>
          <p:cNvPicPr/>
          <p:nvPr/>
        </p:nvPicPr>
        <p:blipFill>
          <a:blip r:embed="rId1"/>
          <a:stretch/>
        </p:blipFill>
        <p:spPr>
          <a:xfrm>
            <a:off x="2050920" y="1247760"/>
            <a:ext cx="5500800" cy="4125960"/>
          </a:xfrm>
          <a:prstGeom prst="rect">
            <a:avLst/>
          </a:prstGeom>
          <a:ln w="0">
            <a:noFill/>
          </a:ln>
        </p:spPr>
      </p:pic>
      <p:pic>
        <p:nvPicPr>
          <p:cNvPr id="523" name="Title 1" descr=""/>
          <p:cNvPicPr/>
          <p:nvPr/>
        </p:nvPicPr>
        <p:blipFill>
          <a:blip r:embed="rId2"/>
          <a:stretch/>
        </p:blipFill>
        <p:spPr>
          <a:xfrm>
            <a:off x="835200" y="274680"/>
            <a:ext cx="8484840" cy="12430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7"/>
          <p:cNvSpPr/>
          <p:nvPr/>
        </p:nvSpPr>
        <p:spPr>
          <a:xfrm>
            <a:off x="-216000" y="5516640"/>
            <a:ext cx="939636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Used to make more copies of DNA from a tiny DNA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sumanasinc.com/webcontent/animations/content/pcr.html</a:t>
            </a:r>
            <a:r>
              <a:rPr b="0" lang="en-A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Rectangle 2" descr=""/>
          <p:cNvPicPr/>
          <p:nvPr/>
        </p:nvPicPr>
        <p:blipFill>
          <a:blip r:embed="rId1"/>
          <a:stretch/>
        </p:blipFill>
        <p:spPr>
          <a:xfrm>
            <a:off x="384120" y="85680"/>
            <a:ext cx="8266320" cy="16146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37720" y="5866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909"/>
                </a:solidFill>
                <a:latin typeface="Lucida Sans Unicode"/>
              </a:rPr>
              <a:t>Primer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specify what DNA is copi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7" name="Picture 5" descr="f10-6a_diagram_of_the_p_c"/>
          <p:cNvPicPr/>
          <p:nvPr/>
        </p:nvPicPr>
        <p:blipFill>
          <a:blip r:embed="rId2"/>
          <a:srcRect l="0" t="0" r="0" b="45000"/>
          <a:stretch/>
        </p:blipFill>
        <p:spPr>
          <a:xfrm>
            <a:off x="990720" y="1600200"/>
            <a:ext cx="67816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1341360"/>
            <a:ext cx="77580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DNA – Double Helix Struc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spiral strand is composed of a sugar phosphate backbone and attached b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 Bases: Adenine (A), Guanine(G)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ytosine (C), and Thymine (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 Base Pairs; A with T and C with G in the complementary strand vi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drogen bonding (non- covalent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trands can be cut b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triction enzymes, e.g. ECOR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dna.gif"/>
          <p:cNvPicPr/>
          <p:nvPr/>
        </p:nvPicPr>
        <p:blipFill>
          <a:blip r:embed="rId2"/>
          <a:stretch/>
        </p:blipFill>
        <p:spPr>
          <a:xfrm>
            <a:off x="6537240" y="4005360"/>
            <a:ext cx="2787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Rectangle 2" descr=""/>
          <p:cNvPicPr/>
          <p:nvPr/>
        </p:nvPicPr>
        <p:blipFill>
          <a:blip r:embed="rId1"/>
          <a:stretch/>
        </p:blipFill>
        <p:spPr>
          <a:xfrm>
            <a:off x="433440" y="60948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80520" y="41907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pidemiolog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enetic engineer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0" name="Picture 3" descr="f10-6b_diagram_of_the_p_c"/>
          <p:cNvPicPr/>
          <p:nvPr/>
        </p:nvPicPr>
        <p:blipFill>
          <a:blip r:embed="rId2"/>
          <a:stretch/>
        </p:blipFill>
        <p:spPr>
          <a:xfrm>
            <a:off x="228600" y="1752480"/>
            <a:ext cx="861048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663480" y="18446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Production of Insul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king recombinant vaccin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king food crops with immunity to ins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Forensic Crime scene analysis –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DNA profi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4" name="Title 1" descr=""/>
          <p:cNvPicPr/>
          <p:nvPr/>
        </p:nvPicPr>
        <p:blipFill>
          <a:blip r:embed="rId1"/>
          <a:stretch/>
        </p:blipFill>
        <p:spPr>
          <a:xfrm>
            <a:off x="1268280" y="549360"/>
            <a:ext cx="8479080" cy="12430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" descr="MCj02908650000[1]"/>
          <p:cNvPicPr/>
          <p:nvPr/>
        </p:nvPicPr>
        <p:blipFill>
          <a:blip r:embed="rId2"/>
          <a:stretch/>
        </p:blipFill>
        <p:spPr>
          <a:xfrm>
            <a:off x="6227640" y="4273560"/>
            <a:ext cx="2397240" cy="24685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MCj02152430000[1]"/>
          <p:cNvPicPr/>
          <p:nvPr/>
        </p:nvPicPr>
        <p:blipFill>
          <a:blip r:embed="rId3"/>
          <a:stretch/>
        </p:blipFill>
        <p:spPr>
          <a:xfrm rot="1014600">
            <a:off x="217440" y="43920"/>
            <a:ext cx="1185840" cy="2268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6" descr="MCj04417140000[1]"/>
          <p:cNvPicPr/>
          <p:nvPr/>
        </p:nvPicPr>
        <p:blipFill>
          <a:blip r:embed="rId4"/>
          <a:stretch/>
        </p:blipFill>
        <p:spPr>
          <a:xfrm>
            <a:off x="6875640" y="907920"/>
            <a:ext cx="23763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thical issues related to “cloning” of human ge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will genetically engineered organisms affect environmen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read of genes to other organism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 will decid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geneticengtuna"/>
          <p:cNvPicPr/>
          <p:nvPr/>
        </p:nvPicPr>
        <p:blipFill>
          <a:blip r:embed="rId1"/>
          <a:stretch/>
        </p:blipFill>
        <p:spPr>
          <a:xfrm>
            <a:off x="2154240" y="457200"/>
            <a:ext cx="4775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Bacteria are often used in biotechnology as they have plasm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lasmid a circular piece of DNA that exists apart from the chromosome and replicates independently of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Title 5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plasmid.jpg"/>
          <p:cNvPicPr/>
          <p:nvPr/>
        </p:nvPicPr>
        <p:blipFill>
          <a:blip r:embed="rId2"/>
          <a:stretch/>
        </p:blipFill>
        <p:spPr>
          <a:xfrm>
            <a:off x="428760" y="4286160"/>
            <a:ext cx="3714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197000"/>
            <a:ext cx="82296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that has been cut from one strand of DNA and then inserted into the gap of another piece of DNA that has been bro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ost DNA is often a bacterial cell such a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 col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urpose of splicing the gene into the host DNA is to produce many copies of i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bacteria reproduce in a very short time it is possible to make millions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pies of the gene fairly quick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3" name="Title 1" descr=""/>
          <p:cNvPicPr/>
          <p:nvPr/>
        </p:nvPicPr>
        <p:blipFill>
          <a:blip r:embed="rId1"/>
          <a:stretch/>
        </p:blipFill>
        <p:spPr>
          <a:xfrm>
            <a:off x="328680" y="19512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bacteria"/>
          <p:cNvPicPr/>
          <p:nvPr/>
        </p:nvPicPr>
        <p:blipFill>
          <a:blip r:embed="rId2"/>
          <a:stretch/>
        </p:blipFill>
        <p:spPr>
          <a:xfrm>
            <a:off x="6372360" y="4724280"/>
            <a:ext cx="26841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required gene e.g. Insulin, is cut from the DNA using a restriction enzym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 circular piece of DNA, called a plasmid, is removed from the bacterial cell and is cut open using the same restriction enzym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cut out human gene is then mixed with the bacterial plasmids in a test tub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ecause they have been cut with the same enzyme, the cut ends of the plasmid and the end of the human gene match. Often called ‘sticky ends’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enzyme DNA ligase is used to stick the ends together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6" name="Tit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Content Placeholder 3" descr="inserting.gif"/>
          <p:cNvPicPr/>
          <p:nvPr/>
        </p:nvPicPr>
        <p:blipFill>
          <a:blip r:embed="rId1"/>
          <a:stretch/>
        </p:blipFill>
        <p:spPr>
          <a:xfrm>
            <a:off x="1714680" y="714240"/>
            <a:ext cx="535752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511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w the plasmids that contains the introduced gene (recombinant DNA) need to be reintroduced into the bacteria so they can multiply and make more of the gen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an be done by combining them in a test tube with CaCl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. The high concentration of calcium ions makes the membranes of the bacteria more porou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is then allows the plasmids to move into the bacterial cell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t all bacteria will take up a plasmid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nd this is why the monitoring mus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app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Picture 7" descr="MCj04417150000[1]"/>
          <p:cNvPicPr/>
          <p:nvPr/>
        </p:nvPicPr>
        <p:blipFill>
          <a:blip r:embed="rId2"/>
          <a:stretch/>
        </p:blipFill>
        <p:spPr>
          <a:xfrm>
            <a:off x="7236000" y="4718160"/>
            <a:ext cx="22320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itle 4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ecessary to isolate the host bacteria that contain the gene that has been spliced as only want the recombinant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y having a gene on the same plasmid that gives resistance to an antibiotic, the other bacteria can be removed by culturing the bacteria in a medium that contains the antibioti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bacteria containing the resistance to the antibiotic will survive and the others will be killed by the antibiot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7:47:47Z</dcterms:created>
  <dc:creator>Corporate Edition</dc:creator>
  <dc:description/>
  <dc:language>en-US</dc:language>
  <cp:lastModifiedBy>RomaK</cp:lastModifiedBy>
  <dcterms:modified xsi:type="dcterms:W3CDTF">2015-09-04T11:35:12Z</dcterms:modified>
  <cp:revision>37</cp:revision>
  <dc:subject/>
  <dc:title>RECOMBINANT DNA AND POLYMERASE CHAIN REACTIONS</dc:title>
</cp:coreProperties>
</file>