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D5A9-C777-4D26-B5DE-7456951DF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BINANT DNA AND POLYMERASE CHAIN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lasmidclon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 –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ids will not work as well in eukaryotic organisms like plants 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thods need to be used to insert the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vectors can be used for animal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can ‘inject’ their DNA into an animal hos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use this technique on all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 can be used to insert genes into pl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rt.purdue.edu/hort/courses/HORT250/animations/Gene%20Gun%20Animation/Genegun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echnologists 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Solv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betics having reactions to porcine/animal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at crops being attacked by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sick with cystic fib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se can be fixed by recombinant DNA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have made the gene – how do we get lots of copie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Plasmid is cut with the same restriction enzyme used to cut the insulin g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gene is cut from a pancreatic cell DNA using a specific restriction enzy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- Bacterial cells when supplied with required polypeptides or proteins, the colonies will produce insul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 Vaccines- The plamids are isolated from the e.coli cells, the genes are then amplifyed via PCR  and used to create inactivated viruses for vacc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make more copies of DNA from a tiny DNA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c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– Double Helix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piral strand is composed of a sugar phosphate backbone and attache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Bases: Adenine (A), Guanine(G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, and Thymine (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Base Pairs; A with T and C with G in the complementary strand v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(non- covalen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ands can be cut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iction enzymes, e.g. ECO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already kn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ow Chart of P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recombinant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ood crops with immunity to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nsic Crime scene analysi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Worl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are often used in biotechnology as they have plasm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asmid a circular piece of DNA that exists apart from the chromosome and replicates independently of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blanks of the work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that has been cut from one strand of DNA and then inserted into the gap of another piece of DNA that has been bro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st DNA is often a bacterial cell such as E co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splicing the gene into the host DNA is to produce many copies of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acteria reproduce in a very short time it is possible to make million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ies of the gene fairly 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Recombinant D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quired gene e.g. Insulin, is cut from the DNA using a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ircular piece of DNA, called a plasmid, is removed from the bacterial cell and is cut open using the same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t out human gene is then mixed with the bacterial plasmids in a test tu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have been cut with the same enzyme, the cut ends of the plasmid and the end of the human gene match. Often called ‘sticky end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 DNA ligase is used to stick the ends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ake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Introducing the Plasmid Back - 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done by combining them in a test tube with CaCl2. The high concentration of calcium ions makes the membranes of the bacteria more po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hen allows the plasmids to move into the bacterial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bacteria will take up a plasm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is why the monitoring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ich bacteria have the ge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cessary to isolate the host bacteria that contain the gene that has been spliced as only want the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ntaining the resistance to the antibiotic will survive and the others will be killed by the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58E-B41D-4FB5-9B0E-A6132E0A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DC0-ADB5-4CF2-94AE-7053448E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227AD-E1F3-4127-B173-5F5A558B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8DE59-EF1F-4F69-AB56-8D101A76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01BCF-7BA8-4223-80CA-47665E11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5850A-6062-4831-BD5D-2CA4C110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DA6BC-4716-408D-A68E-80508ADC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5C304-89D8-465F-8229-6C3A825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813CA-B064-40B0-BE53-087A152A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171F4-01B9-4361-B84B-AA248F7C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8D309-8B17-480A-A2EA-63D36B5F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7276D-9240-4D9A-96EF-C7E306D6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955-E6AF-482F-86EE-511C6E5D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DDAFD-6F32-4EA6-8381-965D7A2E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AADBD-0888-4BC1-B741-3BFC34A1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1C604-C859-45ED-9F5A-8B400C20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AC31C-3C7B-4421-8FD2-A2B82ABF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0266C-36E7-4254-8920-6C04431A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D21E7-C673-413B-B977-0C3498C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D0DE7-1FA7-4A44-A49C-E5208F17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B5B9C-01D5-482D-9B9F-6B262B4A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3F725-1446-4806-92D3-40B52260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B6AAE-FB6C-4907-B18B-E387A586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601-C020-4B01-A751-62A18A6C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A5234-9285-4DAA-991B-DDF7F35B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C5E9-3D1E-48F8-B1E6-E80B475A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BDFE-C1D2-484A-94EC-0F11B176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9D6B-74A3-4593-A9B4-40537CE6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C89D-1F69-4BFE-8DB0-CC5EC31B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0AFA-92C8-4B4E-91EE-68B4F949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F74A-0F5F-41D3-8A56-BDCB2258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1913-8A1C-489E-9995-F506245F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150-BA05-4F87-96F7-AB90FD16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05F9-E8AA-41AE-ADD5-5BBC1BFE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365B-EF4C-462C-B78A-BD97239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854C-3EDE-4706-995E-350B6955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7F8D-C339-4166-B0EF-C960EB06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143C-011A-4F2E-B1D7-8EB5D2C6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A7C3-BFE8-459C-95B1-00EB4FBD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F5AD-9331-4AC3-A0D1-BB3D5950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7B42-81C0-44A2-AE94-F8498212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5404-A6E2-4F58-83AF-BD9C8983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9962-D590-469C-BD35-04C08CE8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1AA-EC0F-4DF8-95A5-21AD64A1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F667-0521-46C3-B5A9-09DCF83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E0EFE-DC70-4F88-A553-65D10142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1205-9F8D-45F3-88D0-A70CDE41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C804-BEB8-4DE5-8F36-E8BD8CB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C242-FFCD-43E1-87BD-CC5EC4D7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C87A-615D-457A-96EF-FEA7D142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21CE-CB61-4846-8C93-D24ADCF5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232E4-9D85-46E4-826D-31CE2D38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669D-C978-4E2E-A848-77F91506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057DC-DB0F-4E5F-89A5-3421C057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DFC-48F1-4A5A-B9F0-D04A9059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01BAF-5F51-4308-86A5-BC55D058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2AA48-6A44-41F0-90F7-50F30F8A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914F-8C69-4897-B5E4-7E6D9658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81B8-4B26-40CE-B9B1-B7520FC3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3B437-10BF-4F7E-A2DE-29ACD843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D0B0-DB80-4B56-82D6-44E11E2E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58892-6E7F-4785-9FA6-F663B7DF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0580-133C-4E97-8D87-CBDE9136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BA8F-626D-4535-8D05-6A48AAA4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06386-3731-4551-A580-EC76F944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EC4-64EE-49AA-8B44-6C5A9E46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5FD15-1C8A-4707-BC56-EEE16BF8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E303-F18F-4B77-88A1-4901AEFB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8FFFC-10F3-44CF-A216-A476438C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F8AC8-CE28-4E0B-BBBD-2151512A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703F1-1186-453C-B88E-E557C70A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4D27-0E68-4B61-B50A-ECFB6290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123CF-3FAB-4A26-84AF-8A770913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E79D9-A8CB-4697-B3D1-6C1AC7F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91F3D-B595-44F3-A859-B8D7C19B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A611B-BDF3-486B-962E-C15512BC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F9F-1D99-4F3E-956B-E5F19EE6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9273-81A1-4284-A6A4-C1FD0906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66873-2ACA-4CD4-9114-B68F03E3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65144-C0F7-4493-8E09-011AE650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C855F-0EF2-4D0A-8C96-29B02DD1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F2AD1-944F-4A5F-85A0-D3B94236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B21F3-B663-4414-A522-3C15DC4B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4F7E0-649A-4E97-A579-A569F2EE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2CE30-A07C-4F45-89AE-BFF7EF70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198A-8C4C-4CAB-A782-2463ABC1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F380F-FAA9-4C87-925E-5075D9C2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5CE-A1DD-4A68-B2F8-32B92664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8774E-43D0-4B19-BAC2-F241BE44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CC13-56E4-4F6F-BE6F-DAA4F4A5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A47FD-5190-4650-9230-59FC06DA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588E9-3D6C-46D7-8241-42927505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E3663-19A9-4E2F-8428-61F54FE7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E4CFC-8F7E-472E-852E-A66EFE5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EA7B2-DB0D-486E-B40C-E58075D1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C00A5-6E63-400A-A351-41C4A0AC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6D52E-8FC0-4B79-95B0-9C1373D2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1424E-1FD3-44D3-A9B2-2AD6CF0C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ECE-5359-4950-877F-433E98E2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C9F44-B19D-4A92-8188-11EEAD4B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DF222-F5D0-4AD4-ADA5-E200F52C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D10AD-C75F-42D3-A82F-B67A2642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E58CC-C240-494A-B091-AE8EF3B8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84842-7B83-40A4-8294-EDDAF9D5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84E35-39C5-4555-98FD-994CD3A5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224ED-3429-4ECB-869E-2FEB92DE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3959E-75BF-4162-A0D1-D893933A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37A26-36D8-4FA6-B534-39E47F94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FEF1A-E1D2-49E8-9C84-A89FBD99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884-FE7F-4D76-9A45-F1542177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94B57-EB45-445B-8C86-649F6FA4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3E744-F8D2-48B7-8827-A4BEAADA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AB6EA-31FD-45B5-B858-5F929251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6826-C354-4ED7-AC5D-9C647D1F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DF894-8075-4B4C-9E73-9C626E0F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C10AB-01D6-42DD-A02D-CE32B37F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68067-F82D-4A2B-B93C-C3DF3EF6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92354-0BCB-421E-91DA-1B145D7C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61F7B-D9F9-4147-8F6C-6C4E2A3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DBC99-BAF6-41E7-A277-8316154D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A828-604D-4C16-AE69-B60673A92BE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C7C-DE38-453C-8F2D-4F57BF2D845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967A-040D-4C91-BF23-412FBC870D5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B0D-D30D-4EE0-9397-360520D92E4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9F58-829F-40E2-B1C2-D62BA709751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6722-DF9E-4993-9ABA-6644EDE6E46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A7B1-AE4D-407E-8FE5-2BF611697ED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7E0C-49FC-4436-BD78-6A522ECBFB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D389-D293-47CA-A342-2943D55F7A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FC2C-0154-4B13-9BEC-958689B3B3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lasmidcloning.html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rt.purdue.edu/hort/courses/HORT250/animations/Gene%20Gun%20Animation/Genegun1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sumanasinc.com/webcontent/animations/content/pc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8631360" cy="1743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3" name="Picture 3" descr="gejoke"/>
          <p:cNvPicPr/>
          <p:nvPr/>
        </p:nvPicPr>
        <p:blipFill>
          <a:blip r:embed="rId2"/>
          <a:stretch/>
        </p:blipFill>
        <p:spPr>
          <a:xfrm>
            <a:off x="1905120" y="2143080"/>
            <a:ext cx="5371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7997760" cy="1055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ibiotic resistance gene used to identify recombinant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Picture 7" descr="f10-10_one_method_for_s_c"/>
          <p:cNvPicPr/>
          <p:nvPr/>
        </p:nvPicPr>
        <p:blipFill>
          <a:blip r:embed="rId2"/>
          <a:stretch/>
        </p:blipFill>
        <p:spPr>
          <a:xfrm>
            <a:off x="1828800" y="106668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umanasinc.com/webcontent/animations/content/plasmidcloning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1" descr=""/>
          <p:cNvPicPr/>
          <p:nvPr/>
        </p:nvPicPr>
        <p:blipFill>
          <a:blip r:embed="rId2"/>
          <a:stretch/>
        </p:blipFill>
        <p:spPr>
          <a:xfrm>
            <a:off x="244440" y="274680"/>
            <a:ext cx="8442360" cy="118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714240" y="2214720"/>
            <a:ext cx="7701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lasmids will not work as well in eukaryotic organisms like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Other methods need to be used to inser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Viral vectors can be used for animal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virus can ‘inject’ their DNA into an animal hos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virus2"/>
          <p:cNvPicPr/>
          <p:nvPr/>
        </p:nvPicPr>
        <p:blipFill>
          <a:blip r:embed="rId2"/>
          <a:stretch/>
        </p:blipFill>
        <p:spPr>
          <a:xfrm rot="285000">
            <a:off x="6441840" y="4362120"/>
            <a:ext cx="24429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17114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Gene Gun can be used to insert genes into plant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rt.purdue.edu/hort/courses/HORT250/animations/Gene%20Gun%20Animation/Genegun1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2"/>
          <a:stretch/>
        </p:blipFill>
        <p:spPr>
          <a:xfrm>
            <a:off x="2487600" y="274680"/>
            <a:ext cx="8485200" cy="1346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MCj02321110000[1]"/>
          <p:cNvPicPr/>
          <p:nvPr/>
        </p:nvPicPr>
        <p:blipFill>
          <a:blip r:embed="rId3"/>
          <a:stretch/>
        </p:blipFill>
        <p:spPr>
          <a:xfrm>
            <a:off x="108000" y="465300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MCj03393020000[1]"/>
          <p:cNvPicPr/>
          <p:nvPr/>
        </p:nvPicPr>
        <p:blipFill>
          <a:blip r:embed="rId4"/>
          <a:stretch/>
        </p:blipFill>
        <p:spPr>
          <a:xfrm>
            <a:off x="7308720" y="460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3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betics having reactions to porcine/animal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at crops being attacked by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sick with cystic fib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se can be fixed by recombinant DNA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5" descr="MCj04398510000[1]"/>
          <p:cNvPicPr/>
          <p:nvPr/>
        </p:nvPicPr>
        <p:blipFill>
          <a:blip r:embed="rId2"/>
          <a:stretch/>
        </p:blipFill>
        <p:spPr>
          <a:xfrm>
            <a:off x="7236000" y="189000"/>
            <a:ext cx="1923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-360" y="571680"/>
            <a:ext cx="87152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ucida Sans Unicode"/>
              </a:rPr>
              <a:t>Now we have made the gene – how do we get lots of copies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Diagram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857160" y="142920"/>
            <a:ext cx="207180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E.Coli Plasmid is cut with the same restriction enzyme used to cut the insulin ge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429240" y="142920"/>
            <a:ext cx="2143440" cy="5713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Insulin gene is cut from a pancreatic cell DNA using a specific restriction enzy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57120" y="6143760"/>
            <a:ext cx="285768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sulin - Bacterial cells when supplied with required polypeptides or proteins, the colonies will produce insu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929200" y="6143760"/>
            <a:ext cx="300060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E.g Vaccines- The plamids are isolated from the e.coli cells, the genes are then amplifyed via PCR  and used to create inactivated viruses for vacc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ight Arrow 6"/>
          <p:cNvSpPr/>
          <p:nvPr/>
        </p:nvSpPr>
        <p:spPr>
          <a:xfrm>
            <a:off x="3071880" y="4287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eft Arrow 7"/>
          <p:cNvSpPr/>
          <p:nvPr/>
        </p:nvSpPr>
        <p:spPr>
          <a:xfrm>
            <a:off x="5929200" y="500040"/>
            <a:ext cx="357480" cy="1429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2"/>
          <p:cNvCxnSpPr/>
          <p:nvPr/>
        </p:nvCxnSpPr>
        <p:spPr>
          <a:xfrm>
            <a:off x="4857480" y="6215040"/>
            <a:ext cx="786600" cy="2865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8" name="Straight Arrow Connector 14"/>
          <p:cNvCxnSpPr/>
          <p:nvPr/>
        </p:nvCxnSpPr>
        <p:spPr>
          <a:xfrm flipH="1">
            <a:off x="3428640" y="6215040"/>
            <a:ext cx="1000800" cy="2865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523800" y="1576440"/>
            <a:ext cx="4191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mentary strands of DNA can be separated and re-associated by heating and cool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One strand of DNA specifies the sequence of the other str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Picture 6" descr="f10-1a_dna_heating_and__c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sumanas_pcr.m4v" descr=""/>
          <p:cNvPicPr/>
          <p:nvPr/>
        </p:nvPicPr>
        <p:blipFill>
          <a:blip r:embed="rId1"/>
          <a:stretch/>
        </p:blipFill>
        <p:spPr>
          <a:xfrm>
            <a:off x="2050920" y="124776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523" name="Title 1" descr=""/>
          <p:cNvPicPr/>
          <p:nvPr/>
        </p:nvPicPr>
        <p:blipFill>
          <a:blip r:embed="rId2"/>
          <a:stretch/>
        </p:blipFill>
        <p:spPr>
          <a:xfrm>
            <a:off x="835200" y="274680"/>
            <a:ext cx="8484840" cy="12430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-216000" y="5516640"/>
            <a:ext cx="93963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Used to make more copies of DNA from a tiny DN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umanasinc.com/webcontent/animations/content/pcr.html</a:t>
            </a:r>
            <a:r>
              <a:rPr b="0" lang="en-A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384120" y="85680"/>
            <a:ext cx="8266320" cy="1614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37720" y="5866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909"/>
                </a:solidFill>
                <a:latin typeface="Lucida Sans Unicode"/>
              </a:rPr>
              <a:t>Primer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specify what DNA is copi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5" descr="f10-6a_diagram_of_the_p_c"/>
          <p:cNvPicPr/>
          <p:nvPr/>
        </p:nvPicPr>
        <p:blipFill>
          <a:blip r:embed="rId2"/>
          <a:srcRect l="0" t="0" r="0" b="45000"/>
          <a:stretch/>
        </p:blipFill>
        <p:spPr>
          <a:xfrm>
            <a:off x="990720" y="1600200"/>
            <a:ext cx="67816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341360"/>
            <a:ext cx="7758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– Double Helix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piral strand is composed of a sugar phosphate backbone and attached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Bases: Adenine (A), Guanine(G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(C), and Thymine (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Base Pairs; A with T and C with G in the complementary strand v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gen bonding (non- covalen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rands can be cut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, e.g. ECOR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dna.gif"/>
          <p:cNvPicPr/>
          <p:nvPr/>
        </p:nvPicPr>
        <p:blipFill>
          <a:blip r:embed="rId2"/>
          <a:stretch/>
        </p:blipFill>
        <p:spPr>
          <a:xfrm>
            <a:off x="6537240" y="4005360"/>
            <a:ext cx="278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433440" y="60948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5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tic enginee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Picture 3" descr="f10-6b_diagram_of_the_p_c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6348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roduction of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recombinant vacci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food crops with immunity to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rensic Crime scene analysis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prof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8479080" cy="1243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MCj02908650000[1]"/>
          <p:cNvPicPr/>
          <p:nvPr/>
        </p:nvPicPr>
        <p:blipFill>
          <a:blip r:embed="rId2"/>
          <a:stretch/>
        </p:blipFill>
        <p:spPr>
          <a:xfrm>
            <a:off x="6227640" y="427356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MCj02152430000[1]"/>
          <p:cNvPicPr/>
          <p:nvPr/>
        </p:nvPicPr>
        <p:blipFill>
          <a:blip r:embed="rId3"/>
          <a:stretch/>
        </p:blipFill>
        <p:spPr>
          <a:xfrm rot="1014600">
            <a:off x="217440" y="43920"/>
            <a:ext cx="1185840" cy="2268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MCj04417140000[1]"/>
          <p:cNvPicPr/>
          <p:nvPr/>
        </p:nvPicPr>
        <p:blipFill>
          <a:blip r:embed="rId4"/>
          <a:stretch/>
        </p:blipFill>
        <p:spPr>
          <a:xfrm>
            <a:off x="6875640" y="907920"/>
            <a:ext cx="2376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al issues related to “cloning” of human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genetically engineered organisms affect environ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read of genes to other organis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ill deci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eneticengtuna"/>
          <p:cNvPicPr/>
          <p:nvPr/>
        </p:nvPicPr>
        <p:blipFill>
          <a:blip r:embed="rId1"/>
          <a:stretch/>
        </p:blipFill>
        <p:spPr>
          <a:xfrm>
            <a:off x="2154240" y="457200"/>
            <a:ext cx="477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acteria are often used in biotechnology as they have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lasmid a circular piece of DNA that exists apart from the chromosome and replicates independently of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plasmid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4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19700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cut from one strand of DNA and then inserted into the gap of another piece of DNA that has been bro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st DNA is often a bacterial cell such a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rpose of splicing the gene into the host DNA is to produce many copies of i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bacteria reproduce in a very short time it is possible to make millions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ies of the gene fairly quick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bacteria"/>
          <p:cNvPicPr/>
          <p:nvPr/>
        </p:nvPicPr>
        <p:blipFill>
          <a:blip r:embed="rId2"/>
          <a:stretch/>
        </p:blipFill>
        <p:spPr>
          <a:xfrm>
            <a:off x="6372360" y="4724280"/>
            <a:ext cx="2684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required gene e.g. Insulin, is cut from the DNA using a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 circular piece of DNA, called a plasmid, is removed from the bacterial cell and is cut open using the same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ut out human gene is then mixed with the bacterial plasmids in a test tub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cause they have been cut with the same enzyme, the cut ends of the plasmid and the end of the human gene match. Often called ‘sticky ends’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enzyme DNA ligase is used to stick the ends togeth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it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inserting.gif"/>
          <p:cNvPicPr/>
          <p:nvPr/>
        </p:nvPicPr>
        <p:blipFill>
          <a:blip r:embed="rId1"/>
          <a:stretch/>
        </p:blipFill>
        <p:spPr>
          <a:xfrm>
            <a:off x="1714680" y="714240"/>
            <a:ext cx="53575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n be done by combining them in a test tube with CaCl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. The high concentration of calcium ions makes the membranes of the bacteria more porou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is then allows the plasmids to move into the bacterial cell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 all bacteria will take up a plasm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this is why the monitoring mu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pp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7" descr="MCj04417150000[1]"/>
          <p:cNvPicPr/>
          <p:nvPr/>
        </p:nvPicPr>
        <p:blipFill>
          <a:blip r:embed="rId2"/>
          <a:stretch/>
        </p:blipFill>
        <p:spPr>
          <a:xfrm>
            <a:off x="7236000" y="471816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4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ecessary to isolate the host bacteria that contain the gene that has been spliced as only want the recombinant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cteria containing the resistance to the antibiotic will survive and the others will be killed by the antibiot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7:47:47Z</dcterms:created>
  <dc:creator>Corporate Edition</dc:creator>
  <dc:description/>
  <dc:language>en-US</dc:language>
  <cp:lastModifiedBy>RomaK</cp:lastModifiedBy>
  <dcterms:modified xsi:type="dcterms:W3CDTF">2015-09-04T11:35:12Z</dcterms:modified>
  <cp:revision>37</cp:revision>
  <dc:subject/>
  <dc:title>RECOMBINANT DNA AND POLYMERASE CHAIN REACTIONS</dc:title>
</cp:coreProperties>
</file>