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0.jpeg" ContentType="image/jpeg"/>
  <Override PartName="/ppt/media/image11.png" ContentType="image/png"/>
  <Override PartName="/ppt/media/image38.jpeg" ContentType="image/jpeg"/>
  <Override PartName="/ppt/media/image31.wmf" ContentType="image/x-wmf"/>
  <Override PartName="/ppt/media/image46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1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47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8.png" ContentType="image/pn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10B3-08C3-4934-8CAD-D999EC190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MBINANT DNA AND POLYMERASE CHAIN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lasmidcloning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NIMATION –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ids will not work as well in eukaryotic organisms like plants 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methods need to be used to insert the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al vectors can be used for animal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can ‘inject’ their DNA into an animal hos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use this technique on all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 can be used to insert genes into pl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rt.purdue.edu/hort/courses/HORT250/animations/Gene%20Gun%20Animation/Genegun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echnologists a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Solv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betics having reactions to porcine/animal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at crops being attacked by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sick with cystic fib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se can be fixed by recombinant DNA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have made the gene – how do we get lots of copies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Coli Plasmid is cut with the same restriction enzyme used to cut the insulin g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gene is cut from a pancreatic cell DNA using a specific restriction enzy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- Bacterial cells when supplied with required polypeptides or proteins, the colonies will produce insul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 Vaccines- The plamids are isolated from the e.coli cells, the genes are then amplifyed via PCR  and used to create inactivated viruses for vacc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make more copies of DNA from a tiny DNA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c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– Double Helix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piral strand is composed of a sugar phosphate backbone and attache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Bases: Adenine (A), Guanine(G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, and Thymine (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Base Pairs; A with T and C with G in the complementary strand v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(non- covalen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ands can be cut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riction enzymes, e.g. ECO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already kn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low Chart of P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recombinant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food crops with immunity to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nsic Crime scene analysi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Worl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are often used in biotechnology as they have plasm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asmid a circular piece of DNA that exists apart from the chromosome and replicates independently of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blanks of the worksh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that has been cut from one strand of DNA and then inserted into the gap of another piece of DNA that has been bro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st DNA is often a bacterial cell such as E col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splicing the gene into the host DNA is to produce many copies of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acteria reproduce in a very short time it is possible to make million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ies of the gene fairly 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Recombinant D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quired gene e.g. Insulin, is cut from the DNA using a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ircular piece of DNA, called a plasmid, is removed from the bacterial cell and is cut open using the same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t out human gene is then mixed with the bacterial plasmids in a test tub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y have been cut with the same enzyme, the cut ends of the plasmid and the end of the human gene match. Often called ‘sticky end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 DNA ligase is used to stick the ends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ake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Introducing the Plasmid Back - 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done by combining them in a test tube with CaCl2. The high concentration of calcium ions makes the membranes of the bacteria more poro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hen allows the plasmids to move into the bacterial ce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bacteria will take up a plasm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is why the monitoring m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ich bacteria have the ge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cessary to isolate the host bacteria that contain the gene that has been spliced as only want the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containing the resistance to the antibiotic will survive and the others will be killed by the antibio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7F2-FA02-44FC-A1E2-DB485F27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25B-465D-4C5D-B8BF-DADF93A0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423DB-906D-4458-AAA2-5952DFCD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9E4A4-1EEA-40B0-90D0-47378438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E0BBE-164A-4428-A9F0-7CB6BD7F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BADE0-B25A-4D50-931E-79535C9E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26F12-68C5-4F02-B329-8DAA5698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6A367-ED07-4871-9702-3F9B5A15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3F39A-D042-4AA1-A4D0-E66608DB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0D7E8-00F5-4771-9181-B7A642C2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796A6-31DD-49A3-9AC2-EFD4436E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18444-410D-42E0-978D-153AFA44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A73-1166-4A52-8C85-43BB8031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38DB7-3150-4C6E-9698-5C0B3B12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6400B-E9CD-4AA4-95FC-D9316480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4C4A6-0F31-462A-8918-01D5D216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3846F-A869-4692-B5D3-9E630A22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45E96-BD7C-476B-98DE-A13C0E56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86832-C9FD-437A-82CE-584F9B84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29F8D-BBCC-4F50-9AD0-938425E6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4FFC1-8711-49E9-B0BC-A6713807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E1DC4-9B62-4779-80AB-96844577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87742-CDCD-45C9-BCD3-84E128B6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068-4ED6-4831-8F3D-3CD75A12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3E61F-914C-4FE6-A103-EFFE8290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9248-0EC9-4B1C-AA8C-6049BD40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DFD8-5CC6-46B8-B965-74419885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077A-4A3B-452C-A35C-661CC712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0697-917E-47DB-8AA7-DC80CC71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15A8-D815-4F70-AF27-D5CDB120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01C9-40C8-4AD8-8C51-80A7E721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95DE-5F61-497B-A3D5-2AF05853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094-ED02-4A04-BF8E-17400F94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DE6B-F92F-4900-8553-EB9F8944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47C1-CC08-48F0-8FCF-8341ABFF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C552-4764-4EB0-BB21-7711A142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1017-613B-466F-A3E7-6B3AB500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2D7E-6D38-4159-AB9D-B68E5193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9496-F286-4D30-A36E-CC7A8233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CED4-BF42-48E9-9CE0-A1A2A474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FBFE1-6BD7-4074-AC0E-F11AF864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61EC0-4E7F-476B-BFD1-B3163D56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598CC-93B4-4D3D-BBBE-66EA6D63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7B0-3D9F-4105-AAD2-B8488D09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057EB-EA87-4F82-A8DC-18B7DEB4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99DDD-900F-43A5-8AE7-46D5A588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4F381-AD26-4E8C-80D3-39B9C6C1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6F8E-7931-480D-B152-3194D103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3FEE2-DDE3-47DF-9525-8AD5998A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55635-9BD5-4452-B4EC-E7AB0169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8806C-CD2A-4F12-AB1B-AD0A2AA3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81625-AC0F-46E7-89F4-1C06522F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E070C-87A6-4357-91FD-4914E7D3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7B463-476D-4B54-9A7C-D99C22A8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468-250D-4C04-BC9B-79555486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039C8-2F6A-41B2-9D2C-E1A6E93B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98EA2-07C5-43FF-8355-CE184D76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A2AEA-F1E4-4D5F-9F13-133B27CC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996C6-2591-4759-96A6-F8BB37C7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0BCAD-ED67-463E-9AA2-624757A5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99EB7-F295-4537-AACE-65C00D88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DCB6F-689D-4EF4-AC57-369627A8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0285E-D83D-463E-93CC-ADFCE6C8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66275-F62A-4FFF-B5DD-A348EBDB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8C335-6624-4EF9-BFB7-6A37B3CA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EC6-EFC9-4083-B285-7F044508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97239-8B87-4843-9593-B03D6C31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423BD-E6AA-40BB-80ED-055DC5A4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790EF-A899-4EA5-BC7A-0D992A31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F2F2F-F46B-4455-93F4-ADED8FF5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4D184-BCE9-41E6-806A-484B2AC2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96943-B6BD-42C8-B36E-A0E6F114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B19BC-7D9D-4BF5-A193-B3F15C1F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C9C54-F569-4C4F-847E-2113B27B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13887-5AA5-40BB-BEA8-38807357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65949-C010-414B-BFFF-164CF9D2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D0D-CE73-413F-9CC6-8CAE23FF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2A0E0-87EA-4FC5-ABE3-2029E017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76F47-4C47-459E-9941-567E748D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B239F-F7AD-4E62-9D2E-39BB8382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9E26D-23D0-4E1B-87CF-8508A837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0EB94-ECC5-4EB5-98B4-57A13499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4D0BB-E49C-48AA-8800-27500A3B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990F7-DE43-4A3C-911A-BF4F9B55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03902-774B-476F-B0BF-29467621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6CD4A-2A97-4AEA-906F-93E1DFC2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767B2-646E-423E-A1A6-D784C2FF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A67-1A91-4F5C-8AC0-0BC1B5A4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6B431-44CA-4E06-B32F-DDD53B31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8FF5E-17C4-4CA9-A14A-34DBAD8A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666E4-3B06-4266-801E-057A2E65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06D40-8ABD-4600-8956-51277BED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9E2E1-59DB-4BF5-A2C6-6802C9E5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11A6F-6376-42D3-BAF1-83EF0A4F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AC758-5684-42F3-83AA-3F73055B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69DF9-520B-482B-B9DE-83C98BE0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8C8C7-0B79-4401-A393-5B3485A1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EE5C2-4945-45A7-B9FE-7612A736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820-7D08-42CC-BD0A-D83C2E2B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ACE68-1BE6-4894-B740-EAC77B2C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D19E3-0C8B-4517-8F0F-C4986625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73B2F-9BEF-4612-8D1F-54AEA28C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B8F0E-910A-4A15-B518-56149E13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A1245-56B6-49D6-B32B-4F2D9C3E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CA849-6761-4DE8-8681-BC7BCCEC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C8DDA-46D8-413F-842E-AADE72AB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26A80-B9D9-44D8-A2CB-A28C4803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36CDE-5D6E-4521-9CD7-E0AE90CA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23991-8541-4CE7-B32F-9DA7894B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DFC-905E-4BC9-A9B3-F62BE667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94F51-134A-4197-B5DC-4B7ED541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71F1F-E47C-4163-A790-48362281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3459D-5423-43E8-B5F5-366B754A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5851C-10C7-45AE-8609-5A98C24E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D8C80-C2AE-4710-8247-0655C5AD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9BCE1-2989-40F0-BB6D-13B392C1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DA9B2-B938-4A1B-BA2F-FD77CE37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3D218-0A67-4445-A407-B57C6F91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FB01C-F0F7-4B03-9A46-9C0FC682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59CF2-F2C3-41C0-A25C-EAF7EC01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E948-088C-4D90-8CF0-D98FBADFB32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9CAF-BA8E-4AE4-A31C-FB7F192CE3C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0EC6-F90B-4709-B9DF-234E58B0EED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6E1C-5974-4145-9796-884051CBA97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F9D2-99A7-4957-9480-54C539F6674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F744-73EA-4736-906F-BF9D5975B5D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9CA5-81C8-433D-A4FB-97819504F59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F469-0710-4CA2-9430-B313138A198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E3D1-4ACC-41D3-8966-78E70170998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075F-1CE1-4090-B1B3-F8E371108D9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lasmidcloning.html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rt.purdue.edu/hort/courses/HORT250/animations/Gene%20Gun%20Animation/Genegun1.html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hyperlink" Target="http://www.sumanasinc.com/webcontent/animations/content/pcr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Title 1" descr=""/>
          <p:cNvPicPr/>
          <p:nvPr/>
        </p:nvPicPr>
        <p:blipFill>
          <a:blip r:embed="rId1"/>
          <a:stretch/>
        </p:blipFill>
        <p:spPr>
          <a:xfrm>
            <a:off x="237960" y="493560"/>
            <a:ext cx="8631360" cy="17431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73" name="Picture 3" descr="gejoke"/>
          <p:cNvPicPr/>
          <p:nvPr/>
        </p:nvPicPr>
        <p:blipFill>
          <a:blip r:embed="rId2"/>
          <a:stretch/>
        </p:blipFill>
        <p:spPr>
          <a:xfrm>
            <a:off x="1905120" y="2143080"/>
            <a:ext cx="5371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63680" y="133200"/>
            <a:ext cx="7997760" cy="10558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762120" y="55623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tibiotic resistance gene used to identify recombinant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Picture 7" descr="f10-10_one_method_for_s_c"/>
          <p:cNvPicPr/>
          <p:nvPr/>
        </p:nvPicPr>
        <p:blipFill>
          <a:blip r:embed="rId2"/>
          <a:stretch/>
        </p:blipFill>
        <p:spPr>
          <a:xfrm>
            <a:off x="1828800" y="1066680"/>
            <a:ext cx="53341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57200" y="1285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umanasinc.com/webcontent/animations/content/plasmidcloning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Title 1" descr=""/>
          <p:cNvPicPr/>
          <p:nvPr/>
        </p:nvPicPr>
        <p:blipFill>
          <a:blip r:embed="rId2"/>
          <a:stretch/>
        </p:blipFill>
        <p:spPr>
          <a:xfrm>
            <a:off x="244440" y="274680"/>
            <a:ext cx="8442360" cy="1189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"/>
          <p:cNvPicPr/>
          <p:nvPr/>
        </p:nvPicPr>
        <p:blipFill>
          <a:blip r:embed="rId3"/>
          <a:stretch/>
        </p:blipFill>
        <p:spPr>
          <a:xfrm>
            <a:off x="714240" y="2214720"/>
            <a:ext cx="77011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lasmids will not work as well in eukaryotic organisms like plants and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Other methods need to be used to insert the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Viral vectors can be used for animal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The virus can ‘inject’ their DNA into an animal host ce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virus2"/>
          <p:cNvPicPr/>
          <p:nvPr/>
        </p:nvPicPr>
        <p:blipFill>
          <a:blip r:embed="rId2"/>
          <a:stretch/>
        </p:blipFill>
        <p:spPr>
          <a:xfrm rot="285000">
            <a:off x="6441840" y="4362120"/>
            <a:ext cx="244296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50920" y="17114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Gene Gun can be used to insert genes into plant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ort.purdue.edu/hort/courses/HORT250/animations/Gene%20Gun%20Animation/Genegun1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2"/>
          <a:stretch/>
        </p:blipFill>
        <p:spPr>
          <a:xfrm>
            <a:off x="2487600" y="274680"/>
            <a:ext cx="8485200" cy="1346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MCj02321110000[1]"/>
          <p:cNvPicPr/>
          <p:nvPr/>
        </p:nvPicPr>
        <p:blipFill>
          <a:blip r:embed="rId3"/>
          <a:stretch/>
        </p:blipFill>
        <p:spPr>
          <a:xfrm>
            <a:off x="108000" y="465300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MCj03393020000[1]"/>
          <p:cNvPicPr/>
          <p:nvPr/>
        </p:nvPicPr>
        <p:blipFill>
          <a:blip r:embed="rId4"/>
          <a:stretch/>
        </p:blipFill>
        <p:spPr>
          <a:xfrm>
            <a:off x="7308720" y="4608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24912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031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betics having reactions to porcine/animal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at crops being attacked by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ople sick with cystic fibro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se can be fixed by recombinant DNA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Picture 5" descr="MCj04398510000[1]"/>
          <p:cNvPicPr/>
          <p:nvPr/>
        </p:nvPicPr>
        <p:blipFill>
          <a:blip r:embed="rId2"/>
          <a:stretch/>
        </p:blipFill>
        <p:spPr>
          <a:xfrm>
            <a:off x="7236000" y="189000"/>
            <a:ext cx="192384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-360" y="571680"/>
            <a:ext cx="871524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ucida Sans Unicode"/>
              </a:rPr>
              <a:t>Now we have made the gene – how do we get lots of copies?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Diagram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6926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"/>
          <p:cNvSpPr/>
          <p:nvPr/>
        </p:nvSpPr>
        <p:spPr>
          <a:xfrm>
            <a:off x="857160" y="142920"/>
            <a:ext cx="207180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E.Coli Plasmid is cut with the same restriction enzyme used to cut the insulin ge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429240" y="142920"/>
            <a:ext cx="2143440" cy="5713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Insulin gene is cut from a pancreatic cell DNA using a specific restriction enzy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57120" y="6143760"/>
            <a:ext cx="285768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insulin - Bacterial cells when supplied with required polypeptides or proteins, the colonies will produce insu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5929200" y="6143760"/>
            <a:ext cx="300060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E.g Vaccines- The plamids are isolated from the e.coli cells, the genes are then amplifyed via PCR  and used to create inactivated viruses for vacc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ight Arrow 6"/>
          <p:cNvSpPr/>
          <p:nvPr/>
        </p:nvSpPr>
        <p:spPr>
          <a:xfrm>
            <a:off x="3071880" y="42876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eft Arrow 7"/>
          <p:cNvSpPr/>
          <p:nvPr/>
        </p:nvSpPr>
        <p:spPr>
          <a:xfrm>
            <a:off x="5929200" y="500040"/>
            <a:ext cx="357480" cy="1429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Straight Arrow Connector 12"/>
          <p:cNvCxnSpPr/>
          <p:nvPr/>
        </p:nvCxnSpPr>
        <p:spPr>
          <a:xfrm>
            <a:off x="4857480" y="6215040"/>
            <a:ext cx="786600" cy="286560"/>
          </a:xfrm>
          <a:prstGeom prst="straightConnector1">
            <a:avLst/>
          </a:prstGeom>
          <a:ln w="4428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18" name="Straight Arrow Connector 14"/>
          <p:cNvCxnSpPr/>
          <p:nvPr/>
        </p:nvCxnSpPr>
        <p:spPr>
          <a:xfrm flipH="1">
            <a:off x="3428640" y="6215040"/>
            <a:ext cx="1000800" cy="286560"/>
          </a:xfrm>
          <a:prstGeom prst="straightConnector1">
            <a:avLst/>
          </a:prstGeom>
          <a:ln w="50760">
            <a:solidFill>
              <a:srgbClr val="2da2b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Rectangle 2" descr=""/>
          <p:cNvPicPr/>
          <p:nvPr/>
        </p:nvPicPr>
        <p:blipFill>
          <a:blip r:embed="rId1"/>
          <a:stretch/>
        </p:blipFill>
        <p:spPr>
          <a:xfrm>
            <a:off x="463680" y="176040"/>
            <a:ext cx="7997760" cy="10494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523800" y="1576440"/>
            <a:ext cx="41911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complementary strands of DNA can be separated and re-associated by heating and cool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One strand of DNA specifies the sequence of the other stra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1" name="Picture 6" descr="f10-1a_dna_heating_and__c"/>
          <p:cNvPicPr/>
          <p:nvPr/>
        </p:nvPicPr>
        <p:blipFill>
          <a:blip r:embed="rId2"/>
          <a:stretch/>
        </p:blipFill>
        <p:spPr>
          <a:xfrm>
            <a:off x="5029200" y="2057400"/>
            <a:ext cx="38098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sumanas_pcr.m4v" descr=""/>
          <p:cNvPicPr/>
          <p:nvPr/>
        </p:nvPicPr>
        <p:blipFill>
          <a:blip r:embed="rId1"/>
          <a:stretch/>
        </p:blipFill>
        <p:spPr>
          <a:xfrm>
            <a:off x="2050920" y="1247760"/>
            <a:ext cx="5500800" cy="4125960"/>
          </a:xfrm>
          <a:prstGeom prst="rect">
            <a:avLst/>
          </a:prstGeom>
          <a:ln w="0">
            <a:noFill/>
          </a:ln>
        </p:spPr>
      </p:pic>
      <p:pic>
        <p:nvPicPr>
          <p:cNvPr id="523" name="Title 1" descr=""/>
          <p:cNvPicPr/>
          <p:nvPr/>
        </p:nvPicPr>
        <p:blipFill>
          <a:blip r:embed="rId2"/>
          <a:stretch/>
        </p:blipFill>
        <p:spPr>
          <a:xfrm>
            <a:off x="835200" y="274680"/>
            <a:ext cx="8484840" cy="12430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7"/>
          <p:cNvSpPr/>
          <p:nvPr/>
        </p:nvSpPr>
        <p:spPr>
          <a:xfrm>
            <a:off x="-216000" y="5516640"/>
            <a:ext cx="939636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Used to make more copies of DNA from a tiny DN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umanasinc.com/webcontent/animations/content/pcr.html</a:t>
            </a:r>
            <a:r>
              <a:rPr b="0" lang="en-A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Rectangle 2" descr=""/>
          <p:cNvPicPr/>
          <p:nvPr/>
        </p:nvPicPr>
        <p:blipFill>
          <a:blip r:embed="rId1"/>
          <a:stretch/>
        </p:blipFill>
        <p:spPr>
          <a:xfrm>
            <a:off x="384120" y="85680"/>
            <a:ext cx="8266320" cy="16146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37720" y="5866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909"/>
                </a:solidFill>
                <a:latin typeface="Lucida Sans Unicode"/>
              </a:rPr>
              <a:t>Primer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specify what DNA is copi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7" name="Picture 5" descr="f10-6a_diagram_of_the_p_c"/>
          <p:cNvPicPr/>
          <p:nvPr/>
        </p:nvPicPr>
        <p:blipFill>
          <a:blip r:embed="rId2"/>
          <a:srcRect l="0" t="0" r="0" b="45000"/>
          <a:stretch/>
        </p:blipFill>
        <p:spPr>
          <a:xfrm>
            <a:off x="990720" y="1600200"/>
            <a:ext cx="67816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341360"/>
            <a:ext cx="77580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– Double Helix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spiral strand is composed of a sugar phosphate backbone and attached b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 Bases: Adenine (A), Guanine(G)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sine (C), and Thymine (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 Base Pairs; A with T and C with G in the complementary strand vi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drogen bonding (non- covalent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trands can be cut b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riction enzymes, e.g. ECOR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dna.gif"/>
          <p:cNvPicPr/>
          <p:nvPr/>
        </p:nvPicPr>
        <p:blipFill>
          <a:blip r:embed="rId2"/>
          <a:stretch/>
        </p:blipFill>
        <p:spPr>
          <a:xfrm>
            <a:off x="6537240" y="4005360"/>
            <a:ext cx="2787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2" descr=""/>
          <p:cNvPicPr/>
          <p:nvPr/>
        </p:nvPicPr>
        <p:blipFill>
          <a:blip r:embed="rId1"/>
          <a:stretch/>
        </p:blipFill>
        <p:spPr>
          <a:xfrm>
            <a:off x="433440" y="60948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80520" y="41907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enetic enginee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0" name="Picture 3" descr="f10-6b_diagram_of_the_p_c"/>
          <p:cNvPicPr/>
          <p:nvPr/>
        </p:nvPicPr>
        <p:blipFill>
          <a:blip r:embed="rId2"/>
          <a:stretch/>
        </p:blipFill>
        <p:spPr>
          <a:xfrm>
            <a:off x="228600" y="1752480"/>
            <a:ext cx="86104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663480" y="1844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roduction of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recombinant vaccin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food crops with immunity to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Forensic Crime scene analysis –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profi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1268280" y="549360"/>
            <a:ext cx="8479080" cy="12430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MCj02908650000[1]"/>
          <p:cNvPicPr/>
          <p:nvPr/>
        </p:nvPicPr>
        <p:blipFill>
          <a:blip r:embed="rId2"/>
          <a:stretch/>
        </p:blipFill>
        <p:spPr>
          <a:xfrm>
            <a:off x="6227640" y="4273560"/>
            <a:ext cx="2397240" cy="2468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MCj02152430000[1]"/>
          <p:cNvPicPr/>
          <p:nvPr/>
        </p:nvPicPr>
        <p:blipFill>
          <a:blip r:embed="rId3"/>
          <a:stretch/>
        </p:blipFill>
        <p:spPr>
          <a:xfrm rot="1014600">
            <a:off x="217440" y="43920"/>
            <a:ext cx="1185840" cy="2268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MCj04417140000[1]"/>
          <p:cNvPicPr/>
          <p:nvPr/>
        </p:nvPicPr>
        <p:blipFill>
          <a:blip r:embed="rId4"/>
          <a:stretch/>
        </p:blipFill>
        <p:spPr>
          <a:xfrm>
            <a:off x="6875640" y="907920"/>
            <a:ext cx="23763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thical issues related to “cloning” of human ge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will genetically engineered organisms affect environm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read of genes to other organism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will decid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geneticengtuna"/>
          <p:cNvPicPr/>
          <p:nvPr/>
        </p:nvPicPr>
        <p:blipFill>
          <a:blip r:embed="rId1"/>
          <a:stretch/>
        </p:blipFill>
        <p:spPr>
          <a:xfrm>
            <a:off x="2154240" y="457200"/>
            <a:ext cx="4775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Bacteria are often used in biotechnology as they have plasm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lasmid a circular piece of DNA that exists apart from the chromosome and replicates independently of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plasmid.jpg"/>
          <p:cNvPicPr/>
          <p:nvPr/>
        </p:nvPicPr>
        <p:blipFill>
          <a:blip r:embed="rId2"/>
          <a:stretch/>
        </p:blipFill>
        <p:spPr>
          <a:xfrm>
            <a:off x="428760" y="4286160"/>
            <a:ext cx="3714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19700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that has been cut from one strand of DNA and then inserted into the gap of another piece of DNA that has been bro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st DNA is often a bacterial cell such a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 col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urpose of splicing the gene into the host DNA is to produce many copies of i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bacteria reproduce in a very short time it is possible to make millions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pies of the gene fairly quick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Title 1" descr=""/>
          <p:cNvPicPr/>
          <p:nvPr/>
        </p:nvPicPr>
        <p:blipFill>
          <a:blip r:embed="rId1"/>
          <a:stretch/>
        </p:blipFill>
        <p:spPr>
          <a:xfrm>
            <a:off x="328680" y="19512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bacteria"/>
          <p:cNvPicPr/>
          <p:nvPr/>
        </p:nvPicPr>
        <p:blipFill>
          <a:blip r:embed="rId2"/>
          <a:stretch/>
        </p:blipFill>
        <p:spPr>
          <a:xfrm>
            <a:off x="6372360" y="4724280"/>
            <a:ext cx="26841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required gene e.g. Insulin, is cut from the DNA using a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 circular piece of DNA, called a plasmid, is removed from the bacterial cell and is cut open using the same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cut out human gene is then mixed with the bacterial plasmids in a test tub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cause they have been cut with the same enzyme, the cut ends of the plasmid and the end of the human gene match. Often called ‘sticky ends’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enzyme DNA ligase is used to stick the ends togeth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6" name="Tit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Content Placeholder 3" descr="inserting.gif"/>
          <p:cNvPicPr/>
          <p:nvPr/>
        </p:nvPicPr>
        <p:blipFill>
          <a:blip r:embed="rId1"/>
          <a:stretch/>
        </p:blipFill>
        <p:spPr>
          <a:xfrm>
            <a:off x="1714680" y="714240"/>
            <a:ext cx="535752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51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an be done by combining them in a test tube with CaCl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. The high concentration of calcium ions makes the membranes of the bacteria more porou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is then allows the plasmids to move into the bacterial cell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t all bacteria will take up a plasmid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nd this is why the monitoring mus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app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Picture 7" descr="MCj04417150000[1]"/>
          <p:cNvPicPr/>
          <p:nvPr/>
        </p:nvPicPr>
        <p:blipFill>
          <a:blip r:embed="rId2"/>
          <a:stretch/>
        </p:blipFill>
        <p:spPr>
          <a:xfrm>
            <a:off x="7236000" y="471816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4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ecessary to isolate the host bacteria that contain the gene that has been spliced as only want the recombinant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acteria containing the resistance to the antibiotic will survive and the others will be killed by the antibiot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7:47:47Z</dcterms:created>
  <dc:creator>Corporate Edition</dc:creator>
  <dc:description/>
  <dc:language>en-US</dc:language>
  <cp:lastModifiedBy>RomaK</cp:lastModifiedBy>
  <dcterms:modified xsi:type="dcterms:W3CDTF">2015-09-04T11:35:12Z</dcterms:modified>
  <cp:revision>37</cp:revision>
  <dc:subject/>
  <dc:title>RECOMBINANT DNA AND POLYMERASE CHAIN REACTIONS</dc:title>
</cp:coreProperties>
</file>