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3C02-976B-4C04-83F1-4EF901B515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lymerase Chain Reactio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im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 understand the process of PCR and its use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rter - Match each term with its correct description (work in pairs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04 September 2015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the process of PCR and its 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 - Match each term with its correct description (work in pai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 September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The first step for PCR would be to synthesize "primers" of about 20 letters-lo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ONE primer exactly like the lower left-hand sequence, and ONE primer exactly like the upper right-hand sequence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TTAACGGGGCCCTTTAAA.....…TTTAAACCCGGGT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ATTGCCCCGGGAAATTT.......................&gt;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nd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&lt;........................................TTTAAACCCGGGTT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ATTGCCCCGGGAAATTT........AAATTTGGGCCCAAA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tep for PCR would be to synthesize "primers" of about 20 letters-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primer exactly like the lower left-hand sequence, and ONE primer exactly like the upper right-hand sequ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AACGGGGCCCTTTAAA.....…TTTAAACCCGGG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ATTGCCCCGGGAAATTT......................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........................................TTTAAACCCGGGT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ATTGCCCCGGGAAATTT........AAATTTGGGCCCA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olymerase must be thermostable (37oC – 95oC used) to avoid fresh enzyme being adde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must be thermostable (37oC – 95oC used) to avoid fresh enzyme being ad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member…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ucleotides used must be very pur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must not be contaminated  - any foreign DNA would also be copied….PCR in legal cases in UK suspended at presen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tides used must be very p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must not be contaminated  - any foreign DNA would also be copied….PCR in legal cases in UK suspended at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hat is it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nimation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http://www.dnalc.org/ddnalc/resources/pcr.html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http://www.maxanim.com/genetics/PCR/pcr.swf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nalc.org/ddnalc/resources/pc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axanim.com/genetics/PCR/pcr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formatio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lymerase chain reaction enables large amounts of DNA to be produced from very small samples (0.1ml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re is a repeating cycle of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ion of double DNA strand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ynthesis of a complementary strand for each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 enables large amounts of DNA to be produced from very small samples (0.1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repeating cycle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of double DNA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sis of a complementary strand for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hat happens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Sample DNA , nucleotides, DNA primers &amp; thermostable DNA polymerase placed in PCR machin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Strands of sample DNA separated by heating to 95oC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Mixture cooled to 37oC to allow primers to bin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Mixture heated to 72oC for replication (optimum temp of DNA polymerase)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Cycle repeats many times (~8mins /cycle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DNA , nucleotides, DNA primers &amp; thermostable DNA polymerase placed in PCR mach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nds of sample DNA separated by heating to 95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 cooled to 37oC to allow primers to b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 heated to 72oC for replication (optimum temp of DNA polymera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e repeats many times (~8mins /cyc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oblem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ion achieved by heating to 95oC – no suitable helicas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olymerase can’t work on completely single stranded DNA – double stranded regions needed at the start of sequence to be copied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imers (short sequences DNA) complementary to bases at start of region to be copied use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 synthesize  primers , base sequence at start must be know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achieved by heating to 95oC – no suitable heli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can’t work on completely single stranded DNA – double stranded regions needed at the start of sequence to be copi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rs (short sequences DNA) complementary to bases at start of region to be copied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ynthesize  primers , base sequence at start must be 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TTAACGGGGCCCTTTAAA.....…TTTAAACCCGGGTT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ATTGCCCCGGGAAATTT.....…AAATTTGGGCCCAAA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the sequence of bases which ONLY flank a particular region of a particular organism's DNA, and NO OTHER ORGANISM'S DNA. This region would be a target sequence for PCR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AACGGGGCCCTTTAAA.....…TTTAAACCCGGGT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ATTGCCCCGGGAAATTT.....…AAATTTGGGCCCA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of bases which ONLY flank a particular region of a particular organism's DNA, and NO OTHER ORGANISM'S DNA. This region would be a target sequence for PC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EE72-3594-4DA5-A806-40EF4240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763E-AEB2-4D14-81F0-86940918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A8F7-5A08-4927-A261-CC8DAB10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643D-ED5A-4DBC-97F0-12EAE4A7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1B22-6ACA-4B78-A599-4E6A80BF9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C513-AFF9-4BED-B388-7DFD8CBB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B4F5-9E1D-4D50-A422-DABB56D5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3FF2-D386-4DD6-9B05-1E20B051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EE48-BEDD-4E9F-8A20-698F9048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862D-D1A0-495D-A2DB-D2F68AED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B122-1CD3-4F7E-A519-0DC2F2D4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6B7C-3F4C-43F1-9B7D-6013A464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79E3-B5C5-48AD-8B04-C23B3AE7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A500-9C10-400A-A35C-7DCDC1B5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8273-BC23-4930-8687-6B2A80BA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FF16-1D40-4DDF-98F4-3B06E228F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8D7B-D2FB-4F8C-AE2F-E0A06CFF1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C60B-5693-49E8-9645-410D21D3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0E19-3E91-4E6D-8F4D-293AE1F1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D9DB-0402-4D7C-B9F7-4DD8CBE9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9E47-647D-4224-A912-BDCDFAE8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4638-FD08-4369-A28F-8A7436D4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8506-3AD6-4DE1-A3D8-3C00AF22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46B1-3B0D-4C56-99F7-BE03C37C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ADE3-AB34-44AA-AD5D-2B5286EF98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978C-1857-4315-93DB-B521B8AC74A2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nalc.org/ddnalc/resources/pcr.html" TargetMode="External"/><Relationship Id="rId2" Type="http://schemas.openxmlformats.org/officeDocument/2006/relationships/hyperlink" Target="http://www.maxanim.com/genetics/PCR/pcr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olymerase Chain Reac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09120" y="18284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Aim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To understand the process of </a:t>
            </a:r>
            <a:r>
              <a:rPr b="0" lang="en-GB" sz="3600" spc="-1" strike="noStrike">
                <a:solidFill>
                  <a:srgbClr val="ff0000"/>
                </a:solidFill>
                <a:latin typeface="Verdana"/>
              </a:rPr>
              <a:t>PCR</a:t>
            </a: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 and its </a:t>
            </a:r>
            <a:r>
              <a:rPr b="0" lang="en-GB" sz="3600" spc="-1" strike="noStrike">
                <a:solidFill>
                  <a:srgbClr val="ff0000"/>
                </a:solidFill>
                <a:latin typeface="Verdana"/>
              </a:rPr>
              <a:t>uses</a:t>
            </a: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Verdana"/>
              </a:rPr>
              <a:t>Starter - Match each term with its correct description (work in pairs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486400" y="304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41BE-4CD5-42C2-BC79-CE95004AE658}" type="datetime3">
              <a:rPr b="0" lang="en-GB" sz="2400" spc="-1" strike="noStrike">
                <a:solidFill>
                  <a:srgbClr val="eaeaea"/>
                </a:solidFill>
                <a:latin typeface="Arial"/>
                <a:ea typeface="MS PGothic"/>
              </a:rPr>
              <a:t>30 July 2026</a:t>
            </a:fld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609480"/>
            <a:ext cx="81392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he first step for PCR would be to synthesize "primers" of about 20 letters-lo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ONE primer exactly like the lower left-hand sequence, and ONE primer exactly like the upper right-hand sequence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TAACGGGGCCCTTTAAA.....…TTTAAACCCGGGT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AATTGCCCCGGGAAATTT</a:t>
            </a: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.......................&gt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and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&lt;........................................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TTTAAACCCGGGTT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AATTGCCCCGGGAAATTT........AAATTTGGGCCCAA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DNA polymerase must be thermostable (37</a:t>
            </a:r>
            <a:r>
              <a:rPr b="0" lang="en-GB" sz="3200" spc="-1" strike="noStrike" baseline="30000">
                <a:solidFill>
                  <a:srgbClr val="eaeaea"/>
                </a:solidFill>
                <a:latin typeface="Verdana"/>
              </a:rPr>
              <a:t>o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C – 95</a:t>
            </a:r>
            <a:r>
              <a:rPr b="0" lang="en-GB" sz="3200" spc="-1" strike="noStrike" baseline="30000">
                <a:solidFill>
                  <a:srgbClr val="eaeaea"/>
                </a:solidFill>
                <a:latin typeface="Verdana"/>
              </a:rPr>
              <a:t>o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C used) to avoid fresh enzyme being adde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Remember…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Nucleotides used must be very pur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DNA must not be contaminated  - any foreign DNA would also be copied….PCR in legal cases in UK suspended at prese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Picture 4" descr="pcr"/>
          <p:cNvPicPr/>
          <p:nvPr/>
        </p:nvPicPr>
        <p:blipFill>
          <a:blip r:embed="rId1"/>
          <a:stretch/>
        </p:blipFill>
        <p:spPr>
          <a:xfrm>
            <a:off x="1619280" y="1773360"/>
            <a:ext cx="6400800" cy="435744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www.dnalc.org/ddnalc/resources/pcr.htm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://www.maxanim.com/genetics/PCR/pcr.swf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4" descr="300px-PCR"/>
          <p:cNvPicPr/>
          <p:nvPr/>
        </p:nvPicPr>
        <p:blipFill>
          <a:blip r:embed="rId1"/>
          <a:stretch/>
        </p:blipFill>
        <p:spPr>
          <a:xfrm>
            <a:off x="3071880" y="152280"/>
            <a:ext cx="2844720" cy="64008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4" descr="Pcr"/>
          <p:cNvPicPr/>
          <p:nvPr/>
        </p:nvPicPr>
        <p:blipFill>
          <a:blip r:embed="rId1"/>
          <a:stretch/>
        </p:blipFill>
        <p:spPr>
          <a:xfrm>
            <a:off x="1257480" y="0"/>
            <a:ext cx="681984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Inform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Polymerase chain reaction enables large amounts of DNA to be produced from very small samples (0.1ml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here is a repeating cycle of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separation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of double DNA strand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synthesis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of a complementary strand for eac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What happen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ample DNA , nucleotides, DNA primers &amp; thermostable DNA polymerase placed in PCR machin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trands of sample DNA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separated 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by heating to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95</a:t>
            </a:r>
            <a:r>
              <a:rPr b="0" lang="en-GB" sz="2800" spc="-1" strike="noStrike" baseline="30000">
                <a:solidFill>
                  <a:srgbClr val="ff0000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Mixture cooled to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37</a:t>
            </a:r>
            <a:r>
              <a:rPr b="0" lang="en-GB" sz="2800" spc="-1" strike="noStrike" baseline="30000">
                <a:solidFill>
                  <a:srgbClr val="ff0000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C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to allow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primers to bind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Mixture heated to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72</a:t>
            </a:r>
            <a:r>
              <a:rPr b="0" lang="en-GB" sz="2800" spc="-1" strike="noStrike" baseline="30000">
                <a:solidFill>
                  <a:srgbClr val="ff0000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C 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for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replication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(optimum temp of DNA polymerase)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Cycle repeats many times (~8mins /cycle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eparation achieved by heating to 95</a:t>
            </a:r>
            <a:r>
              <a:rPr b="0" lang="en-GB" sz="2800" spc="-1" strike="noStrike" baseline="30000">
                <a:solidFill>
                  <a:srgbClr val="eaeaea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C – no suitable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helicas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DNA polymerase can’t work on completely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single stranded DNA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– double stranded regions needed at the start of sequence to be copied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primers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(short sequences DNA) complementary to bases at start of region to be copied us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o synthesize  primers , base sequence at start must be know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582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TAACGGGGCCCTTTAAA.....…TTTAAACCCGGGTT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AATTGCCCCGGGAAATTT.....…AAATTTGGGCCCAA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he sequence of bases which ONLY flank a particular region of a particular organism's DNA, and NO OTHER ORGANISM'S DNA. This region would be a target sequence for PC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9:44:27Z</dcterms:created>
  <dc:creator>Dominic Conrad</dc:creator>
  <dc:description/>
  <dc:language>en-US</dc:language>
  <cp:lastModifiedBy>LEGION2</cp:lastModifiedBy>
  <dcterms:modified xsi:type="dcterms:W3CDTF">2016-01-12T11:54:55Z</dcterms:modified>
  <cp:revision>9</cp:revision>
  <dc:subject/>
  <dc:title>Polymerase Chain Reaction PCR</dc:title>
</cp:coreProperties>
</file>