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23ED-18D1-409B-A71A-A53ADCE40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5DA-4370-4D65-8211-C20096C3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7D6-E8A4-40DF-9E65-280B586C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390-DEAA-49A6-B369-12D9347A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BC3-694E-4F3A-9001-6DC0456C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2762-2451-45D5-9B98-7AB9E8F9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9832-ED9E-496A-B722-B6A401DB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45C8-0766-4C4A-8549-82B312DD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8719-6C09-4010-8EB4-E2FF387E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D290-CF0C-4DE2-B599-90881359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6195-BC5A-4648-9274-E604DE4F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D810-ECE1-43D7-A0C5-53FEDDB9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157-7F7A-429E-81A9-CF26851E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649C-4B29-484F-A890-85E8E51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D585-AB2E-41D1-BF66-11D0054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B1AB-F98D-4CA9-826B-65BF3441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CD10-D162-46B2-8877-4218FAEE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C7AB-F54E-4172-8C16-1CCD7D20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1A8-A89F-4DC8-BB36-7A7BA393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87F-39C1-4F2C-A964-8495D666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399-EA37-4851-B6AF-09937991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BAB-815D-4344-A42B-EC78D026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83B-530C-421B-9F80-66588B8F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309-4C37-4806-9AB6-1A26CB33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4CD-87A4-4AAC-9CD6-E867D3E2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5ACE-69AD-4A64-904B-604C58A8C5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DEC7-A467-4D23-B4BB-03282768542D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pcr.html" TargetMode="External"/><Relationship Id="rId2" Type="http://schemas.openxmlformats.org/officeDocument/2006/relationships/hyperlink" Target="http://www.maxanim.com/genetics/PCR/pcr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D73C-B0E1-472A-A163-682AA76D195A}" type="datetime3">
              <a:rPr b="0" lang="en-GB" sz="2400" spc="-1" strike="noStrike">
                <a:solidFill>
                  <a:srgbClr val="eaeaea"/>
                </a:solidFill>
                <a:latin typeface="Arial"/>
                <a:ea typeface="MS PGothic"/>
              </a:rPr>
              <a:t>30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pcr"/>
          <p:cNvPicPr/>
          <p:nvPr/>
        </p:nvPicPr>
        <p:blipFill>
          <a:blip r:embed="rId1"/>
          <a:stretch/>
        </p:blipFill>
        <p:spPr>
          <a:xfrm>
            <a:off x="1619280" y="1773360"/>
            <a:ext cx="640080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LEGION2</cp:lastModifiedBy>
  <dcterms:modified xsi:type="dcterms:W3CDTF">2016-01-12T11:54:55Z</dcterms:modified>
  <cp:revision>9</cp:revision>
  <dc:subject/>
  <dc:title>Polymerase Chain Reaction PCR</dc:title>
</cp:coreProperties>
</file>