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C7B1-F42E-445D-BF9D-2A1AEFFD7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453-5291-41FC-B3E8-8B77FE42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4D1-860F-4BD9-9E80-391683CC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1A2-6EE0-4747-BCC1-119752CE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BB5-E6F0-406F-B87B-3BC74F29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2252-9FDD-4FAF-94D3-618E58FB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477A-4588-4216-8306-EA43978A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0CFB-BAE4-4884-8B8F-F7E2E227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B282-C754-4D11-96D9-68FCB5EB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F3F8-E7DA-4699-864C-923BE6B4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FA2D-5820-422F-BC81-94EAA520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9A06-FC5B-4D0E-BC01-5F3C473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10E-1226-4A13-BED6-A4CF97BD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6ACE-CA09-429F-B882-05D779E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C736-5AE6-4F9A-97BB-0989836C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016C-8030-4F0F-BFA1-A691909B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C1E8-24EB-4103-8F01-1FDF4EB8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2E2E-2199-48F1-87D5-3C6AE104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B92-FB1C-45DB-BBFA-66E1928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FE1-B188-42D6-8D8B-85E64175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6D5-FABD-489F-BF3B-4E0DB651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C46-8F58-4507-85AC-FC1FB9D7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43C-FC9D-4193-92F1-97BEB71F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776-7168-49E3-8E07-3491F17E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BC3-556B-460F-8F42-4FF46E50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CA2D-159F-4CBF-9120-C3ACB7143E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47C-80BD-4994-8FC6-5971ADDBD51C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pcr.html" TargetMode="External"/><Relationship Id="rId2" Type="http://schemas.openxmlformats.org/officeDocument/2006/relationships/hyperlink" Target="http://www.maxanim.com/genetics/PCR/pcr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C929-EA16-4C4D-8716-BE55974DB0ED}" type="datetime3">
              <a:rPr b="0" lang="en-GB" sz="2400" spc="-1" strike="noStrike">
                <a:solidFill>
                  <a:srgbClr val="eaeaea"/>
                </a:solidFill>
                <a:latin typeface="Arial"/>
                <a:ea typeface="MS PGothic"/>
              </a:rPr>
              <a:t>30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pcr"/>
          <p:cNvPicPr/>
          <p:nvPr/>
        </p:nvPicPr>
        <p:blipFill>
          <a:blip r:embed="rId1"/>
          <a:stretch/>
        </p:blipFill>
        <p:spPr>
          <a:xfrm>
            <a:off x="1619280" y="1773360"/>
            <a:ext cx="640080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LEGION2</cp:lastModifiedBy>
  <dcterms:modified xsi:type="dcterms:W3CDTF">2016-01-12T11:54:55Z</dcterms:modified>
  <cp:revision>9</cp:revision>
  <dc:subject/>
  <dc:title>Polymerase Chain Reaction PCR</dc:title>
</cp:coreProperties>
</file>