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whoosh.wav" ContentType="audio/x-wav"/>
  <Override PartName="/ppt/media/image2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1016E-2C34-4130-A260-B31F1A41C4C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u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igher Bi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er Bi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urner’s syndr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ete with no sex chromosomes fuses with normal X gam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ygote has chromosome complement 2n = 4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ividuals are female and short in sta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fertile because ovaries haven’t developed norm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urner’s syndr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ete with no sex chromosomes fuses with normal X gam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ygote has chromosome complement 2n = 4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ividuals are female and short in sta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fertile because ovaries haven’t developed norm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Klinefelter’s syndr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X egg fertilised by normal Y spe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ormal X egg is fertilised by an XY spe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Zygote has chromosome complement 2n = 47 (44 + XX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linefelter’s syndr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X egg fertilised by normal Y spe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rmal X egg is fertilised by an XY spe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ygote has chromosome complement 2n = 47 (44 + XX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ways m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rmally infertil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not produce spe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ways m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rmally infertil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not produce spe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lete non-disjunction and polyploi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the spindle fibres in a gamete mother cell fa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homologous pairs fail to become sepa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tion of abnormal diploid game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contains 2 complete sets of chromosomes instead of 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lete non-disjunction and polyploi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the spindle fibres in a gamete mother cell fa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homologous pairs fail to become sepa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tion of abnormal diploid game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contains 2 complete sets of chromosomes instead of 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ploi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rtilisation of abnormal game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ation of mutant plants which possess complete extra sets of chromoso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ype of chromosome mutation is called polyploi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ploi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rtilisation of abnormal game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ation of mutant plants which possess complete extra sets of chromoso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ype of chromosome mutation is called polyploi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: the strawberry plant is exposed to a chemica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: due to the effect of chemical, total non-disjunction at meiosis produces diploid gametes(2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: two diploid gametes fuse at fertilis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: a new plant develops which has four sets of chromosomes (4n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: the strawberry plant is exposed to a chemica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: due to the effect of chemical, total non-disjunction at meiosis produces diploid gametes(2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: two diploid gametes fuse at fertilis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: a new plant develops which has four sets of chromosomes (4n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conomic signific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ploid plants are larger than diploid relati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reased seed and fruit siz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commercially developed crop plants are polyplo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appl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strawber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tomato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whe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ive greater yiel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conomic signific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ploid plants are larger than diploid relati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reased seed and fruit siz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commercially developed crop plants are polyplo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appl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strawber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tomato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whe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ive greater yiel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ffects of polyploi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even sets of chromos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polyploidy plants are ster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e seedless fru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rease in vigo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istance to dise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ffects of polyploi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even sets of chromos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polyploidy plants are ster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e seedless fru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rease in vigo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istance to dise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 in structure or amount of an organism’s genetic mater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 in genotype produces change in phenotype = mut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types of mu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osome mu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 in structure of one chromos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 in structure or amount of an organism’s genetic mater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 in genotype produces change in phenotype = mut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types of mu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osome mu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 in structure of one chromos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hromosome mut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hange in chromosome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on-disjunction in meio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on-disjunction of sex chromoso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mplete non-disjunction and polyploi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osome mut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 in chromosome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n-disjunction in meio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n-disjunction of sex chromoso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lete non-disjunction and polyploi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n-disjunction during meio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indle fibre fails during meio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bers of one pair of homologous chromosomes fail to become sepa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gametes receive extra copy of affected chromos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gametes lack that chromos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n-disjunction during meio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indle fibre fails during meio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bers of one pair of homologous chromosomes fail to become sepa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gametes receive extra copy of affected chromos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gametes lack that chromos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own’s Syndr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on-disjunction in chromosome 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ccurs in human egg mother c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ne or more abnormal eggs formed (n = 2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ertilised by normal sperm (n = 2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ormation of abnormal zygote (2n = 47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wn’s Syndr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n-disjunction in chromosome 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ccurs in human egg mother c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or more abnormal eggs formed (n = 2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rtilised by normal sperm (n = 2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ation of abnormal zygote (2n = 47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n dis-junction of sex chromoso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n dis-junction of sex chromoso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91C17-557D-49B5-90C1-1DC53A213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C17DB-3A9F-4424-AB5F-8F0ADD23A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36C98-0A18-477F-BAF7-D504D29A6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0BFC8-1D82-4FBD-A921-6451CD8E1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AF12C-E7E0-468C-BF5F-FD71DAD9E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94690-AC2D-43AD-8E70-B435923BE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B45A5-5569-4FD2-AA94-E0AEE876B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E6C5F-32A5-4A73-862C-0BAE2856C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BBA04-B233-4216-9EC2-02D3B1D15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40321-CB13-47DD-914C-2878AFCE7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CB40E-853F-4528-8343-259A709D7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B140E-7AF7-469B-8CC8-11859FDDB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FB213-04A0-400A-8980-93C333D8D2E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biostudio.com/d_%20Meiotic%20Nondisjunction%20Meiosis%20I.htm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Mu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Higher Biolo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Turner’s syndro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amete with no sex chromosomes fuses with normal X game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Zygote has chromosome complement 2n = 4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Individuals are female and short in sta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Infertile because ovaries haven’t developed normal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7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Klinefelter’s syndro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XX egg fertilised by normal Y spe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                              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ormal X egg is fertilised by an XY spe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Zygote has chromosome complement 2n = 47 (44 + XX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4" descr=""/>
          <p:cNvPicPr/>
          <p:nvPr/>
        </p:nvPicPr>
        <p:blipFill>
          <a:blip r:embed="rId1"/>
          <a:stretch/>
        </p:blipFill>
        <p:spPr>
          <a:xfrm>
            <a:off x="990720" y="0"/>
            <a:ext cx="695628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5638320" y="1980720"/>
            <a:ext cx="304812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lways ma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ormally infertil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annot produce spe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47242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Complete non-disjunction and polyploid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All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the spindle fibres in a gamete mother cell fa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All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homologous pairs fail to become separa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roduction of abnormal diploid game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ach contains 2 complete sets of chromosomes instead of 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Polyploid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Fertilisation of abnormal game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Formation of mutant plants which possess complete extra sets of chromoso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is type of chromosome mutation is called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polyploi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50292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Text Box 5"/>
          <p:cNvSpPr/>
          <p:nvPr/>
        </p:nvSpPr>
        <p:spPr>
          <a:xfrm>
            <a:off x="5181480" y="228600"/>
            <a:ext cx="3733920" cy="50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A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the strawberry plant is exposed to a chemic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B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due to the effect of chemical, total non-disjunction at meiosis produces diploid gametes(2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C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two diploid gametes fuse at fertilis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D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a new plant develops which has four sets of chromosomes (4n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Economic significa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olyploid plants are larger than diploid relati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Increased seed and fruit s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any commercially developed crop plants are polyplo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-apples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-strawber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-tomatoes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-whe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ive greater yiel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Effects of polyploid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Uneven sets of chromoso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-polyploidy plants are ster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roduce seedless fru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Increase in vigou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Resistance to dis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Mu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hange in structure or amount of an organism’s genetic mater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hange in genotype produces change in phenotype =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mut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2 types of mu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hromosome mu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hange in structure of one chromoso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Chromosome mut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hange in chromosom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on-disjunction in meio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on-disjunction of sex chromoso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omplete non-disjunction and polyploi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omic Sans MS"/>
              </a:rPr>
              <a:t>Non-disjunction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 during meio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pindle fibre fails during meio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embers of one pair of homologous chromosomes fail to become separa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2 gametes receive extra copy of affected chromoso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2 gametes lack that chromoso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" y="0"/>
            <a:ext cx="8153280" cy="6802560"/>
          </a:xfrm>
          <a:prstGeom prst="rect">
            <a:avLst/>
          </a:prstGeom>
          <a:ln w="0">
            <a:noFill/>
          </a:ln>
        </p:spPr>
      </p:pic>
      <p:sp>
        <p:nvSpPr>
          <p:cNvPr id="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Down’s Syndro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Non-disjunction in chromosome 2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Occurs in human egg mother ce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One or more abnormal eggs formed (n = 24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ertilised by normal sperm (n = 2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ormation of abnormal zygote (2n = 47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380880" y="0"/>
            <a:ext cx="8382240" cy="6846840"/>
          </a:xfrm>
          <a:prstGeom prst="rect">
            <a:avLst/>
          </a:prstGeom>
          <a:ln w="0">
            <a:noFill/>
          </a:ln>
        </p:spPr>
      </p:pic>
      <p:sp>
        <p:nvSpPr>
          <p:cNvPr id="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6" descr=""/>
          <p:cNvPicPr/>
          <p:nvPr/>
        </p:nvPicPr>
        <p:blipFill>
          <a:blip r:embed="rId1"/>
          <a:stretch/>
        </p:blipFill>
        <p:spPr>
          <a:xfrm>
            <a:off x="1447920" y="0"/>
            <a:ext cx="7010280" cy="6883560"/>
          </a:xfrm>
          <a:prstGeom prst="rect">
            <a:avLst/>
          </a:prstGeom>
          <a:ln w="0">
            <a:noFill/>
          </a:ln>
        </p:spPr>
      </p:pic>
      <p:sp>
        <p:nvSpPr>
          <p:cNvPr id="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Non dis-junction of sex chromosom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4" descr=""/>
          <p:cNvPicPr/>
          <p:nvPr/>
        </p:nvPicPr>
        <p:blipFill>
          <a:blip r:embed="rId1"/>
          <a:stretch/>
        </p:blipFill>
        <p:spPr>
          <a:xfrm>
            <a:off x="0" y="1981080"/>
            <a:ext cx="9144000" cy="4572000"/>
          </a:xfrm>
          <a:prstGeom prst="rect">
            <a:avLst/>
          </a:prstGeom>
          <a:ln w="0">
            <a:noFill/>
          </a:ln>
        </p:spPr>
      </p:pic>
      <p:sp>
        <p:nvSpPr>
          <p:cNvPr id="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4T11:20:05Z</dcterms:created>
  <dc:creator>hhashmi</dc:creator>
  <dc:description/>
  <dc:language>en-US</dc:language>
  <cp:lastModifiedBy>LEGION2</cp:lastModifiedBy>
  <dcterms:modified xsi:type="dcterms:W3CDTF">2016-01-12T11:51:04Z</dcterms:modified>
  <cp:revision>5</cp:revision>
  <dc:subject/>
  <dc:title>Mutation</dc:title>
</cp:coreProperties>
</file>