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4BF5-CF00-4BEE-A2C0-7F3BB675112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with no sex chromosomes fuses with normal X 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are female and short in st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tile because ovaries haven’t developed norm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linefelter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 egg fertilised by normal 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X egg is fertilised by an XY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ygote has chromosome complement 2n = 47 (44 + X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 inferti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produce sp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spindle fibres in a gamete mother cell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mologous pair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ion of abnormal diploid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ntains 2 complete sets of chromosomes instead of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 of abnormal 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mutant plants which possess complete extra sets of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ype of chromosome mutation is calle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: the strawberry plant is exposed to a chem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: due to the effect of chemical, total non-disjunction at meiosis produces diploid gametes(2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: two diploid gametes fuse at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: a new plant develops which has four sets of chromosomes (4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signific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 plants are larger than diploid rel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eed and fruit 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ommercially developed crop plants are 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ppl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rawber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omato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greater y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even sets of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olyploidy plants are ster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seedless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 in vig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r amount of an organism’s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genotype produces change in phenotype = mu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 of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structure of one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mu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in chromoso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non-disjunction and poly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 fails during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ers of one pair of homologous chromosomes fail to becom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receive extra copy of affected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gametes lack that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’s Syndr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disjunction in chromosome 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human egg mother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r more abnormal eggs formed (n = 2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ed by normal sperm (n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abnormal zygote (2n = 4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 dis-junction of sex 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6E5-1D3F-4232-B949-A3A958D7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F3C-D450-4818-829D-EACE9FE86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FD7-6863-4EF7-AD0D-169A0134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EE7A-06F3-47FE-8B2D-3407E4F1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A8D3-CA35-40E9-A82E-EFCE38A4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826-1224-42F6-B937-87D7FC25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6876-79B0-44EE-9A6E-AC127466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61A4-8F98-49B9-A513-AB624CD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47F-E8D1-4043-A279-62379D3D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AF7-1D1C-4AE7-9A56-80AFDC2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77D-B2D0-421C-95CC-3F4A2DB5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7280-1300-42C7-8C70-AB6A8B3D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1CA-1B55-4A17-BFE4-069517355F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iostudio.com/d_%20Meiotic%20Nondisjunction%20Meiosis%20I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urn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amete with no sex chromosomes fuses with normal X gam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ygote has chromosome complement 2n = 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ividuals are female and short in st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fertile because ovaries haven’t developed norm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linefelter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XX egg fertilised by normal 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 X egg is fertilised by an XY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Zygote has chromosome complement 2n = 47 (44 + X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90720" y="0"/>
            <a:ext cx="6956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38320" y="1980720"/>
            <a:ext cx="3048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lways m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rmally infert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nnot produce sp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spindle fibres in a gamete mother cell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ologous pair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tion of abnormal diploid gam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ach contains 2 complete sets of chromosomes instead of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ertilisation of abnormal game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rmation of mutant plants which possess complete extra sets of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is type of chromosome mutation is called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5181480" y="228600"/>
            <a:ext cx="373392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strawberry plant is exposed to a chemic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B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ue to the effect of chemical, total non-disjunction at meiosis produces diploid gametes(2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wo diploid gametes fuse at fer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new plant develops which has four sets of chromosomes (4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conomic signific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yploid plants are larger than diploid rel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d seed and fruit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y commercially developed crop plants are polypl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app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strawbe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tomato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 greater y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ffects of polyploi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even sets of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polyploidy plants are ster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duce seedless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crease in vig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sistance to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r amount of an organism’s genetic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genotype produces change in phenotype =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types of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mu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nge in structure of one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hromosome mu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in 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in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n-disjunction of sex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mplete non-disjunction and polyploi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Non-disjunctio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during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pindle fibre fails during mei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mbers of one pair of homologous chromosomes fail to become sepa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receive extra copy of affected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2 gametes lack that chrom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0"/>
            <a:ext cx="8153280" cy="6802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own’s Syndro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n-disjunction in chromosome 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ccurs in human egg mother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e or more abnormal eggs formed (n = 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ertilised by normal sperm (n = 2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mation of abnormal zygote (2n = 4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8382240" cy="684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47920" y="0"/>
            <a:ext cx="7010280" cy="68835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on dis-junction of sex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1:20:05Z</dcterms:created>
  <dc:creator>hhashmi</dc:creator>
  <dc:description/>
  <dc:language>en-US</dc:language>
  <cp:lastModifiedBy>LEGION2</cp:lastModifiedBy>
  <dcterms:modified xsi:type="dcterms:W3CDTF">2016-01-12T11:51:04Z</dcterms:modified>
  <cp:revision>5</cp:revision>
  <dc:subject/>
  <dc:title>Mutation</dc:title>
</cp:coreProperties>
</file>