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F329-D2AA-493F-BF2D-39D0BCA2A1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y of inherited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y of inherited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ohybrid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t the allele for round seeds be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 (dominant alle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t the allele for wrinkled seeds be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  (recessive alle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round seeds    x   wrinkl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ph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%  plants producing roun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g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%  heterozygotes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ohybrid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t the allele for round seeds be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 (dominant alle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t the allele for wrinkled seeds be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  (recessive alle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round seeds    x   wrinkl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ph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%  plants producing roun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g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%  heterozygotes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intercros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  phenotype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round seeds x round 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Rr              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2 gener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5%  plants producing roun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% plants producing wrinkl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%  RR      50%  Rr      25%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:1 Round seeds: wrinkl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intercros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  phenotype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round seeds x round 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Rr              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2 gener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5%  plants producing roun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% plants producing wrinkl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%  RR      50%  Rr      25%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:1 Round seeds: wrinkl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the observed ratio match the theoretical rati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oretical or expected ratio of plants producing round or wrinkled seeds is 3 round :1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observed ratio was 2.96: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crepancy is due to statistical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bserved  ratio is very rarely the same as the expected rati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r the sample the more nearly the results approximate to the theoretical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cal tests such as the chi-squared test can be used to test the closeness of fit of the observed and theoretical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the observed ratio match the theoretical rati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oretical or expected ratio of plants producing round or wrinkled seeds is 3 round :1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observed ratio was 2.96: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crepancy is due to statistical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bserved  ratio is very rarely the same as the expected rati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r the sample the more nearly the results approximate to the theoretical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cal tests such as the chi-squared test can be used to test the closeness of fit of the observed and theoretical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the term F1 generation is limited to the offspring of two homozygous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the term F2 is limited to the offspring of intercrossing the F1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other cases the terms offspring (1) and offspring (2) should be us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plete set of headings will b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g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(1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 (1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(2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(2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f the parents are not  homozygo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the term F1 generation is limited to the offspring of two homozygous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the term F2 is limited to the offspring of intercrossing the F1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other cases the terms offspring (1) and offspring (2) should be us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plete set of headings will b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g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(1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 (1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(2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(2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f the parents are not  homozygo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kcros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 test whether a plant producing round seeds is homozygous RR  or heterozygous Rr it can be crossed with a homozygous rr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plant is homozygous dominant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round  x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  RR         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plant is heterozygous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  round x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     Rr        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 100% 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100%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50% round  50%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 50% Rr   50% r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kcros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 test whether a plant producing round seeds is homozygous RR  or heterozygous Rr it can be crossed with a homozygous rr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plant is homozygous dominant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round  x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  RR         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plant is heterozygous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  round x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     Rr        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 100% 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100%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50% round  50%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 50% Rr   50% r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3DD7-2162-4C37-8DFE-E914C639F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5B4B-7823-4C15-B090-29A37859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D9B6-9017-4A6D-A90B-CEAAFF00A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F85E-D6AF-472F-BB33-5B5049D35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2AC8-9694-4B1D-9A02-C01A8E6D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0E3E-C497-40B6-B3C4-BD251D19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1D13-3603-48F2-A249-50257DAB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6249-34DF-44DC-9DDC-9F3F4820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6CCE-7496-4416-BB5C-C40805F2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DE84-4EE3-4F1C-8970-91340A3B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4274-80CC-407F-B7DC-A092864E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342F-0742-48BF-8880-FCC7B0F4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4423-0393-480A-B31F-4B14216AF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33"/>
                </a:solidFill>
                <a:latin typeface="Verdana"/>
              </a:rPr>
              <a:t>Genetic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The study of inherited characterist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Monohybrid inherit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Let the allele for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roun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seeds be: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(dominant allel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Let the allele for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wrinkled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eeds be: </a:t>
            </a:r>
            <a:r>
              <a:rPr b="0" lang="en-GB" sz="1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(recessive allel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arents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henotype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roun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seeds    x  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wrinkled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ee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enotype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ametes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F1 gener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3809880" y="281952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11"/>
          <p:cNvSpPr/>
          <p:nvPr/>
        </p:nvSpPr>
        <p:spPr>
          <a:xfrm>
            <a:off x="4419720" y="2819520"/>
            <a:ext cx="30456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12"/>
          <p:cNvSpPr/>
          <p:nvPr/>
        </p:nvSpPr>
        <p:spPr>
          <a:xfrm>
            <a:off x="5943600" y="281952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13"/>
          <p:cNvSpPr/>
          <p:nvPr/>
        </p:nvSpPr>
        <p:spPr>
          <a:xfrm>
            <a:off x="6477120" y="2819520"/>
            <a:ext cx="30456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609480" y="5638680"/>
            <a:ext cx="7848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F1 phenotypes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100%  plants producing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roun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s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F1 genotypes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100%  heterozygotes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Object 20"/>
          <p:cNvGraphicFramePr/>
          <p:nvPr/>
        </p:nvGraphicFramePr>
        <p:xfrm>
          <a:off x="3200400" y="3733920"/>
          <a:ext cx="3124080" cy="160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3733920"/>
                    <a:ext cx="31240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6600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Verdana"/>
              </a:rPr>
              <a:t>F1 intercross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arents  phenotype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round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eeds x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round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eed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enotype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            Rr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ametes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F2 generation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Oval 8"/>
          <p:cNvSpPr/>
          <p:nvPr/>
        </p:nvSpPr>
        <p:spPr>
          <a:xfrm>
            <a:off x="3962520" y="205740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9"/>
          <p:cNvSpPr/>
          <p:nvPr/>
        </p:nvSpPr>
        <p:spPr>
          <a:xfrm>
            <a:off x="4648320" y="205740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10"/>
          <p:cNvSpPr/>
          <p:nvPr/>
        </p:nvSpPr>
        <p:spPr>
          <a:xfrm>
            <a:off x="6248520" y="205740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11"/>
          <p:cNvSpPr/>
          <p:nvPr/>
        </p:nvSpPr>
        <p:spPr>
          <a:xfrm>
            <a:off x="5562720" y="205740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990720" y="4876920"/>
            <a:ext cx="73911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henotype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75%  plants producing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roun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s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25% plants producing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wrinkle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s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enotype</a:t>
            </a:r>
            <a:r>
              <a:rPr b="1" lang="en-GB" sz="1600" spc="-1" strike="noStrike">
                <a:solidFill>
                  <a:srgbClr val="99ff33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25%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 50%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 25%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atio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3:1 Round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eeds: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 wrinkled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Object 17"/>
          <p:cNvGraphicFramePr/>
          <p:nvPr/>
        </p:nvGraphicFramePr>
        <p:xfrm>
          <a:off x="3276720" y="3124080"/>
          <a:ext cx="3504960" cy="152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124080"/>
                    <a:ext cx="350496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33"/>
                </a:solidFill>
                <a:latin typeface="Verdana"/>
              </a:rPr>
              <a:t>Does the observed ratio match the theoretical rati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theoretical or expected ratio of plants producing round or wrinkled seeds is 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3 round :1 wrinkl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endel’s observed ratio was 2.96: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discrepancy is due to 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statistical err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observed  ratio is very rarely the same as the expected rati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larger the sampl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the more nearly the results approximate to the theoretical rat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Statistical test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such as the 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chi-squared tes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can be used to test the closeness of fit of the observed and theoretical rat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use of the term F1 generation is limited to the offspring of two homozygous par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use of the term F2 is limited to the offspring of intercrossing the F1 gene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 all other cases the terms offspring (1) and offspring (2) should be used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complete set of headings will b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Parents phenotyp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Parents genotyp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Game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Offspring (1)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genotyp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Offspring  (1)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phenotyp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Game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Offspring (2)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phenotyp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Offspring (2)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genotyp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33520" y="4572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33"/>
                </a:solidFill>
                <a:latin typeface="Verdana"/>
              </a:rPr>
              <a:t>What if the parents are not  homozygo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Backcross</a:t>
            </a:r>
            <a:br>
              <a:rPr sz="2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o test whether a plant producing round seeds is homozygous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R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or heterozygous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r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it can be crossed with a homozygous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r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pla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449604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If plant is homozygous dominant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arents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henotyp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ound  x wrinkl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enotype      RR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             r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ame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Offsp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95320" y="1523520"/>
            <a:ext cx="4496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If plant is heterozygous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arent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henotype    round x wrinkl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enotype         Rr            r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ame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Offsp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Oval 5"/>
          <p:cNvSpPr/>
          <p:nvPr/>
        </p:nvSpPr>
        <p:spPr>
          <a:xfrm>
            <a:off x="1600200" y="31240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6"/>
          <p:cNvSpPr/>
          <p:nvPr/>
        </p:nvSpPr>
        <p:spPr>
          <a:xfrm>
            <a:off x="2057400" y="31240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7"/>
          <p:cNvSpPr/>
          <p:nvPr/>
        </p:nvSpPr>
        <p:spPr>
          <a:xfrm>
            <a:off x="2666880" y="31240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8"/>
          <p:cNvSpPr/>
          <p:nvPr/>
        </p:nvSpPr>
        <p:spPr>
          <a:xfrm>
            <a:off x="3048120" y="312408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13"/>
          <p:cNvSpPr/>
          <p:nvPr/>
        </p:nvSpPr>
        <p:spPr>
          <a:xfrm>
            <a:off x="609588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14"/>
          <p:cNvSpPr/>
          <p:nvPr/>
        </p:nvSpPr>
        <p:spPr>
          <a:xfrm>
            <a:off x="655308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15"/>
          <p:cNvSpPr/>
          <p:nvPr/>
        </p:nvSpPr>
        <p:spPr>
          <a:xfrm>
            <a:off x="71629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16"/>
          <p:cNvSpPr/>
          <p:nvPr/>
        </p:nvSpPr>
        <p:spPr>
          <a:xfrm>
            <a:off x="76201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Object 22"/>
          <p:cNvGraphicFramePr/>
          <p:nvPr/>
        </p:nvGraphicFramePr>
        <p:xfrm>
          <a:off x="1523880" y="3733920"/>
          <a:ext cx="2212920" cy="105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733920"/>
                    <a:ext cx="221292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23"/>
          <p:cNvGraphicFramePr/>
          <p:nvPr/>
        </p:nvGraphicFramePr>
        <p:xfrm>
          <a:off x="5791320" y="3733920"/>
          <a:ext cx="2212920" cy="1050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9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733920"/>
                    <a:ext cx="221292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Text Box 24"/>
          <p:cNvSpPr/>
          <p:nvPr/>
        </p:nvSpPr>
        <p:spPr>
          <a:xfrm>
            <a:off x="457200" y="5181480"/>
            <a:ext cx="34290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ffspring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phenotype   100% roun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Genotype    100% R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7"/>
          <p:cNvSpPr/>
          <p:nvPr/>
        </p:nvSpPr>
        <p:spPr>
          <a:xfrm>
            <a:off x="4495680" y="5257800"/>
            <a:ext cx="4419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ffspring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phenotype  50% round  50% wrink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genotype     50% Rr   50% r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28"/>
          <p:cNvSpPr/>
          <p:nvPr/>
        </p:nvSpPr>
        <p:spPr>
          <a:xfrm>
            <a:off x="4495680" y="144792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2:34:59Z</dcterms:created>
  <dc:creator>Angela Wall</dc:creator>
  <dc:description/>
  <dc:language>en-US</dc:language>
  <cp:lastModifiedBy>LEGION2</cp:lastModifiedBy>
  <dcterms:modified xsi:type="dcterms:W3CDTF">2016-01-12T11:48:38Z</dcterms:modified>
  <cp:revision>33</cp:revision>
  <dc:subject/>
  <dc:title>Genetics</dc:title>
</cp:coreProperties>
</file>