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138F-0C83-46B4-8A1A-60B02FDB92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F26-C2F8-4E7F-AE43-63A4A469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823-BC50-4551-8B6A-E705E729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B9C-38B4-4DB5-9354-59118B11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419-BA70-4743-B65A-805A7B45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57A-193A-4FE8-A7E5-6F071C0C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401-741D-4F0D-BFF4-396A5C86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43C-4B18-4A70-A496-A57C37F1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A55-1563-4798-AD7E-B456684E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B90-7E5A-4C3E-B083-BB4DEABB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019-96C8-4D14-A24B-7F67652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C59-0B2C-4B98-BEB8-7AFBC07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762-239B-4F50-A77A-E55C442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3078-78EF-47A7-89BD-C4DAD46C1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33"/>
                </a:solidFill>
                <a:latin typeface="Verdana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he study of inherite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onohybrid inheri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be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minant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be: </a:t>
            </a:r>
            <a:r>
              <a:rPr b="0" lang="en-GB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recessive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   x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80988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4197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943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4771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5638680"/>
            <a:ext cx="784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ph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heterozygotes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0"/>
          <p:cNvGraphicFramePr/>
          <p:nvPr/>
        </p:nvGraphicFramePr>
        <p:xfrm>
          <a:off x="3200400" y="3733920"/>
          <a:ext cx="31240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3124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F1 intercros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 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x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           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2 gener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962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6483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248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55627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990720" y="4876920"/>
            <a:ext cx="7391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75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50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25%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atio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3:1 Roun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: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wrinkle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7"/>
          <p:cNvGraphicFramePr/>
          <p:nvPr/>
        </p:nvGraphicFramePr>
        <p:xfrm>
          <a:off x="3276720" y="3124080"/>
          <a:ext cx="3504960" cy="15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Does the observed ratio match the theoretical rat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eoretical or expected ratio of plants producing round or wrinkled seeds is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3 round :1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ndel’s observed ratio was 2.96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crepancy is due to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bserved  ratio is very rarely the same as the expected rat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larger the samp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more nearly the results approximate to the theoretical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te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uch as 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hi-squared te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an be used to test the closeness of fit of the observed and theoretic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1 generation is limited to the offspring of two homozygous par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2 is limited to the offspring of intercrossing the F1 gen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all other cases the terms offspring (1) and offspring (2) should be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lete set of headings will b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1)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 (1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What if the parents are not  homozyg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Backcross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 test whether a plant producing round seeds is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or heter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t can be crossed with a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l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96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omozygous dominant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ound 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RR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eterozygous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   round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   Rr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6002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66688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30481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65530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1629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6201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2"/>
          <p:cNvGraphicFramePr/>
          <p:nvPr/>
        </p:nvGraphicFramePr>
        <p:xfrm>
          <a:off x="1523880" y="3733920"/>
          <a:ext cx="2212920" cy="10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3"/>
          <p:cNvGraphicFramePr/>
          <p:nvPr/>
        </p:nvGraphicFramePr>
        <p:xfrm>
          <a:off x="5791320" y="3733920"/>
          <a:ext cx="2212920" cy="105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4"/>
          <p:cNvSpPr/>
          <p:nvPr/>
        </p:nvSpPr>
        <p:spPr>
          <a:xfrm>
            <a:off x="457200" y="51814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 100% 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100% 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495680" y="525780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50% round  50% wrink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 50% Rr   50% r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495680" y="14479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34:59Z</dcterms:created>
  <dc:creator>Angela Wall</dc:creator>
  <dc:description/>
  <dc:language>en-US</dc:language>
  <cp:lastModifiedBy>LEGION2</cp:lastModifiedBy>
  <dcterms:modified xsi:type="dcterms:W3CDTF">2016-01-12T11:48:38Z</dcterms:modified>
  <cp:revision>33</cp:revision>
  <dc:subject/>
  <dc:title>Genetics</dc:title>
</cp:coreProperties>
</file>