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EC68-981D-4812-BD2E-64E5D81DF7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970-6539-4375-87CF-717A44BA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7BB-A5F2-437D-8689-C1B660E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13C-202B-421C-A557-E3634B39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AB1-3821-47C9-B71F-C29E26DC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BA4-55BB-43AA-994C-8B70B831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1CC-9D78-49E3-B797-4D69E42B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599-CE9D-4AE1-AD59-58E43D00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3C7-83A2-4E9E-9A90-33C2BF68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315-6D2C-4855-BB50-604468AD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A1C-F659-4FF9-9B94-CA6B6B47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CB9-FCAB-4BD6-B774-2C8658FF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AD7-7A5A-4E5F-B1D6-B3027175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353A-E175-4D9A-AFAB-53120EDD7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33"/>
                </a:solidFill>
                <a:latin typeface="Verdana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he study of inherite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Monohybrid inheri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be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dominant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be: </a:t>
            </a:r>
            <a:r>
              <a:rPr b="0" lang="en-GB" sz="1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recessive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   x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80988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4197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594360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4771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9480" y="5638680"/>
            <a:ext cx="784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ph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heterozygotes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20"/>
          <p:cNvGraphicFramePr/>
          <p:nvPr/>
        </p:nvGraphicFramePr>
        <p:xfrm>
          <a:off x="3200400" y="3733920"/>
          <a:ext cx="312408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733920"/>
                    <a:ext cx="3124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F1 intercros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 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x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           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2 gener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962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6483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6248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55627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990720" y="4876920"/>
            <a:ext cx="7391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75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50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25%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atio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3:1 Roun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: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wrinkle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17"/>
          <p:cNvGraphicFramePr/>
          <p:nvPr/>
        </p:nvGraphicFramePr>
        <p:xfrm>
          <a:off x="3276720" y="3124080"/>
          <a:ext cx="3504960" cy="15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35049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Does the observed ratio match the theoretical rat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heoretical or expected ratio of plants producing round or wrinkled seeds is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3 round :1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ndel’s observed ratio was 2.96: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screpancy is due to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bserved  ratio is very rarely the same as the expected rat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larger the samp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more nearly the results approximate to the theoretical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tes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uch as 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chi-squared te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an be used to test the closeness of fit of the observed and theoretic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1 generation is limited to the offspring of two homozygous par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2 is limited to the offspring of intercrossing the F1 gen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all other cases the terms offspring (1) and offspring (2) should be us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lete set of headings will b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1)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 (1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What if the parents are not  homozyg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Backcross</a:t>
            </a: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 test whether a plant producing round seeds is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or heter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t can be crossed with a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l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496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omozygous dominant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ound 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RR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496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eterozygous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   round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   Rr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5"/>
          <p:cNvSpPr/>
          <p:nvPr/>
        </p:nvSpPr>
        <p:spPr>
          <a:xfrm>
            <a:off x="16002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7"/>
          <p:cNvSpPr/>
          <p:nvPr/>
        </p:nvSpPr>
        <p:spPr>
          <a:xfrm>
            <a:off x="266688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3048120" y="31240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0958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65530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71629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6201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22"/>
          <p:cNvGraphicFramePr/>
          <p:nvPr/>
        </p:nvGraphicFramePr>
        <p:xfrm>
          <a:off x="1523880" y="3733920"/>
          <a:ext cx="2212920" cy="10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23"/>
          <p:cNvGraphicFramePr/>
          <p:nvPr/>
        </p:nvGraphicFramePr>
        <p:xfrm>
          <a:off x="5791320" y="3733920"/>
          <a:ext cx="2212920" cy="105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4"/>
          <p:cNvSpPr/>
          <p:nvPr/>
        </p:nvSpPr>
        <p:spPr>
          <a:xfrm>
            <a:off x="457200" y="51814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 100% 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100% 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495680" y="5257800"/>
            <a:ext cx="4419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50% round  50% wrink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 50% Rr   50% r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4495680" y="14479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34:59Z</dcterms:created>
  <dc:creator>Angela Wall</dc:creator>
  <dc:description/>
  <dc:language>en-US</dc:language>
  <cp:lastModifiedBy>LEGION2</cp:lastModifiedBy>
  <dcterms:modified xsi:type="dcterms:W3CDTF">2016-01-12T11:48:38Z</dcterms:modified>
  <cp:revision>33</cp:revision>
  <dc:subject/>
  <dc:title>Genetics</dc:title>
</cp:coreProperties>
</file>