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D4C4-1C8E-42FF-834C-A7D085C819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2C3-BC93-4D43-9250-730193E3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869-52E6-47D8-810B-EE2B54B5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7E1-43C2-469F-9672-2372A71A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4D9-6123-46E5-BCA5-B980B1B2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0EF-2EFB-498A-B637-03E207B3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159-1195-431F-906A-290CEC91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F39-E7BE-4177-8F94-75A0446F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726-84C9-43BB-AD03-9A596D3C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587-1C5C-4062-B27C-779C550C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68D-0EB8-4E35-9E16-74C043F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816-84B6-4D55-BF2F-CDD735FF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028-4A8A-4FA6-B434-1FEAABC5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A450-9C43-44EB-8147-FC72823486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N7K1-9QB0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HH4JxGxC0s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 there are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tw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unc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disinteg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ioles re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ucleur membrane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4891" t="75843" r="9333" b="7804"/>
          <a:stretch/>
        </p:blipFill>
        <p:spPr>
          <a:xfrm>
            <a:off x="0" y="4140360"/>
            <a:ext cx="9144000" cy="271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6372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59151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 daughter cells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ach daughter cell has half the chromosomes of the 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sets of cell divis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4200"/>
            <a:ext cx="6476760" cy="6429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ito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matic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body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gametes (sex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ter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Interest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ings happ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preparing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dou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43200" cy="243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0" t="0" r="53562" b="82720"/>
          <a:stretch/>
        </p:blipFill>
        <p:spPr>
          <a:xfrm>
            <a:off x="762120" y="4114800"/>
            <a:ext cx="4419360" cy="19670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</a:t>
            </a: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pair 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s thicken and sho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becom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2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romati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oined by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ve to the opposite sides of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uclear membrane disinte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809880" cy="33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rcRect l="0" t="17842" r="43112" b="67294"/>
          <a:stretch/>
        </p:blipFill>
        <p:spPr>
          <a:xfrm>
            <a:off x="1219320" y="441972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t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meet in the middl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arrange a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qua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come attach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indle fibr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ntrom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omologo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hromosome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o not asso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4202" r="30670" b="50934"/>
          <a:stretch/>
        </p:blipFill>
        <p:spPr>
          <a:xfrm>
            <a:off x="0" y="4402080"/>
            <a:ext cx="8686800" cy="222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rcRect l="0" t="28180" r="0" b="24547"/>
          <a:stretch/>
        </p:blipFill>
        <p:spPr>
          <a:xfrm>
            <a:off x="1981080" y="457200"/>
            <a:ext cx="4648320" cy="339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get pulled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contract pulling chromatids to the opposite pole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791320" y="3792600"/>
            <a:ext cx="3085920" cy="30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rcRect l="14222" t="55022" r="28889" b="28625"/>
          <a:stretch/>
        </p:blipFill>
        <p:spPr>
          <a:xfrm>
            <a:off x="228600" y="4900680"/>
            <a:ext cx="5029200" cy="1728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6:15:05Z</dcterms:created>
  <dc:creator>hhashmi</dc:creator>
  <dc:description/>
  <dc:language>en-US</dc:language>
  <cp:lastModifiedBy>LEGION2</cp:lastModifiedBy>
  <dcterms:modified xsi:type="dcterms:W3CDTF">2016-01-12T11:46:21Z</dcterms:modified>
  <cp:revision>6</cp:revision>
  <dc:subject/>
  <dc:title>Mitosis and Meiosis</dc:title>
</cp:coreProperties>
</file>