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A323-0E75-45B8-B8C4-12D6AC7322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D73-E74E-4C30-A377-15C5AD0E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1E2-3860-4DBD-B27A-0C9FD0E3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2A7-2E52-4554-9C7E-332BE95D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010-A268-4CAF-BAA8-0A767782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F18-7C8D-4F32-B23E-EC0FC1E4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DC3-442A-403B-9BFF-EB3FDD57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2CB-79FA-4176-BB30-F27EF6B9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B50-82E6-437F-A639-1F0A9058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E86-8F7B-4530-A3F7-6292E513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948-26E9-40C1-852E-77130576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370-6647-455D-AD10-5A1F96FB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26A-14EC-41E3-9933-BDE3458C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E37F-FC61-485A-A1E0-0F18D8DDE1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N7K1-9QB0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HH4JxGxC0s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 there are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tw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unc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disinteg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ioles re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ucleur membrane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24891" t="75843" r="9333" b="7804"/>
          <a:stretch/>
        </p:blipFill>
        <p:spPr>
          <a:xfrm>
            <a:off x="0" y="4140360"/>
            <a:ext cx="9144000" cy="271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663720" cy="3733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0"/>
            <a:ext cx="59151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60020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 daughter cells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ach daughter cell has half the chromosomes of the 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sets of cell divis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14200"/>
            <a:ext cx="6476760" cy="6429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ito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matic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body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gametes (sex ce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ter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Interest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ings happ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preparing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dou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743200" cy="243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rcRect l="0" t="0" r="53562" b="82720"/>
          <a:stretch/>
        </p:blipFill>
        <p:spPr>
          <a:xfrm>
            <a:off x="762120" y="4114800"/>
            <a:ext cx="4419360" cy="19670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</a:t>
            </a: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pair 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s thicken and sho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become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2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romati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oined by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om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ve to the opposite sides of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is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uclear membrane disinteg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809880" cy="33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rcRect l="0" t="17842" r="43112" b="67294"/>
          <a:stretch/>
        </p:blipFill>
        <p:spPr>
          <a:xfrm>
            <a:off x="1219320" y="441972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t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meet in the middle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arrange a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qua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come attach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indle fibr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ntrom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omologo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hromosome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o not assoc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0" t="34202" r="30670" b="50934"/>
          <a:stretch/>
        </p:blipFill>
        <p:spPr>
          <a:xfrm>
            <a:off x="0" y="4402080"/>
            <a:ext cx="8686800" cy="222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rcRect l="0" t="28180" r="0" b="24547"/>
          <a:stretch/>
        </p:blipFill>
        <p:spPr>
          <a:xfrm>
            <a:off x="1981080" y="457200"/>
            <a:ext cx="4648320" cy="339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get pulled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contract pulling chromatids to the opposite poles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791320" y="3792600"/>
            <a:ext cx="3085920" cy="3065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rcRect l="14222" t="55022" r="28889" b="28625"/>
          <a:stretch/>
        </p:blipFill>
        <p:spPr>
          <a:xfrm>
            <a:off x="228600" y="4900680"/>
            <a:ext cx="5029200" cy="1728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6:15:05Z</dcterms:created>
  <dc:creator>hhashmi</dc:creator>
  <dc:description/>
  <dc:language>en-US</dc:language>
  <cp:lastModifiedBy>LEGION2</cp:lastModifiedBy>
  <dcterms:modified xsi:type="dcterms:W3CDTF">2016-01-12T11:46:21Z</dcterms:modified>
  <cp:revision>6</cp:revision>
  <dc:subject/>
  <dc:title>Mitosis and Meiosis</dc:title>
</cp:coreProperties>
</file>