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6E23-0B8A-4057-BD2A-BDE0D289BE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 and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 and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ere are tw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unc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s disinteg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oles repl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r membran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div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ere are tw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unc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s disinteg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oles repl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r membran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div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daughter cells 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daughter cell has half the chromosomes of the 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sets of cell division inv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daughter cells 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daughter cell has half the chromosomes of the 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sets of cell division inv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 and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vision of somatic (body)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vision of gametes (sex cel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 and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vision of somatic (body)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vision of gametes (sex cel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esting things happe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reparing to div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material dou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esting things happe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reparing to div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material dou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pair u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thicken and shor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become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 chromatids joined by a centrom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oles move to the opposite sides of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lus disapp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membrane disinteg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pair u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thicken and shor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become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 chromatids joined by a centrom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oles move to the opposite sides of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lus disapp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membrane disinteg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meet in the middl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arrange at equator of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attached to spindle fibres by centrome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logous chromosomes do not assoc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meet in the middl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arrange at equator of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attached to spindle fibres by centrome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logous chromosomes do not assoc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get pulled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s contract pulling chromatids to the opposite poles of th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get pulled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s contract pulling chromatids to the opposite poles of th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A1E0-B197-4163-8C75-EE346ED79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7C90-AE89-4E57-81CD-A2CAA17C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BC15-2350-4483-9C46-1765DA114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4F95-7451-4027-B42E-47887DED3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ECA9-915E-4F10-A5AE-49111F14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CD2B-53CC-4F02-B000-5410B562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6284-4A32-49FB-8C93-BD3EC936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26C0-FEEF-46A7-8073-F8D15FF9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5455-4334-4E3C-BEDB-F23A1EC5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8BAF-CF6B-41AC-8C10-B3469379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EFB7-267A-4158-A99E-D8069B77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E5A7-FD7A-4FA2-A14D-F35785A2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6AB2-6C54-4DD5-8F36-FE611FE274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VlN7K1-9QB0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oHH4JxGxC0s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itosis and 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T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o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w there are </a:t>
            </a:r>
            <a:r>
              <a:rPr b="1" lang="en-GB" sz="3200" spc="-1" strike="noStrike">
                <a:solidFill>
                  <a:srgbClr val="ff0066"/>
                </a:solidFill>
                <a:latin typeface="Comic Sans MS"/>
              </a:rPr>
              <a:t>tw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romosomes unc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indle fibres disinteg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ntrioles repl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ucleur membrane 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ll div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rcRect l="24891" t="75843" r="9333" b="7804"/>
          <a:stretch/>
        </p:blipFill>
        <p:spPr>
          <a:xfrm>
            <a:off x="0" y="4140360"/>
            <a:ext cx="9144000" cy="2717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3048120" y="380880"/>
            <a:ext cx="3663720" cy="373392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0"/>
            <a:ext cx="591516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160020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 daughter cells produ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ach daughter cell has half the chromosomes of the pa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 sets of cell division invol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214200"/>
            <a:ext cx="6476760" cy="64296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itosis and 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itos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vision of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omatic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body)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ei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vision of gametes (sex cel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it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ter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ta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a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elo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I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ter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Comic Sans MS"/>
              </a:rPr>
              <a:t>Interestin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hings happe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ll preparing to div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enetic material dou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867280" y="4038480"/>
            <a:ext cx="2743200" cy="2435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2"/>
          <a:srcRect l="0" t="0" r="53562" b="82720"/>
          <a:stretch/>
        </p:blipFill>
        <p:spPr>
          <a:xfrm>
            <a:off x="762120" y="4114800"/>
            <a:ext cx="4419360" cy="196704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Pro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romosome </a:t>
            </a:r>
            <a:r>
              <a:rPr b="1" lang="en-GB" sz="2800" spc="-1" strike="noStrike">
                <a:solidFill>
                  <a:srgbClr val="ff0066"/>
                </a:solidFill>
                <a:latin typeface="Comic Sans MS"/>
              </a:rPr>
              <a:t>pair up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romosomes thicken and shor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become vi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2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hromatid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joined by a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entrom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entrio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ove to the opposite sides of the nucle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ucleolu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isapp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uclear membrane disinteg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2819520" y="380880"/>
            <a:ext cx="3809880" cy="3381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2"/>
          <a:srcRect l="0" t="17842" r="43112" b="67294"/>
          <a:stretch/>
        </p:blipFill>
        <p:spPr>
          <a:xfrm>
            <a:off x="1219320" y="4419720"/>
            <a:ext cx="6858000" cy="21430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M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ta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romosomes </a:t>
            </a:r>
            <a:r>
              <a:rPr b="1" lang="en-GB" sz="3200" spc="-1" strike="noStrike">
                <a:solidFill>
                  <a:srgbClr val="ff0066"/>
                </a:solidFill>
                <a:latin typeface="Comic Sans MS"/>
              </a:rPr>
              <a:t>meet in the middle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romosomes arrange at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quato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f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ecome attached to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pindle fibre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by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entrome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omologou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hromosomes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do not assoc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rcRect l="0" t="34202" r="30670" b="50934"/>
          <a:stretch/>
        </p:blipFill>
        <p:spPr>
          <a:xfrm>
            <a:off x="0" y="4402080"/>
            <a:ext cx="8686800" cy="2227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2"/>
          <a:srcRect l="0" t="28180" r="0" b="24547"/>
          <a:stretch/>
        </p:blipFill>
        <p:spPr>
          <a:xfrm>
            <a:off x="1981080" y="457200"/>
            <a:ext cx="4648320" cy="339264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a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romosomes get pulled </a:t>
            </a:r>
            <a:r>
              <a:rPr b="1" lang="en-GB" sz="3200" spc="-1" strike="noStrike">
                <a:solidFill>
                  <a:srgbClr val="ff0066"/>
                </a:solidFill>
                <a:latin typeface="Comic Sans MS"/>
              </a:rPr>
              <a:t>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indle fibres contract pulling chromatids to the opposite poles of the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5791320" y="3792600"/>
            <a:ext cx="3085920" cy="3065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2"/>
          <a:srcRect l="14222" t="55022" r="28889" b="28625"/>
          <a:stretch/>
        </p:blipFill>
        <p:spPr>
          <a:xfrm>
            <a:off x="228600" y="4900680"/>
            <a:ext cx="5029200" cy="172872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6:15:05Z</dcterms:created>
  <dc:creator>hhashmi</dc:creator>
  <dc:description/>
  <dc:language>en-US</dc:language>
  <cp:lastModifiedBy>LEGION2</cp:lastModifiedBy>
  <dcterms:modified xsi:type="dcterms:W3CDTF">2016-01-12T11:46:21Z</dcterms:modified>
  <cp:revision>6</cp:revision>
  <dc:subject/>
  <dc:title>Mitosis and Meiosis</dc:title>
</cp:coreProperties>
</file>