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94CF-4761-40E3-A992-9104AFA2FB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lex organisms originated from a single fertilised eg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ell in your body started here, through cell division the numbers are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hen specialise and change into their various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lex organisms originated from a single fertilised eg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ell in your body started here, through cell division the numbers are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hen specialise and change into their various r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is the process by which new body cell are produced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damaged or old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plex process  requiring different s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is the process by which new body cell are produced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damaged or old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plex process  requiring different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 identical to 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copied and double i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now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 identical to 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copied and double in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now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ughter cells contain the same genetic information from the original parent cell from which it was cop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ifferent type cell in your body contains the same genes, but only some act to make the cells specialise – e.g. into nerve or muscle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ughter cells contain the same genetic information from the original parent cell from which it was cop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ifferent type cell in your body contains the same genes, but only some act to make the cells specialise – e.g. into nerve or muscl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– bone cell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 separ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– bone cell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 sepa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ical meri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ical meri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 – epitheli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 – 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A8F7-9697-49CE-9163-049A5A59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9866-BBFD-4F4E-9DA9-E62A1E74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670-1EEF-489A-AE44-1FEAA714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EE0-2261-461D-9611-13A993BF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1872-6E4A-4A4A-8325-7975BB2F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1540-8E51-4627-9EE9-C80DD5BA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6A0B-67E1-4DA7-8E3F-F2D45C97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DFE1-2346-439D-A105-AB3C8B83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CBA-7B8D-441D-9B4C-B2BD2F0C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F90-2BC4-425F-8A3E-7485CA22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2DF-CB0C-43EE-9E36-029BE993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2C6C-11AF-4C87-8488-12062162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29AB-93A2-4591-9EEA-F9579D9B15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28782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ells-split"/>
          <p:cNvPicPr/>
          <p:nvPr/>
        </p:nvPicPr>
        <p:blipFill>
          <a:blip r:embed="rId1"/>
          <a:stretch/>
        </p:blipFill>
        <p:spPr>
          <a:xfrm>
            <a:off x="4500720" y="1341360"/>
            <a:ext cx="3109680" cy="4248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468360" y="1557360"/>
            <a:ext cx="3672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complex organisms originated from a single fertilised eg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ry cell in your body started here, through cell division the numbers are 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 then specialise and change into their various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tosis is the process by which new body cell are produced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placing damaged or old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a complex process  requiring different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mitosis-big"/>
          <p:cNvPicPr/>
          <p:nvPr/>
        </p:nvPicPr>
        <p:blipFill>
          <a:blip r:embed="rId1"/>
          <a:stretch/>
        </p:blipFill>
        <p:spPr>
          <a:xfrm>
            <a:off x="826920" y="333360"/>
            <a:ext cx="4191120" cy="5689440"/>
          </a:xfrm>
          <a:prstGeom prst="rect">
            <a:avLst/>
          </a:prstGeom>
          <a:ln w="0">
            <a:noFill/>
          </a:ln>
        </p:spPr>
      </p:pic>
      <p:sp>
        <p:nvSpPr>
          <p:cNvPr id="59" name="Line 11"/>
          <p:cNvSpPr/>
          <p:nvPr/>
        </p:nvSpPr>
        <p:spPr>
          <a:xfrm flipH="1">
            <a:off x="3924000" y="5516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5219640" y="494172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daughter cells identical to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3"/>
          <p:cNvSpPr/>
          <p:nvPr/>
        </p:nvSpPr>
        <p:spPr>
          <a:xfrm flipH="1">
            <a:off x="3708000" y="765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148360" y="54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3635280" y="1844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5148360" y="170028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are copied and double in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7"/>
          <p:cNvSpPr/>
          <p:nvPr/>
        </p:nvSpPr>
        <p:spPr>
          <a:xfrm flipH="1">
            <a:off x="377964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5219640" y="3573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now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daughter cells contain the same genetic information from the original parent cell from which it was cop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ery different type cell in your body contains th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genes, but only some act to make the cells specialise – e.g. into nerve or muscle tiss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 – bone cell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numa_int"/>
          <p:cNvPicPr/>
          <p:nvPr/>
        </p:nvPicPr>
        <p:blipFill>
          <a:blip r:embed="rId1"/>
          <a:stretch/>
        </p:blipFill>
        <p:spPr>
          <a:xfrm>
            <a:off x="611280" y="1557360"/>
            <a:ext cx="2736720" cy="2189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numa_pro"/>
          <p:cNvPicPr/>
          <p:nvPr/>
        </p:nvPicPr>
        <p:blipFill>
          <a:blip r:embed="rId2"/>
          <a:stretch/>
        </p:blipFill>
        <p:spPr>
          <a:xfrm>
            <a:off x="3708360" y="162864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NUMA_TELO"/>
          <p:cNvPicPr/>
          <p:nvPr/>
        </p:nvPicPr>
        <p:blipFill>
          <a:blip r:embed="rId3"/>
          <a:stretch/>
        </p:blipFill>
        <p:spPr>
          <a:xfrm>
            <a:off x="6227640" y="4076640"/>
            <a:ext cx="2521080" cy="21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NUMA_META"/>
          <p:cNvPicPr/>
          <p:nvPr/>
        </p:nvPicPr>
        <p:blipFill>
          <a:blip r:embed="rId4"/>
          <a:stretch/>
        </p:blipFill>
        <p:spPr>
          <a:xfrm>
            <a:off x="539640" y="4005360"/>
            <a:ext cx="2737080" cy="2189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numa_ana"/>
          <p:cNvPicPr/>
          <p:nvPr/>
        </p:nvPicPr>
        <p:blipFill>
          <a:blip r:embed="rId5"/>
          <a:stretch/>
        </p:blipFill>
        <p:spPr>
          <a:xfrm>
            <a:off x="3492360" y="4076640"/>
            <a:ext cx="2652840" cy="2122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4"/>
          <p:cNvSpPr/>
          <p:nvPr/>
        </p:nvSpPr>
        <p:spPr>
          <a:xfrm>
            <a:off x="685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371016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736920" y="3881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361800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6497640" y="416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826920" y="314172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3851280" y="2997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co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539640" y="61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pies sepa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6516720" y="609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daughter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752472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7236000" y="2637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s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230328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pical meri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mitosis 5 stages"/>
          <p:cNvPicPr/>
          <p:nvPr/>
        </p:nvPicPr>
        <p:blipFill>
          <a:blip r:embed="rId1"/>
          <a:stretch/>
        </p:blipFill>
        <p:spPr>
          <a:xfrm>
            <a:off x="2627280" y="333360"/>
            <a:ext cx="6192720" cy="6175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t – epithelia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mitosis pic2"/>
          <p:cNvPicPr/>
          <p:nvPr/>
        </p:nvPicPr>
        <p:blipFill>
          <a:blip r:embed="rId1"/>
          <a:stretch/>
        </p:blipFill>
        <p:spPr>
          <a:xfrm>
            <a:off x="1187280" y="1773360"/>
            <a:ext cx="6697800" cy="458784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02256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mitosis anim"/>
          <p:cNvPicPr/>
          <p:nvPr/>
        </p:nvPicPr>
        <p:blipFill>
          <a:blip r:embed="rId1"/>
          <a:stretch/>
        </p:blipFill>
        <p:spPr>
          <a:xfrm>
            <a:off x="684360" y="1484280"/>
            <a:ext cx="6408720" cy="5041800"/>
          </a:xfrm>
          <a:prstGeom prst="rect">
            <a:avLst/>
          </a:prstGeom>
          <a:ln w="0">
            <a:noFill/>
          </a:ln>
        </p:spPr>
      </p:pic>
      <p:sp>
        <p:nvSpPr>
          <p:cNvPr id="97" name="Line 8"/>
          <p:cNvSpPr/>
          <p:nvPr/>
        </p:nvSpPr>
        <p:spPr>
          <a:xfrm>
            <a:off x="3564000" y="105264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9:10:42Z</dcterms:created>
  <dc:creator>rik</dc:creator>
  <dc:description/>
  <dc:language>en-US</dc:language>
  <cp:lastModifiedBy>LEGION2</cp:lastModifiedBy>
  <dcterms:modified xsi:type="dcterms:W3CDTF">2016-01-12T11:40:50Z</dcterms:modified>
  <cp:revision>13</cp:revision>
  <dc:subject/>
  <dc:title>Mitosis &amp; Meiosis</dc:title>
</cp:coreProperties>
</file>