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4B1E-198F-4EE8-BB7F-06CAA626FE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E2E-DEC8-4D77-90D2-F8EAC503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9D5-B19F-480B-84BC-44913DFB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869-77EE-4B97-93A8-15030380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031-4FB0-4764-A82E-0B7B089F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0DC-B06E-4FD9-B75E-700FA760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D7C-E134-4792-A21C-A53F7089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864-C850-411F-BD54-777BC639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09D-78CC-4EE1-8309-BB48ACE7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0F6-5893-4F5C-9EA7-75AD90A6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433-EBB8-4153-8346-F0DC53F0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5D8-A091-4F09-9CDB-9D62FCAF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2DA-6484-4D3B-B108-6101D8D3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1BE1-DCFD-49C9-9416-28B9B29463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2878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ells-split"/>
          <p:cNvPicPr/>
          <p:nvPr/>
        </p:nvPicPr>
        <p:blipFill>
          <a:blip r:embed="rId1"/>
          <a:stretch/>
        </p:blipFill>
        <p:spPr>
          <a:xfrm>
            <a:off x="4500720" y="1341360"/>
            <a:ext cx="3109680" cy="4248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68360" y="1557360"/>
            <a:ext cx="36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complex organisms originated from a single fertilised eg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ry cell in your body started here, through cell division the numbers are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 then specialise and change into their various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tosis is the process by which new body cell are produced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lacing damaged or old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a complex process  requiring different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mitosis-big"/>
          <p:cNvPicPr/>
          <p:nvPr/>
        </p:nvPicPr>
        <p:blipFill>
          <a:blip r:embed="rId1"/>
          <a:stretch/>
        </p:blipFill>
        <p:spPr>
          <a:xfrm>
            <a:off x="826920" y="333360"/>
            <a:ext cx="4191120" cy="5689440"/>
          </a:xfrm>
          <a:prstGeom prst="rect">
            <a:avLst/>
          </a:prstGeom>
          <a:ln w="0">
            <a:noFill/>
          </a:ln>
        </p:spPr>
      </p:pic>
      <p:sp>
        <p:nvSpPr>
          <p:cNvPr id="59" name="Line 11"/>
          <p:cNvSpPr/>
          <p:nvPr/>
        </p:nvSpPr>
        <p:spPr>
          <a:xfrm flipH="1">
            <a:off x="3924000" y="5516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5219640" y="4941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 identical to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3708000" y="76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48360" y="54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3635280" y="1844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148360" y="1700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are copied and double i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7"/>
          <p:cNvSpPr/>
          <p:nvPr/>
        </p:nvSpPr>
        <p:spPr>
          <a:xfrm flipH="1">
            <a:off x="377964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219640" y="357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now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daughter cells contain the same genetic information from the original parent cell from which it was cop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 different type cell in your body contains 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genes, but only some act to make the cells specialise – e.g. into nerve or muscle tis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– bone cell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numa_int"/>
          <p:cNvPicPr/>
          <p:nvPr/>
        </p:nvPicPr>
        <p:blipFill>
          <a:blip r:embed="rId1"/>
          <a:stretch/>
        </p:blipFill>
        <p:spPr>
          <a:xfrm>
            <a:off x="611280" y="155736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numa_pro"/>
          <p:cNvPicPr/>
          <p:nvPr/>
        </p:nvPicPr>
        <p:blipFill>
          <a:blip r:embed="rId2"/>
          <a:stretch/>
        </p:blipFill>
        <p:spPr>
          <a:xfrm>
            <a:off x="3708360" y="162864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NUMA_TELO"/>
          <p:cNvPicPr/>
          <p:nvPr/>
        </p:nvPicPr>
        <p:blipFill>
          <a:blip r:embed="rId3"/>
          <a:stretch/>
        </p:blipFill>
        <p:spPr>
          <a:xfrm>
            <a:off x="6227640" y="4076640"/>
            <a:ext cx="252108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NUMA_META"/>
          <p:cNvPicPr/>
          <p:nvPr/>
        </p:nvPicPr>
        <p:blipFill>
          <a:blip r:embed="rId4"/>
          <a:stretch/>
        </p:blipFill>
        <p:spPr>
          <a:xfrm>
            <a:off x="539640" y="400536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numa_ana"/>
          <p:cNvPicPr/>
          <p:nvPr/>
        </p:nvPicPr>
        <p:blipFill>
          <a:blip r:embed="rId5"/>
          <a:stretch/>
        </p:blipFill>
        <p:spPr>
          <a:xfrm>
            <a:off x="3492360" y="4076640"/>
            <a:ext cx="2652840" cy="2122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685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71016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736920" y="388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61800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497640" y="416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826920" y="3141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851280" y="2997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539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ies sepa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651672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752472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7236000" y="2637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23032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ical meri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mitosis 5 stages"/>
          <p:cNvPicPr/>
          <p:nvPr/>
        </p:nvPicPr>
        <p:blipFill>
          <a:blip r:embed="rId1"/>
          <a:stretch/>
        </p:blipFill>
        <p:spPr>
          <a:xfrm>
            <a:off x="2627280" y="333360"/>
            <a:ext cx="6192720" cy="6175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t – epitheli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mitosis pic2"/>
          <p:cNvPicPr/>
          <p:nvPr/>
        </p:nvPicPr>
        <p:blipFill>
          <a:blip r:embed="rId1"/>
          <a:stretch/>
        </p:blipFill>
        <p:spPr>
          <a:xfrm>
            <a:off x="1187280" y="1773360"/>
            <a:ext cx="6697800" cy="45878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02256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mitosis anim"/>
          <p:cNvPicPr/>
          <p:nvPr/>
        </p:nvPicPr>
        <p:blipFill>
          <a:blip r:embed="rId1"/>
          <a:stretch/>
        </p:blipFill>
        <p:spPr>
          <a:xfrm>
            <a:off x="684360" y="1484280"/>
            <a:ext cx="6408720" cy="50418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>
            <a:off x="3564000" y="105264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9:10:42Z</dcterms:created>
  <dc:creator>rik</dc:creator>
  <dc:description/>
  <dc:language>en-US</dc:language>
  <cp:lastModifiedBy>LEGION2</cp:lastModifiedBy>
  <dcterms:modified xsi:type="dcterms:W3CDTF">2016-01-12T11:40:50Z</dcterms:modified>
  <cp:revision>13</cp:revision>
  <dc:subject/>
  <dc:title>Mitosis &amp; Meiosis</dc:title>
</cp:coreProperties>
</file>