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6C06-94DF-45A6-880D-91428763E0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mplex organisms originated from a single fertilised eg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ell in your body started here, through cell division the numbers are incr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then specialise and change into their various 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mplex organisms originated from a single fertilised eg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ell in your body started here, through cell division the numbers are in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then specialise and change into their various r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is the process by which new body cell are produced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ing damaged or old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mplex process  requiring different s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is the process by which new body cell are produced f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ing damaged or old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mplex process  requiring different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 identical to 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re copied and double i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now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 identical to 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re copied and double in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now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ughter cells contain the same genetic information from the original parent cell from which it was cop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different type cell in your body contains the same genes, but only some act to make the cells specialise – e.g. into nerve or muscle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ughter cells contain the same genetic information from the original parent cell from which it was cop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different type cell in your body contains the same genes, but only some act to make the cells specialise – e.g. into nerve or muscle 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– bone cell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 separ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– bone cell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 sepa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ical meri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ical meri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 – epitheli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 – 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1C02-DF7B-4660-A384-E2A4E4B1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F462-7EEB-434E-87BB-21433808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6D92-154B-447E-B1D9-AB99E465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1603-EDF3-47CF-8C67-9A3B4AA2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20B6-9CFB-4634-AA13-4A7E75BF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1F2B-A189-4E42-A9C9-3A94020A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47E0-7D4B-428B-B047-E2114402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6E0C-2958-4021-A370-A228156E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DC9A-E0BC-4E53-95A3-8E66C1A4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9C32-2463-4D38-8CEC-B6D3FC22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17E-CABD-42E4-9912-66A5FD40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B144-EEDA-46CE-BFAE-C0EAEDB2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B2B2-2EAA-415C-9AA8-1406D9EA26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Cell divi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28782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ell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cells-split"/>
          <p:cNvPicPr/>
          <p:nvPr/>
        </p:nvPicPr>
        <p:blipFill>
          <a:blip r:embed="rId1"/>
          <a:stretch/>
        </p:blipFill>
        <p:spPr>
          <a:xfrm>
            <a:off x="4500720" y="1341360"/>
            <a:ext cx="3109680" cy="4248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468360" y="1557360"/>
            <a:ext cx="3672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complex organisms originated from a single fertilised eg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ery cell in your body started here, through cell division the numbers are in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 then specialise and change into their various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tosis is the process by which new body cell are produced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placing damaged or old cel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a complex process  requiring different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mitosis-big"/>
          <p:cNvPicPr/>
          <p:nvPr/>
        </p:nvPicPr>
        <p:blipFill>
          <a:blip r:embed="rId1"/>
          <a:stretch/>
        </p:blipFill>
        <p:spPr>
          <a:xfrm>
            <a:off x="826920" y="333360"/>
            <a:ext cx="4191120" cy="5689440"/>
          </a:xfrm>
          <a:prstGeom prst="rect">
            <a:avLst/>
          </a:prstGeom>
          <a:ln w="0">
            <a:noFill/>
          </a:ln>
        </p:spPr>
      </p:pic>
      <p:sp>
        <p:nvSpPr>
          <p:cNvPr id="59" name="Line 11"/>
          <p:cNvSpPr/>
          <p:nvPr/>
        </p:nvSpPr>
        <p:spPr>
          <a:xfrm flipH="1">
            <a:off x="3924000" y="5516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5219640" y="494172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daughter cells identical to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3"/>
          <p:cNvSpPr/>
          <p:nvPr/>
        </p:nvSpPr>
        <p:spPr>
          <a:xfrm flipH="1">
            <a:off x="3708000" y="7650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5148360" y="54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5"/>
          <p:cNvSpPr/>
          <p:nvPr/>
        </p:nvSpPr>
        <p:spPr>
          <a:xfrm flipH="1">
            <a:off x="3635280" y="1844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5148360" y="170028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are copied and double in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7"/>
          <p:cNvSpPr/>
          <p:nvPr/>
        </p:nvSpPr>
        <p:spPr>
          <a:xfrm flipH="1">
            <a:off x="3779640" y="400536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5219640" y="3573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now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daughter cells contain the same genetic information from the original parent cell from which it was cop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ery different type cell in your body contains th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genes, but only some act to make the cells specialise – e.g. into nerve or muscle tiss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 – bone cell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numa_int"/>
          <p:cNvPicPr/>
          <p:nvPr/>
        </p:nvPicPr>
        <p:blipFill>
          <a:blip r:embed="rId1"/>
          <a:stretch/>
        </p:blipFill>
        <p:spPr>
          <a:xfrm>
            <a:off x="611280" y="1557360"/>
            <a:ext cx="2736720" cy="2189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numa_pro"/>
          <p:cNvPicPr/>
          <p:nvPr/>
        </p:nvPicPr>
        <p:blipFill>
          <a:blip r:embed="rId2"/>
          <a:stretch/>
        </p:blipFill>
        <p:spPr>
          <a:xfrm>
            <a:off x="3708360" y="1628640"/>
            <a:ext cx="2664000" cy="2130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NUMA_TELO"/>
          <p:cNvPicPr/>
          <p:nvPr/>
        </p:nvPicPr>
        <p:blipFill>
          <a:blip r:embed="rId3"/>
          <a:stretch/>
        </p:blipFill>
        <p:spPr>
          <a:xfrm>
            <a:off x="6227640" y="4076640"/>
            <a:ext cx="2521080" cy="216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NUMA_META"/>
          <p:cNvPicPr/>
          <p:nvPr/>
        </p:nvPicPr>
        <p:blipFill>
          <a:blip r:embed="rId4"/>
          <a:stretch/>
        </p:blipFill>
        <p:spPr>
          <a:xfrm>
            <a:off x="539640" y="4005360"/>
            <a:ext cx="2737080" cy="2189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numa_ana"/>
          <p:cNvPicPr/>
          <p:nvPr/>
        </p:nvPicPr>
        <p:blipFill>
          <a:blip r:embed="rId5"/>
          <a:stretch/>
        </p:blipFill>
        <p:spPr>
          <a:xfrm>
            <a:off x="3492360" y="4076640"/>
            <a:ext cx="2652840" cy="2122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4"/>
          <p:cNvSpPr/>
          <p:nvPr/>
        </p:nvSpPr>
        <p:spPr>
          <a:xfrm>
            <a:off x="68580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3710160" y="162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736920" y="3881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361800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6497640" y="416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826920" y="314172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3851280" y="299736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cop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539640" y="61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pies sepa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6516720" y="609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daughter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7524720" y="350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7236000" y="2637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s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230328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pical meri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mitosis 5 stages"/>
          <p:cNvPicPr/>
          <p:nvPr/>
        </p:nvPicPr>
        <p:blipFill>
          <a:blip r:embed="rId1"/>
          <a:stretch/>
        </p:blipFill>
        <p:spPr>
          <a:xfrm>
            <a:off x="2627280" y="333360"/>
            <a:ext cx="6192720" cy="6175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t – epithelial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mitosis pic2"/>
          <p:cNvPicPr/>
          <p:nvPr/>
        </p:nvPicPr>
        <p:blipFill>
          <a:blip r:embed="rId1"/>
          <a:stretch/>
        </p:blipFill>
        <p:spPr>
          <a:xfrm>
            <a:off x="1187280" y="1773360"/>
            <a:ext cx="6697800" cy="458784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02256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mitosis anim"/>
          <p:cNvPicPr/>
          <p:nvPr/>
        </p:nvPicPr>
        <p:blipFill>
          <a:blip r:embed="rId1"/>
          <a:stretch/>
        </p:blipFill>
        <p:spPr>
          <a:xfrm>
            <a:off x="684360" y="1484280"/>
            <a:ext cx="6408720" cy="5041800"/>
          </a:xfrm>
          <a:prstGeom prst="rect">
            <a:avLst/>
          </a:prstGeom>
          <a:ln w="0">
            <a:noFill/>
          </a:ln>
        </p:spPr>
      </p:pic>
      <p:sp>
        <p:nvSpPr>
          <p:cNvPr id="97" name="Line 8"/>
          <p:cNvSpPr/>
          <p:nvPr/>
        </p:nvSpPr>
        <p:spPr>
          <a:xfrm>
            <a:off x="3564000" y="1052640"/>
            <a:ext cx="503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9:10:42Z</dcterms:created>
  <dc:creator>rik</dc:creator>
  <dc:description/>
  <dc:language>en-US</dc:language>
  <cp:lastModifiedBy>LEGION2</cp:lastModifiedBy>
  <dcterms:modified xsi:type="dcterms:W3CDTF">2016-01-12T11:40:50Z</dcterms:modified>
  <cp:revision>13</cp:revision>
  <dc:subject/>
  <dc:title>Mitosis &amp; Meiosis</dc:title>
</cp:coreProperties>
</file>