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18C-569F-4F35-97DB-AE8792A37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190-6E0D-4F25-A53C-87EF209C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A4F-74E3-4F77-AC67-44901C51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F89-9318-4B12-A49B-6530DBCE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886-C6AE-4193-9D39-F3640C81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7DEE-C18F-4668-84FA-6A80A0A5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632F-BA5A-477C-A667-107F2B5F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B647-DD59-42FD-8A88-C6E2E472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8085-F7BF-4005-AA1F-652568CE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7AF9-59FB-4368-AD67-8F37C3A2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DD3B-334D-4E94-BDD4-DF0163A2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BEC7-C05E-4B09-8779-9094CE57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7D1-11C1-403C-8A05-4536ABF3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EAA0-0E16-474B-9315-8814DABD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C704-FF25-41E4-BC4B-F1EFA886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5479-27A7-4BD7-9722-4664ADA9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B041-179C-4F46-9DB7-1092ECCC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A13A-1BF6-40F7-BEAE-3B30E2A2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2BA58-D9BE-44C5-8563-C900168F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70ED7-98DE-4723-A572-07E96A17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8697-5F0F-44E4-8FA9-287EA822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A422-25A7-41C5-82A8-476C9460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B940-3093-41AE-A405-B6EE4F9D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ACB-6020-465E-98D4-0284B2A0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096D-FC56-4B25-A107-0E4BCFBA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E08B3-457E-4149-AFAB-54C479A9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28A1-2131-4CBB-80F3-8FDD0BF7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12CB0-64BD-482F-AF94-3DA0F6FF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3926-D980-4708-BAE6-9D89FE0E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36A8A-4D08-4A91-8BEC-F518AA21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EC372-3A2B-403D-98F6-AC4057EC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388-F688-4507-989C-11AE4A1A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17D-497C-4DAF-90DE-4A613598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D3D-B406-45A2-9848-994485EF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B72-7E4A-428B-885A-4D66A4B9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A5F-FECC-45FB-97FC-32400308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03A-1692-417A-A623-A84EFFA7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60FA-C039-42B5-A8C4-4F6B50529F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2E03-A46D-4D2F-B664-EE03A55B3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B452-337E-4DEB-A008-5231FE504D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: What are the stages of Mitos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w:  What is an example of asexual reproduction? Homework #3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are box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8120" y="3657600"/>
            <a:ext cx="1828800" cy="6094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Telophase__The_Final_Stage_of_Mitosis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2_2767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09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2895480"/>
            <a:ext cx="40384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22097"/>
              <a:gd name="adj2" fmla="val 292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2_2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" y="2895480"/>
            <a:ext cx="3581280" cy="8384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2_276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838080" y="1828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YTOKINE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02_23a"/>
          <p:cNvPicPr/>
          <p:nvPr/>
        </p:nvPicPr>
        <p:blipFill>
          <a:blip r:embed="rId1"/>
          <a:stretch/>
        </p:blipFill>
        <p:spPr>
          <a:xfrm>
            <a:off x="0" y="0"/>
            <a:ext cx="8839080" cy="67723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02_23b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800px-Major_events_in_mitosi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2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33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62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72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80773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2209680" y="4952880"/>
            <a:ext cx="44197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MAT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828800" y="4724280"/>
            <a:ext cx="5257800" cy="17528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38088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9480" y="22860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19920" y="1600200"/>
            <a:ext cx="205740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324480" y="2590920"/>
            <a:ext cx="1676520" cy="53316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33520" y="3124080"/>
            <a:ext cx="746748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048f1c"/>
          <p:cNvPicPr/>
          <p:nvPr/>
        </p:nvPicPr>
        <p:blipFill>
          <a:blip r:embed="rId1"/>
          <a:stretch/>
        </p:blipFill>
        <p:spPr>
          <a:xfrm>
            <a:off x="195120" y="0"/>
            <a:ext cx="570888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048f1d"/>
          <p:cNvPicPr/>
          <p:nvPr/>
        </p:nvPicPr>
        <p:blipFill>
          <a:blip r:embed="rId2"/>
          <a:stretch/>
        </p:blipFill>
        <p:spPr>
          <a:xfrm>
            <a:off x="6480" y="0"/>
            <a:ext cx="589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048f1e"/>
          <p:cNvPicPr/>
          <p:nvPr/>
        </p:nvPicPr>
        <p:blipFill>
          <a:blip r:embed="rId3"/>
          <a:stretch/>
        </p:blipFill>
        <p:spPr>
          <a:xfrm>
            <a:off x="-14400" y="0"/>
            <a:ext cx="59184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048f1f"/>
          <p:cNvPicPr/>
          <p:nvPr/>
        </p:nvPicPr>
        <p:blipFill>
          <a:blip r:embed="rId4"/>
          <a:stretch/>
        </p:blipFill>
        <p:spPr>
          <a:xfrm>
            <a:off x="7128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6"/>
          <p:cNvSpPr txBox="1"/>
          <p:nvPr/>
        </p:nvSpPr>
        <p:spPr>
          <a:xfrm>
            <a:off x="6095880" y="533520"/>
            <a:ext cx="304812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ytokinesi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55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cell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ll parts that determine what traits a living thing wi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at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ne strand of DNA; after replication, a chromosome is made up of two identical chroma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new cells produced by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division of the cytoplasm of one parent cell into 2 daught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990720"/>
            <a:ext cx="8839080" cy="58672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_27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2_2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sis produces identical offspring (2N---2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U10_10b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U09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992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s the phase of mitosis where the cell performs its normal activities for life. (MRS. GONE without the 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NA is in the chromatin state (kind of like spaghett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4920" y="1828800"/>
            <a:ext cx="4572000" cy="21337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90720" y="762120"/>
            <a:ext cx="38098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0"/>
            <a:ext cx="3809880" cy="11912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of Mit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04920" y="5181480"/>
            <a:ext cx="4572000" cy="16765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help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_276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7" name="Line 3"/>
          <p:cNvSpPr/>
          <p:nvPr/>
        </p:nvSpPr>
        <p:spPr>
          <a:xfrm flipH="1">
            <a:off x="6019560" y="990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6400440" y="1066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7220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_27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4920" y="3124080"/>
            <a:ext cx="304776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48320"/>
            <a:ext cx="6933960" cy="18288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6095520" y="9144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7848720" y="1447920"/>
            <a:ext cx="3045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304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hase- the nuclear membrane breaks down.  The double stranded chromosomes are able to move feely around the 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rophase__The_First_Stage_of_Mitosis.asf" descr=""/>
          <p:cNvPicPr/>
          <p:nvPr/>
        </p:nvPicPr>
        <p:blipFill>
          <a:blip r:embed="rId1"/>
          <a:stretch/>
        </p:blipFill>
        <p:spPr>
          <a:xfrm>
            <a:off x="149400" y="380880"/>
            <a:ext cx="8994600" cy="61326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_276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_27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28600" y="2895480"/>
            <a:ext cx="350532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880" y="4419720"/>
            <a:ext cx="43434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31564"/>
              <a:gd name="adj2" fmla="val 20364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7238880" y="4190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6552720" y="4267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6019920" y="434340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5714640" y="43434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238880" y="4575240"/>
            <a:ext cx="190512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229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3:29:41Z</dcterms:created>
  <dc:creator>Saul</dc:creator>
  <dc:description/>
  <dc:language>en-US</dc:language>
  <cp:lastModifiedBy>LEGION2</cp:lastModifiedBy>
  <dcterms:modified xsi:type="dcterms:W3CDTF">2016-01-12T11:36:01Z</dcterms:modified>
  <cp:revision>53</cp:revision>
  <dc:subject/>
  <dc:title>Aim: What are the stages of Mitosis?</dc:title>
</cp:coreProperties>
</file>