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E78B-959B-467C-8170-24AB1BED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790-EBD4-4D69-B4E6-51EFB693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016-8737-4AB5-8ABC-D8E33ABE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513-6EF8-42C2-A61A-064BFA10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79F-66C7-4C67-92F8-65A2969C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A3BE-B919-49CD-83E5-EDD99362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B7AB-97B4-4C96-AF45-9077E24B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1521-491E-4B83-BED2-7B2C7A5D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5E74-4555-46EA-BDBD-E7FB176B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2BF2-6E4B-44E0-8606-9F6D2E85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B6CC-B310-4E37-A54A-38A946A1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51FD-A0C1-4A83-8E64-60A655C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EEF-8BFA-46F1-835D-B71951B7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73C1-8719-4D93-8646-E57D6E25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1AA6-1D81-4F5D-9C6C-0002076C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C5E0-50E2-4FED-959C-5CC718F4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6778-6F4B-45C2-ACC0-A7FCA58D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DC98-097B-4BF2-BFEF-276467DA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3F59-6962-46C5-AD81-2098EF5F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7EDE-94A9-4E56-87D5-080E761B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76B1-B722-4FD9-AE52-8A8BAE98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909D-5E9F-4788-BAC3-7AEB97F8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A81B-C753-4B43-B8F6-A379E779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7BF-3E42-49BC-BB5F-5CF3128E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18F1-5197-492A-89BF-FADD80A9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F99B-3F73-44AC-8245-5973526D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FE06-615D-4ED1-8F08-A6FC4603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E809-2F51-4568-83EC-B3B28A7A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65BAD-5D2E-468E-8EB8-40BE69D0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C60E-3395-44CF-A1F1-33B34224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2F70D-4F88-49F6-B60F-728B88A6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1F7-80C9-4598-AD63-B1C6C641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6BF-160D-4073-91FB-E25D87A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A84-0B11-405F-A872-F3F355C0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532-8E44-4228-A508-CF362682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7AE-DEF9-4F0C-82D1-198B4189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103-2701-4189-A1B9-FA42F4C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EB2B-E049-4CDC-A3D8-3B3A12D4E8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D8A9-5D63-4322-A0BE-367B0C4F3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2EA3-BB52-422C-AA87-9061EA299A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: What are the stages of Mitos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w:  What is an example of asexual reproduction? Homework #3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are box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8120" y="3657600"/>
            <a:ext cx="1828800" cy="6094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Telophase__The_Final_Stage_of_Mitosis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2_2767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09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2895480"/>
            <a:ext cx="40384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22097"/>
              <a:gd name="adj2" fmla="val 292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2_2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" y="2895480"/>
            <a:ext cx="3581280" cy="8384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2_276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838080" y="1828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YTOKINE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02_23a"/>
          <p:cNvPicPr/>
          <p:nvPr/>
        </p:nvPicPr>
        <p:blipFill>
          <a:blip r:embed="rId1"/>
          <a:stretch/>
        </p:blipFill>
        <p:spPr>
          <a:xfrm>
            <a:off x="0" y="0"/>
            <a:ext cx="8839080" cy="67723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02_23b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800px-Major_events_in_mitosi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2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33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62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72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80773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2209680" y="4952880"/>
            <a:ext cx="44197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MAT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828800" y="4724280"/>
            <a:ext cx="5257800" cy="17528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38088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9480" y="22860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19920" y="1600200"/>
            <a:ext cx="205740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324480" y="2590920"/>
            <a:ext cx="1676520" cy="53316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33520" y="3124080"/>
            <a:ext cx="746748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048f1c"/>
          <p:cNvPicPr/>
          <p:nvPr/>
        </p:nvPicPr>
        <p:blipFill>
          <a:blip r:embed="rId1"/>
          <a:stretch/>
        </p:blipFill>
        <p:spPr>
          <a:xfrm>
            <a:off x="195120" y="0"/>
            <a:ext cx="570888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048f1d"/>
          <p:cNvPicPr/>
          <p:nvPr/>
        </p:nvPicPr>
        <p:blipFill>
          <a:blip r:embed="rId2"/>
          <a:stretch/>
        </p:blipFill>
        <p:spPr>
          <a:xfrm>
            <a:off x="6480" y="0"/>
            <a:ext cx="589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048f1e"/>
          <p:cNvPicPr/>
          <p:nvPr/>
        </p:nvPicPr>
        <p:blipFill>
          <a:blip r:embed="rId3"/>
          <a:stretch/>
        </p:blipFill>
        <p:spPr>
          <a:xfrm>
            <a:off x="-14400" y="0"/>
            <a:ext cx="59184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048f1f"/>
          <p:cNvPicPr/>
          <p:nvPr/>
        </p:nvPicPr>
        <p:blipFill>
          <a:blip r:embed="rId4"/>
          <a:stretch/>
        </p:blipFill>
        <p:spPr>
          <a:xfrm>
            <a:off x="7128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6"/>
          <p:cNvSpPr txBox="1"/>
          <p:nvPr/>
        </p:nvSpPr>
        <p:spPr>
          <a:xfrm>
            <a:off x="6095880" y="533520"/>
            <a:ext cx="304812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ytokinesi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55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cell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ll parts that determine what traits a living thing wi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at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ne strand of DNA; after replication, a chromosome is made up of two identical chroma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new cells produced by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division of the cytoplasm of one parent cell into 2 daught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990720"/>
            <a:ext cx="8839080" cy="58672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_27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2_2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sis produces identical offspring (2N---2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U10_10b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U09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992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s the phase of mitosis where the cell performs its normal activities for life. (MRS. GONE without the 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NA is in the chromatin state (kind of like spaghett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4920" y="1828800"/>
            <a:ext cx="4572000" cy="21337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90720" y="762120"/>
            <a:ext cx="38098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0"/>
            <a:ext cx="3809880" cy="11912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of Mit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04920" y="5181480"/>
            <a:ext cx="4572000" cy="16765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help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_276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7" name="Line 3"/>
          <p:cNvSpPr/>
          <p:nvPr/>
        </p:nvSpPr>
        <p:spPr>
          <a:xfrm flipH="1">
            <a:off x="6019560" y="990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6400440" y="1066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7220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_27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4920" y="3124080"/>
            <a:ext cx="304776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48320"/>
            <a:ext cx="6933960" cy="18288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6095520" y="9144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7848720" y="1447920"/>
            <a:ext cx="3045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304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hase- the nuclear membrane breaks down.  The double stranded chromosomes are able to move feely around the 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rophase__The_First_Stage_of_Mitosis.asf" descr=""/>
          <p:cNvPicPr/>
          <p:nvPr/>
        </p:nvPicPr>
        <p:blipFill>
          <a:blip r:embed="rId1"/>
          <a:stretch/>
        </p:blipFill>
        <p:spPr>
          <a:xfrm>
            <a:off x="149400" y="380880"/>
            <a:ext cx="8994600" cy="61326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_276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_27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28600" y="2895480"/>
            <a:ext cx="350532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880" y="4419720"/>
            <a:ext cx="43434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31564"/>
              <a:gd name="adj2" fmla="val 20364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7238880" y="4190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6552720" y="4267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6019920" y="434340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5714640" y="43434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238880" y="4575240"/>
            <a:ext cx="190512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229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3:29:41Z</dcterms:created>
  <dc:creator>Saul</dc:creator>
  <dc:description/>
  <dc:language>en-US</dc:language>
  <cp:lastModifiedBy>LEGION2</cp:lastModifiedBy>
  <dcterms:modified xsi:type="dcterms:W3CDTF">2016-01-12T11:36:01Z</dcterms:modified>
  <cp:revision>53</cp:revision>
  <dc:subject/>
  <dc:title>Aim: What are the stages of Mitosis?</dc:title>
</cp:coreProperties>
</file>