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172E-1F24-4516-B9B7-2358AF5C8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63C-16D7-4617-910D-07409F7A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4C3-B4A7-45B6-BEF4-D16A52DB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D79-C5FA-4C5E-8694-A4969845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700-F721-4BFA-BC72-D95C9085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122F-F0E2-4AA8-B273-1785DACD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0527-B411-4E08-8332-6EE53E85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6302-FC3A-46EF-800B-29894D23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CBE8-EE47-475C-83D6-12E9C149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4E6F-5E00-46DA-8520-F22DF93B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C0F0-4DCC-4C99-BF70-352433EF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94AE-CDBF-4D0A-9076-C5BD6333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71D-839C-49CF-9B24-003FE6ED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9754-D170-4135-B90B-6A9A267F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011C-6393-4A3F-98C5-7C68F1D5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5ADE-4ACF-4B17-80BE-2B684825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7A9D-0DB5-4E83-ADE7-E02E523B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D4A7-1CA4-41C8-B288-49D8204F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246F-5143-46B9-8CB4-D692D011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9700-3676-4690-A122-FC4033C2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F1C97-5E80-4A78-A712-CEDAC3F1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5C2FD-3524-4048-8404-4F1C4748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B1B2D-CBC1-4070-BE50-202ACA8A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CF9-3C49-4ACC-9B4C-53691B48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E978F-B6D2-4992-86A8-2D493BB4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639D-58CE-438A-B3D7-F71C57EE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322C5-8880-4A0F-AEB4-EB77B40B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F1358-BE59-4B5D-BAA1-18759F20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68E2-52C2-418E-A647-FD0D0F5E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59B4-3B71-4FC7-9FD7-B0EED1CE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245D-F39F-4F62-BB81-9B7EA533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3A9-9A3B-426B-BCD8-D8BCEB95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457-E7E9-4667-8AB3-AAD2189E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536-B56C-4077-997D-0EA81CB2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31C-188E-4372-BDDA-E3E95F1A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A50-8F49-4AFE-9A1A-664D1489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22E-2991-4984-B316-7D883AB3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6C43-509E-41F7-835D-2EFCD8AF41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BDAF-FC4B-496C-9330-251D938E3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C139-5F9F-40BA-B6CD-75C1034F1A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: What are the stages of Mitos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w:  What is an example of asexual reproduction? Homework #3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are box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8120" y="3657600"/>
            <a:ext cx="1828800" cy="6094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Telophase__The_Final_Stage_of_Mitosis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2_2767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09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28600" y="2895480"/>
            <a:ext cx="40384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22097"/>
              <a:gd name="adj2" fmla="val 29270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02_2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" y="2895480"/>
            <a:ext cx="3581280" cy="8384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2_276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838080" y="18288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YTOKINE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02_23a"/>
          <p:cNvPicPr/>
          <p:nvPr/>
        </p:nvPicPr>
        <p:blipFill>
          <a:blip r:embed="rId1"/>
          <a:stretch/>
        </p:blipFill>
        <p:spPr>
          <a:xfrm>
            <a:off x="0" y="0"/>
            <a:ext cx="8839080" cy="67723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02_23b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5" descr="800px-Major_events_in_mitosi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2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533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286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62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72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80773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2209680" y="4952880"/>
            <a:ext cx="44197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PMAT</a:t>
            </a:r>
            <a:endParaRPr b="1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828800" y="4724280"/>
            <a:ext cx="5257800" cy="17528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120" y="38088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9480" y="22860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019920" y="1600200"/>
            <a:ext cx="205740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324480" y="2590920"/>
            <a:ext cx="1676520" cy="53316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33520" y="3124080"/>
            <a:ext cx="746748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048f1c"/>
          <p:cNvPicPr/>
          <p:nvPr/>
        </p:nvPicPr>
        <p:blipFill>
          <a:blip r:embed="rId1"/>
          <a:stretch/>
        </p:blipFill>
        <p:spPr>
          <a:xfrm>
            <a:off x="195120" y="0"/>
            <a:ext cx="570888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048f1d"/>
          <p:cNvPicPr/>
          <p:nvPr/>
        </p:nvPicPr>
        <p:blipFill>
          <a:blip r:embed="rId2"/>
          <a:stretch/>
        </p:blipFill>
        <p:spPr>
          <a:xfrm>
            <a:off x="6480" y="0"/>
            <a:ext cx="5897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048f1e"/>
          <p:cNvPicPr/>
          <p:nvPr/>
        </p:nvPicPr>
        <p:blipFill>
          <a:blip r:embed="rId3"/>
          <a:stretch/>
        </p:blipFill>
        <p:spPr>
          <a:xfrm>
            <a:off x="-14400" y="0"/>
            <a:ext cx="59184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048f1f"/>
          <p:cNvPicPr/>
          <p:nvPr/>
        </p:nvPicPr>
        <p:blipFill>
          <a:blip r:embed="rId4"/>
          <a:stretch/>
        </p:blipFill>
        <p:spPr>
          <a:xfrm>
            <a:off x="7128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6"/>
          <p:cNvSpPr txBox="1"/>
          <p:nvPr/>
        </p:nvSpPr>
        <p:spPr>
          <a:xfrm>
            <a:off x="6095880" y="533520"/>
            <a:ext cx="304812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ytokinesi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55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cell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ell parts that determine what traits a living thing wi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at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ne strand of DNA; after replication, a chromosome is made up of two identical chroma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new cells produced by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division of the cytoplasm of one parent cell into 2 daught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990720"/>
            <a:ext cx="8839080" cy="58672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_27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02_27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sis produces identical offspring (2N---2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U10_10b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U09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992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s the phase of mitosis where the cell performs its normal activities for life. (MRS. GONE without the 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NA is in the chromatin state (kind of like spaghett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04920" y="1828800"/>
            <a:ext cx="4572000" cy="21337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990720" y="762120"/>
            <a:ext cx="38098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0"/>
            <a:ext cx="3809880" cy="11912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of Mit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04920" y="5181480"/>
            <a:ext cx="4572000" cy="16765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help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2_276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7" name="Line 3"/>
          <p:cNvSpPr/>
          <p:nvPr/>
        </p:nvSpPr>
        <p:spPr>
          <a:xfrm flipH="1">
            <a:off x="6019560" y="990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6400440" y="1066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17220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_27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04920" y="3124080"/>
            <a:ext cx="304776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648320"/>
            <a:ext cx="6933960" cy="18288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6095520" y="9144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H="1">
            <a:off x="7848720" y="1447920"/>
            <a:ext cx="3045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304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hase- the nuclear membrane breaks down.  The double stranded chromosomes are able to move feely around the 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rophase__The_First_Stage_of_Mitosis.asf" descr=""/>
          <p:cNvPicPr/>
          <p:nvPr/>
        </p:nvPicPr>
        <p:blipFill>
          <a:blip r:embed="rId1"/>
          <a:stretch/>
        </p:blipFill>
        <p:spPr>
          <a:xfrm>
            <a:off x="149400" y="380880"/>
            <a:ext cx="8994600" cy="61326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_276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_276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28600" y="2895480"/>
            <a:ext cx="350532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880" y="4419720"/>
            <a:ext cx="4343400" cy="19810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31564"/>
              <a:gd name="adj2" fmla="val 20364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7238880" y="4190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6552720" y="4267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6019920" y="4343400"/>
            <a:ext cx="2133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5714640" y="43434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238880" y="4575240"/>
            <a:ext cx="1905120" cy="230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229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3:29:41Z</dcterms:created>
  <dc:creator>Saul</dc:creator>
  <dc:description/>
  <dc:language>en-US</dc:language>
  <cp:lastModifiedBy>LEGION2</cp:lastModifiedBy>
  <dcterms:modified xsi:type="dcterms:W3CDTF">2016-01-12T11:36:01Z</dcterms:modified>
  <cp:revision>53</cp:revision>
  <dc:subject/>
  <dc:title>Aim: What are the stages of Mitosis?</dc:title>
</cp:coreProperties>
</file>