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EC0F-5E8A-4449-8848-3513ACB2EC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gor Men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ndfather of Gene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gor Men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ndfather of Gene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genetics had its beginnings in an abbey garden, where a monk named Gregor Mendel documented a particulate mechanism of inheri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scovered the basic principles of heredity by breeding garden peas in carefully planned experi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approach to science had been influenced at the University of Vienna by one of his professors: the physicist Doppl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genetics had its beginnings in an abbey garden, where a monk named Gregor Mendel documented a particulate mechanism of inheri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scovered the basic principles of heredity by breeding garden peas in carefully planned experi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approach to science had been influenced at the University of Vienna by one of his professors: the physicist Doppl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study inheritance, Mendel chose to use peas, probably as they are available in many varie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plants also allowed strict control over the m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hose to study only characters that varied in an ‘either-or’ rather than a ‘more-or-less’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study inheritance, Mendel chose to use peas, probably as they are available in many varie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plants also allowed strict control over the m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hose to study only characters that varied in an ‘either-or’ rather than a ‘more-or-less’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cr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hybridise 2 varieties of pea plants, Mendel used an artist’s brus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transferred pollen from a true breeding white flower to the carpel of a true breeding purple fl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cr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hybridise 2 varieties of pea plants, Mendel used an artist’s brus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transferred pollen from a true breeding white flower to the carpel of a true breeding purple fl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king heritable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tracked heritable characters for 3 gen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F1 hybrids were allowed to self-pollinate a 3:1 ratio of the 2 varieties occurred in the F2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king heritable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tracked heritable characters for 3 gen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F1 hybrids were allowed to self-pollinate a 3:1 ratio of the 2 varieties occurred in the F2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law of segre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arrying out these monohybrid crosses, Mendel determined that the 2 alleles for each character segregate during gamete 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discovered this c.186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was not discovered until 195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law of segre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arrying out these monohybrid crosses, Mendel determined that the 2 alleles for each character segregate during gamete 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discovered this c.186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was not discovered until 195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 breeding: When the plants self-pollinate, all their offspring are of the same var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isation: Mating, or crossing, of two varie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hybrid cross: A cross that tracks the inheritance of a single charac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generation: True breeding par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generation: (first filial) Hybrid offspring of the P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2 generation: (second filial) Offspring from the self-fertilisation of the F1 hybr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 breeding: When the plants self-pollinate, all their offspring are of the same var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isation: Mating, or crossing, of two varie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hybrid cross: A cross that tracks the inheritance of a single charac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generation: True breeding par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generation: (first filial) Hybrid offspring of the P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2 generation: (second filial) Offspring from the self-fertilisation of the F1 hybr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imp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theories of inheritance, first discovered in garden peas, are equally valid for figs, flies, fish, birds and human be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impact endures, not only on genetics, but on all of science, as a case study of the power of hypothesis/deductive thin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imp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theories of inheritance, first discovered in garden peas, are equally valid for figs, flies, fish, birds and human be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impact endures, not only on genetics, but on all of science, as a case study of the power of hypothesis/deductive thin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CAEE-A82D-4D9B-A78F-1C4F09921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F156-5EFD-465E-8B18-8201171A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E0F5-6744-45A1-8395-B99478AD2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176E-D983-45F3-BE45-D8255BA0C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206D-1C68-4062-B8E3-8B5EEF568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28E3-226E-47C4-ADDE-E75CC9A0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D918-9883-41D0-9E4F-8CCBE369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2B37-E8B2-44F2-B91D-3C2A6EC8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37DE-97F6-441B-8730-28B270EB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572E-01BA-4808-B98A-65C9AE76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C947F-602E-474F-AD0B-C12D35DA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F64F-9373-4450-B040-ECA3A10A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6EFA-F8A5-47FA-A7EB-DBCAB0EA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5F5F-4841-4EFF-AD91-44E537D4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0907E-7C5C-44AF-9C08-5F9F13C7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6A79-5C4F-42C5-B6E8-3F0AFE22B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4B12-2F42-4DA2-AA17-DAD5F998A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1966-F2E0-46BB-A488-BF66B412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24FE-DFC9-425F-82B4-8B3590B5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AC02-687F-4307-B2D6-D46EF905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64E3-B525-4470-B8C9-46D357E8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D54D-6FDC-408E-A207-CFC600BA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88C8-86BA-4BD8-9FE3-FE4878E9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F44F-6C53-4E47-A018-6FB646C6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0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BC99-D026-4CE5-92CB-8F0EB8EC7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30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CB78-B192-4FB6-98F4-7AA2A1328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regor Mend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andfather of Gen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>
            <a:lum bright="70000" contrast="-70000"/>
          </a:blip>
          <a:srcRect l="0" t="2079" r="0" b="0"/>
          <a:stretch/>
        </p:blipFill>
        <p:spPr>
          <a:xfrm>
            <a:off x="1143000" y="0"/>
            <a:ext cx="8001000" cy="69483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nd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n genetics had its beginnings in an abbey garden, where a monk named Gregor Mendel documented a particulate mechanism of inheri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discovered the basic principles of heredity by breeding garden peas in carefully planned experi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approach to science had been influenced at the University of Vienna by one of his professors: the physicist Dopp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ndel’s 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to study inheritance, Mendel chose to use peas, probably as they are available in many varie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se of plants also allowed strict control over the ma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chose to study only characters that varied in an ‘either-or’ rather than a ‘more-or-less’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enetic cross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ybridise 2 varieties of pea plants, Mendel used an artist’s bru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transferred pollen from a true breeding white flower to the carpel of a true breeding purple flo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028" descr=""/>
          <p:cNvPicPr/>
          <p:nvPr/>
        </p:nvPicPr>
        <p:blipFill>
          <a:blip r:embed="rId1"/>
          <a:stretch/>
        </p:blipFill>
        <p:spPr>
          <a:xfrm>
            <a:off x="5486400" y="1523880"/>
            <a:ext cx="3314880" cy="48769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racking heritable characteristic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2880" y="1752120"/>
            <a:ext cx="4236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del tracked heritable characters for 3 gener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ybrids were allowed to self-pollinate a 3:1 ratio of the 2 varieties occurred in the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5638680" y="1905120"/>
            <a:ext cx="3048120" cy="359388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ndel’s law of segreg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2880" y="1752120"/>
            <a:ext cx="431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arrying out these monohybrid crosses, Mendel determined that the 2 alleles for each character segregate during gamete prod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del discovered this c.186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A was not discovered until 195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5638680" y="1447920"/>
            <a:ext cx="3372120" cy="51814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ndel’s terminolog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 breeding: When the plants self-pollinate, all their offspring are of the same varie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isation: Mating, or crossing, of two varie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hybrid cross: A cross that tracks the inheritance of a single charac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generation: True breeding par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eneration: (first filial) Hybrid offspring of the P gene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eneration: (second filial) Offspring from the self-fertilisation of the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ybr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ndel’s impac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del’s theories of inheritance, first discovered in garden peas, are equally valid for figs, flies, fish, birds and human be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del’s impact endures, not only on genetics, but on all of science, as a case study of the power of hypothesis/deductive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6T20:51:13Z</dcterms:created>
  <dc:creator>Fearghal Kelly</dc:creator>
  <dc:description/>
  <dc:language>en-US</dc:language>
  <cp:lastModifiedBy>LEGION2</cp:lastModifiedBy>
  <cp:lastPrinted>1904-01-01T00:00:00Z</cp:lastPrinted>
  <dcterms:modified xsi:type="dcterms:W3CDTF">2016-01-12T11:33:28Z</dcterms:modified>
  <cp:revision>18</cp:revision>
  <dc:subject/>
  <dc:title>Gregor Mendel</dc:title>
</cp:coreProperties>
</file>