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D64B-ACE6-48AD-BDBC-09048961F2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– ‘reduction divisio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sex cells –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mei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is necessary to halve the number of chromosomes going into the sex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halve the chromosomes in gamet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fertilisation the male and female sex cells will provide ½ of the chromosomes each – so the offspring has genes from both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 – chromosome 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division - pair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 – produces 4 gamete cells with ½ the original no. of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mouse testes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 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– division 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 p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error - fert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the gamete with the chromosome pair be fertilised then the offspring will not be ‘normal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is often occurs with the 21st pair – producing a child with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trisomy – Downs Synd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ee the extra 21st chromos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person male or fema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91E9-C832-413B-8C87-5998FEFF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4BB3-D864-407A-BAC1-BECE85D4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907-7BCA-469E-948F-8B930B19D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B08-9987-4AC1-96C1-B2B4256F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3E3-37AB-44A3-9DBA-CC43CC30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1DF-5AF6-46DC-A4AF-C681F623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ED1-51E5-44EB-828C-228C1822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A48-B62A-4915-B629-349C1C22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B0B9-0BC1-4E1A-A3E0-CCB2FB7D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970-6F68-4DD0-B3E0-0684A9FF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2B41-7CEB-49B8-9277-4CF44784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B76D-C0C3-4824-8B35-0F757A4D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30C9-391A-40FD-937F-C696F58D71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56536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 – ‘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duction division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tion of sex cells –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err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y do we need meio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iosis is necessary to halve the number of chromosomes going into the sex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halve the chromosomes in game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 fertilisation the male and female sex cells will provide ½ of the chromosomes each – so the offspring has genes from both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45456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meiosis simple"/>
          <p:cNvPicPr/>
          <p:nvPr/>
        </p:nvPicPr>
        <p:blipFill>
          <a:blip r:embed="rId1"/>
          <a:stretch/>
        </p:blipFill>
        <p:spPr>
          <a:xfrm>
            <a:off x="611280" y="1484280"/>
            <a:ext cx="4263840" cy="4967280"/>
          </a:xfrm>
          <a:prstGeom prst="rect">
            <a:avLst/>
          </a:prstGeom>
          <a:ln w="0">
            <a:noFill/>
          </a:ln>
        </p:spPr>
      </p:pic>
      <p:sp>
        <p:nvSpPr>
          <p:cNvPr id="59" name="Line 8"/>
          <p:cNvSpPr/>
          <p:nvPr/>
        </p:nvSpPr>
        <p:spPr>
          <a:xfrm flipH="1">
            <a:off x="3779640" y="19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 flipH="1">
            <a:off x="3924360" y="3284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 flipH="1">
            <a:off x="4284720" y="4292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"/>
          <p:cNvSpPr/>
          <p:nvPr/>
        </p:nvSpPr>
        <p:spPr>
          <a:xfrm flipH="1">
            <a:off x="5148000" y="602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5435640" y="162864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 – chromosome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5435640" y="2708280"/>
            <a:ext cx="21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364000" y="3933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- pair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651640" y="472428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 – produces 4 gamete cells with ½ the original no. of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2723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mouse testes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meiosis 9 stages pics"/>
          <p:cNvPicPr/>
          <p:nvPr/>
        </p:nvPicPr>
        <p:blipFill>
          <a:blip r:embed="rId1"/>
          <a:stretch/>
        </p:blipFill>
        <p:spPr>
          <a:xfrm>
            <a:off x="826920" y="1125360"/>
            <a:ext cx="7199640" cy="5419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042920" y="134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940360" y="566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 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724360" y="1773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042920" y="50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– division 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meiosis error 2 triploid"/>
          <p:cNvPicPr/>
          <p:nvPr/>
        </p:nvPicPr>
        <p:blipFill>
          <a:blip r:embed="rId1"/>
          <a:stretch/>
        </p:blipFill>
        <p:spPr>
          <a:xfrm>
            <a:off x="1290600" y="1773360"/>
            <a:ext cx="3135240" cy="410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eiosis error 21 triploid"/>
          <p:cNvPicPr/>
          <p:nvPr/>
        </p:nvPicPr>
        <p:blipFill>
          <a:blip r:embed="rId2"/>
          <a:stretch/>
        </p:blipFill>
        <p:spPr>
          <a:xfrm>
            <a:off x="5224320" y="1844640"/>
            <a:ext cx="3092760" cy="4176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 flipV="1">
            <a:off x="5724360" y="6021360"/>
            <a:ext cx="287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1"/>
          <p:cNvSpPr/>
          <p:nvPr/>
        </p:nvSpPr>
        <p:spPr>
          <a:xfrm flipH="1" flipV="1">
            <a:off x="3348000" y="594972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3348000" y="6165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 pa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iosis error -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meiosis error 21tri fertilise"/>
          <p:cNvPicPr/>
          <p:nvPr/>
        </p:nvPicPr>
        <p:blipFill>
          <a:blip r:embed="rId1"/>
          <a:stretch/>
        </p:blipFill>
        <p:spPr>
          <a:xfrm>
            <a:off x="4140360" y="1844640"/>
            <a:ext cx="4249440" cy="45370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755640" y="1916280"/>
            <a:ext cx="331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uld the gamete with the chromosome pair be fertilised then the offspring will not be ‘normal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humans this often occurs with the 2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pair – producing a child with Downs 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1 trisomy – Down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trisomy-21"/>
          <p:cNvPicPr/>
          <p:nvPr/>
        </p:nvPicPr>
        <p:blipFill>
          <a:blip r:embed="rId1"/>
          <a:stretch/>
        </p:blipFill>
        <p:spPr>
          <a:xfrm>
            <a:off x="826920" y="1557360"/>
            <a:ext cx="4857840" cy="4896000"/>
          </a:xfrm>
          <a:prstGeom prst="rect">
            <a:avLst/>
          </a:prstGeom>
          <a:ln w="0">
            <a:noFill/>
          </a:ln>
        </p:spPr>
      </p:pic>
      <p:sp>
        <p:nvSpPr>
          <p:cNvPr id="88" name="Oval 7"/>
          <p:cNvSpPr/>
          <p:nvPr/>
        </p:nvSpPr>
        <p:spPr>
          <a:xfrm>
            <a:off x="2556000" y="5589720"/>
            <a:ext cx="1584360" cy="934920"/>
          </a:xfrm>
          <a:prstGeom prst="ellipse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796000" y="2781360"/>
            <a:ext cx="2303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you see the extra 2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hromos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is person male or fema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9"/>
          <p:cNvSpPr/>
          <p:nvPr/>
        </p:nvSpPr>
        <p:spPr>
          <a:xfrm>
            <a:off x="4356000" y="4941720"/>
            <a:ext cx="1008000" cy="936720"/>
          </a:xfrm>
          <a:prstGeom prst="ellipse">
            <a:avLst/>
          </a:prstGeom>
          <a:noFill/>
          <a:ln w="442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4:25:12Z</dcterms:created>
  <dc:creator>rik</dc:creator>
  <dc:description/>
  <dc:language>en-US</dc:language>
  <cp:lastModifiedBy>LEGION2</cp:lastModifiedBy>
  <dcterms:modified xsi:type="dcterms:W3CDTF">2016-01-12T11:23:58Z</dcterms:modified>
  <cp:revision>14</cp:revision>
  <dc:subject/>
  <dc:title>Meiosis</dc:title>
</cp:coreProperties>
</file>