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baby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 does the child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ee if you have got th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… do the children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ke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otic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id we get each on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are on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498-CA6E-418F-A7F0-41CA5737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6B7-4378-4094-A294-E4350CE4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0EF-B384-416C-A865-160074D0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274-0211-4C52-A541-10187C42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F69-C5C2-40D0-82E8-212CF3A2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9DE-906E-4400-893A-3D20B2D6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1D1-AB8C-4077-9875-310AAF08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022-D3D0-4B46-BD01-2CB4500D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E37-4CA3-4CC3-A2A7-9F3ABFCF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060-5C75-42B3-B7DF-0E2E8B18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BFC-C23F-4477-8224-91CA1B7A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E65-EFC7-4851-A18D-71BD3BF5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ACD41F-1F8C-404A-B99D-E43B8654D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Inheritan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However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716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61320" cy="595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609480" y="380880"/>
            <a:ext cx="7315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981080"/>
            <a:ext cx="7467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67080" y="3429000"/>
            <a:ext cx="304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y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2120" y="4267080"/>
            <a:ext cx="3809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52880" y="4952880"/>
            <a:ext cx="3276720" cy="100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1 + 1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62720" y="1401840"/>
            <a:ext cx="5339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69960" y="63972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9240" y="1676520"/>
            <a:ext cx="7077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8880" y="2743200"/>
            <a:ext cx="6113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0680" y="3733920"/>
            <a:ext cx="748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0760" y="5105520"/>
            <a:ext cx="741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Will the baby have ear lob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2193480" y="471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362680" y="182880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477480" y="18288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54120" y="3033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568920" y="30337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67800" y="5745240"/>
            <a:ext cx="7638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es the child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942880" y="914400"/>
            <a:ext cx="145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No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13300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1280" y="4038480"/>
          <a:ext cx="2133720" cy="1117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1"/>
          <p:cNvSpPr/>
          <p:nvPr/>
        </p:nvSpPr>
        <p:spPr>
          <a:xfrm>
            <a:off x="3886200" y="4572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520" y="4038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76920" y="464832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2"/>
          <p:cNvGraphicFramePr/>
          <p:nvPr/>
        </p:nvGraphicFramePr>
        <p:xfrm>
          <a:off x="762120" y="1447920"/>
          <a:ext cx="3209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3209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"/>
          <p:cNvSpPr/>
          <p:nvPr/>
        </p:nvSpPr>
        <p:spPr>
          <a:xfrm>
            <a:off x="609480" y="457200"/>
            <a:ext cx="162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0033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402800" y="716040"/>
            <a:ext cx="34632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19000" y="2666880"/>
            <a:ext cx="317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04920" y="5410080"/>
            <a:ext cx="3444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9600" y="4995720"/>
            <a:ext cx="478908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ffffcc"/>
                </a:solidFill>
                <a:latin typeface="Times New Roman"/>
              </a:rPr>
              <a:t>domin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143000"/>
            <a:ext cx="5867280" cy="4115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800" spc="-1" strike="noStrike">
                <a:solidFill>
                  <a:srgbClr val="0033cc"/>
                </a:solidFill>
                <a:latin typeface="Times New Roman"/>
              </a:rPr>
              <a:t>Lets see if you have got the ide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42840" y="4572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84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47712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43828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3148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67440" y="5745240"/>
            <a:ext cx="7864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 the children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17184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682360" y="9000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724280" y="3886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86040" y="3886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572000" y="50292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594360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36572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3886200"/>
          <a:ext cx="2286000" cy="16509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8"/>
          <p:cNvSpPr/>
          <p:nvPr/>
        </p:nvSpPr>
        <p:spPr>
          <a:xfrm>
            <a:off x="3962520" y="4419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9"/>
          <p:cNvSpPr/>
          <p:nvPr/>
        </p:nvSpPr>
        <p:spPr>
          <a:xfrm>
            <a:off x="3962160" y="5029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5334120" y="4419720"/>
            <a:ext cx="55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572720" y="441972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9"/>
          <p:cNvSpPr/>
          <p:nvPr/>
        </p:nvSpPr>
        <p:spPr>
          <a:xfrm>
            <a:off x="5410080" y="50292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2057400" y="685800"/>
          <a:ext cx="2103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5105520" y="685800"/>
          <a:ext cx="210348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133720" y="3505320"/>
          <a:ext cx="2103480" cy="24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50532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5257800" y="3581280"/>
          <a:ext cx="1927080" cy="22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581280"/>
                    <a:ext cx="19270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2438280" y="1523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562720" y="1447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5909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715000" y="4267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31720" y="639720"/>
            <a:ext cx="654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585800" y="1662120"/>
          <a:ext cx="59785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662120"/>
                    <a:ext cx="59785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685800" y="548640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495680" y="449568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8480" y="563400"/>
            <a:ext cx="8216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1752480"/>
            <a:ext cx="7543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14400" y="3276720"/>
            <a:ext cx="55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3520" y="3352680"/>
            <a:ext cx="66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29160" y="5227560"/>
            <a:ext cx="45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38640" y="5303880"/>
            <a:ext cx="734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054320" y="4389480"/>
            <a:ext cx="114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1880" y="258840"/>
            <a:ext cx="5519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152800" y="1523880"/>
          <a:ext cx="34732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1523880"/>
                    <a:ext cx="347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3640320" y="4983120"/>
            <a:ext cx="451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are they kep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038480" y="29718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3600" y="2209680"/>
            <a:ext cx="173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31520" y="503280"/>
            <a:ext cx="784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3680" y="1265400"/>
            <a:ext cx="5262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0033cc"/>
                </a:solidFill>
                <a:latin typeface="Times New Roman"/>
              </a:rPr>
              <a:t>chromoso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652840" y="2824200"/>
          <a:ext cx="36925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2824200"/>
                    <a:ext cx="36925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01680" y="563400"/>
            <a:ext cx="681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5184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352880" y="5668920"/>
            <a:ext cx="680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at do you notice abou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5360" y="334800"/>
            <a:ext cx="697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974160" y="5288040"/>
            <a:ext cx="70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did we get each on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5105520" y="1980720"/>
            <a:ext cx="99036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095880" y="1219320"/>
            <a:ext cx="2799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3733920"/>
            <a:ext cx="175248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1219320"/>
            <a:ext cx="17366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837720" y="380880"/>
            <a:ext cx="70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74160" y="1401840"/>
            <a:ext cx="238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4555800" y="24224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708080" y="3336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13680" y="5516640"/>
            <a:ext cx="591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</a:rPr>
              <a:t>Genes are on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98920" y="258840"/>
            <a:ext cx="1100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1800" y="1020600"/>
            <a:ext cx="697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9040" y="1887480"/>
            <a:ext cx="334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11520" y="2725560"/>
            <a:ext cx="3376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715000" y="2666880"/>
            <a:ext cx="86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11160" y="3335400"/>
            <a:ext cx="401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790960" y="335268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41400" y="4021200"/>
            <a:ext cx="608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887840" y="4707000"/>
            <a:ext cx="375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790960" y="4648320"/>
            <a:ext cx="7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332880" y="554508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38080" y="228600"/>
            <a:ext cx="769644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7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3:29:38Z</dcterms:created>
  <dc:creator>Richard King</dc:creator>
  <dc:description>Inheritance basic</dc:description>
  <cp:keywords>Inheritance basic</cp:keywords>
  <dc:language>en-US</dc:language>
  <cp:lastModifiedBy>LEGION2</cp:lastModifiedBy>
  <dcterms:modified xsi:type="dcterms:W3CDTF">2016-01-12T11:18:39Z</dcterms:modified>
  <cp:revision>51</cp:revision>
  <dc:subject>Inheritance basic</dc:subject>
  <dc:title>Inheritance basic</dc:title>
</cp:coreProperties>
</file>