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s are special when it comes to chromosomes an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nly have one of each, not the usual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s are designed to join together and s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+ 1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these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ke pred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feature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will inherit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preten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 man without ear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woman with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soon have their first ba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he baby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 does the child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omeone 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version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versio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can h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sion 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see if you have got the id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ut… do the children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eatures are in two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have ear lobes and others do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controls how ear lobes devel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versions of the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produces ears with lo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produces ears without lo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s are in our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y kep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s are on long, string-like thing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46 of them in our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notice about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ur chromosomes are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id we get each on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came from 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alf came from 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genes are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are on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getting all those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ight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lob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o lob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each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you definitel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7221-6132-4CD9-BBD6-94637C71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1BF-41E0-476E-8E20-743D8492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8CF-120D-46E3-AA7F-A240C447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FE3A-BF33-43CF-973D-8F490DF4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E8B-8FE5-423E-A625-87BE39D0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66FE-B812-432B-B43E-07CF46D9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1CAE-4105-4C92-A004-B9019812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AD5-413E-4D66-91D9-4A0544CE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DA3-F44E-49FD-8866-F376B4FD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D7A1-8E1A-4CA5-9E2D-876F6A95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6ED-27BC-435C-8B71-D0BE9475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CD4-A8EF-4B17-913D-158BB5F5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79B9422-9B93-498F-A7B1-0E41AAFD73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1600200" y="2057400"/>
            <a:ext cx="586728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0033cc"/>
                </a:solidFill>
                <a:latin typeface="Times New Roman"/>
              </a:rPr>
              <a:t>Inheritanc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600200" y="2057400"/>
            <a:ext cx="586728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0033cc"/>
                </a:solidFill>
                <a:latin typeface="Times New Roman"/>
              </a:rPr>
              <a:t>However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3716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861320" cy="59565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609480" y="380880"/>
            <a:ext cx="7315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ex cells are special when it comes to chromosomes and ge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09480" y="1981080"/>
            <a:ext cx="74678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y only have one of each, not the usual tw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267080" y="3429000"/>
            <a:ext cx="3048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y i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2120" y="4267080"/>
            <a:ext cx="38098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ex cells are designed to join together and s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952880" y="4952880"/>
            <a:ext cx="3276720" cy="1006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Times New Roman"/>
              </a:rPr>
              <a:t>1 + 1 =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962720" y="1401840"/>
            <a:ext cx="533916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e can use these fa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o make predi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out the features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hildren will inherit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ir par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69960" y="639720"/>
            <a:ext cx="3673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Lets pretend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59240" y="1676520"/>
            <a:ext cx="7077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that a man without ear lob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58880" y="2743200"/>
            <a:ext cx="6113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and a woman with lob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760680" y="3733920"/>
            <a:ext cx="7483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will soon have their first bab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680760" y="5105520"/>
            <a:ext cx="7417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Will the baby have ear lob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2193480" y="471600"/>
            <a:ext cx="91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307920" y="471600"/>
            <a:ext cx="69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94920" y="1509840"/>
            <a:ext cx="1489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362680" y="1828800"/>
            <a:ext cx="61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477480" y="1828800"/>
            <a:ext cx="49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395640" y="2805120"/>
            <a:ext cx="151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454120" y="30337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6568920" y="30337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667800" y="5745240"/>
            <a:ext cx="7638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But… does the child have ear lob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5942880" y="914400"/>
            <a:ext cx="145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No 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6"/>
          <p:cNvSpPr/>
          <p:nvPr/>
        </p:nvSpPr>
        <p:spPr>
          <a:xfrm>
            <a:off x="2133000" y="9144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379440" y="4419720"/>
            <a:ext cx="1687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581280" y="4038480"/>
          <a:ext cx="2133720" cy="111780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51"/>
          <p:cNvSpPr/>
          <p:nvPr/>
        </p:nvSpPr>
        <p:spPr>
          <a:xfrm>
            <a:off x="3886200" y="45720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2"/>
          <p:cNvSpPr/>
          <p:nvPr/>
        </p:nvSpPr>
        <p:spPr>
          <a:xfrm>
            <a:off x="4952520" y="40384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3"/>
          <p:cNvSpPr/>
          <p:nvPr/>
        </p:nvSpPr>
        <p:spPr>
          <a:xfrm>
            <a:off x="4876920" y="464832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42"/>
          <p:cNvGraphicFramePr/>
          <p:nvPr/>
        </p:nvGraphicFramePr>
        <p:xfrm>
          <a:off x="762120" y="1447920"/>
          <a:ext cx="320976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3209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3"/>
          <p:cNvSpPr/>
          <p:nvPr/>
        </p:nvSpPr>
        <p:spPr>
          <a:xfrm>
            <a:off x="609480" y="457200"/>
            <a:ext cx="1623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6000" spc="-1" strike="noStrike">
                <a:solidFill>
                  <a:srgbClr val="ff0033"/>
                </a:solidFill>
                <a:latin typeface="Times New Roman"/>
              </a:rPr>
              <a:t>Y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402800" y="716040"/>
            <a:ext cx="34632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f someone h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oth version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allel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419000" y="2666880"/>
            <a:ext cx="3176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ne version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ffect can h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other’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04920" y="5410080"/>
            <a:ext cx="3444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version i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19600" y="4995720"/>
            <a:ext cx="478908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ffffcc"/>
                </a:solidFill>
                <a:latin typeface="Times New Roman"/>
              </a:rPr>
              <a:t>dominan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676520" y="1143000"/>
            <a:ext cx="5867280" cy="4115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8800" spc="-1" strike="noStrike">
                <a:solidFill>
                  <a:srgbClr val="0033cc"/>
                </a:solidFill>
                <a:latin typeface="Times New Roman"/>
              </a:rPr>
              <a:t>Lets see if you have got the idea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742840" y="457200"/>
            <a:ext cx="91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307920" y="471600"/>
            <a:ext cx="69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94920" y="1509840"/>
            <a:ext cx="1489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895840" y="18288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6477120" y="18288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95640" y="2805120"/>
            <a:ext cx="151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438280" y="30481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7314840" y="30481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667440" y="5745240"/>
            <a:ext cx="7864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But… do the children have ear lob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6171840" y="9144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682360" y="9000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79440" y="4419720"/>
            <a:ext cx="1687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4724280" y="38862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5486040" y="38862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4572000" y="50292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5943600" y="30481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3657240" y="30481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33920" y="3886200"/>
          <a:ext cx="2286000" cy="165096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58"/>
          <p:cNvSpPr/>
          <p:nvPr/>
        </p:nvSpPr>
        <p:spPr>
          <a:xfrm>
            <a:off x="3962520" y="44197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9"/>
          <p:cNvSpPr/>
          <p:nvPr/>
        </p:nvSpPr>
        <p:spPr>
          <a:xfrm>
            <a:off x="3962160" y="50292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7"/>
          <p:cNvSpPr/>
          <p:nvPr/>
        </p:nvSpPr>
        <p:spPr>
          <a:xfrm>
            <a:off x="5334120" y="4419720"/>
            <a:ext cx="55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4572720" y="4419720"/>
            <a:ext cx="61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9"/>
          <p:cNvSpPr/>
          <p:nvPr/>
        </p:nvSpPr>
        <p:spPr>
          <a:xfrm>
            <a:off x="5410080" y="5029200"/>
            <a:ext cx="49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4"/>
          <p:cNvGraphicFramePr/>
          <p:nvPr/>
        </p:nvGraphicFramePr>
        <p:xfrm>
          <a:off x="2057400" y="685800"/>
          <a:ext cx="2103480" cy="24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68580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5"/>
          <p:cNvGraphicFramePr/>
          <p:nvPr/>
        </p:nvGraphicFramePr>
        <p:xfrm>
          <a:off x="5105520" y="685800"/>
          <a:ext cx="210348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68580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6"/>
          <p:cNvGraphicFramePr/>
          <p:nvPr/>
        </p:nvGraphicFramePr>
        <p:xfrm>
          <a:off x="2133720" y="3505320"/>
          <a:ext cx="2103480" cy="24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350532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7"/>
          <p:cNvGraphicFramePr/>
          <p:nvPr/>
        </p:nvGraphicFramePr>
        <p:xfrm>
          <a:off x="5257800" y="3581280"/>
          <a:ext cx="1927080" cy="224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3581280"/>
                    <a:ext cx="192708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8"/>
          <p:cNvSpPr/>
          <p:nvPr/>
        </p:nvSpPr>
        <p:spPr>
          <a:xfrm>
            <a:off x="2438280" y="15238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562720" y="1447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2590920" y="43434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5715000" y="42670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431720" y="639720"/>
            <a:ext cx="65476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me features are in two 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3"/>
          <p:cNvGraphicFramePr/>
          <p:nvPr/>
        </p:nvGraphicFramePr>
        <p:xfrm>
          <a:off x="1585800" y="1662120"/>
          <a:ext cx="5978520" cy="35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5800" y="1662120"/>
                    <a:ext cx="597852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4"/>
          <p:cNvSpPr/>
          <p:nvPr/>
        </p:nvSpPr>
        <p:spPr>
          <a:xfrm>
            <a:off x="685800" y="5486400"/>
            <a:ext cx="7924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people have ear lobes and others do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495680" y="4495680"/>
            <a:ext cx="1067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38480" y="563400"/>
            <a:ext cx="8216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 gene controls how ear lobes develo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62120" y="1752480"/>
            <a:ext cx="7543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re are two versions of the ge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y are called alle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914400" y="3276720"/>
            <a:ext cx="556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523520" y="3352680"/>
            <a:ext cx="6692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ich produces ears with lob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29160" y="5227560"/>
            <a:ext cx="4564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538640" y="5303880"/>
            <a:ext cx="7343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ich produces ears without lob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054320" y="4389480"/>
            <a:ext cx="114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821880" y="258840"/>
            <a:ext cx="5519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genes are in our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2152800" y="1523880"/>
          <a:ext cx="3473280" cy="29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1523880"/>
                    <a:ext cx="347328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4"/>
          <p:cNvSpPr/>
          <p:nvPr/>
        </p:nvSpPr>
        <p:spPr>
          <a:xfrm>
            <a:off x="3640320" y="4983120"/>
            <a:ext cx="4516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ere are they kep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>
            <a:off x="4038480" y="29718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943600" y="2209680"/>
            <a:ext cx="1736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 the nucle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731520" y="503280"/>
            <a:ext cx="7843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genes are on long, string-like things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813680" y="1265400"/>
            <a:ext cx="52628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0033cc"/>
                </a:solidFill>
                <a:latin typeface="Times New Roman"/>
              </a:rPr>
              <a:t>chromosom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2652840" y="2824200"/>
          <a:ext cx="3692520" cy="35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2840" y="2824200"/>
                    <a:ext cx="369252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201680" y="563400"/>
            <a:ext cx="6817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e have 46 of them in our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351840" cy="444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352880" y="5668920"/>
            <a:ext cx="6806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at do you notice about th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125360" y="334800"/>
            <a:ext cx="6974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ll our chromosomes are in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2752560" y="1652760"/>
          <a:ext cx="364500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1652760"/>
                    <a:ext cx="364500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4"/>
          <p:cNvSpPr/>
          <p:nvPr/>
        </p:nvSpPr>
        <p:spPr>
          <a:xfrm>
            <a:off x="974160" y="5288040"/>
            <a:ext cx="7040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ere did we get each one fro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"/>
          <p:cNvSpPr/>
          <p:nvPr/>
        </p:nvSpPr>
        <p:spPr>
          <a:xfrm flipV="1">
            <a:off x="5105520" y="1980720"/>
            <a:ext cx="99036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6095880" y="1219320"/>
            <a:ext cx="2799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alf came from m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590920" y="3733920"/>
            <a:ext cx="175248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143000" y="1219320"/>
            <a:ext cx="173664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d half came from 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837720" y="380880"/>
            <a:ext cx="7073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is means that genes are in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974160" y="1401840"/>
            <a:ext cx="2385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2752560" y="1652760"/>
          <a:ext cx="364500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1652760"/>
                    <a:ext cx="364500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4555800" y="24224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708080" y="3336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813680" y="5516640"/>
            <a:ext cx="5913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33cc"/>
                </a:solidFill>
                <a:latin typeface="Times New Roman"/>
              </a:rPr>
              <a:t>Genes are on chromoso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898920" y="258840"/>
            <a:ext cx="1100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351800" y="1020600"/>
            <a:ext cx="6978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orgetting all those chromos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049040" y="1887480"/>
            <a:ext cx="3348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you might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811520" y="2725560"/>
            <a:ext cx="3376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wo lobe all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715000" y="2666880"/>
            <a:ext cx="861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811160" y="3335400"/>
            <a:ext cx="4011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wo no lobe all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790960" y="3352680"/>
            <a:ext cx="63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641400" y="4021200"/>
            <a:ext cx="6087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887840" y="4707000"/>
            <a:ext cx="375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ne of each alle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5790960" y="4648320"/>
            <a:ext cx="74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3332880" y="5545080"/>
            <a:ext cx="4889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ut you definitely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838080" y="228600"/>
            <a:ext cx="7696440" cy="62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7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3:29:38Z</dcterms:created>
  <dc:creator>Richard King</dc:creator>
  <dc:description>Inheritance basic</dc:description>
  <cp:keywords>Inheritance basic</cp:keywords>
  <dc:language>en-US</dc:language>
  <cp:lastModifiedBy>LEGION2</cp:lastModifiedBy>
  <dcterms:modified xsi:type="dcterms:W3CDTF">2016-01-12T11:18:39Z</dcterms:modified>
  <cp:revision>51</cp:revision>
  <dc:subject>Inheritance basic</dc:subject>
  <dc:title>Inheritance basic</dc:title>
</cp:coreProperties>
</file>