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 cells are special when it comes to chromosomes and ge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only have one of each, not the usual tw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 cells are designed to join together and so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+ 1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use these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ake predi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the features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will inherit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par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s pretend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a man without ear 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 woman with 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soon have their first ba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the baby have ear lob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 cell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… does the child have ear lob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someone h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version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lel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version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 can h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ther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rsion i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s see if you have got the ide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arent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x cell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But… do the children have ear lob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hildren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features are in two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eople have ear lobes and others do n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ene controls how ear lobes devel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versions of the ge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called alle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produces ears with lob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produces ears without lob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s are in our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they kep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s are on long, string-like things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have 46 of them in our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you notice about th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ur chromosomes are in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id we get each on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came from 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half came from 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genes are in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s are on chromos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getting all those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ight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lob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no lobe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each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you definitely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A7BE-07F7-4326-BA98-3476BC5D2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625B-3237-4D7F-8191-3A16FA43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EC74-7AA9-46DC-AE63-0FB2E06D7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65B9-35EB-4620-B3CB-EF17520FE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517C-B765-4DFC-B46A-74D01B4E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27A2-336A-4EF1-A274-A0AF1D16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71AF-4166-4797-9841-F8E46079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15E5-5BEF-4198-A53D-D518202E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B490-5922-4364-A79B-3E054890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3EA6-038F-4671-A1CB-43CD4442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CBC8-216F-41C0-890B-50E8E9A4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CD2F-D984-43EB-8CC7-BF40233D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7F01CFE-B12A-41BE-A1DD-99620F48F8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1600200" y="2057400"/>
            <a:ext cx="5867280" cy="1557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600" spc="-1" strike="noStrike">
                <a:solidFill>
                  <a:srgbClr val="0033cc"/>
                </a:solidFill>
                <a:latin typeface="Times New Roman"/>
              </a:rPr>
              <a:t>Inheritanc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1600200" y="2057400"/>
            <a:ext cx="5867280" cy="1557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600" spc="-1" strike="noStrike">
                <a:solidFill>
                  <a:srgbClr val="0033cc"/>
                </a:solidFill>
                <a:latin typeface="Times New Roman"/>
              </a:rPr>
              <a:t>However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13716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7861320" cy="59565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609480" y="380880"/>
            <a:ext cx="7315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ex cells are special when it comes to chromosomes and gen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609480" y="1981080"/>
            <a:ext cx="74678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y only have one of each, not the usual tw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4267080" y="3429000"/>
            <a:ext cx="30481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Why is th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762120" y="4267080"/>
            <a:ext cx="380988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ex cells are designed to join together and so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4952880" y="4952880"/>
            <a:ext cx="3276720" cy="10069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Times New Roman"/>
              </a:rPr>
              <a:t>1 + 1 =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1962720" y="1401840"/>
            <a:ext cx="5339160" cy="31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e can use these fa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o make predi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out the features th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hildren will inherit fr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ir pare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669960" y="639720"/>
            <a:ext cx="36734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Lets pretend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59240" y="1676520"/>
            <a:ext cx="7077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that a man without ear lob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758880" y="2743200"/>
            <a:ext cx="61135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and a woman with lob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760680" y="3733920"/>
            <a:ext cx="7483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will soon have their first bab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680760" y="5105520"/>
            <a:ext cx="7417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ff0033"/>
                </a:solidFill>
                <a:latin typeface="Times New Roman"/>
              </a:rPr>
              <a:t>Will the baby have ear lob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2193480" y="471600"/>
            <a:ext cx="915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307920" y="471600"/>
            <a:ext cx="698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394920" y="1509840"/>
            <a:ext cx="1489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ent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2362680" y="1828800"/>
            <a:ext cx="617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6477480" y="1828800"/>
            <a:ext cx="498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395640" y="2805120"/>
            <a:ext cx="15170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x cell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2454120" y="303372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6568920" y="303372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4"/>
          <p:cNvSpPr/>
          <p:nvPr/>
        </p:nvSpPr>
        <p:spPr>
          <a:xfrm>
            <a:off x="667800" y="5745240"/>
            <a:ext cx="7638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But… does the child have ear lob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5"/>
          <p:cNvSpPr/>
          <p:nvPr/>
        </p:nvSpPr>
        <p:spPr>
          <a:xfrm>
            <a:off x="5942880" y="914400"/>
            <a:ext cx="1459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No l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6"/>
          <p:cNvSpPr/>
          <p:nvPr/>
        </p:nvSpPr>
        <p:spPr>
          <a:xfrm>
            <a:off x="2133000" y="914400"/>
            <a:ext cx="105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L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7"/>
          <p:cNvSpPr/>
          <p:nvPr/>
        </p:nvSpPr>
        <p:spPr>
          <a:xfrm>
            <a:off x="379440" y="4419720"/>
            <a:ext cx="1687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ildr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581280" y="4038480"/>
          <a:ext cx="2133720" cy="1117800"/>
        </p:xfrm>
        <a:graphic>
          <a:graphicData uri="http://schemas.openxmlformats.org/drawingml/2006/table">
            <a:tbl>
              <a:tblPr/>
              <a:tblGrid>
                <a:gridCol w="1067040"/>
                <a:gridCol w="1066680"/>
              </a:tblGrid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Rectangle 51"/>
          <p:cNvSpPr/>
          <p:nvPr/>
        </p:nvSpPr>
        <p:spPr>
          <a:xfrm>
            <a:off x="3886200" y="457200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2"/>
          <p:cNvSpPr/>
          <p:nvPr/>
        </p:nvSpPr>
        <p:spPr>
          <a:xfrm>
            <a:off x="4952520" y="403848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3"/>
          <p:cNvSpPr/>
          <p:nvPr/>
        </p:nvSpPr>
        <p:spPr>
          <a:xfrm>
            <a:off x="4876920" y="4648320"/>
            <a:ext cx="55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Object 42"/>
          <p:cNvGraphicFramePr/>
          <p:nvPr/>
        </p:nvGraphicFramePr>
        <p:xfrm>
          <a:off x="762120" y="1447920"/>
          <a:ext cx="320976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47920"/>
                    <a:ext cx="320976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3"/>
          <p:cNvSpPr/>
          <p:nvPr/>
        </p:nvSpPr>
        <p:spPr>
          <a:xfrm>
            <a:off x="609480" y="457200"/>
            <a:ext cx="16236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6000" spc="-1" strike="noStrike">
                <a:solidFill>
                  <a:srgbClr val="ff0033"/>
                </a:solidFill>
                <a:latin typeface="Times New Roman"/>
              </a:rPr>
              <a:t>Y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402800" y="716040"/>
            <a:ext cx="34632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If someone h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both versions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 allele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419000" y="2666880"/>
            <a:ext cx="317664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One version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ffect can h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 other’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304920" y="5410080"/>
            <a:ext cx="3444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 version i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819600" y="4995720"/>
            <a:ext cx="4789080" cy="155556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9600" spc="-1" strike="noStrike">
                <a:solidFill>
                  <a:srgbClr val="ffffcc"/>
                </a:solidFill>
                <a:latin typeface="Times New Roman"/>
              </a:rPr>
              <a:t>dominan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1676520" y="1143000"/>
            <a:ext cx="5867280" cy="4115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8800" spc="-1" strike="noStrike">
                <a:solidFill>
                  <a:srgbClr val="0033cc"/>
                </a:solidFill>
                <a:latin typeface="Times New Roman"/>
              </a:rPr>
              <a:t>Lets see if you have got the idea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2742840" y="457200"/>
            <a:ext cx="915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307920" y="471600"/>
            <a:ext cx="698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394920" y="1509840"/>
            <a:ext cx="1489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ent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2895840" y="1828800"/>
            <a:ext cx="55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6477120" y="1828800"/>
            <a:ext cx="55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95640" y="2805120"/>
            <a:ext cx="15170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x cell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2438280" y="304812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7314840" y="304812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667440" y="5745240"/>
            <a:ext cx="78645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But… do the children have ear lob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6171840" y="914400"/>
            <a:ext cx="105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L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2682360" y="900000"/>
            <a:ext cx="1053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L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379440" y="4419720"/>
            <a:ext cx="1687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ildren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9"/>
          <p:cNvSpPr/>
          <p:nvPr/>
        </p:nvSpPr>
        <p:spPr>
          <a:xfrm>
            <a:off x="4724280" y="388620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5486040" y="388620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1"/>
          <p:cNvSpPr/>
          <p:nvPr/>
        </p:nvSpPr>
        <p:spPr>
          <a:xfrm>
            <a:off x="4572000" y="5029200"/>
            <a:ext cx="55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2"/>
          <p:cNvSpPr/>
          <p:nvPr/>
        </p:nvSpPr>
        <p:spPr>
          <a:xfrm>
            <a:off x="5943600" y="304812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3"/>
          <p:cNvSpPr/>
          <p:nvPr/>
        </p:nvSpPr>
        <p:spPr>
          <a:xfrm>
            <a:off x="3657240" y="304812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733920" y="3886200"/>
          <a:ext cx="2286000" cy="165096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Rectangle 58"/>
          <p:cNvSpPr/>
          <p:nvPr/>
        </p:nvSpPr>
        <p:spPr>
          <a:xfrm>
            <a:off x="3962520" y="4419720"/>
            <a:ext cx="401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59"/>
          <p:cNvSpPr/>
          <p:nvPr/>
        </p:nvSpPr>
        <p:spPr>
          <a:xfrm>
            <a:off x="3962160" y="5029200"/>
            <a:ext cx="34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7"/>
          <p:cNvSpPr/>
          <p:nvPr/>
        </p:nvSpPr>
        <p:spPr>
          <a:xfrm>
            <a:off x="5334120" y="4419720"/>
            <a:ext cx="55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8"/>
          <p:cNvSpPr/>
          <p:nvPr/>
        </p:nvSpPr>
        <p:spPr>
          <a:xfrm>
            <a:off x="4572720" y="4419720"/>
            <a:ext cx="617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9"/>
          <p:cNvSpPr/>
          <p:nvPr/>
        </p:nvSpPr>
        <p:spPr>
          <a:xfrm>
            <a:off x="5410080" y="5029200"/>
            <a:ext cx="498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Object 4"/>
          <p:cNvGraphicFramePr/>
          <p:nvPr/>
        </p:nvGraphicFramePr>
        <p:xfrm>
          <a:off x="2057400" y="685800"/>
          <a:ext cx="2103480" cy="24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685800"/>
                    <a:ext cx="210348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5"/>
          <p:cNvGraphicFramePr/>
          <p:nvPr/>
        </p:nvGraphicFramePr>
        <p:xfrm>
          <a:off x="5105520" y="685800"/>
          <a:ext cx="2103480" cy="24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685800"/>
                    <a:ext cx="210348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6"/>
          <p:cNvGraphicFramePr/>
          <p:nvPr/>
        </p:nvGraphicFramePr>
        <p:xfrm>
          <a:off x="2133720" y="3505320"/>
          <a:ext cx="2103480" cy="249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3505320"/>
                    <a:ext cx="210348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7"/>
          <p:cNvGraphicFramePr/>
          <p:nvPr/>
        </p:nvGraphicFramePr>
        <p:xfrm>
          <a:off x="5257800" y="3581280"/>
          <a:ext cx="1927080" cy="224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3581280"/>
                    <a:ext cx="1927080" cy="22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8"/>
          <p:cNvSpPr/>
          <p:nvPr/>
        </p:nvSpPr>
        <p:spPr>
          <a:xfrm>
            <a:off x="2438280" y="152388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72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5562720" y="14479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72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2590920" y="434340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72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5715000" y="426708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72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431720" y="639720"/>
            <a:ext cx="65476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ome features are in two for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Object 3"/>
          <p:cNvGraphicFramePr/>
          <p:nvPr/>
        </p:nvGraphicFramePr>
        <p:xfrm>
          <a:off x="1585800" y="1662120"/>
          <a:ext cx="5978520" cy="354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5800" y="1662120"/>
                    <a:ext cx="5978520" cy="35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4"/>
          <p:cNvSpPr/>
          <p:nvPr/>
        </p:nvSpPr>
        <p:spPr>
          <a:xfrm>
            <a:off x="685800" y="5486400"/>
            <a:ext cx="7924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people have ear lobes and others do n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4495680" y="4495680"/>
            <a:ext cx="1067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438480" y="563400"/>
            <a:ext cx="82166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 gene controls how ear lobes develo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762120" y="1752480"/>
            <a:ext cx="7543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re are two versions of the gen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y are called alle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914400" y="3276720"/>
            <a:ext cx="5569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1523520" y="3352680"/>
            <a:ext cx="66924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hich produces ears with lob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929160" y="5227560"/>
            <a:ext cx="4564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8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538640" y="5303880"/>
            <a:ext cx="73432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hich produces ears without lob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4054320" y="4389480"/>
            <a:ext cx="1143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821880" y="258840"/>
            <a:ext cx="5519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e genes are in our cel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3"/>
          <p:cNvGraphicFramePr/>
          <p:nvPr/>
        </p:nvGraphicFramePr>
        <p:xfrm>
          <a:off x="2152800" y="1523880"/>
          <a:ext cx="3473280" cy="29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2800" y="1523880"/>
                    <a:ext cx="3473280" cy="29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4"/>
          <p:cNvSpPr/>
          <p:nvPr/>
        </p:nvSpPr>
        <p:spPr>
          <a:xfrm>
            <a:off x="3640320" y="4983120"/>
            <a:ext cx="45162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Where are they kep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5"/>
          <p:cNvSpPr/>
          <p:nvPr/>
        </p:nvSpPr>
        <p:spPr>
          <a:xfrm>
            <a:off x="4038480" y="2971800"/>
            <a:ext cx="17528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943600" y="2209680"/>
            <a:ext cx="173664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In the nucle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731520" y="503280"/>
            <a:ext cx="7843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genes are on long, string-like things ca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813680" y="1265400"/>
            <a:ext cx="52628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7200" spc="-1" strike="noStrike">
                <a:solidFill>
                  <a:srgbClr val="0033cc"/>
                </a:solidFill>
                <a:latin typeface="Times New Roman"/>
              </a:rPr>
              <a:t>chromosom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4"/>
          <p:cNvGraphicFramePr/>
          <p:nvPr/>
        </p:nvGraphicFramePr>
        <p:xfrm>
          <a:off x="2652840" y="2824200"/>
          <a:ext cx="3692520" cy="35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52840" y="2824200"/>
                    <a:ext cx="3692520" cy="35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1201680" y="563400"/>
            <a:ext cx="6817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e have 46 of them in our cel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351840" cy="44449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1352880" y="5668920"/>
            <a:ext cx="6806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What do you notice about th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1125360" y="334800"/>
            <a:ext cx="69746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ll our chromosomes are in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Object 3"/>
          <p:cNvGraphicFramePr/>
          <p:nvPr/>
        </p:nvGraphicFramePr>
        <p:xfrm>
          <a:off x="2752560" y="1652760"/>
          <a:ext cx="3645000" cy="35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52560" y="1652760"/>
                    <a:ext cx="3645000" cy="35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Rectangle 4"/>
          <p:cNvSpPr/>
          <p:nvPr/>
        </p:nvSpPr>
        <p:spPr>
          <a:xfrm>
            <a:off x="974160" y="5288040"/>
            <a:ext cx="70401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ff0033"/>
                </a:solidFill>
                <a:latin typeface="Times New Roman"/>
              </a:rPr>
              <a:t>Where did we get each one fro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5"/>
          <p:cNvSpPr/>
          <p:nvPr/>
        </p:nvSpPr>
        <p:spPr>
          <a:xfrm flipV="1">
            <a:off x="5105520" y="1980720"/>
            <a:ext cx="990360" cy="76212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6095880" y="1219320"/>
            <a:ext cx="27990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half came from m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7"/>
          <p:cNvSpPr/>
          <p:nvPr/>
        </p:nvSpPr>
        <p:spPr>
          <a:xfrm>
            <a:off x="2590920" y="3733920"/>
            <a:ext cx="1752480" cy="3045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1143000" y="1219320"/>
            <a:ext cx="1736640" cy="34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nd half came from 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837720" y="380880"/>
            <a:ext cx="70736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is means that genes are in pai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974160" y="1401840"/>
            <a:ext cx="2385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Because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2752560" y="1652760"/>
          <a:ext cx="3645000" cy="35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52560" y="1652760"/>
                    <a:ext cx="3645000" cy="35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5"/>
          <p:cNvSpPr/>
          <p:nvPr/>
        </p:nvSpPr>
        <p:spPr>
          <a:xfrm>
            <a:off x="4555800" y="24224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4708080" y="33368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0033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813680" y="5516640"/>
            <a:ext cx="5913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33cc"/>
                </a:solidFill>
                <a:latin typeface="Times New Roman"/>
              </a:rPr>
              <a:t>Genes are on chromosom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898920" y="258840"/>
            <a:ext cx="1100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o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1351800" y="1020600"/>
            <a:ext cx="69789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orgetting all those chromos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049040" y="1887480"/>
            <a:ext cx="33487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you might ha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811520" y="2725560"/>
            <a:ext cx="3376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wo lobe alle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5715000" y="2666880"/>
            <a:ext cx="861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1811160" y="3335400"/>
            <a:ext cx="40118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wo no lobe alle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5790960" y="3352680"/>
            <a:ext cx="6361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3641400" y="4021200"/>
            <a:ext cx="60876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1887840" y="4707000"/>
            <a:ext cx="37558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one of each alle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5790960" y="4648320"/>
            <a:ext cx="748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4000" spc="-1" strike="noStrike">
                <a:solidFill>
                  <a:srgbClr val="ff0033"/>
                </a:solidFill>
                <a:latin typeface="Times New Roman"/>
              </a:rPr>
              <a:t>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3332880" y="5545080"/>
            <a:ext cx="48895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but you definitely ha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838080" y="228600"/>
            <a:ext cx="7696440" cy="62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40700" spc="-1" strike="noStrike">
                <a:solidFill>
                  <a:srgbClr val="800000"/>
                </a:solidFill>
                <a:latin typeface="Times New Roman"/>
              </a:rPr>
              <a:t>2</a:t>
            </a:r>
            <a:endParaRPr b="0" lang="en-US" sz="40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1T13:29:38Z</dcterms:created>
  <dc:creator>Richard King</dc:creator>
  <dc:description>Inheritance basic</dc:description>
  <cp:keywords>Inheritance basic</cp:keywords>
  <dc:language>en-US</dc:language>
  <cp:lastModifiedBy>LEGION2</cp:lastModifiedBy>
  <dcterms:modified xsi:type="dcterms:W3CDTF">2016-01-12T11:18:39Z</dcterms:modified>
  <cp:revision>51</cp:revision>
  <dc:subject>Inheritance basic</dc:subject>
  <dc:title>Inheritance basic</dc:title>
</cp:coreProperties>
</file>