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3101-A96B-4788-98CD-F0C1B6F7A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D53-824E-46DA-B4FD-B7FEA863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D3C-659F-44A3-8F56-D517DD10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7F442-A7B1-4D08-BE4E-FF484F39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2E7F0-3F94-4FC8-897D-B0492C4C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DFEF0-CEA0-4FE0-BFB0-372F3A09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1611B-22C0-4612-8D67-C2B1E50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9D4FF-31B3-4D31-9E19-1E22231B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0E342-4977-4489-B1FA-A6E887A1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993E3-6473-401A-BE70-C680FBDD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7E410-4C9B-4D25-8049-81B2CCB6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7ED38-AA81-4476-8AA8-37FCB862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91430-59E1-47C6-A43A-7C92D596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124-5F55-4309-85CD-3964C2A0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23750-FD46-488F-905F-94D4AB81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23115-CC79-4F85-AE43-ED643DA9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C26E7-5792-4580-813C-7CAA9C80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2B3B9-A357-413D-B78A-253AF025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B90C6-E7C1-40C8-AA88-0F2C251E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CBAB5-7BC3-4A64-A2C4-A7256AEB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61641-146E-4713-9A9B-6D8D8100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55EFE-5E6F-4332-97D6-9A19EB4E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13D04-09A4-4852-B1B1-D7B86A35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4C267-0BCC-4F0F-928E-8BF13C9C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D08-8422-44FE-980D-7D539563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88F76-4E40-4AF0-BA04-199F063F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673BF-A464-40C5-AB21-7DD50E1D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6532B-6F21-4294-81D6-658AC2B0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B34FC-F0AA-4301-AB6C-BE78807F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79DE4-A79F-45D4-A503-89AE654D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0C9BB-0CF3-4B1B-AD11-67EF2754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E380-634B-4CF0-971E-3A44A2CE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E2933-3DE4-4DAB-937D-C2E237A4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D2A15-17A6-4D59-BB92-06D39B8B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069D0-41E1-4175-8547-F879B05C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34B6-2333-4774-B088-C2A886AE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E48E4-8FEE-45AD-AE26-26798C44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6B119-B638-4B71-9558-159FCF74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6DF84-37C1-495B-B6BE-A8860095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79C46-0646-4888-94AB-DA4CD367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C1320-F295-46D5-8F04-4677D878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92119-0E00-4CDB-8731-1920399C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6F525-8759-47D4-A139-A444BEDF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E565A-4A78-443C-954E-1A4B08E7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ACA38-7DD2-4AB3-9F0E-2E14E52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DCCC8-4A73-4BBA-A809-1902BF47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F322-6FBB-4D85-BCA0-922145AE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AED23-D7E1-4CF4-AED0-7AF244BA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963C9-1B9F-4F67-8D67-BF6C78A8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D6804-D2CB-468B-8EC6-3147F56B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EF396-5685-4DFE-BC13-A3510A77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BB3DA-EA3A-4B0C-8E74-AEEF8034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12F85-21D8-427E-98CA-59494750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DC323-6260-485C-82C7-81F81570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BF46E-E3BE-4E9A-AB61-E395BF9A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BBDF9-FEA4-46CB-83E6-87F8B9AD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ABF9F-E3CE-486C-9A55-B2A111C1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DF14-5A67-43B4-A0B0-89919E4B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4FA0D-C1B7-44A5-B621-F388B871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3E236-EA0D-4B98-9F07-3A467E94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C593E-ACCC-4932-9073-723A325B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9B184-D6BC-427F-9D4F-DA25ABB6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35EDD-51A5-4A58-A906-4D6044FA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F8DB5-9AFB-4143-A0C3-77784FF1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1DA0F-5464-4991-A152-F2A2A0D2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249C-365F-40FC-BF02-0D26C48E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DC0E-E988-4793-8D3D-24E5C61A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862F-05C7-43AA-98AC-1E48C140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EDF6-5C0A-439C-8491-109A1061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908-DAE6-462E-85BE-A85DEC3F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8946-55DA-4807-9BEF-DA55ACDF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419A-3C0A-4CB9-AE76-1ECB7F3D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4458-9D1C-4393-AE66-5F6CC8F9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840B-A467-4708-BBBC-AA4CD6A4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F754-673F-4303-9323-B038C0EF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931A-134E-4626-9353-64D80A01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6F67-D3AB-41EE-B1F9-104F7CE1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76E1-0FA7-4B23-A549-32EEC463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BCC4-CAB7-4ECD-B537-09D77D94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B6F8F-44D1-40FD-96FB-F0169D88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2C1-C736-462B-978A-537FCF5B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55CF-295A-49DE-95B4-F8C3E455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7041-18BF-4D93-860C-1D066992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0DC5-467F-4CE1-A5C7-AFF43A11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2639-0A84-4A50-BBB3-9C97708D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0163-89C0-4D8F-BA5C-B8A6EB58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77A5-02E8-4857-B51A-4FCC53A0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5E31-024A-443B-AD73-E68AB097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6825-FB4F-4F5B-B852-F21DAEFA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AB128-25FD-4CF4-BFA9-40E97051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2780-4797-4E77-8CBC-0B20B79D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BDB-1B1F-4E49-B8A1-B8034D30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3C52-4E79-47B9-9B5C-F3C22EDD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D2FD-0FF7-4A64-977B-4CE38E14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6FBB6-DDA6-45AB-BCB2-28DD3BE7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47D6-77A8-47D4-A7F6-75043F45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5CF50-02BF-4DDA-BC58-1CBCA055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2DD11-8CDD-4699-97B6-60B9CB53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00FB7-7B65-4EE6-9DD4-2F944A99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126B-4191-4AC8-87DB-A3593674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78E3-F4FE-48DD-931D-D72AD4B4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373DD-8A72-44BB-B725-ACB1FB59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082-7808-4AD9-94ED-1C2C6F56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63A8B-1EE4-4FA5-9775-EBAC3E4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6ECAC-3EB4-474C-873E-78BA7EDB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8A0EA-6FFA-4B90-B90D-88943855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FAA12-3015-42F3-A1BA-A00EC6C7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6FD4B-6927-4261-94CA-140181EE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7393A-5802-4A0C-8675-EEF51C8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14F31-F59D-432C-9414-5A38478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C3AB9-6367-46FC-BCBC-6D23FD73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7A296-3848-47E0-AA7C-2037856D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8CD5E-1BF1-4049-A7E9-B7438CB0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C15-1634-418B-A046-1C300A96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053F2-CA93-41D8-B21D-112C4EFC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CF2B9-31D3-4A15-9BA3-95FBFD9F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8EF47-4440-4A90-AFBD-672F0B3C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16859-7C55-495C-9C7C-263527FA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8B851-D745-4F53-89B1-B1827FFF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B0EEA-17C3-49B0-93D8-726CB11A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1BEFE-1969-4D13-9D49-8F551985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670E0-D250-48E5-836A-40693542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72E1E-E876-41D7-AAB5-4E37DB6F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F5A57-5085-457F-A588-908D7F4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7A2-D4F4-4284-BE26-2DC31E10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8FE86-CEF3-494D-B751-5FDDD390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44194-FF12-4C79-BE02-4CE16EA7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ABBC5-E39A-42A4-A91B-0D55FA2A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DF930-E5A1-4799-A961-1B645E4A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AFAB4-9E45-40E0-ADAE-A57E531D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76030-73D3-4AF2-9C08-6213836B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BBC77-099A-48D3-B5C6-298E6F3F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19A27-1021-430C-AC51-92018D6B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1F7A9-B823-4A9C-B51C-0A3171A8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42C92-5BE4-4E37-AD24-3330F73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592-862C-4D95-8D23-04AE355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0F03F-447D-46B7-8C1B-1A0303EB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B7224-2D22-49BC-8E5D-E5162D2D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83570-85D1-4C01-908A-FFA4864E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95E87-57D1-4D9C-A3E1-8DBB4CAF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6D57F-9E6C-4E47-AD67-A2655F6A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F94B2-9580-4269-AF22-F182B7F4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7498E-2167-4FDB-9AA1-006E1514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6D914-DDF2-49B4-8F3C-612FE2DB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4DB1A-1E66-4031-8C13-6F4B5BB1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BC7E9-A506-41A8-94B9-33D7EC0F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86F-BB8B-44FE-8989-C26D9634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5CF42-1C43-4E46-887B-EC31D0C2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E89AE-5034-4EEE-BD0A-9EBD0676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B5C42-2DE1-4971-81A6-43EE320F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35AED-59DC-4C7D-AC64-6883C5A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C84F7-8F35-4687-8522-7237BBC0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7EA67-D090-490E-B95B-A7EFA3A0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2AA2C-C44E-4F6A-837A-B8086157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71FFE-6DD8-4B0F-8DAC-40A22861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D977F-D0B3-49FB-9A66-DA90289F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03928-42FD-4BA4-B735-AD1C2D94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7DE1-C2D0-4066-B4C2-CC9EB1138E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0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8409-C944-4B7B-A98A-45ACCB47FA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53D8-9FD7-4F77-8C59-8F7EBC65BE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9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414F-CD15-4F2F-8481-0B48860210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2421-9752-4DF7-825E-5CE6DA0A2C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7A7A-C6D0-401D-B329-E7CEB7F487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4C59-892E-48A7-A64F-AEF7D6206A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1EF6-EF28-444E-8846-960C434F2A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0366-949C-4453-B828-F4909AA78A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88D5-F7C8-478D-8480-D95213CAF6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95D1-3757-4ACB-A275-D372E6569E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1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CBCD-AC8C-4DE7-A814-FADCF1A7F1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AC8B-45B6-4C1F-81CD-6485E34D32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del’s laws of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rom his studies, Mendel derived certain basic laws of hered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Hereditary factors do not combine, but are passed intac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ach member of the parental generation transmits only half of its hereditary factors to each offspring (with certain factors "dominant" over others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offspring of the same parents receive different sets of hereditary f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3583080" y="380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3"/>
          <p:cNvSpPr/>
          <p:nvPr/>
        </p:nvSpPr>
        <p:spPr>
          <a:xfrm>
            <a:off x="3962520" y="533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5182560" y="380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4648320" y="609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35053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7"/>
          <p:cNvSpPr/>
          <p:nvPr/>
        </p:nvSpPr>
        <p:spPr>
          <a:xfrm>
            <a:off x="35053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>
            <a:off x="541008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277800" y="1523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571644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60199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41922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3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51066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861600" y="4572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6554160" y="914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3276720" y="2286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32767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3048120" y="25909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5257800" y="25909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886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7350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4420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916920" y="13716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916920" y="2209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29"/>
          <p:cNvSpPr/>
          <p:nvPr/>
        </p:nvSpPr>
        <p:spPr>
          <a:xfrm>
            <a:off x="3962520" y="2895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30"/>
          <p:cNvSpPr/>
          <p:nvPr/>
        </p:nvSpPr>
        <p:spPr>
          <a:xfrm>
            <a:off x="4724280" y="304812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31"/>
          <p:cNvSpPr/>
          <p:nvPr/>
        </p:nvSpPr>
        <p:spPr>
          <a:xfrm>
            <a:off x="5562720" y="2971800"/>
            <a:ext cx="167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32"/>
          <p:cNvSpPr/>
          <p:nvPr/>
        </p:nvSpPr>
        <p:spPr>
          <a:xfrm flipH="1">
            <a:off x="1676160" y="2895480"/>
            <a:ext cx="1523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33"/>
          <p:cNvSpPr/>
          <p:nvPr/>
        </p:nvSpPr>
        <p:spPr>
          <a:xfrm>
            <a:off x="838080" y="41911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34"/>
          <p:cNvSpPr/>
          <p:nvPr/>
        </p:nvSpPr>
        <p:spPr>
          <a:xfrm>
            <a:off x="8380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35"/>
          <p:cNvSpPr/>
          <p:nvPr/>
        </p:nvSpPr>
        <p:spPr>
          <a:xfrm>
            <a:off x="2286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6112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12193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1752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094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9921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205884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15256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43"/>
          <p:cNvSpPr/>
          <p:nvPr/>
        </p:nvSpPr>
        <p:spPr>
          <a:xfrm>
            <a:off x="304812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4"/>
          <p:cNvSpPr/>
          <p:nvPr/>
        </p:nvSpPr>
        <p:spPr>
          <a:xfrm>
            <a:off x="30481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4572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209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39625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4268160" y="4343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4038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3541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38113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53"/>
          <p:cNvSpPr/>
          <p:nvPr/>
        </p:nvSpPr>
        <p:spPr>
          <a:xfrm>
            <a:off x="4648320" y="4800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54"/>
          <p:cNvSpPr/>
          <p:nvPr/>
        </p:nvSpPr>
        <p:spPr>
          <a:xfrm>
            <a:off x="46483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6248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4421160" y="5105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57"/>
          <p:cNvSpPr/>
          <p:nvPr/>
        </p:nvSpPr>
        <p:spPr>
          <a:xfrm>
            <a:off x="6021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5105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57150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0"/>
          <p:cNvSpPr/>
          <p:nvPr/>
        </p:nvSpPr>
        <p:spPr>
          <a:xfrm>
            <a:off x="487800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541152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6477120" y="42670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63"/>
          <p:cNvSpPr/>
          <p:nvPr/>
        </p:nvSpPr>
        <p:spPr>
          <a:xfrm>
            <a:off x="64771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64"/>
          <p:cNvSpPr/>
          <p:nvPr/>
        </p:nvSpPr>
        <p:spPr>
          <a:xfrm>
            <a:off x="80010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624960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76971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70102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74674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67827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0"/>
          <p:cNvSpPr/>
          <p:nvPr/>
        </p:nvSpPr>
        <p:spPr>
          <a:xfrm>
            <a:off x="72399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2"/>
          <p:cNvSpPr/>
          <p:nvPr/>
        </p:nvSpPr>
        <p:spPr>
          <a:xfrm>
            <a:off x="2438280" y="533520"/>
            <a:ext cx="990720" cy="990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3429000" y="1143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5334120" y="609480"/>
            <a:ext cx="1066680" cy="9907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294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6784920" y="1219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 flipH="1">
            <a:off x="6477120" y="1371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3434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2819520" y="2057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2819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59436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12"/>
          <p:cNvSpPr/>
          <p:nvPr/>
        </p:nvSpPr>
        <p:spPr>
          <a:xfrm>
            <a:off x="2590920" y="2438280"/>
            <a:ext cx="53316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5715000" y="24382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4"/>
          <p:cNvSpPr/>
          <p:nvPr/>
        </p:nvSpPr>
        <p:spPr>
          <a:xfrm>
            <a:off x="380988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480060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16"/>
          <p:cNvSpPr/>
          <p:nvPr/>
        </p:nvSpPr>
        <p:spPr>
          <a:xfrm>
            <a:off x="3505320" y="2438280"/>
            <a:ext cx="60948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7"/>
          <p:cNvSpPr/>
          <p:nvPr/>
        </p:nvSpPr>
        <p:spPr>
          <a:xfrm>
            <a:off x="4495680" y="2438280"/>
            <a:ext cx="60984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6629760" y="2438280"/>
            <a:ext cx="22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19"/>
          <p:cNvSpPr/>
          <p:nvPr/>
        </p:nvSpPr>
        <p:spPr>
          <a:xfrm flipH="1">
            <a:off x="68580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38098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27432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274320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24"/>
          <p:cNvSpPr/>
          <p:nvPr/>
        </p:nvSpPr>
        <p:spPr>
          <a:xfrm>
            <a:off x="2514600" y="4038480"/>
            <a:ext cx="45720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25"/>
          <p:cNvSpPr/>
          <p:nvPr/>
        </p:nvSpPr>
        <p:spPr>
          <a:xfrm>
            <a:off x="4648320" y="4038480"/>
            <a:ext cx="533160" cy="5335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6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7"/>
          <p:cNvSpPr/>
          <p:nvPr/>
        </p:nvSpPr>
        <p:spPr>
          <a:xfrm>
            <a:off x="41148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28"/>
          <p:cNvSpPr/>
          <p:nvPr/>
        </p:nvSpPr>
        <p:spPr>
          <a:xfrm>
            <a:off x="32004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9"/>
          <p:cNvSpPr/>
          <p:nvPr/>
        </p:nvSpPr>
        <p:spPr>
          <a:xfrm>
            <a:off x="38862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0"/>
          <p:cNvSpPr/>
          <p:nvPr/>
        </p:nvSpPr>
        <p:spPr>
          <a:xfrm>
            <a:off x="5486400" y="41148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1"/>
          <p:cNvSpPr/>
          <p:nvPr/>
        </p:nvSpPr>
        <p:spPr>
          <a:xfrm flipH="1">
            <a:off x="586692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ndel's work became the foundation for modern genet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impact of genetic theory is no longer questioned in anyone's min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Many diseases are known to be inher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and pedigrees are typically traced to determine the probability of passing along an hereditary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Plants are now designed in laboratories to exhibit desired characteristic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practical results of Mendel's research has not only changed the way we perceive the world, but also the way we live in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ook seven years to prove laws of inheri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-Basic Law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redity Factors do not comb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Each member of a parental generation transfers only one half of its heredity factors to each offsp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Mendel’s works became the foundation of modern gene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ater crossed mice and pea pl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Noticed traits were inherited in certain numerical rat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Came up with idea of dominance and segregation of genes and set out to test it in p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ove of nature encouraged his interest in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Also interested in meteorology and theories of evol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More 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205.180.85.40/w/pc.cgi?mid=10866&amp;sid=72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accessexcellence.org/AB/BC/Gregor_Mendel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netspace.org/MendelWeb/MWpaptoc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101 Key Ideas: Ge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http://www.library.villanova.edu/html2/lib/mendel/mendexhib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Father of Modern Genetic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9" descr="Mendel, Gregor Johann -- Media -- Encarta ® Online "/>
          <p:cNvPicPr/>
          <p:nvPr/>
        </p:nvPicPr>
        <p:blipFill>
          <a:blip r:embed="rId1"/>
          <a:stretch/>
        </p:blipFill>
        <p:spPr>
          <a:xfrm>
            <a:off x="2971800" y="1906560"/>
            <a:ext cx="2743200" cy="2436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361800" y="4494600"/>
            <a:ext cx="84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The first person to trace the characteristics of successive generations of a living t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380880" y="5095440"/>
            <a:ext cx="82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He was not a world-renowned scientist of hi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ther, he was an Augustinian monk who taught natural science to high school stud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12720" y="1971720"/>
            <a:ext cx="80740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Second child of Anton and Rosine Mend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were farmers in Brun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couldn’t afford for him to attend colle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Gregor Mendel then attended the Augustinian Monastery and became a mo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WordArt 3"/>
          <p:cNvSpPr txBox="1"/>
          <p:nvPr/>
        </p:nvSpPr>
        <p:spPr>
          <a:xfrm>
            <a:off x="609480" y="60948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Famil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Where Mendel Studi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5" descr="Olmutz Class"/>
          <p:cNvPicPr/>
          <p:nvPr/>
        </p:nvPicPr>
        <p:blipFill>
          <a:blip r:embed="rId1"/>
          <a:stretch/>
        </p:blipFill>
        <p:spPr>
          <a:xfrm>
            <a:off x="2286000" y="2971800"/>
            <a:ext cx="4952880" cy="29383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experimental garden"/>
          <p:cNvPicPr/>
          <p:nvPr/>
        </p:nvPicPr>
        <p:blipFill>
          <a:blip r:embed="rId1"/>
          <a:stretch/>
        </p:blipFill>
        <p:spPr>
          <a:xfrm>
            <a:off x="762120" y="533520"/>
            <a:ext cx="3292200" cy="44193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1"/>
          <p:cNvSpPr/>
          <p:nvPr/>
        </p:nvSpPr>
        <p:spPr>
          <a:xfrm>
            <a:off x="533520" y="5013360"/>
            <a:ext cx="3581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experimental garden (35x7 meters) in the grounds of the Augustinian Monastery in Old Brno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ts appearance before 1922. 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13" descr="mongarden"/>
          <p:cNvPicPr/>
          <p:nvPr/>
        </p:nvPicPr>
        <p:blipFill>
          <a:blip r:embed="rId2"/>
          <a:stretch/>
        </p:blipFill>
        <p:spPr>
          <a:xfrm>
            <a:off x="4648320" y="1447920"/>
            <a:ext cx="3714480" cy="2394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4"/>
          <p:cNvSpPr/>
          <p:nvPr/>
        </p:nvSpPr>
        <p:spPr>
          <a:xfrm>
            <a:off x="4648320" y="3855240"/>
            <a:ext cx="3886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The Monastery Garden with the greenhouse wh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had built in 1870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Its appearance before 1902.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How Mendel Got Start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's attraction to research was based on his love of na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 was not only interested in plants, but also in meteorology and theories of evolu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 often wondered how plants obtained atypical characteristic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The Birth of the idea: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 a walk around the monastery, he found an atypical variety of an ornamental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ook it and planted it next to the typical var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grew their progeny side by side to see if there would be any approximation of the traits passed on to the next gen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is experiment was "designed to support or to illustrate Lamarck's views concerning the influence of environment upon plants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found that the plants' respective offspring retained the essential traits of the parents, and therefore were not influenced by the enviro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ndel's research reflected his person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00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saw that the traits were inherited in certain numerical rat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9360" y="182880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hen came up with the idea of dominance and segregation of genes and set out to test it in pe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t took seven years to cross and score the plants to the thousand to prove the laws of inheritance!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ctures of atypical plan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" descr="Dianthus drawing"/>
          <p:cNvPicPr/>
          <p:nvPr/>
        </p:nvPicPr>
        <p:blipFill>
          <a:blip r:embed="rId1"/>
          <a:stretch/>
        </p:blipFill>
        <p:spPr>
          <a:xfrm>
            <a:off x="3035160" y="1905120"/>
            <a:ext cx="2741760" cy="381132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17:29:13Z</dcterms:created>
  <dc:creator>Cassandra Rojas</dc:creator>
  <dc:description/>
  <dc:language>en-US</dc:language>
  <cp:lastModifiedBy>LEGION2</cp:lastModifiedBy>
  <dcterms:modified xsi:type="dcterms:W3CDTF">2016-01-12T11:12:32Z</dcterms:modified>
  <cp:revision>21</cp:revision>
  <dc:subject/>
  <dc:title>Gregor Mendel</dc:title>
</cp:coreProperties>
</file>