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7886-A36C-4FD0-A0F0-3750A45FC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Men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isten Enriqu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ssandra Roj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Zunig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issa Medra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risten Enriq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sandra Ro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lliam Zun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lissa Medr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’s laws of here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his studies, Mendel derived certain basic laws of heredity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ditary factors do not combine, but are passed intact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member of the parental generation transmits only half of its hereditary factors to each offspring (with certain factors "dominant" over others)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t offspring of the same parents receive different sets of hereditary fa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’s laws of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his studies, Mendel derived certain basic laws of heredit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ditary factors do not combine, but are passed intac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mber of the parental generation transmits only half of its hereditary factors to each offspring (with certain factors "dominant" over others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ffspring of the same parents receive different sets of hereditary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= Yellow alle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= Green alle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2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= Yellow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= Green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2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ent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2 Generation, 3:1 ra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2 Generation, 3:1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work became the foundation for modern genet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pact of genetic theory is no longer questioned in anyone's min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y diseases are known to be inheri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pedigrees are typically traced to determine the probability of passing along an hereditary dise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are now designed in laboratories to exhibit desired characteristic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actical results of Mendel's research has not only changed the way we perceive the world, but also the way we live in i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work became the foundation for modern gene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act of genetic theory is no longer questioned in anyone's m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seases are known to be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edigrees are typically traced to determine the probability of passing along an heredita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re now designed in laboratories to exhibit desired characteristic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actical results of Mendel's research has not only changed the way we perceive the world, but also the way we live in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k seven years to prove laws of inheri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Basic Laws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dity Factors do not comb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member of a parental generation transfers only one half of its heredity factors to each offsp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seven years to prove laws of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sic Law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dity Factors do not comb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mber of a parental generation transfers only one half of its heredity factors to each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’s works became the foundation of modern gene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ter crossed mice and pea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iced traits were inherited in certain numerical rati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me up with idea of dominance and segregation of genes and set out to test it in pe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ve of nature encouraged his interest in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interested in meteorology and theories of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Interesting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’s works became the foundation of modern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crossed mice and pea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d traits were inherited in certain numerical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up with idea of dominance and segregation of genes and set out to test it in p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of nature encouraged his interest in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nterested in meteorology and theories of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205.180.85.40/w/pc.cgi?mid=10866&amp;sid=727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accessexcellence.org/AB/BC/Gregor_Mendel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netspace.org/MendelWeb/MWpaptoc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1 Key Ideas: Gene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library.villanova.edu/html2/lib/mendel/mendexhib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205.180.85.40/w/pc.cgi?mid=10866&amp;sid=72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ccessexcellence.org/AB/BC/Gregor_Mende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etspace.org/MendelWeb/MWpaptoc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 Key Ideas: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brary.villanova.edu/html2/lib/mendel/mendexhib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ther of Modern Genetic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erson to trace the characteristics of successive generations of a living t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not a world-renowned scientist of his d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he was an Augustinian monk who taught natural science to high school student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Modern Genetic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erson to trace the characteristics of successive generations of a living 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not a world-renowned scientist of his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her, he was an Augustinian monk who taught natural science to high school stud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 child of Anton and Rosine Men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were farmers in Bru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ouldn’t afford for him to attend colle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Mendel then attended the Augustinian Monastery and became a mon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hild of Anton and Rosine Men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farmers in Bru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uldn’t afford for him to attend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Mendel then attended the Augustinian Monastery and became a mo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Mendel Studied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Mendel Studie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J. Mendel, O.S.A., experimental garden (35x7 meters) in the grounds of the Augustinian Monastery in Old Brno.Its appearance before 1922. Courtesy of Villanova University Archiv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nastery Garden with the greenhouse whic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J. Mendel, O.S.A., had built in 1870. Its appearance before 1902.Courtesy of Villanova University Archiv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J. Mendel, O.S.A., experimental garden (35x7 meters) in the grounds of the Augustinian Monastery in Old Brno.Its appearance before 1922. Courtesy of Villanova University Arch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nastery Garden with the greenhouse whi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J. Mendel, O.S.A., had built in 1870. Its appearance before 1902.Courtesy of Villanova University Arch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endel Got Star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attraction to research was based on his love of nat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not only interested in plants, but also in meteorology and theories of evolu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 often wondered how plants obtained atypical characteristic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endel Go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attraction to research was based on his love of n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not only interested in plants, but also in meteorology and theories of ev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 often wondered how plants obtained atypical characteristic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irth of the idea: Here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walk around the monastery, he found an atypical variety of an ornamental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took it and planted it next to the typical varie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grew their progeny side by side to see if there would be any approximation of the traits passed on to the next gene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experiment was "designed to support or to illustrate Lamarck's views concerning the influence of environment upon plants.“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found that the plants' respective offspring retained the essential traits of the parents, and therefore were not influenced by the environme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the idea: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walk around the monastery, he found an atypical variety of an ornamental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ok it and planted it next to the typical vari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rew their progeny side by side to see if there would be any approximation of the traits passed on to the next gene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xperiment was "designed to support or to illustrate Lamarck's views concerning the influence of environment upon plants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found that the plants' respective offspring retained the essential traits of the parents, and therefore were not influenced by the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research reflected his personality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saw that the traits were inherited in certain numerical ratio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then came up with the idea of dominance and segregation of genes and set out to test it in pea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ook seven years to cross and score the plants to the thousand to prove the laws of inheritance!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research reflected his personality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aw that the traits were inherited in certain numerical rat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came up with the idea of dominance and segregation of genes and set out to test it in p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ook seven years to cross and score the plants to the thousand to prove the laws of inheritanc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tures of atypical plan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ctures of atypical pla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BD65-ACBD-4AD9-92AA-D5FD4A73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FD11-AC73-422E-B80B-A1A91E36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26F08-2C10-4937-9308-6D42A9C8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8C50C-7CA5-40CD-A978-1FE60AA4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17509-EEF9-418B-A900-8395AD84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DB4FC-0CE8-40BA-B0B7-807785B2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25D90-88CF-4385-BF71-9EF76CCC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ED923-4825-40F1-BEB6-9225DE1D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FECA3-36B9-448F-92F0-05F6FEFE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507D7-851E-4002-8411-2A4FAA60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2A671-3470-4F6B-82E5-237BE5AB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9015D-6442-4AD1-8005-DDEC826A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AB86-44DB-43B7-883C-FEB2E909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56E5C-4334-4EB1-9250-11E0308D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5CC1F-0053-46D9-A1D5-3FFCE6CC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AD7E9-0D78-4A97-9FAA-8CED98CF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01ACC-F28F-4160-A553-49122DA4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68480-C958-4C8A-A6F8-5C547680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BD4FF-6EB8-45DC-AE9D-637498BC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E8AC6-0BAA-48BE-80BA-C4D354E1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12E3C-818A-4C1E-B906-0BD42CDB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ED464-C1FB-4F27-A140-ADC55368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0F512-54A7-4875-84D7-BFB5ADAB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5B04-FB60-4CF5-9661-A82358BD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114E7-B2B4-430A-9966-A2D9529E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0DC5A-8CD1-4344-B963-652CD36B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04D4F-CD80-405E-8A28-8B26C6D2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83853-21CA-4D25-9D2A-92B40721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C31C1-98AE-44C1-843B-533BCDD0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47613-D405-4358-98BC-0495AA71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23BEE-98D4-4790-8EC7-06F7FE35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9777C-C9C6-4F65-B52B-5A16D888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EB326-BE99-40E7-8CDE-31A55CEF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3CD98-9FE0-4610-9B08-28CA1E92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C3BE-9E89-487B-A5AA-B1D74EF7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D6E50-7C32-4C9E-ACBF-1430A977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9FA09-34B5-45D2-9D89-9AF6E899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FEEB5-6FA4-4269-86BE-58B168B9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49BF4-2C71-434D-A43E-81E0A40D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34211-9E56-4A14-8BAD-2F77310A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E86DD-6245-44EC-ACFE-D69AEE39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2120A-7BC4-4466-A121-AE8A8423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18005-72BF-4FA8-A50F-87F437A1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EE12C-BC26-43A4-9BEB-C2CE5ADE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577F2-47B9-4AD3-8B56-8C82825E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46E4-0CEA-44C9-AEA9-C16A2192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0335C-FE88-47E0-B94D-E9CBF443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B944E-FE25-4452-991A-9A691189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2AD12-D843-4D5D-B9F3-DA790A60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DEDA7-87C4-429A-9502-709D3B51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EB03C-1310-414A-8F9E-6CB211F1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DED37D-1C78-4F96-A97F-72218AA8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AD974-774D-41C3-9C24-9E4D8604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0314CF-B986-4D24-88D4-36FFF011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D31F60-BAB4-4F06-8ABB-0AD992F0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D0DBBB-3DE6-4F85-BA1D-9349E0DC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DA9C-7691-4862-87E6-B7703490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9D2EA-E85E-43D4-BD2D-66C931F2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E8800B-B906-41E0-B43A-FFA9072C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0EF496-95D5-4A63-8A91-943FE23D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C5C1DF-CD54-4697-A4C2-DBD1501F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25522-350B-430B-92BA-6FE63CF3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9E8AA-57EF-4A3B-BBF5-1C845DC8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F721DE-C1DA-4597-8BE9-AECAE41B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B9E3-C8E5-47FA-AA2B-97DA2854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BE4A-8B5E-4DBE-96DB-D8012373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C28B-FD12-483E-9892-01046A4F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87E9-BEC8-470F-8A9F-FD2B130F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0F5E-62BD-4508-AEC0-082543AC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E8AF-FF61-49DC-9AC2-6A76A227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E856-AE97-4F37-9958-73F5BD8B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E552-3784-4570-96EE-247135F0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0484-B995-41AD-808A-9928A393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433F-9938-41B6-BB14-C7D4B741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8B76A-36AD-414C-939B-C910B698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83C4E-4027-48B5-A13E-843B54A2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DAE9E-DF8B-49FD-9D6A-1F43D6AD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765D7-CC7F-4F42-AB4E-A84454E9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ED102-8F2E-443B-9624-B5ABBCE3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8FA4-0235-4961-BD0B-21994DB3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B99B0-7E6A-457B-B4B0-63CB182F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42782-5197-4012-8462-18316808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B933C-4C68-4174-B389-07B3C652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9CAE8-B5FB-469A-A9D5-D1ADF1D7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924C3-67D0-4CBD-9BC5-0C4BCC28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B7B15-E4C3-4EBD-B0BA-344D382D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27C76-7803-4B61-81DF-F6637145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25875-F46F-452F-8E93-D1A9B0B1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C5F71-E471-4250-8359-2B24A4CF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F1200-446F-43E6-8FF8-9F6D2DC9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1C5C-FC10-4DEA-B4A1-665C0C93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05517-56AC-44A5-83E1-AD20CA58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F1CFA-646B-47D7-ABE4-2BFDBD36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1F4FE-1FA9-4462-88D0-32A6D909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9E7A1-2B58-40E0-8B51-556A9276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8922E-9CE1-4DAF-9F7E-8EE6F178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01108-89A0-4CCC-B2E4-0FCEA9F0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23DAE-186A-4566-AAF9-FF3BA07F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42822-0EF2-482B-84B5-144D7624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8693E-AED6-4D5C-9AB4-78BB4DEB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48B5B-481C-4E56-A5F0-00F9933A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EA03-734D-4D64-A94B-9BCCDB32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BB8D6-656B-4F93-B3BD-BC5DC178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43668-F03A-423D-AC9D-BA60F135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BCE4F-A6E0-42A8-8B45-E30C0140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A8683-537E-40E8-8348-DE4FFDAA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A5E7D-0D4D-4BB1-9460-A6F29ADD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C6FB7-6FF5-48B6-8BE6-7A3D9B1A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6ADF2-AD75-40C7-ADFC-D666C971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CB62C-C045-49AB-89A5-1A8F0DD1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51B97-E25C-4344-ADF2-15246D45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03958-4EBC-4251-8354-C9BA0C54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2C2A-40A1-4919-8FD6-E816AD7C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1C1E8-CF49-452C-AFB4-9D9AA5E8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FFBD9-1519-4DF1-88C7-DD52FB28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F8F63-ED24-4464-B59E-AA785214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EC34C-1B84-42A6-89B9-A03A42F7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F5E8A-722B-4682-A0D7-5F45DBD7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2DAFD-5596-4DAC-AACE-ED48C711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3313A-E72F-4250-B969-83BE4F09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50DA9-C02C-4444-A4F8-5BA4599F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9A40E-D45B-4657-9CC8-98C6221D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64B56-594D-466E-B901-6E302750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8CA8-DDBD-4226-86EB-4A2018F4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1F19E-A354-4D23-9A5A-F63B1078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0A34F-BF16-4AA4-AA59-1D9510DE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821CA-4128-4E4C-AA7D-2F3710B0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00F5E-623D-4514-BC9E-D3B6BFA4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70D57-ED15-4A53-9F19-4B10E451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2F0AA-2218-48A1-95A6-D5E1FBD6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96DD5-3E7D-4ADD-9BEB-EFE19CD6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1095B-CA96-478F-B2DE-9FAFCD18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18ADD-5436-4795-8770-6FFFFA6C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C05C4-E532-4332-BC02-9C8B6AC7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9C11-CF60-4499-8B53-CC18289D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2F617-7DF6-4432-9C93-B82AF106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C525B-7125-4C5B-A44E-D88AF213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3DE29-C76A-40EA-B141-1C583966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DB575-C1E3-4FF4-BC95-3820B91B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E4343-0C4F-4CC5-AC2E-EBA3072C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84CF7-9795-48A6-B308-B125A916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D251D-BEAC-441F-9E8D-04ED1A62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F7631-4F8F-4895-80FC-EDDB0691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30C1B-8BFE-4D76-84A2-C264BF33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754EE-7386-427B-9C24-8BEB214B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9215-35E4-49F7-8D49-20AC7D2E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68622-8BF0-4196-92BD-69155742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0AE27-0967-48E1-9C28-14AA2815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CAED9-E619-41B8-A4B3-CB290767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AE865-E972-4C1A-B7CD-2DE86643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690FA-BCDD-4DEA-A1F5-19BB772B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30D12-DC41-4EB1-96AD-79540A7F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A1F36-B5B3-4154-ACE5-9DCD854D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2410E-9443-4D17-ABCF-D9D37BD0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098FC-F02E-41F9-987A-1E21486A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0592F-2514-4CC0-AFCC-9FF1C4A7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5C91-EA24-4E36-9065-0DD25428CF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0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84D8-EE9C-4390-805F-730B67E250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5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55E6-E774-48BC-929E-8E3C6696C1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9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ED40-2BCB-48F2-AF91-0CE2390F0D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54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A66D-6D39-4027-BE04-544A950FAA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900F-0B10-457C-A473-159E7BAA14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C90F-281A-43D5-9C78-168FD68E07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3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64C0-A668-45E4-BE85-36C05FCEA6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8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E83A-31B4-4DF7-967B-EA855B032B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2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2438-138B-4260-BD44-502550606D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7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20B1-A849-4443-B6EE-6C94952738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1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9701-7AB7-47C8-A1B4-3CC41C6563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6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447E-F242-4979-9E5F-DE3CE81D9C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egor Men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roup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risten Enriquez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ssandra Roj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lliam Zunig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lissa Medr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Місце для нижнього колонтитула 1"/>
          <p:cNvSpPr/>
          <p:nvPr/>
        </p:nvSpPr>
        <p:spPr>
          <a:xfrm>
            <a:off x="325116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endel’s laws of hered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rom his studies, Mendel derived certain basic laws of heredit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Hereditary factors do not combine, but are passed intact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Each member of the parental generation transmits only half of its hereditary factors to each offspring (with certain factors "dominant" over others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Different offspring of the same parents receive different sets of hereditary fac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3583080" y="3808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3"/>
          <p:cNvSpPr/>
          <p:nvPr/>
        </p:nvSpPr>
        <p:spPr>
          <a:xfrm>
            <a:off x="3962520" y="5335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5182560" y="3808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5"/>
          <p:cNvSpPr/>
          <p:nvPr/>
        </p:nvSpPr>
        <p:spPr>
          <a:xfrm>
            <a:off x="4648320" y="6094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6"/>
          <p:cNvSpPr/>
          <p:nvPr/>
        </p:nvSpPr>
        <p:spPr>
          <a:xfrm>
            <a:off x="3505320" y="1371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7"/>
          <p:cNvSpPr/>
          <p:nvPr/>
        </p:nvSpPr>
        <p:spPr>
          <a:xfrm>
            <a:off x="35053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8"/>
          <p:cNvSpPr/>
          <p:nvPr/>
        </p:nvSpPr>
        <p:spPr>
          <a:xfrm>
            <a:off x="541008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3277800" y="15238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571644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60199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2"/>
          <p:cNvSpPr/>
          <p:nvPr/>
        </p:nvSpPr>
        <p:spPr>
          <a:xfrm>
            <a:off x="419220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Line 13"/>
          <p:cNvSpPr/>
          <p:nvPr/>
        </p:nvSpPr>
        <p:spPr>
          <a:xfrm>
            <a:off x="44197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510660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6861600" y="4572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= Yellow all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6554160" y="91440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= Green all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17"/>
          <p:cNvSpPr/>
          <p:nvPr/>
        </p:nvSpPr>
        <p:spPr>
          <a:xfrm>
            <a:off x="441972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18"/>
          <p:cNvSpPr/>
          <p:nvPr/>
        </p:nvSpPr>
        <p:spPr>
          <a:xfrm>
            <a:off x="3276720" y="22860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Line 19"/>
          <p:cNvSpPr/>
          <p:nvPr/>
        </p:nvSpPr>
        <p:spPr>
          <a:xfrm>
            <a:off x="327672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20"/>
          <p:cNvSpPr/>
          <p:nvPr/>
        </p:nvSpPr>
        <p:spPr>
          <a:xfrm>
            <a:off x="548640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21"/>
          <p:cNvSpPr/>
          <p:nvPr/>
        </p:nvSpPr>
        <p:spPr>
          <a:xfrm>
            <a:off x="3048120" y="25909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22"/>
          <p:cNvSpPr/>
          <p:nvPr/>
        </p:nvSpPr>
        <p:spPr>
          <a:xfrm>
            <a:off x="5257800" y="25909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23"/>
          <p:cNvSpPr/>
          <p:nvPr/>
        </p:nvSpPr>
        <p:spPr>
          <a:xfrm>
            <a:off x="464832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24"/>
          <p:cNvSpPr/>
          <p:nvPr/>
        </p:nvSpPr>
        <p:spPr>
          <a:xfrm>
            <a:off x="388620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373500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26"/>
          <p:cNvSpPr/>
          <p:nvPr/>
        </p:nvSpPr>
        <p:spPr>
          <a:xfrm>
            <a:off x="442080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916920" y="13716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28"/>
          <p:cNvSpPr/>
          <p:nvPr/>
        </p:nvSpPr>
        <p:spPr>
          <a:xfrm>
            <a:off x="916920" y="220968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2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29"/>
          <p:cNvSpPr/>
          <p:nvPr/>
        </p:nvSpPr>
        <p:spPr>
          <a:xfrm>
            <a:off x="3962520" y="28954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Line 30"/>
          <p:cNvSpPr/>
          <p:nvPr/>
        </p:nvSpPr>
        <p:spPr>
          <a:xfrm>
            <a:off x="4724280" y="3048120"/>
            <a:ext cx="76212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31"/>
          <p:cNvSpPr/>
          <p:nvPr/>
        </p:nvSpPr>
        <p:spPr>
          <a:xfrm>
            <a:off x="5562720" y="2971800"/>
            <a:ext cx="167616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32"/>
          <p:cNvSpPr/>
          <p:nvPr/>
        </p:nvSpPr>
        <p:spPr>
          <a:xfrm flipH="1">
            <a:off x="1676160" y="2895480"/>
            <a:ext cx="152388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33"/>
          <p:cNvSpPr/>
          <p:nvPr/>
        </p:nvSpPr>
        <p:spPr>
          <a:xfrm>
            <a:off x="838080" y="41911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34"/>
          <p:cNvSpPr/>
          <p:nvPr/>
        </p:nvSpPr>
        <p:spPr>
          <a:xfrm>
            <a:off x="8380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35"/>
          <p:cNvSpPr/>
          <p:nvPr/>
        </p:nvSpPr>
        <p:spPr>
          <a:xfrm>
            <a:off x="228600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36"/>
          <p:cNvSpPr/>
          <p:nvPr/>
        </p:nvSpPr>
        <p:spPr>
          <a:xfrm>
            <a:off x="61128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37"/>
          <p:cNvSpPr/>
          <p:nvPr/>
        </p:nvSpPr>
        <p:spPr>
          <a:xfrm>
            <a:off x="12193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38"/>
          <p:cNvSpPr/>
          <p:nvPr/>
        </p:nvSpPr>
        <p:spPr>
          <a:xfrm>
            <a:off x="17524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39"/>
          <p:cNvSpPr/>
          <p:nvPr/>
        </p:nvSpPr>
        <p:spPr>
          <a:xfrm>
            <a:off x="60948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40"/>
          <p:cNvSpPr/>
          <p:nvPr/>
        </p:nvSpPr>
        <p:spPr>
          <a:xfrm>
            <a:off x="99216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41"/>
          <p:cNvSpPr/>
          <p:nvPr/>
        </p:nvSpPr>
        <p:spPr>
          <a:xfrm>
            <a:off x="205884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42"/>
          <p:cNvSpPr/>
          <p:nvPr/>
        </p:nvSpPr>
        <p:spPr>
          <a:xfrm>
            <a:off x="152568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43"/>
          <p:cNvSpPr/>
          <p:nvPr/>
        </p:nvSpPr>
        <p:spPr>
          <a:xfrm>
            <a:off x="3048120" y="41911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44"/>
          <p:cNvSpPr/>
          <p:nvPr/>
        </p:nvSpPr>
        <p:spPr>
          <a:xfrm>
            <a:off x="30481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45"/>
          <p:cNvSpPr/>
          <p:nvPr/>
        </p:nvSpPr>
        <p:spPr>
          <a:xfrm>
            <a:off x="457200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46"/>
          <p:cNvSpPr/>
          <p:nvPr/>
        </p:nvSpPr>
        <p:spPr>
          <a:xfrm>
            <a:off x="282096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47"/>
          <p:cNvSpPr/>
          <p:nvPr/>
        </p:nvSpPr>
        <p:spPr>
          <a:xfrm>
            <a:off x="3962520" y="4419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48"/>
          <p:cNvSpPr/>
          <p:nvPr/>
        </p:nvSpPr>
        <p:spPr>
          <a:xfrm>
            <a:off x="4268160" y="43434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49"/>
          <p:cNvSpPr/>
          <p:nvPr/>
        </p:nvSpPr>
        <p:spPr>
          <a:xfrm>
            <a:off x="35812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Line 50"/>
          <p:cNvSpPr/>
          <p:nvPr/>
        </p:nvSpPr>
        <p:spPr>
          <a:xfrm>
            <a:off x="40384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51"/>
          <p:cNvSpPr/>
          <p:nvPr/>
        </p:nvSpPr>
        <p:spPr>
          <a:xfrm>
            <a:off x="3354120" y="43434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52"/>
          <p:cNvSpPr/>
          <p:nvPr/>
        </p:nvSpPr>
        <p:spPr>
          <a:xfrm>
            <a:off x="3811320" y="43434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53"/>
          <p:cNvSpPr/>
          <p:nvPr/>
        </p:nvSpPr>
        <p:spPr>
          <a:xfrm>
            <a:off x="4648320" y="4800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54"/>
          <p:cNvSpPr/>
          <p:nvPr/>
        </p:nvSpPr>
        <p:spPr>
          <a:xfrm>
            <a:off x="46483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Line 55"/>
          <p:cNvSpPr/>
          <p:nvPr/>
        </p:nvSpPr>
        <p:spPr>
          <a:xfrm>
            <a:off x="62485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56"/>
          <p:cNvSpPr/>
          <p:nvPr/>
        </p:nvSpPr>
        <p:spPr>
          <a:xfrm>
            <a:off x="4421160" y="5105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57"/>
          <p:cNvSpPr/>
          <p:nvPr/>
        </p:nvSpPr>
        <p:spPr>
          <a:xfrm>
            <a:off x="6021000" y="51055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58"/>
          <p:cNvSpPr/>
          <p:nvPr/>
        </p:nvSpPr>
        <p:spPr>
          <a:xfrm>
            <a:off x="51055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Line 59"/>
          <p:cNvSpPr/>
          <p:nvPr/>
        </p:nvSpPr>
        <p:spPr>
          <a:xfrm>
            <a:off x="571500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 Box 60"/>
          <p:cNvSpPr/>
          <p:nvPr/>
        </p:nvSpPr>
        <p:spPr>
          <a:xfrm>
            <a:off x="4878000" y="51055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61"/>
          <p:cNvSpPr/>
          <p:nvPr/>
        </p:nvSpPr>
        <p:spPr>
          <a:xfrm>
            <a:off x="5411520" y="51055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Line 62"/>
          <p:cNvSpPr/>
          <p:nvPr/>
        </p:nvSpPr>
        <p:spPr>
          <a:xfrm>
            <a:off x="6477120" y="42670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Line 63"/>
          <p:cNvSpPr/>
          <p:nvPr/>
        </p:nvSpPr>
        <p:spPr>
          <a:xfrm>
            <a:off x="647712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Line 64"/>
          <p:cNvSpPr/>
          <p:nvPr/>
        </p:nvSpPr>
        <p:spPr>
          <a:xfrm>
            <a:off x="800100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65"/>
          <p:cNvSpPr/>
          <p:nvPr/>
        </p:nvSpPr>
        <p:spPr>
          <a:xfrm>
            <a:off x="624960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66"/>
          <p:cNvSpPr/>
          <p:nvPr/>
        </p:nvSpPr>
        <p:spPr>
          <a:xfrm>
            <a:off x="76971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Line 67"/>
          <p:cNvSpPr/>
          <p:nvPr/>
        </p:nvSpPr>
        <p:spPr>
          <a:xfrm>
            <a:off x="701028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Line 68"/>
          <p:cNvSpPr/>
          <p:nvPr/>
        </p:nvSpPr>
        <p:spPr>
          <a:xfrm>
            <a:off x="746748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69"/>
          <p:cNvSpPr/>
          <p:nvPr/>
        </p:nvSpPr>
        <p:spPr>
          <a:xfrm>
            <a:off x="67827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70"/>
          <p:cNvSpPr/>
          <p:nvPr/>
        </p:nvSpPr>
        <p:spPr>
          <a:xfrm>
            <a:off x="72399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2"/>
          <p:cNvSpPr/>
          <p:nvPr/>
        </p:nvSpPr>
        <p:spPr>
          <a:xfrm>
            <a:off x="2438280" y="533520"/>
            <a:ext cx="990720" cy="990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Line 3"/>
          <p:cNvSpPr/>
          <p:nvPr/>
        </p:nvSpPr>
        <p:spPr>
          <a:xfrm>
            <a:off x="3429000" y="114300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AutoShape 4"/>
          <p:cNvSpPr/>
          <p:nvPr/>
        </p:nvSpPr>
        <p:spPr>
          <a:xfrm>
            <a:off x="5334120" y="609480"/>
            <a:ext cx="1066680" cy="99072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662940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6"/>
          <p:cNvSpPr/>
          <p:nvPr/>
        </p:nvSpPr>
        <p:spPr>
          <a:xfrm>
            <a:off x="6784920" y="12193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ent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 flipH="1">
            <a:off x="6477120" y="13716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Line 8"/>
          <p:cNvSpPr/>
          <p:nvPr/>
        </p:nvSpPr>
        <p:spPr>
          <a:xfrm>
            <a:off x="4343400" y="1219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Line 9"/>
          <p:cNvSpPr/>
          <p:nvPr/>
        </p:nvSpPr>
        <p:spPr>
          <a:xfrm>
            <a:off x="2819520" y="205740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Line 10"/>
          <p:cNvSpPr/>
          <p:nvPr/>
        </p:nvSpPr>
        <p:spPr>
          <a:xfrm>
            <a:off x="281952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Line 11"/>
          <p:cNvSpPr/>
          <p:nvPr/>
        </p:nvSpPr>
        <p:spPr>
          <a:xfrm>
            <a:off x="594360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AutoShape 12"/>
          <p:cNvSpPr/>
          <p:nvPr/>
        </p:nvSpPr>
        <p:spPr>
          <a:xfrm>
            <a:off x="2590920" y="2438280"/>
            <a:ext cx="53316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13"/>
          <p:cNvSpPr/>
          <p:nvPr/>
        </p:nvSpPr>
        <p:spPr>
          <a:xfrm>
            <a:off x="5715000" y="24382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Line 14"/>
          <p:cNvSpPr/>
          <p:nvPr/>
        </p:nvSpPr>
        <p:spPr>
          <a:xfrm>
            <a:off x="3809880" y="2057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Line 15"/>
          <p:cNvSpPr/>
          <p:nvPr/>
        </p:nvSpPr>
        <p:spPr>
          <a:xfrm>
            <a:off x="4800600" y="2057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AutoShape 16"/>
          <p:cNvSpPr/>
          <p:nvPr/>
        </p:nvSpPr>
        <p:spPr>
          <a:xfrm>
            <a:off x="3505320" y="2438280"/>
            <a:ext cx="60948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17"/>
          <p:cNvSpPr/>
          <p:nvPr/>
        </p:nvSpPr>
        <p:spPr>
          <a:xfrm>
            <a:off x="4495680" y="2438280"/>
            <a:ext cx="60984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18"/>
          <p:cNvSpPr/>
          <p:nvPr/>
        </p:nvSpPr>
        <p:spPr>
          <a:xfrm>
            <a:off x="6629760" y="2438280"/>
            <a:ext cx="22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Line 19"/>
          <p:cNvSpPr/>
          <p:nvPr/>
        </p:nvSpPr>
        <p:spPr>
          <a:xfrm flipH="1">
            <a:off x="6858000" y="2590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20"/>
          <p:cNvSpPr/>
          <p:nvPr/>
        </p:nvSpPr>
        <p:spPr>
          <a:xfrm>
            <a:off x="380988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Line 21"/>
          <p:cNvSpPr/>
          <p:nvPr/>
        </p:nvSpPr>
        <p:spPr>
          <a:xfrm>
            <a:off x="2743200" y="3581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22"/>
          <p:cNvSpPr/>
          <p:nvPr/>
        </p:nvSpPr>
        <p:spPr>
          <a:xfrm>
            <a:off x="274320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Line 23"/>
          <p:cNvSpPr/>
          <p:nvPr/>
        </p:nvSpPr>
        <p:spPr>
          <a:xfrm>
            <a:off x="487692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AutoShape 24"/>
          <p:cNvSpPr/>
          <p:nvPr/>
        </p:nvSpPr>
        <p:spPr>
          <a:xfrm>
            <a:off x="2514600" y="4038480"/>
            <a:ext cx="45720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AutoShape 25"/>
          <p:cNvSpPr/>
          <p:nvPr/>
        </p:nvSpPr>
        <p:spPr>
          <a:xfrm>
            <a:off x="4648320" y="4038480"/>
            <a:ext cx="533160" cy="53352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Line 26"/>
          <p:cNvSpPr/>
          <p:nvPr/>
        </p:nvSpPr>
        <p:spPr>
          <a:xfrm>
            <a:off x="3429000" y="3581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Line 27"/>
          <p:cNvSpPr/>
          <p:nvPr/>
        </p:nvSpPr>
        <p:spPr>
          <a:xfrm>
            <a:off x="4114800" y="3581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AutoShape 28"/>
          <p:cNvSpPr/>
          <p:nvPr/>
        </p:nvSpPr>
        <p:spPr>
          <a:xfrm>
            <a:off x="3200400" y="40384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AutoShape 29"/>
          <p:cNvSpPr/>
          <p:nvPr/>
        </p:nvSpPr>
        <p:spPr>
          <a:xfrm>
            <a:off x="3886200" y="40384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30"/>
          <p:cNvSpPr/>
          <p:nvPr/>
        </p:nvSpPr>
        <p:spPr>
          <a:xfrm>
            <a:off x="5486400" y="4114800"/>
            <a:ext cx="32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2 Generation, 3:1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Line 31"/>
          <p:cNvSpPr/>
          <p:nvPr/>
        </p:nvSpPr>
        <p:spPr>
          <a:xfrm flipH="1">
            <a:off x="5866920" y="4267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ndel's work became the foundation for modern genetic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The impact of genetic theory is no longer questioned in anyone's mind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Many diseases are known to be inherit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and pedigrees are typically traced to determine the probability of passing along an hereditary diseas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Plants are now designed in laboratories to exhibit desired characteristic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The practical results of Mendel's research has not only changed the way we perceive the world, but also the way we live in it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ook seven years to prove laws of inheritan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-Basic Laws-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Heredity Factors do not combi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Each member of a parental generation transfers only one half of its heredity factors to each offspr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Interesting Fac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73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Mendel’s works became the foundation of modern gene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Later crossed mice and pea pla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Noticed traits were inherited in certain numerical rati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Came up with idea of dominance and segregation of genes and set out to test it in pe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Love of nature encouraged his interest in resear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Also interested in meteorology and theories of evolu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More Interesting Fac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73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205.180.85.40/w/pc.cgi?mid=10866&amp;sid=72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www.accessexcellence.org/AB/BC/Gregor_Mendel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www.netspace.org/MendelWeb/MWpaptoc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101 Key Ideas: Gene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Baskerville Old Face"/>
              </a:rPr>
              <a:t>http://www.library.villanova.edu/html2/lib/mendel/mendexhib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skerville Old Face"/>
              </a:rPr>
              <a:t>Father of Modern Genetic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Picture 9" descr="Mendel, Gregor Johann -- Media -- Encarta ® Online "/>
          <p:cNvPicPr/>
          <p:nvPr/>
        </p:nvPicPr>
        <p:blipFill>
          <a:blip r:embed="rId1"/>
          <a:stretch/>
        </p:blipFill>
        <p:spPr>
          <a:xfrm>
            <a:off x="2971800" y="1906560"/>
            <a:ext cx="2743200" cy="243684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13"/>
          <p:cNvSpPr/>
          <p:nvPr/>
        </p:nvSpPr>
        <p:spPr>
          <a:xfrm>
            <a:off x="361800" y="4494600"/>
            <a:ext cx="84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askerville Old Face"/>
              </a:rPr>
              <a:t>The first person to trace the characteristics of successive generations of a living th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14"/>
          <p:cNvSpPr/>
          <p:nvPr/>
        </p:nvSpPr>
        <p:spPr>
          <a:xfrm>
            <a:off x="380880" y="5095440"/>
            <a:ext cx="824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He was not a world-renowned scientist of his 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ther, he was an Augustinian monk who taught natural science to high school student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612720" y="1971720"/>
            <a:ext cx="80740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Second child of Anton and Rosine Mend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hey were farmers in Brun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hey couldn’t afford for him to attend colle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Gregor Mendel then attended the Augustinian Monastery and became a mon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WordArt 3"/>
          <p:cNvSpPr txBox="1"/>
          <p:nvPr/>
        </p:nvSpPr>
        <p:spPr>
          <a:xfrm>
            <a:off x="609480" y="609480"/>
            <a:ext cx="7848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Famil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60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skerville Old Face"/>
              </a:rPr>
              <a:t>Where Mendel Studie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5" name="Picture 5" descr="Olmutz Class"/>
          <p:cNvPicPr/>
          <p:nvPr/>
        </p:nvPicPr>
        <p:blipFill>
          <a:blip r:embed="rId1"/>
          <a:stretch/>
        </p:blipFill>
        <p:spPr>
          <a:xfrm>
            <a:off x="2286000" y="2971800"/>
            <a:ext cx="4952880" cy="2938320"/>
          </a:xfrm>
          <a:prstGeom prst="rect">
            <a:avLst/>
          </a:prstGeom>
          <a:ln w="0">
            <a:noFill/>
          </a:ln>
        </p:spPr>
      </p:pic>
      <p:sp>
        <p:nvSpPr>
          <p:cNvPr id="606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5" descr="experimental garden"/>
          <p:cNvPicPr/>
          <p:nvPr/>
        </p:nvPicPr>
        <p:blipFill>
          <a:blip r:embed="rId1"/>
          <a:stretch/>
        </p:blipFill>
        <p:spPr>
          <a:xfrm>
            <a:off x="762120" y="533520"/>
            <a:ext cx="3292200" cy="441936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11"/>
          <p:cNvSpPr/>
          <p:nvPr/>
        </p:nvSpPr>
        <p:spPr>
          <a:xfrm>
            <a:off x="533520" y="5013360"/>
            <a:ext cx="3581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Gregor J. Mendel, O.S.A., experimental garden (35x7 meters) in the grounds of the Augustinian Monastery in Old Brno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Its appearance before 1922. </a:t>
            </a: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Courtesy of Villanova University Archives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Picture 13" descr="mongarden"/>
          <p:cNvPicPr/>
          <p:nvPr/>
        </p:nvPicPr>
        <p:blipFill>
          <a:blip r:embed="rId2"/>
          <a:stretch/>
        </p:blipFill>
        <p:spPr>
          <a:xfrm>
            <a:off x="4648320" y="1447920"/>
            <a:ext cx="3714480" cy="239400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14"/>
          <p:cNvSpPr/>
          <p:nvPr/>
        </p:nvSpPr>
        <p:spPr>
          <a:xfrm>
            <a:off x="4648320" y="3855240"/>
            <a:ext cx="3886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The Monastery Garden with the greenhouse which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Gregor J. Mendel, O.S.A., had built in 1870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Its appearance before 1902.</a:t>
            </a: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Courtesy of Villanova University Archiv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How Mendel Got Start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Mendel's attraction to research was based on his love of natur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He was not only interested in plants, but also in meteorology and theories of evolution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Mendel often wondered how plants obtained atypical characteristic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skerville Old Face"/>
              </a:rPr>
              <a:t>The Birth of the idea: Hered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0769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On a walk around the monastery, he found an atypical variety of an ornamental pl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took it and planted it next to the typical varie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grew their progeny side by side to see if there would be any approximation of the traits passed on to the next gener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This experiment was "designed to support or to illustrate Lamarck's views concerning the influence of environment upon plants.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found that the plants' respective offspring retained the essential traits of the parents, and therefore were not influenced by the environm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ndel's research reflected his personal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4000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saw that the traits were inherited in certain numerical rat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89360" y="1828800"/>
            <a:ext cx="3997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then came up with the idea of dominance and segregation of genes and set out to test it in pe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t took seven years to cross and score the plants to the thousand to prove the laws of inheritance!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ictures of atypical plan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3" name="Picture 3" descr="Dianthus drawing"/>
          <p:cNvPicPr/>
          <p:nvPr/>
        </p:nvPicPr>
        <p:blipFill>
          <a:blip r:embed="rId1"/>
          <a:stretch/>
        </p:blipFill>
        <p:spPr>
          <a:xfrm>
            <a:off x="3035160" y="1905120"/>
            <a:ext cx="2741760" cy="3811320"/>
          </a:xfrm>
          <a:prstGeom prst="rect">
            <a:avLst/>
          </a:prstGeom>
          <a:ln w="0">
            <a:noFill/>
          </a:ln>
        </p:spPr>
      </p:pic>
      <p:sp>
        <p:nvSpPr>
          <p:cNvPr id="62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3T17:29:13Z</dcterms:created>
  <dc:creator>Cassandra Rojas</dc:creator>
  <dc:description/>
  <dc:language>en-US</dc:language>
  <cp:lastModifiedBy>LEGION2</cp:lastModifiedBy>
  <dcterms:modified xsi:type="dcterms:W3CDTF">2016-01-12T11:12:32Z</dcterms:modified>
  <cp:revision>21</cp:revision>
  <dc:subject/>
  <dc:title>Gregor Mendel</dc:title>
</cp:coreProperties>
</file>