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8E50-3DA0-45CD-B0F8-50C8E60463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iffere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iffer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– are the category of a trai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, height, likes/disli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s – the physical, social, and emotional qualities of an orga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blue eyes, tall, hates carr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– when a majority of an organism shows the trai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most pea plants show as t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Trait – when a minority of an organism shows the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few pea plants show as sh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eles – all the possible choices for a characteri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 – blue, brown, gray, 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– are the category of a trait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, height, likes/disli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s – the physical, social, and emotional qualities of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blue eyes, tall, hates carr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– when a majority of an organism shows the trai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most pea plants show as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Trait – when a minority of an organism shows the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few pea plants show as sh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eles – all the possible choices for a character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 – blue, brown, gray,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 genes code for a specific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dominant it uses a capital le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Tall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recessive it uses the same letter but lower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short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s always have two letters – one for dad and one for m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 genes code for a specific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dominant it uses a capital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Tall 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recessive it uses the same letter but lower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short 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s always have two letters – one for dad and one for m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dominant – the genes only have the dominant trait in its c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Dominant Tall -- 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recessive – the genes only have the recessive trait in its c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Recessive short – 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brid (heterozygous) – the genes are mixed code for that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hybrid Tall -- 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dominant – the genes only have the dominant trait in its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Dominant Tall --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recessive – the genes only have the recessive trait in its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Recessive short –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brid (heterozygous) – the genes are mixed code for that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hybrid Tall --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ward appearance of the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l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fe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ward appearance of the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l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f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cks to remembering the difference between Genotype and Ph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– deals with GENE C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– deals with looks you can take a PHOTO wi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cks to remembering the difference between Genotype and Ph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– deals with GENE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– deals with looks you can take a PHOTO wi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2BC9-036F-4BD4-8277-30C43FBD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B4BB-7DF8-4EB0-A803-87A40D2F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054B-C5A4-45CA-AB54-437F5BDD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1C65-503A-41FB-9D2B-34FBA5FF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943E-B792-4D40-91A6-5788FDB7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AFAB-9C0B-487B-A7DE-B6F8019B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25C6-DA08-46F6-8507-FF0EA3CD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70DB-CB0C-496E-B857-343C02B9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A27C-F85F-4C42-9FC9-750E4448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5177-0F5C-4B08-8605-C7E64FDF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3441-D9B7-4545-9955-C302B5FE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6BDD-2A36-43C3-8029-DEB64940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B6A2-6402-4D92-8CFA-6818CBC9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04C8-F4D1-47D0-BA6E-A8C6FF20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F511-F8CB-4155-8648-6EB576E4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DDFC-9D6B-40FC-8BCE-C652AEB6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20DD-6D46-481B-9812-E0BF2BDE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64A4B-07F1-4285-897F-4AEF5A78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21D86-5AC5-4B96-B504-B52081FC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BA4D4-F5E0-4288-9968-F70D5038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2478F-B125-4FF1-B2DF-4B0865E9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A7EC7-0704-47F8-8F7A-76213899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648-3ACB-4075-8EE6-8D67C32C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87A4E-F38D-408E-8D4E-89E8F0C3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7131C-1261-4A1D-9BA0-22854458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9DE2B-ACB2-4DEC-AE61-3DE05E28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E3B7E-8CEF-412D-A91D-EBC41919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D1D88-C76C-4642-8405-182DB9EB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4A94E-6207-4CBE-80E1-ACABCC29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D48E7-D1E7-42C4-BE95-5FCA86B5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71FFD-6F9D-4F47-8ABD-F1B4E1D3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DF95C-49A5-4ADA-B237-572C7FCD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E64AB-B4AE-440A-9607-5181FB7E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013-75C3-484F-A2C1-A4652475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CFC5D-B404-4FB7-B77F-D3FBDBAE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9356A-8E9E-4D55-8DBA-F8448FAD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1A62A-27CE-4EE2-B901-4F43DD23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EC579-9B57-48A5-BD2B-BE6AFBE7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96C92-C983-43E8-9DED-CF0A38C9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7140D-CCD1-480A-8F25-8FAFD2BF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B380A-DD89-4677-82C5-38054326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E2E0F-177B-420B-AD4C-B8CE49E2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C2E94-008F-4868-A41A-21211B7E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2B48A-EFF1-4AA4-9FDF-8649CB78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1597-749D-4BAA-BFF9-0F0A70FE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174ED-ED60-4217-9ADA-EC64D2BA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960DC-5F52-41EF-A3DB-617A397B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3FE51-18FF-432D-97C4-7BD3FBDF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16A9F-31F8-43F3-8C05-53417817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67EF0-A9D4-421D-A9E7-1B274D8C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F6834-099B-4C3A-BCDB-1203103D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80F46-2AD1-436D-AD19-BA60E6D0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0F8B5-8AD5-46B2-9708-B5D743F5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411F0-4F1C-45CA-AB03-10439B6E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76525-AEB1-4EB3-860E-8779E0EF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9BDC-69BB-4215-B98B-4C8C02B3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9C2F4-B606-4D7F-BFF2-83037144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0307D-2609-450F-96D8-B173C3BC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1907A-8212-4AC4-81C6-9F1540D5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7D370-6341-4F16-946D-D93EB21D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335FB-B6A2-4CBC-BEAF-9F7CACFF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475F5-A803-4CE9-B59D-92500A68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75A4B-8584-41F7-9D7C-B08E0E8F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F4F84-369E-4601-81F2-0B33C60F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6CA60-054A-4F0B-A5D2-B32A53D5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D46AC-B39E-44AD-8EF0-3F747BD1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7079-8464-44DC-9649-05E5B53F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BE225-CC90-4712-B180-8E9C502B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AD273-58DB-4D5B-B5FC-6779BD75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395EA-DCE6-419C-BF73-D3DF7995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905BD-40F9-4529-AF97-C015CFAF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673CE-7A69-46E7-97E8-01075FDF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C98F6-8583-465F-AA86-0D04AFCB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2C9AA-D02B-4078-B9E6-1610A66B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64955-939C-434C-8FAE-E5AFBC43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BD201-A2BC-4842-8DF4-0EE29C03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EEEA9-CDE8-43A9-932A-4271964A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0FDB-F254-46B0-BDC0-4F08BC92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66FB2-4A0D-436C-84D4-11E5355F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74302-6E74-411E-B83C-48CE2E23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75F52-7F94-4C8B-A98C-E76852BE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6D854-95E0-4B5F-A7D2-8A30030C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AD975-1EE3-490B-875D-D6670524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1AC7F-4B9D-4350-B8B6-E0DEF66A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64A8F-3429-4934-AA19-1CAF4B89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EBE8C-7C82-4011-9471-83212DF2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40DD8-EA6C-4E5F-B7BE-530D362B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F72E3-E3A8-43FA-90AA-48A634AF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53D5-9D24-43A8-9247-5FC3E376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DCF63-27B9-48FA-99AF-E54F8719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72E51-A8D4-4AEE-B563-4276EB5E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D29E5-DA34-435A-BD74-D27515D5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4D23A-F953-40EC-9E00-DC6A710E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12CD8-D6E7-4BEB-A5FF-BEF4C36E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80170-4740-4304-8478-BEF8A145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13EBD-3D33-47D8-AEF5-3B380380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2DEC-81B8-448B-9BA0-56F272471EF9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C720-8307-492B-B1EA-1BA03F9EE34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4981-D7D2-480B-8B49-55E0A233D495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86C3-D50B-42A2-A143-E272F11DAC2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4A5C-2371-482E-B0C4-43232005005E}" type="datetime">
              <a:rPr b="0" lang="en-US" sz="1400" spc="-1" strike="noStrike">
                <a:solidFill>
                  <a:srgbClr val="dde9ec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6C02-DAB6-4FE4-958D-A576D0256AF0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151B-DBDB-407A-828C-54CD2F330C91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533A-5943-415A-B9E7-96DF9C04F39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017A-65E2-43A9-98AD-616536983E7B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A62C-8756-43C3-8CB2-39BD4778188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4356-95EF-4F9A-A2AE-06A1CFEC974A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2F51-D59C-4E8A-9E95-A17B3280F5A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7FBA-8E70-435F-9A48-EED49F8AAE49}" type="datetime">
              <a:rPr b="0" lang="en-US" sz="1400" spc="-1" strike="noStrike">
                <a:solidFill>
                  <a:srgbClr val="dde9ec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0204-E967-4AA0-A168-665F013B01C5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E95D-7CF7-4813-8B9E-41063D48D443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97CE-0AC7-47E0-A7F0-43DEEE2FED3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Genotype and Phenotyp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What is the difference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view Word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Characteris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are the category of a trait –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eye color, height, likes/dislikes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Trai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the physical, social, and emotional qualities of an organis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blue eyes, tall, hates carrots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Dominant Trai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when a majority of an organism shows the trait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most pea plants show as tall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Recessive Trai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when a minority of an organism shows the trai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few pea plants show as short 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Allel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all the possible choices for a characteristi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eye color – blue, brown, gray, green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Genotyp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How the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genes code for a specific trait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If the trait is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dominant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 it uses a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capital letter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Tall (T)</a:t>
            </a:r>
            <a:endParaRPr b="0" lang="en-US" sz="3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If the trait is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recessive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 it uses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the same letter but lower case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short (t)</a:t>
            </a:r>
            <a:endParaRPr b="0" lang="en-US" sz="3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Genotypes always have two letters –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one for dad and one for mom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Types of genotyp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urebred (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omozygo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dominant – the genes only have the dominant trait in its cod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Dominant Tall -- T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urebred (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omozygo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recessive – the genes only have the recessive trait in its cod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Recessive short – t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ybrid (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eterozygo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– the genes are mixed code for that trai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hybrid Tall -- T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Phenotyp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outward appearance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of the trait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n organism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look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n organism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act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n organism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feel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Tricks to remembering the difference between Genotype and Phenotype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ill Sans MT"/>
              </a:rPr>
              <a:t>Genotype – deals with GENE CODE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ill Sans MT"/>
              </a:rPr>
              <a:t>Phenotype – deals with looks you can take a PHOTO with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7:19:27Z</dcterms:created>
  <dc:creator>CCSD</dc:creator>
  <dc:description/>
  <dc:language>en-US</dc:language>
  <cp:lastModifiedBy>LEGION2</cp:lastModifiedBy>
  <dcterms:modified xsi:type="dcterms:W3CDTF">2016-01-12T11:10:10Z</dcterms:modified>
  <cp:revision>12</cp:revision>
  <dc:subject/>
  <dc:title>Genotype and Phenotype</dc:title>
</cp:coreProperties>
</file>