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8EFA-FDFC-43C0-A104-8EF8ED1C8F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EE2-4CC5-4DB6-9732-81A4A150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8C8-0ED2-481C-8F52-E03870A1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24E-2314-4ABD-9AA5-1B23E91A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866-6B34-4F30-AA17-2D397A40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0FEB-E990-48D8-99CF-743CF24B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A3E3-EB62-4DA7-91F0-EBE3BEC6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A807-2F96-4A6A-BE90-05086D63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DF05-CE7C-4583-AC4C-7D235A83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5727-7471-45FD-B0F1-7DB931FF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29B2-FE62-47A9-9D1C-29F245C6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D205-19F2-4F28-A934-B1D37375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0C5-65F2-4483-850E-85469896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8A8A-370F-4D0E-B3C8-65DBFF33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0EBA-32F0-43E4-BA99-5B0236F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6B55-8834-4A53-A746-A608D429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75D-0684-4908-906E-40E27DB9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C356-C4F4-42A4-92A4-E1BE589A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07A3-52D9-4A4F-9218-5BDE62AC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F8D0-BBAF-4E5A-9023-E5CFE219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F1CD-179F-40B5-A116-2355DCA3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3291-FC2A-456B-B6A2-708BA1CB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5F9C-C80B-49A0-A3F0-94133610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89D-85AF-448A-8B5D-BE1CB6CE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C362-7E7B-4D57-A0D9-160BC9B9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7783-00B8-493D-B0F1-17D3562F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9ED2-4EEF-4CDC-8D68-DB00466F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0565-029E-46FF-A6E9-9DA70D60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8FF1-C9AD-493E-A2AA-58B76C82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8E23-679C-4807-9298-C7DB4561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8381-8887-4A23-9127-B9A924CD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86A13-E50F-423A-A361-5F6487EE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F92F-0D0B-4E6F-91BB-151DFFAF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D74E-8D00-428F-A820-5D8309CD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0DD-3227-4516-AF27-C2CE0088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4C52-80A6-44F4-A9A5-8E34C65E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425F8-23C6-48EF-A7EE-872AC417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14845-369F-4BE8-88CF-F7B46F73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C1EF4-98F1-49C5-81F8-9AB9041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E3FC-020F-4C87-BD77-5F4EC94D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7CB9-86F3-48B5-B0D8-83502109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ACE26-36A4-4D2B-8A10-1DCE2546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0C4A-2A69-453A-B723-1FBC43DC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4CE2-C0C3-4CF3-9E9F-86A8B667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FF15-72F8-425D-8544-215CBC9E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D49-5D3B-450F-828F-BC018A17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16154-B979-4B3D-B2F1-5953D34F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E574F-C492-4CAC-BA3A-FBE58401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175AE-5301-4486-BB16-5BF766E6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553C-9A04-4B4B-94F9-4F0E39F1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AFB3E-1EFE-445E-8893-006D93FF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304D-AD81-40EA-B101-C78D6A30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095E9-0082-4220-AA9A-C4446DE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AACDD-2F6A-4276-B03B-B571D462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5C51-BC24-4C54-8751-1753FB5A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02E37-27BC-40A5-A57C-B99F3476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0B8-0AEF-4E26-9F7B-5ED7C2A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D815-594A-4536-A3E0-63F5C81A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ED96-5870-40FC-A682-54EEE9FF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0E6EB-8BCE-4B77-AD9C-9EE495BB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F71A7-0A67-4CFA-9B24-A182BA3E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2EAFD-3813-4471-8877-88277E36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6CFDA-CF25-4B63-9162-227ED0E8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F012-CCA3-4D15-BEAC-C2379AE0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6B542-3D61-4F9B-957B-74BB7DAC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BBE4A-F307-4E7E-A4F5-901C3CC0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8CF02-E532-42BE-BF04-2AA49B0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193-B9D7-42DE-9A47-A6CA090F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0F289-3B52-43C8-B3BB-2186D7C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DEC7-CBF4-43DA-B107-3D7009E2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93CF-08A1-45C8-BD99-1CD59636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20EFD-EAF0-41A1-9283-4202FF27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2841-B227-45D5-B3D3-5B9792F0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D9D8-E6CF-4980-8A1E-39FE992C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1CA31-6502-4FC9-AA8B-555443A5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BC69A-D6B2-4FA8-AA62-94BAB638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A09D3-817D-4FC4-AB3F-F18FABDC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A238A-85DD-4BF5-A05D-97E81F4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731-A529-4DD1-A04F-5090D77F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D0ACA-70B0-4964-A5DC-DA26D70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65642-9CD2-4867-B35E-DCBCA9FE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7A5C4-C286-4BD2-8AAD-85C250BC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1D1F0-BCC5-473E-A81F-AB92BBE6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780C2-D338-4575-9ED1-774939A7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EA753-F54F-42DB-A919-1948A72D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D835B-EA0D-4D41-B3F8-B769313F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35476-0F0C-447E-8AFF-9707C22D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9887D-DDD7-4AC8-BB92-2128BDF3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428F7-4879-4C2A-9D62-253354EE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D7B-6F08-4F28-ACFB-257ADDE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CE48D-363A-4D12-BBA2-64A05E4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8201B-A183-4E90-AAE5-C58FF35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29662-13CD-4958-B250-E08C974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F5A5D-29B3-4100-BAB7-68B532DC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95A2A-B8E0-4EC6-9378-61BEB7FA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235DA-30CE-45FC-8527-F6E93E7D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B5F5C-9E61-4227-8D74-09CA4355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98CF-9A91-4349-96D4-E399C5FCA387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C9FB-3ADC-423A-8C19-4DE6BCB7B75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58B9-031B-4D8C-A2D2-25A4529EDFDF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640D-428D-42DF-B26D-95A14CB2401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9153-A640-44F3-8EA4-5A459D071038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DE8E-4389-4519-AC86-60567CFA8D5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4060-4C08-48AD-97F3-4B489ACD9DC1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CB97-C157-41ED-98DB-A81A53EA528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3B8D-3CB3-48D6-8153-047ECA97B43E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0D01-68A1-4C1F-9A0C-DF4DE122C63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7D55-E072-4732-98FB-EE2C86DFBAA2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E795-1C89-47AA-9824-65B6E587502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CD6A-242A-48B7-BB23-C739EF47B591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6366-9C62-4C9B-B29D-1A1A4F4AEAC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595-1FB4-452F-B1D2-75D317F6DEAB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EBF6-9EA8-49F6-B476-08BBDC7FE3E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 and Phenotyp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vi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re the category of a trait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, height, likes/dislike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ra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the physical, social, and emotional qualities of an org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blue eyes, tall, hates carrot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ominant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ajority of an organism shows the trai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most pea plants show as tal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cessive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inority of an organism shows the tra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few pea plants show as short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ll the possible choices for a characte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 – blue, brown, gray, gre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How the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genes code for a specific tr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dominan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a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capital letter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Tall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recessive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the same letter but lower cas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short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Genotypes always have two letters –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one for dad and one for mom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ypes of 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dominant – the genes only have the dominant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ominant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recessive – the genes only have the recessive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ecessive short –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bri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– the genes are mixed code for that tra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hybrid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h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outward appearanc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f the trait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ct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fee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ricks to remembering the difference between Genotype and Phenotype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Genotype – deals with GENE COD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Phenotype – deals with looks you can take a PHOTO with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19:27Z</dcterms:created>
  <dc:creator>CCSD</dc:creator>
  <dc:description/>
  <dc:language>en-US</dc:language>
  <cp:lastModifiedBy>LEGION2</cp:lastModifiedBy>
  <dcterms:modified xsi:type="dcterms:W3CDTF">2016-01-12T11:10:10Z</dcterms:modified>
  <cp:revision>12</cp:revision>
  <dc:subject/>
  <dc:title>Genotype and Phenotype</dc:title>
</cp:coreProperties>
</file>