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BD93-EBD9-4CF5-BFF0-61D41A66C6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4870-8CC4-4D68-B5F4-60825057C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61A-9CE1-4366-BF79-D1EB4CE0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6D2-848D-4C1E-8F35-9D6B88911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C1CD-13DC-4126-B472-A92DC92F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148C-3F60-4217-BF40-921ADC0F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2E3A-0BBD-4E39-B655-0D1CC8DA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F92A-CFFA-4E42-AFD8-87F12900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E78E-F85A-403D-8C88-A1B0948C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5144-7BE7-429E-894C-91F870FC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CE1F-3769-48DC-A3B7-F95EE253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DB76-DC8A-47B9-BE2B-104439E4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0BE-21CC-49CF-9670-0F139CD5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49ED-D9B9-4F08-A85E-75E2F5C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7FD6-93F6-4F2A-92E3-2CB19BE4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4BA6-8249-4F11-86E9-39070980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87D5-BE60-4A7B-95C0-BB9E9CE8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6875-6C69-400F-8B94-A127EBD0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5AA3A-53C5-4AD3-A44C-CB998357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17C8B-D6F1-4F1B-8006-918A66F4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776BE-8660-4E5D-9D36-F8C3BD14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DAA58-7258-4B4F-8813-0E90669C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070C-DD6E-47D6-8911-0FE5DE54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9A73-5119-4D5F-BCAD-B853D9BE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4D7A4-AF87-493A-9CC4-632151C1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D7B67-B0B8-4958-9DA5-AAF3C791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C864-601E-47A0-BD7F-030AEB8F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A3468-B7DB-4E92-8673-192534CD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31C6D-CF5C-43EB-9B03-45F47714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A4C8B-CD92-48E4-9DA8-597D9C6B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C34E6-19C7-42DE-801B-C2FDC57A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5DE31-CDF4-4001-9901-AE5305E7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9426D-6AA1-482A-8B90-2156E892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FCD8C-98ED-46D0-A605-4F29AAF2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F4A7-A74B-4829-8D5C-8714DFA6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FE3E9-C65F-4F0A-B2EB-7E073A54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D3E9-E0F4-4F17-9585-438485D5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DF70F-B3D2-490F-8F9B-673E200B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567A2-3A46-4EC7-A9DA-EF69816F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AC65-A32D-4DC5-94D1-6D7606BA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8736E-2618-48E3-A9D1-88D193C8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E6E93-BBE0-4D65-983D-AB5877FD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4B7FB-9C72-4667-BC7E-819C8F71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F91D2-772B-4E67-BB23-E9BD4081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76B00-64A8-4559-AC57-AA6776FE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1555-516F-4224-B9FA-C6EF9E52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EA071-612A-443A-8B36-F14656B8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CFB7B-A387-472D-904E-5D43C7F8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21936-033E-4601-94A3-ECE07BEB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E5DA1-C728-496E-B8FF-62CBA6FC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0718E-DFEC-41AF-8B4E-18D8A29E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FC4ED-C3B0-46B5-B682-6DB3482C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D991D-A499-4355-B2A8-6C253338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8B8AE-AE97-4A5D-AA65-131E6967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A29F8-97BA-4914-AC62-BFE1AA94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94DB3-F47D-4A07-A7EF-54BB4163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B41-2594-4D39-8B96-DD937609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49349-1C6B-49F6-A37F-A4A6EE35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AF5D2-864F-4744-9366-46082011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016EC-8F61-4596-BF91-B080FADF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A7DA8-AAB9-4A80-8D36-2E40E804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04D1F-3024-4A1A-89FA-1837ECDB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51A53-127F-4EE0-8936-AAE7F850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71CA8-816A-4E09-BFFF-39663FCE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D1BE2-352B-421D-AB0C-A3122C28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6A907-CCFC-4A3E-9091-F789326B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7FADA-A952-47E2-9797-9376B09F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414-69F2-4F02-AC74-F6F37D52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C4CA7-D6F3-494A-A07E-C0AE2B8E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501A2-D448-4A7D-9601-771AD5DF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24EAD-8D0A-43C5-B827-41500779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650F8-AA64-40B9-8784-28CAAC4E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49AC2-399E-4607-99D8-F6F67141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5DCE0-8DB2-40CD-AEA3-3AFBD790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32ABF-84EE-4FB9-84C1-00B3D611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8225B-40B8-4031-B45C-8C85713D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2E093-F266-4AB4-920F-E7857BB5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A64F6-3E79-48F3-99F7-0BABD388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E9D7-843A-4FCE-9B36-3D2A7071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FD692-6646-442A-AD8D-37B915A4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51FD0-7F0C-4CC1-950C-B590F668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BA65B-5475-411A-9E3C-37FDD20B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26815-10E1-4A79-B3B5-74B5507B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B5749-C949-4848-B392-3CCE02D5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4BF02-4B82-40FD-AFFA-F55F7026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22626-0726-4E8E-980B-DD4BEFBB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4C8F5-028F-44EF-AAC6-6D074097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D47B0-E399-40F5-91E8-0A36F2F2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284BD-B96C-46EA-920C-5DFB054A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3211-C868-436A-B71C-F7C63315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4B7A9-828D-452C-944B-AA07A170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DA31A-61DF-48CF-BB0D-E9C7397D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F9958-B553-4D63-BFA8-64C710A8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9A05C-2E0A-4886-AC2E-806B44AC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167C3-72FD-410B-AA83-A5E512EF6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A74A4-9B70-4B42-B65C-6A4B9583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459DD-8D72-4EFD-BEF8-43D9CAD8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7D3F-7BDF-4DA9-9555-64BD2BF96ACE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F931-8B97-4BBE-AE31-D98B8193005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2B10-5D42-4B09-9BC3-8849CFEBA399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7635-E82E-4DE1-BD9F-40446C66243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D81C-5F61-428E-9989-BBDF0A6D0127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6E9C-280E-4957-B075-CC0967E610F3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BD5C-B4DE-4771-A5A4-001C9893536E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F4C4-9A5D-4D1A-8E33-5C0D079449F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C8BB-FA0B-4CC2-A34F-BFE0F10E154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76C3-A94E-4060-AE77-0722F1E3D8B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AF0E-ED1C-46D2-8B09-E6694F5D2786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D666-01BD-4AFF-AF37-11436EFFCF6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C700-FAAD-47B1-855F-9EC4D0E87D61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26C4-E467-4A61-9F48-442FDBA12DE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EE15-651D-413A-B97F-BCC86255744B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12EC-1DDC-4ECB-8B33-4424E37FE1E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 and Phenotyp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hat is the differenc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view Wor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re the category of a trait –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, height, likes/dislike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rai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the physical, social, and emotional qualities of an organ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blue eyes, tall, hates carrot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ominant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ajority of an organism shows the trait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most pea plants show as tal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cessive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inority of an organism shows the tra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few pea plants show as short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ll the possible choices for a characteris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 – blue, brown, gray, gree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How the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genes code for a specific trai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dominan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a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capital letter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Tall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recessive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the same letter but lower case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short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Genotypes always have two letters –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one for dad and one for mom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Types of 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dominant – the genes only have the dominant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ominant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recessive – the genes only have the recessive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Recessive short –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ybri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ter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– the genes are mixed code for that tra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hybrid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Ph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outward appearanc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f the trait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look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ct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fee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ricks to remembering the difference between Genotype and Phenotype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Genotype – deals with GENE CODE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Phenotype – deals with looks you can take a PHOTO with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7:19:27Z</dcterms:created>
  <dc:creator>CCSD</dc:creator>
  <dc:description/>
  <dc:language>en-US</dc:language>
  <cp:lastModifiedBy>LEGION2</cp:lastModifiedBy>
  <dcterms:modified xsi:type="dcterms:W3CDTF">2016-01-12T11:10:10Z</dcterms:modified>
  <cp:revision>12</cp:revision>
  <dc:subject/>
  <dc:title>Genotype and Phenotype</dc:title>
</cp:coreProperties>
</file>