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move the slid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DF9D4-9AC2-4D84-B843-2205DCA9B31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notype and Phenotyp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e differenc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notype and Phenoty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e differenc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view Wor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aracteristics – are the category of a trait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– eye color, height, likes/dislik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its – the physical, social, and emotional qualities of an organ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– blue eyes, tall, hates carro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minant Trait – when a majority of an organism shows the trait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– most pea plants show as ta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cessive Trait – when a minority of an organism shows the trai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– few pea plants show as shor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eles – all the possible choices for a characteristi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– eye color – blue, brown, gray, gre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view Wo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aracteristics – are the category of a trait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– eye color, height, likes/dislik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its – the physical, social, and emotional qualities of an organ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– blue eyes, tall, hates carro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minant Trait – when a majority of an organism shows the trait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– most pea plants show as t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cessive Trait – when a minority of an organism shows the tra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– few pea plants show as shor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eles – all the possible choices for a characteris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– eye color – blue, brown, gray, gre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notyp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the genes code for a specific trai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the trait is dominant it uses a capital let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– Tall (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the trait is recessive it uses the same letter but lower ca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– short (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notypes always have two letters – one for dad and one for m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notyp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the genes code for a specific tra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the trait is dominant it uses a capital le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– Tall (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the trait is recessive it uses the same letter but lower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– short (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notypes always have two letters – one for dad and one for m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ypes of genotyp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rebred (homozygous) dominant – the genes only have the dominant trait in its cod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– Dominant Tall -- T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rebred (homozygous) recessive – the genes only have the recessive trait in its cod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– Recessive short – t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ybrid (heterozygous) – the genes are mixed code for that trai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– hybrid Tall -- T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ypes of genotyp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rebred (homozygous) dominant – the genes only have the dominant trait in its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– Dominant Tall -- 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rebred (homozygous) recessive – the genes only have the recessive trait in its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– Recessive short – 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ybrid (heterozygous) – the genes are mixed code for that tra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– hybrid Tall -- 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enotype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outward appearance of the trai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an organism look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an organism ac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an organism fe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enotype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outward appearance of the tra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an organism loo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an organism 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an organism fe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icks to remembering the difference between Genotype and Phenotyp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notype – deals with GENE COD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enotype – deals with looks you can take a PHOTO wit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icks to remembering the difference between Genotype and Phenotyp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notype – deals with GENE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enotype – deals with looks you can take a PHOTO wi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F4F56-AFFB-4569-8831-D0864B020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0AF3A-E130-4B1F-8FA5-70B90B3CD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AD541-060F-4378-8240-83F3F6676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DEB4E-9335-499F-8AD2-E4C0D1AF6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8CA2E-B90A-4BC4-809E-D58F124F7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99D33-16F1-4241-9BDF-2FBC70704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CEC67-CA01-432F-83F8-F31226E2A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80A7D-DFBA-4E7A-9212-915CFC77B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D2716-8C7F-44C6-B502-FB39295BE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3AF22-742F-45D5-98AE-CEE9F8258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AE5D1-CE0D-454B-9452-A574F0CBE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B9A7E-A51E-4E15-9BD6-7F3F114D3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2845E-1895-4154-BB59-9720DCD1A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CAF69-3D58-4BA9-B6A1-E821647FC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F2EBA-EE8B-4FBA-89C8-5BAC1922C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17E6A-4192-465C-AC49-0EB8EC778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D7287-DD61-4C2D-A616-8EF33851E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1FE498-BEFE-467F-ADEA-4B6340162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2D92F4-7823-4960-8611-C60519C89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CF4CA6-4951-4EDD-BFB4-57DE0B1CF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6AE8E2-F691-49F1-8ECC-A520CD2FB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E908FF-F3F5-4A4E-9865-9BBA846A5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1E1C6-D840-4A0F-8A52-310383EDD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A75B99-56E6-40FA-B525-76FE57458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BE9618-F538-4319-BE69-140719E6B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979830-0416-4B5B-B006-C234E753C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6AE5E4-9C96-4AB3-BAE1-BB7C70C4F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99042E-EFEE-400D-B30C-93E7B0DCA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812E81-27E2-4567-8423-E738517E5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B6A6CB-7BCA-4AC1-92B9-911F5EE43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BC8162-E5F8-4A11-8697-F9478FD73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09289A-4870-4D0F-B8BA-7871440D6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F0757F-3A91-4A6F-BCDB-E18B7AFBB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30830-4F54-4516-86D9-B55B3E75C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A4CD3D-B906-40C6-BDEC-02394B9DA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CEA6CF-6411-404B-824E-A6D884FAA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F930BF-1586-403F-B55D-E71E4541F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5E4CA4-351D-4719-BF60-D82A8EC01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66855D-45BA-41CC-8F5F-6DD33A1AF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7FCBD5-B9E6-4E70-B6CF-A43B490D7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BEEF22-E48B-42CC-BAA0-B7FD61055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1441E9-3A5C-44CE-AB95-73F167523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F1FD4A-C822-4D3A-8C90-B0FC46A3F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87C948-1FEC-4A8A-A9EE-703CA20D1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65379-24B6-48FC-8900-2094F163E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39DA8F-FBED-4A0F-95FD-3C8A07CD9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4877C8-3562-4501-A83C-D90F7C20E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1429AE-71AA-4D33-B751-6930FEEAE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081C86-A7CC-4DD1-B6D9-CE321E49F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3CEFD4-315A-42EE-877B-816A2DB4F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E76656-500F-4E26-B178-BB4FE59B4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5F458F-2CB4-43CE-8158-E904F59E5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E7ECBB-C857-40C0-8495-DE0D8C532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DC54B4-FEF0-444A-B2C4-3CC3CA5BC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244D1A-0C49-41C0-90E8-34A535F3A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BA14B-55E3-4A71-A93B-FD357456C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270A6F-97BC-47B7-861B-2A21210F1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27FF5A-070E-4717-9264-F8E178E54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07A27C-9668-4E7F-B795-E499FF30E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47ACC4-9B09-4B5F-9029-6D7C7900D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2076B9-C8E3-4030-8B8E-CB8BC8330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6AF065-0D64-4E6A-9FA6-C966D5E50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5B98ED-010E-4058-BE38-343762AC8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A2E1A1-D340-4335-B29B-55112FB0B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8C0B13-CDB1-4378-AB5F-47FF264B0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0760AF-999E-488D-831F-FB49F53BC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2EE6C-F603-41E6-A1AF-6102A1396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432629-3309-40DA-9CEC-9DE1004A2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266E4F-7030-4377-BE36-898AA4FE7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6584F0-E799-4B22-A82D-85419173F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16B207-791D-4344-B99B-62D5DB3C5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3E46FF-A3CB-47A6-B338-AC492C894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E0D4AD-AF85-4BB3-BABE-9CE90F995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909AE7-A0EF-4E60-AD58-65C81C779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3084CF-D184-4A8C-9B88-5FD318E32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A11002-206E-4310-B41D-49BFC230D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E16D45-4B36-4708-A22D-E57A96BF0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5C04D-2242-4498-AFF9-0086074AD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7171A9-F368-4173-B859-9FE0430CD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C6C3B4-579A-49EB-9843-64DA3DBD4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23DC0C-325F-4708-9524-90DAC09F8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4DFFC0-F495-4850-8622-22DB7DD01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D92C83-27C9-4890-B6B4-FDCE5632E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B5C53A-300E-4C3B-AED7-CAA05D8E7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967235-8633-44E1-896A-D158C0ADF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91CC45-53C4-412B-BC0E-CB844DC2D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6F288B-98EA-420D-A5A9-5EB3A5CA8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299C8A-DE32-4767-85A9-46AFA6154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66B12-CDCA-4709-8876-0545A685A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2316F8-C67A-47FD-A181-05A370A95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5BBF28-9F8C-4F05-B4E2-2C75FBBF7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452F3E-AE16-49E5-96DE-C2332BAF9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70CDA5-54B7-462E-9070-33E65781C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5D0B50-AFCE-4E41-A5FA-1271B0F8D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509013-F4F8-41B5-B63A-5DE72C7B7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CCF8E7-FAA7-409C-AAC7-F3BB66817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9E703-7D74-4490-B588-209617E7921F}" type="datetime">
              <a:rPr b="0" lang="en-US" sz="1400" spc="-1" strike="noStrike">
                <a:solidFill>
                  <a:srgbClr val="464653"/>
                </a:solidFill>
                <a:latin typeface="Gill Sans MT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7B0E9-4244-44EB-B205-DB3C5270F64F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4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9E6FB-F66E-48BC-A325-D7DC0C8A3368}" type="datetime">
              <a:rPr b="0" lang="en-US" sz="1400" spc="-1" strike="noStrike">
                <a:solidFill>
                  <a:srgbClr val="464653"/>
                </a:solidFill>
                <a:latin typeface="Gill Sans MT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5FD12-5779-491E-8FC0-E3F275F5D89C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0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676B0-50B1-40D4-99D7-878D8AE1B09E}" type="datetime">
              <a:rPr b="0" lang="en-US" sz="1400" spc="-1" strike="noStrike">
                <a:solidFill>
                  <a:srgbClr val="dde9ec"/>
                </a:solidFill>
                <a:latin typeface="Gill Sans MT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e9ec"/>
                </a:solidFill>
                <a:latin typeface="Gill Sans MT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B152F-C6A5-4B1D-BE8D-04C679FBE01B}" type="slidenum">
              <a:rPr b="0" lang="en-US" sz="1400" spc="-1" strike="noStrike">
                <a:solidFill>
                  <a:srgbClr val="dde9ec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Isosceles Triangle 10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6CE62-378A-4A3D-8B03-39C46AA063F7}" type="datetime">
              <a:rPr b="0" lang="en-US" sz="1400" spc="-1" strike="noStrike">
                <a:solidFill>
                  <a:srgbClr val="464653"/>
                </a:solidFill>
                <a:latin typeface="Gill Sans MT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F8F52-3EF6-403B-937D-5B29E7AB46D5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DF343-54ED-4FD5-B13C-FE4E83351E12}" type="datetime">
              <a:rPr b="0" lang="en-US" sz="1400" spc="-1" strike="noStrike">
                <a:solidFill>
                  <a:srgbClr val="464653"/>
                </a:solidFill>
                <a:latin typeface="Gill Sans MT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5866D-46BE-4659-82FF-8D5649A20AB2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Straight Connector 11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Isosceles Triangle 14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593DE-DC50-4516-83F5-90EFFEF14C8B}" type="datetime">
              <a:rPr b="0" lang="en-US" sz="1400" spc="-1" strike="noStrike">
                <a:solidFill>
                  <a:srgbClr val="464653"/>
                </a:solidFill>
                <a:latin typeface="Gill Sans MT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4B917-3077-4DA6-A1F2-627C015AF0CC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14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79F19-042A-41AC-9A24-F90B94543CB3}" type="datetime">
              <a:rPr b="0" lang="en-US" sz="1400" spc="-1" strike="noStrike">
                <a:solidFill>
                  <a:srgbClr val="dde9ec"/>
                </a:solidFill>
                <a:latin typeface="Gill Sans MT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e9ec"/>
                </a:solidFill>
                <a:latin typeface="Gill Sans MT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94993-01C8-4978-8924-CB0C4C52955F}" type="slidenum">
              <a:rPr b="0" lang="en-US" sz="1400" spc="-1" strike="noStrike">
                <a:solidFill>
                  <a:srgbClr val="dde9ec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Straight Connector 14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C302A-1613-4643-BDF6-EB136B3E7766}" type="datetime">
              <a:rPr b="0" lang="en-US" sz="1400" spc="-1" strike="noStrike">
                <a:solidFill>
                  <a:srgbClr val="464653"/>
                </a:solidFill>
                <a:latin typeface="Gill Sans MT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A8B8E-35AD-44EB-AFF7-DAC2D428225E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Bookman Old Style"/>
              </a:rPr>
              <a:t>Genotype and Phenotyp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Bookman Old Style"/>
              </a:rPr>
              <a:t>What is the difference?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1" name="Місце для нижнього колонтитула 1"/>
          <p:cNvSpPr/>
          <p:nvPr/>
        </p:nvSpPr>
        <p:spPr>
          <a:xfrm>
            <a:off x="2898720" y="6354720"/>
            <a:ext cx="347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Review Words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Gill Sans MT"/>
              </a:rPr>
              <a:t>Characteristics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– are the category of a trait –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53"/>
                </a:solidFill>
                <a:latin typeface="Gill Sans MT"/>
              </a:rPr>
              <a:t>Example – </a:t>
            </a:r>
            <a:r>
              <a:rPr b="0" lang="en-US" sz="2100" spc="-1" strike="noStrike">
                <a:solidFill>
                  <a:srgbClr val="ff0000"/>
                </a:solidFill>
                <a:latin typeface="Gill Sans MT"/>
              </a:rPr>
              <a:t>eye color, height, likes/dislikes</a:t>
            </a:r>
            <a:endParaRPr b="0" lang="en-US" sz="2100" spc="-1" strike="noStrike">
              <a:solidFill>
                <a:srgbClr val="464653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Gill Sans MT"/>
              </a:rPr>
              <a:t>Traits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– the physical, social, and emotional qualities of an organism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53"/>
                </a:solidFill>
                <a:latin typeface="Gill Sans MT"/>
              </a:rPr>
              <a:t>Example – </a:t>
            </a:r>
            <a:r>
              <a:rPr b="0" lang="en-US" sz="2100" spc="-1" strike="noStrike">
                <a:solidFill>
                  <a:srgbClr val="ff0000"/>
                </a:solidFill>
                <a:latin typeface="Gill Sans MT"/>
              </a:rPr>
              <a:t>blue eyes, tall, hates carrots</a:t>
            </a:r>
            <a:endParaRPr b="0" lang="en-US" sz="2100" spc="-1" strike="noStrike">
              <a:solidFill>
                <a:srgbClr val="464653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Gill Sans MT"/>
              </a:rPr>
              <a:t>Dominant Trait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– when a majority of an organism shows the trait. 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53"/>
                </a:solidFill>
                <a:latin typeface="Gill Sans MT"/>
              </a:rPr>
              <a:t>Example – </a:t>
            </a:r>
            <a:r>
              <a:rPr b="0" lang="en-US" sz="2100" spc="-1" strike="noStrike">
                <a:solidFill>
                  <a:srgbClr val="ff0000"/>
                </a:solidFill>
                <a:latin typeface="Gill Sans MT"/>
              </a:rPr>
              <a:t>most pea plants show as tall</a:t>
            </a:r>
            <a:endParaRPr b="0" lang="en-US" sz="2100" spc="-1" strike="noStrike">
              <a:solidFill>
                <a:srgbClr val="464653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Gill Sans MT"/>
              </a:rPr>
              <a:t>Recessive Trait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– when a minority of an organism shows the trait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53"/>
                </a:solidFill>
                <a:latin typeface="Gill Sans MT"/>
              </a:rPr>
              <a:t>Example – </a:t>
            </a:r>
            <a:r>
              <a:rPr b="0" lang="en-US" sz="2100" spc="-1" strike="noStrike">
                <a:solidFill>
                  <a:srgbClr val="ff0000"/>
                </a:solidFill>
                <a:latin typeface="Gill Sans MT"/>
              </a:rPr>
              <a:t>few pea plants show as short </a:t>
            </a:r>
            <a:endParaRPr b="0" lang="en-US" sz="2100" spc="-1" strike="noStrike">
              <a:solidFill>
                <a:srgbClr val="464653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Gill Sans MT"/>
              </a:rPr>
              <a:t>Alleles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– all the possible choices for a characteristic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53"/>
                </a:solidFill>
                <a:latin typeface="Gill Sans MT"/>
              </a:rPr>
              <a:t>Example – </a:t>
            </a:r>
            <a:r>
              <a:rPr b="0" lang="en-US" sz="2100" spc="-1" strike="noStrike">
                <a:solidFill>
                  <a:srgbClr val="ff0000"/>
                </a:solidFill>
                <a:latin typeface="Gill Sans MT"/>
              </a:rPr>
              <a:t>eye color – blue, brown, gray, green</a:t>
            </a:r>
            <a:endParaRPr b="0" lang="en-US" sz="2100" spc="-1" strike="noStrike">
              <a:solidFill>
                <a:srgbClr val="464653"/>
              </a:solidFill>
              <a:latin typeface="Gill Sans MT"/>
            </a:endParaRPr>
          </a:p>
        </p:txBody>
      </p:sp>
      <p:sp>
        <p:nvSpPr>
          <p:cNvPr id="364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Bookman Old Style"/>
              </a:rPr>
              <a:t>Genotype</a:t>
            </a: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	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Gill Sans MT"/>
              </a:rPr>
              <a:t>How the </a:t>
            </a:r>
            <a:r>
              <a:rPr b="0" lang="en-US" sz="3300" spc="-1" strike="noStrike">
                <a:solidFill>
                  <a:srgbClr val="ff0000"/>
                </a:solidFill>
                <a:latin typeface="Gill Sans MT"/>
              </a:rPr>
              <a:t>genes code for a specific trait</a:t>
            </a:r>
            <a:r>
              <a:rPr b="0" lang="en-US" sz="33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33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Gill Sans MT"/>
              </a:rPr>
              <a:t>If the trait is </a:t>
            </a:r>
            <a:r>
              <a:rPr b="0" lang="en-US" sz="3300" spc="-1" strike="noStrike">
                <a:solidFill>
                  <a:srgbClr val="ff0000"/>
                </a:solidFill>
                <a:latin typeface="Gill Sans MT"/>
              </a:rPr>
              <a:t>dominant</a:t>
            </a:r>
            <a:r>
              <a:rPr b="0" lang="en-US" sz="3300" spc="-1" strike="noStrike">
                <a:solidFill>
                  <a:srgbClr val="000000"/>
                </a:solidFill>
                <a:latin typeface="Gill Sans MT"/>
              </a:rPr>
              <a:t> it uses a </a:t>
            </a:r>
            <a:r>
              <a:rPr b="0" lang="en-US" sz="3300" spc="-1" strike="noStrike">
                <a:solidFill>
                  <a:srgbClr val="ff0000"/>
                </a:solidFill>
                <a:latin typeface="Gill Sans MT"/>
              </a:rPr>
              <a:t>capital letter</a:t>
            </a:r>
            <a:endParaRPr b="0" lang="en-US" sz="33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64653"/>
                </a:solidFill>
                <a:latin typeface="Gill Sans MT"/>
              </a:rPr>
              <a:t>Example – </a:t>
            </a:r>
            <a:r>
              <a:rPr b="0" lang="en-US" sz="3000" spc="-1" strike="noStrike">
                <a:solidFill>
                  <a:srgbClr val="ff0000"/>
                </a:solidFill>
                <a:latin typeface="Gill Sans MT"/>
              </a:rPr>
              <a:t>Tall (T)</a:t>
            </a:r>
            <a:endParaRPr b="0" lang="en-US" sz="3000" spc="-1" strike="noStrike">
              <a:solidFill>
                <a:srgbClr val="464653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Gill Sans MT"/>
              </a:rPr>
              <a:t>If the trait is </a:t>
            </a:r>
            <a:r>
              <a:rPr b="0" lang="en-US" sz="3300" spc="-1" strike="noStrike">
                <a:solidFill>
                  <a:srgbClr val="ff0000"/>
                </a:solidFill>
                <a:latin typeface="Gill Sans MT"/>
              </a:rPr>
              <a:t>recessive</a:t>
            </a:r>
            <a:r>
              <a:rPr b="0" lang="en-US" sz="3300" spc="-1" strike="noStrike">
                <a:solidFill>
                  <a:srgbClr val="000000"/>
                </a:solidFill>
                <a:latin typeface="Gill Sans MT"/>
              </a:rPr>
              <a:t> it uses </a:t>
            </a:r>
            <a:r>
              <a:rPr b="0" lang="en-US" sz="3300" spc="-1" strike="noStrike">
                <a:solidFill>
                  <a:srgbClr val="ff0000"/>
                </a:solidFill>
                <a:latin typeface="Gill Sans MT"/>
              </a:rPr>
              <a:t>the same letter but lower case</a:t>
            </a:r>
            <a:endParaRPr b="0" lang="en-US" sz="33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64653"/>
                </a:solidFill>
                <a:latin typeface="Gill Sans MT"/>
              </a:rPr>
              <a:t>Example – </a:t>
            </a:r>
            <a:r>
              <a:rPr b="0" lang="en-US" sz="3000" spc="-1" strike="noStrike">
                <a:solidFill>
                  <a:srgbClr val="ff0000"/>
                </a:solidFill>
                <a:latin typeface="Gill Sans MT"/>
              </a:rPr>
              <a:t>short (t)</a:t>
            </a:r>
            <a:endParaRPr b="0" lang="en-US" sz="3000" spc="-1" strike="noStrike">
              <a:solidFill>
                <a:srgbClr val="464653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Gill Sans MT"/>
              </a:rPr>
              <a:t>Genotypes always have two letters – </a:t>
            </a:r>
            <a:r>
              <a:rPr b="0" lang="en-US" sz="3300" spc="-1" strike="noStrike">
                <a:solidFill>
                  <a:srgbClr val="ff0000"/>
                </a:solidFill>
                <a:latin typeface="Gill Sans MT"/>
              </a:rPr>
              <a:t>one for dad and one for mom</a:t>
            </a:r>
            <a:endParaRPr b="0" lang="en-US" sz="33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7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Bookman Old Style"/>
              </a:rPr>
              <a:t>Types of genotype</a:t>
            </a: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	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42640" indent="-24264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Purebred (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homozygous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) dominant – the genes only have the dominant trait in its code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487080" indent="-24264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53"/>
                </a:solidFill>
                <a:latin typeface="Gill Sans MT"/>
              </a:rPr>
              <a:t>Example – </a:t>
            </a:r>
            <a:r>
              <a:rPr b="0" lang="en-US" sz="2800" spc="-1" strike="noStrike">
                <a:solidFill>
                  <a:srgbClr val="ff0000"/>
                </a:solidFill>
                <a:latin typeface="Gill Sans MT"/>
              </a:rPr>
              <a:t>Dominant Tall -- TT</a:t>
            </a:r>
            <a:endParaRPr b="0" lang="en-US" sz="2800" spc="-1" strike="noStrike">
              <a:solidFill>
                <a:srgbClr val="464653"/>
              </a:solidFill>
              <a:latin typeface="Gill Sans MT"/>
            </a:endParaRPr>
          </a:p>
          <a:p>
            <a:pPr marL="242640" indent="-24264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Purebred (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homozygous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) recessive – the genes only have the recessive trait in its code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487080" indent="-24264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53"/>
                </a:solidFill>
                <a:latin typeface="Gill Sans MT"/>
              </a:rPr>
              <a:t>Example – </a:t>
            </a:r>
            <a:r>
              <a:rPr b="0" lang="en-US" sz="2800" spc="-1" strike="noStrike">
                <a:solidFill>
                  <a:srgbClr val="ff0000"/>
                </a:solidFill>
                <a:latin typeface="Gill Sans MT"/>
              </a:rPr>
              <a:t>Recessive short – tt</a:t>
            </a:r>
            <a:endParaRPr b="0" lang="en-US" sz="2800" spc="-1" strike="noStrike">
              <a:solidFill>
                <a:srgbClr val="464653"/>
              </a:solidFill>
              <a:latin typeface="Gill Sans MT"/>
            </a:endParaRPr>
          </a:p>
          <a:p>
            <a:pPr marL="242640" indent="-24264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Hybrid (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heterozygous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) – the genes are mixed code for that trait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487080" indent="-24264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53"/>
                </a:solidFill>
                <a:latin typeface="Gill Sans MT"/>
              </a:rPr>
              <a:t>Example – </a:t>
            </a:r>
            <a:r>
              <a:rPr b="0" lang="en-US" sz="2800" spc="-1" strike="noStrike">
                <a:solidFill>
                  <a:srgbClr val="ff0000"/>
                </a:solidFill>
                <a:latin typeface="Gill Sans MT"/>
              </a:rPr>
              <a:t>hybrid Tall -- Tt</a:t>
            </a:r>
            <a:endParaRPr b="0" lang="en-US" sz="2800" spc="-1" strike="noStrike">
              <a:solidFill>
                <a:srgbClr val="464653"/>
              </a:solidFill>
              <a:latin typeface="Gill Sans MT"/>
            </a:endParaRPr>
          </a:p>
        </p:txBody>
      </p:sp>
      <p:sp>
        <p:nvSpPr>
          <p:cNvPr id="370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Bookman Old Style"/>
              </a:rPr>
              <a:t>Phenotype</a:t>
            </a: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 </a:t>
            </a: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	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MT"/>
              </a:rPr>
              <a:t>The </a:t>
            </a:r>
            <a:r>
              <a:rPr b="0" lang="en-US" sz="4400" spc="-1" strike="noStrike">
                <a:solidFill>
                  <a:srgbClr val="ff0000"/>
                </a:solidFill>
                <a:latin typeface="Gill Sans MT"/>
              </a:rPr>
              <a:t>outward appearance </a:t>
            </a:r>
            <a:r>
              <a:rPr b="0" lang="en-US" sz="4400" spc="-1" strike="noStrike">
                <a:solidFill>
                  <a:srgbClr val="000000"/>
                </a:solidFill>
                <a:latin typeface="Gill Sans MT"/>
              </a:rPr>
              <a:t>of the trait.</a:t>
            </a: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MT"/>
              </a:rPr>
              <a:t>How an organism </a:t>
            </a:r>
            <a:r>
              <a:rPr b="0" lang="en-US" sz="4400" spc="-1" strike="noStrike">
                <a:solidFill>
                  <a:srgbClr val="ff0000"/>
                </a:solidFill>
                <a:latin typeface="Gill Sans MT"/>
              </a:rPr>
              <a:t>looks</a:t>
            </a: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MT"/>
              </a:rPr>
              <a:t>How an organism </a:t>
            </a:r>
            <a:r>
              <a:rPr b="0" lang="en-US" sz="4400" spc="-1" strike="noStrike">
                <a:solidFill>
                  <a:srgbClr val="ff0000"/>
                </a:solidFill>
                <a:latin typeface="Gill Sans MT"/>
              </a:rPr>
              <a:t>acts</a:t>
            </a: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MT"/>
              </a:rPr>
              <a:t>How an organism </a:t>
            </a:r>
            <a:r>
              <a:rPr b="0" lang="en-US" sz="4400" spc="-1" strike="noStrike">
                <a:solidFill>
                  <a:srgbClr val="ff0000"/>
                </a:solidFill>
                <a:latin typeface="Gill Sans MT"/>
              </a:rPr>
              <a:t>feels</a:t>
            </a: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3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464653"/>
                </a:solidFill>
                <a:latin typeface="Bookman Old Style"/>
              </a:rPr>
              <a:t>Tricks to remembering the difference between Genotype and Phenotype</a:t>
            </a:r>
            <a:r>
              <a:rPr b="0" lang="en-US" sz="2900" spc="-1" strike="noStrike">
                <a:solidFill>
                  <a:srgbClr val="464653"/>
                </a:solidFill>
                <a:latin typeface="Bookman Old Style"/>
              </a:rPr>
              <a:t>	</a:t>
            </a: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Gill Sans MT"/>
              </a:rPr>
              <a:t>Genotype – deals with GENE CODE.</a:t>
            </a:r>
            <a:endParaRPr b="0" lang="en-US" sz="6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Gill Sans MT"/>
              </a:rPr>
              <a:t>Phenotype – deals with looks you can take a PHOTO with.</a:t>
            </a:r>
            <a:endParaRPr b="0" lang="en-US" sz="6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6" name="Місце для нижнього колонтитула 2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7T17:19:27Z</dcterms:created>
  <dc:creator>CCSD</dc:creator>
  <dc:description/>
  <dc:language>en-US</dc:language>
  <cp:lastModifiedBy>LEGION2</cp:lastModifiedBy>
  <dcterms:modified xsi:type="dcterms:W3CDTF">2016-01-12T11:10:10Z</dcterms:modified>
  <cp:revision>12</cp:revision>
  <dc:subject/>
  <dc:title>Genotype and Phenotype</dc:title>
</cp:coreProperties>
</file>