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13.jpeg" ContentType="image/jpeg"/>
  <Override PartName="/ppt/media/image4.jpeg" ContentType="image/jpeg"/>
  <Override PartName="/ppt/media/image5.wmf" ContentType="image/x-wmf"/>
  <Override PartName="/ppt/media/image12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8EEB-EBA0-4B43-98BE-9C26175CAD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tudy of genes and the inheritance of tra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udy of genes and the inheritance of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rs when genes make a mistake mixing and produce new or different traits in the offspring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genes make a mistake mixing and produce new or different traits in the off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mbination of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 TT, Tt, or t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We flipped coins to determine the genotype of our critters and puppi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o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bination of all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TT, Tt, or 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We flipped coins to determine the genotype of our critters and pupp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 – is considered a dominant alle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 – is considered a recessive alle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T – is domina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t or tT – is domina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t - is recess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– is considered a dominant 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– is considered a recessive 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 – is domi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 or tT – is domi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 - is rece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nnett Squ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s mom and dad’s genotypes to determine the possible traits of their offspring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offsp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nett 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mom and dad’s genotypes to determine the possible traits of their off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are the traits determined by reading the genotyp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 : FF = black fu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ack fur is the phenotype or tra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the traits determined by reading the geno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: FF = black f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fur is the phenotype or tr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is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are features you exhibit physicall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 your looks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Eye color - gre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eatures you exhibit physical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your look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Eye color -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ifferent versions of a characteris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blue, green, and brown ey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t versions of a characteri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blue, green, and brown e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herit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rs when traits are passed down from parent to chil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raits are passed down from parent to chi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ts of information passed down from parent to chil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of chemicals called DN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ts of information passed down from parent to chi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of chemicals called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tic Dise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be passed on through genes from a parent to the chil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 : Marfan Syndro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Individual is tall, has long arms and leg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mber - JO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passed on through genes from a parent to the chi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: Marfan Synd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dividual is tall, has long arms and le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- JO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xual – Sperm fertilizes an egg to produce offsp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exual – occurs when 1 organism copies itself to produce offsp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– Sperm fertilizes an egg to produce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– occurs when 1 organism copies itself to produce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rtil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rs when a sperm unites with an eg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a sperm unites with an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fspring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name for the children of a male and female par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name for the children of a male and fema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CF0D-BFAC-403C-BFE2-86F43E5AA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751C-C9DA-48F0-A4BA-78B3AC78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2BD4-9EED-4697-AE18-BCC8E12C2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AC0A-2FB4-4C3F-B89A-584D16560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1EA9-79F7-4416-B228-DF0853740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FA05-F451-4116-ACC9-5F303519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B6EC-EE8F-46DB-985E-622325D8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1C66-B965-447D-B2B4-2558996D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80BFE-A9F4-42A0-865F-EAD7BD19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2208-C7C4-419A-A49B-B51D2962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D200-B457-46CC-8CB5-90612624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2DF3-E399-4A46-9F42-056E5380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AB11B-482A-4F38-8F96-9F4BA10E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3C39E-D9D6-4F23-97F8-5CAF7A21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39DA-C598-48F6-B806-7A8A2127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4A7A-0734-4610-9A83-BB94AFD4C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A3F52-7234-4099-BA57-EEEDDA17F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3196-2EB0-4676-96E3-EDB0837D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4CDE-48FC-4996-81A2-441B3FAC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80D6-93C7-48C9-9570-51DCA6F4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6BC3-F0B6-48F9-8978-6DC38783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DB7B-1310-484A-8D2D-6A072FC7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9872-A36A-498F-9582-9321B4CC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A0BF-AD41-4B22-85FA-2CF8B345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F796-B3C9-4879-BD24-27126DAB5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0BB5-3013-49C4-BE4A-BF0FAB32C8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Genetic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tudy of genes and the inheritance of tra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uta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s when genes make a mistake mixing and produce new or different traits in the offspr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9" descr="is?986923577224"/>
          <p:cNvPicPr/>
          <p:nvPr/>
        </p:nvPicPr>
        <p:blipFill>
          <a:blip r:embed="rId1"/>
          <a:stretch/>
        </p:blipFill>
        <p:spPr>
          <a:xfrm>
            <a:off x="685800" y="1752480"/>
            <a:ext cx="3581280" cy="36576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Genotyp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ombination o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xample:  TT, Tt, or 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6" descr="MPj03095240000[1]"/>
          <p:cNvPicPr/>
          <p:nvPr/>
        </p:nvPicPr>
        <p:blipFill>
          <a:blip r:embed="rId1"/>
          <a:stretch/>
        </p:blipFill>
        <p:spPr>
          <a:xfrm>
            <a:off x="685800" y="1600200"/>
            <a:ext cx="3314880" cy="21985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7"/>
          <p:cNvSpPr/>
          <p:nvPr/>
        </p:nvSpPr>
        <p:spPr>
          <a:xfrm>
            <a:off x="1066680" y="4343400"/>
            <a:ext cx="47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We flipped coins to determine the genotype of our critters and pupp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llel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– is considered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ominan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e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– is considered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recessiv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lle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4648320" y="1828800"/>
            <a:ext cx="37335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T – is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domina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t or tT – is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domina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t - is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ssi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unnett Squar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s mom and dad’s genotypes to determine the possible traits of their offspr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 offsp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105520" y="2666880"/>
          <a:ext cx="3581280" cy="3463920"/>
        </p:xfrm>
        <a:graphic>
          <a:graphicData uri="http://schemas.openxmlformats.org/drawingml/2006/table">
            <a:tbl>
              <a:tblPr/>
              <a:tblGrid>
                <a:gridCol w="1790640"/>
                <a:gridCol w="1790640"/>
              </a:tblGrid>
              <a:tr h="17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henotyp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the traits determined by reading the genotyp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: FF = black fu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lack fu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enotyp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r tra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8" descr="cochese"/>
          <p:cNvPicPr/>
          <p:nvPr/>
        </p:nvPicPr>
        <p:blipFill>
          <a:blip r:embed="rId1"/>
          <a:stretch/>
        </p:blipFill>
        <p:spPr>
          <a:xfrm>
            <a:off x="4876920" y="1447920"/>
            <a:ext cx="3733560" cy="464796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aracteristic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are features you exhibit physicall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 your looks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Eye color - gre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7" descr="MCj04038930000[1]"/>
          <p:cNvPicPr/>
          <p:nvPr/>
        </p:nvPicPr>
        <p:blipFill>
          <a:blip r:embed="rId1"/>
          <a:stretch/>
        </p:blipFill>
        <p:spPr>
          <a:xfrm>
            <a:off x="5289480" y="2438280"/>
            <a:ext cx="2787840" cy="27432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43200000">
                                      <p:cBhvr>
                                        <p:cTn id="13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rait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ifferent versions of a characteris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: blue, green, and brown e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6" descr="MCDD00650_0000[1]"/>
          <p:cNvPicPr/>
          <p:nvPr/>
        </p:nvPicPr>
        <p:blipFill>
          <a:blip r:embed="rId1"/>
          <a:stretch/>
        </p:blipFill>
        <p:spPr>
          <a:xfrm>
            <a:off x="6629400" y="4114800"/>
            <a:ext cx="1468440" cy="1592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MCj04038930000[1]"/>
          <p:cNvPicPr/>
          <p:nvPr/>
        </p:nvPicPr>
        <p:blipFill>
          <a:blip r:embed="rId2"/>
          <a:stretch/>
        </p:blipFill>
        <p:spPr>
          <a:xfrm>
            <a:off x="4038480" y="4267080"/>
            <a:ext cx="1398600" cy="1447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MCj04039970000[1]"/>
          <p:cNvPicPr/>
          <p:nvPr/>
        </p:nvPicPr>
        <p:blipFill>
          <a:blip r:embed="rId3"/>
          <a:stretch/>
        </p:blipFill>
        <p:spPr>
          <a:xfrm>
            <a:off x="1219320" y="4191120"/>
            <a:ext cx="1523880" cy="15192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43200000">
                                      <p:cBhvr>
                                        <p:cTn id="19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nheritanc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s when traits are passed down from parent to chi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5" descr="MPj03999280000[1]"/>
          <p:cNvPicPr/>
          <p:nvPr/>
        </p:nvPicPr>
        <p:blipFill>
          <a:blip r:embed="rId1"/>
          <a:stretch/>
        </p:blipFill>
        <p:spPr>
          <a:xfrm>
            <a:off x="304920" y="2392200"/>
            <a:ext cx="4495680" cy="347508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Gen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ts of information passed down from parent to chi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de of chemicals called D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7" descr="MCj03519580000[1]"/>
          <p:cNvPicPr/>
          <p:nvPr/>
        </p:nvPicPr>
        <p:blipFill>
          <a:blip r:embed="rId1"/>
          <a:stretch/>
        </p:blipFill>
        <p:spPr>
          <a:xfrm>
            <a:off x="1371600" y="2209680"/>
            <a:ext cx="1870200" cy="37339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Genetic Diseas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85840" y="1599840"/>
            <a:ext cx="4800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passed on through genes from a parent to the chi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xample 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Marfan Syndr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Individual is tall, has long arms and leg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member - JO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6" descr="MCj04114640000[1]"/>
          <p:cNvPicPr/>
          <p:nvPr/>
        </p:nvPicPr>
        <p:blipFill>
          <a:blip r:embed="rId1"/>
          <a:stretch/>
        </p:blipFill>
        <p:spPr>
          <a:xfrm>
            <a:off x="944640" y="1981080"/>
            <a:ext cx="1950840" cy="43434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Reproduc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exu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Sperm fertilizes an egg to produce offsp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sexual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s when 1 organism copies itself to produce offsp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7" descr="MCj02811420000[1]"/>
          <p:cNvPicPr/>
          <p:nvPr/>
        </p:nvPicPr>
        <p:blipFill>
          <a:blip r:embed="rId1"/>
          <a:stretch/>
        </p:blipFill>
        <p:spPr>
          <a:xfrm>
            <a:off x="1278000" y="1371600"/>
            <a:ext cx="2836800" cy="2417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MPj01826480000[1]"/>
          <p:cNvPicPr/>
          <p:nvPr/>
        </p:nvPicPr>
        <p:blipFill>
          <a:blip r:embed="rId2"/>
          <a:stretch/>
        </p:blipFill>
        <p:spPr>
          <a:xfrm>
            <a:off x="1066680" y="4089240"/>
            <a:ext cx="3175200" cy="213840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Fertiliza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s when a sperm unites with an eg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9" descr="is?376913075754"/>
          <p:cNvPicPr/>
          <p:nvPr/>
        </p:nvPicPr>
        <p:blipFill>
          <a:blip r:embed="rId1"/>
          <a:stretch/>
        </p:blipFill>
        <p:spPr>
          <a:xfrm>
            <a:off x="4114800" y="1905120"/>
            <a:ext cx="3809880" cy="358128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Offspring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other name for th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ildre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f a male and female par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9" descr="MPj04008320000[1]"/>
          <p:cNvPicPr/>
          <p:nvPr/>
        </p:nvPicPr>
        <p:blipFill>
          <a:blip r:embed="rId1"/>
          <a:stretch/>
        </p:blipFill>
        <p:spPr>
          <a:xfrm>
            <a:off x="4343400" y="1905120"/>
            <a:ext cx="4267080" cy="380988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13:12:41Z</dcterms:created>
  <dc:creator>PALO</dc:creator>
  <dc:description/>
  <dc:language>en-US</dc:language>
  <cp:lastModifiedBy>LEGION2</cp:lastModifiedBy>
  <dcterms:modified xsi:type="dcterms:W3CDTF">2016-01-12T11:07:44Z</dcterms:modified>
  <cp:revision>25</cp:revision>
  <dc:subject/>
  <dc:title>Genetic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