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F44B-66E7-417F-AE16-D1E0FDE07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586-4631-4A05-A14D-8FC58A5A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C3C-1119-4181-8D18-F61C2E95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B04-B58C-4300-B439-BA926371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C77-8CE9-43F4-9359-A65C8F42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A114-6EE9-4DD3-AFBA-814271EF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B1B8-7B06-45AA-A34A-64D2509D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10D7-2AC0-4E5A-BFDC-CC718F60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B228-DB99-4C1F-B1DB-87C05418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43CE-100A-40BE-BB5C-E6181FED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18C8-7209-49A6-9780-F46F1678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6A48-23F3-4129-83F5-4E0AF2D0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4C5-E3D7-4CB3-8878-1299A867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6F4F-265C-4990-B07D-D2957525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DC26-ECB8-4E64-B706-D0D5006D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504F-A5EA-4200-AF42-34A08413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0D3C-31C5-45C8-BF72-A1619016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C2AD-3D9E-40C1-8546-A784E16C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95B-D70E-42FE-9DC8-CF033422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F95-CFC2-4280-AB44-53569AB6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82F-3858-4E84-A7B1-927AC09C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01A-CE07-4A60-91E0-C7E5EB99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655-073D-4532-87FE-ADC66726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635-FF28-4DD9-B611-465279F6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4CD-1505-452A-A122-9D794597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CE03-1722-4543-8120-48EB23B9C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8569-3612-4B18-826F-8C287D894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enetic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udy of genes and the inheritance of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u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genes make a mistake mixing and produce new or different traits in the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9" descr="is?986923577224"/>
          <p:cNvPicPr/>
          <p:nvPr/>
        </p:nvPicPr>
        <p:blipFill>
          <a:blip r:embed="rId1"/>
          <a:stretch/>
        </p:blipFill>
        <p:spPr>
          <a:xfrm>
            <a:off x="685800" y="1752480"/>
            <a:ext cx="358128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:  TT, Tt, or 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MPj03095240000[1]"/>
          <p:cNvPicPr/>
          <p:nvPr/>
        </p:nvPicPr>
        <p:blipFill>
          <a:blip r:embed="rId1"/>
          <a:stretch/>
        </p:blipFill>
        <p:spPr>
          <a:xfrm>
            <a:off x="685800" y="1600200"/>
            <a:ext cx="3314880" cy="2198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066680" y="43434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We flipped coins to determine the genotype of our critters and pupp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e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mina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648320" y="1828800"/>
            <a:ext cx="3733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or 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-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unnett Squ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om and dad’s genotypes to determine the possible traits of their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05520" y="2666880"/>
          <a:ext cx="3581280" cy="346392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the traits determined by reading the genoty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F = black f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lack f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r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cochese"/>
          <p:cNvPicPr/>
          <p:nvPr/>
        </p:nvPicPr>
        <p:blipFill>
          <a:blip r:embed="rId1"/>
          <a:stretch/>
        </p:blipFill>
        <p:spPr>
          <a:xfrm>
            <a:off x="4876920" y="1447920"/>
            <a:ext cx="3733560" cy="4647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features you exhibit physic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your look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ye color -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MCj04038930000[1]"/>
          <p:cNvPicPr/>
          <p:nvPr/>
        </p:nvPicPr>
        <p:blipFill>
          <a:blip r:embed="rId1"/>
          <a:stretch/>
        </p:blipFill>
        <p:spPr>
          <a:xfrm>
            <a:off x="5289480" y="2438280"/>
            <a:ext cx="278784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i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ferent versions of a character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blue, green, and brown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MCDD00650_0000[1]"/>
          <p:cNvPicPr/>
          <p:nvPr/>
        </p:nvPicPr>
        <p:blipFill>
          <a:blip r:embed="rId1"/>
          <a:stretch/>
        </p:blipFill>
        <p:spPr>
          <a:xfrm>
            <a:off x="6629400" y="4114800"/>
            <a:ext cx="1468440" cy="15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j04038930000[1]"/>
          <p:cNvPicPr/>
          <p:nvPr/>
        </p:nvPicPr>
        <p:blipFill>
          <a:blip r:embed="rId2"/>
          <a:stretch/>
        </p:blipFill>
        <p:spPr>
          <a:xfrm>
            <a:off x="4038480" y="42670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j04039970000[1]"/>
          <p:cNvPicPr/>
          <p:nvPr/>
        </p:nvPicPr>
        <p:blipFill>
          <a:blip r:embed="rId3"/>
          <a:stretch/>
        </p:blipFill>
        <p:spPr>
          <a:xfrm>
            <a:off x="1219320" y="4191120"/>
            <a:ext cx="1523880" cy="1519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herit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traits are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MPj03999280000[1]"/>
          <p:cNvPicPr/>
          <p:nvPr/>
        </p:nvPicPr>
        <p:blipFill>
          <a:blip r:embed="rId1"/>
          <a:stretch/>
        </p:blipFill>
        <p:spPr>
          <a:xfrm>
            <a:off x="304920" y="2392200"/>
            <a:ext cx="4495680" cy="347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 of information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chemicals called D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MCj03519580000[1]"/>
          <p:cNvPicPr/>
          <p:nvPr/>
        </p:nvPicPr>
        <p:blipFill>
          <a:blip r:embed="rId1"/>
          <a:stretch/>
        </p:blipFill>
        <p:spPr>
          <a:xfrm>
            <a:off x="1371600" y="2209680"/>
            <a:ext cx="187020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tic Disea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assed on through genes from a parent to the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rfan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Individual is tall, has long arms and le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member - JO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Cj04114640000[1]"/>
          <p:cNvPicPr/>
          <p:nvPr/>
        </p:nvPicPr>
        <p:blipFill>
          <a:blip r:embed="rId1"/>
          <a:stretch/>
        </p:blipFill>
        <p:spPr>
          <a:xfrm>
            <a:off x="944640" y="1981080"/>
            <a:ext cx="195084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p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Sperm fertilizes an egg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exu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1 organism copies itself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MCj02811420000[1]"/>
          <p:cNvPicPr/>
          <p:nvPr/>
        </p:nvPicPr>
        <p:blipFill>
          <a:blip r:embed="rId1"/>
          <a:stretch/>
        </p:blipFill>
        <p:spPr>
          <a:xfrm>
            <a:off x="1278000" y="1371600"/>
            <a:ext cx="2836800" cy="241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Pj01826480000[1]"/>
          <p:cNvPicPr/>
          <p:nvPr/>
        </p:nvPicPr>
        <p:blipFill>
          <a:blip r:embed="rId2"/>
          <a:stretch/>
        </p:blipFill>
        <p:spPr>
          <a:xfrm>
            <a:off x="1066680" y="4089240"/>
            <a:ext cx="3175200" cy="21384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rtiliz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a sperm unites with an eg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9" descr="is?376913075754"/>
          <p:cNvPicPr/>
          <p:nvPr/>
        </p:nvPicPr>
        <p:blipFill>
          <a:blip r:embed="rId1"/>
          <a:stretch/>
        </p:blipFill>
        <p:spPr>
          <a:xfrm>
            <a:off x="4114800" y="19051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ffspring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name for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male and female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9" descr="MPj04008320000[1]"/>
          <p:cNvPicPr/>
          <p:nvPr/>
        </p:nvPicPr>
        <p:blipFill>
          <a:blip r:embed="rId1"/>
          <a:stretch/>
        </p:blipFill>
        <p:spPr>
          <a:xfrm>
            <a:off x="434340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12:41Z</dcterms:created>
  <dc:creator>PALO</dc:creator>
  <dc:description/>
  <dc:language>en-US</dc:language>
  <cp:lastModifiedBy>LEGION2</cp:lastModifiedBy>
  <dcterms:modified xsi:type="dcterms:W3CDTF">2016-01-12T11:07:44Z</dcterms:modified>
  <cp:revision>25</cp:revision>
  <dc:subject/>
  <dc:title>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