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A324-7A7F-487E-BCBB-919F568311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udy of genes and the inheritance of 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y of genes and the inheritance of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genes make a mistake mixing and produce new or different traits in the offsp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genes make a mistake mixing and produce new or different traits in th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bination of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TT, Tt, or 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We flipped coins to determine the genotype of our critters and pupp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TT, Tt, or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e flipped coins to determine the genotype of our critters and pupp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 – is considered a dominant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 – is considered a recessive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– is domin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or tT – is domin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- is recess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– is considered a dominant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– is considered a recessive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– is 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or tT – is 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- is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nnett Squ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mom and dad’s genotypes to determine the possible traits of their offsp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net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mom and dad’s genotypes to determine the possible traits of their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the traits determined by reading the genoty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 : FF = black fu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 fur is the phenotype or tra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aits determined by reading the g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: FF = black f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fur is the phenotype or tr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are features you exhibit physic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 your looks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Eye color -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eatures you exhibit physic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your look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Eye color -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ifferent versions of a characteris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blue, green, and brown e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a character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blue, green, and brown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traits are passed down from parent to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raits are passed down from parent to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ts of information passed down from parent to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of chemicals called DN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s of information passed down from parent to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chemicals called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Dis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passed on through genes from a parent to the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 : Marfan Syndr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ndividual is tall, has long arms and leg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- JO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passed on through genes from a parent to the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: Marfan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dividual is tall, has long arms and le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- JO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– Sperm fertilizes an egg to produc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– occurs when 1 organism copies itself to produc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– Sperm fertilizes an egg to produc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– occurs when 1 organism copies itself to produc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a sperm unites with an eg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a sperm unites with an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spri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name for the children of a male and female 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name for the children of a male and fe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7EC-41E6-4E54-A8BC-FEB71E4A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0EB-D0E3-456A-BC94-1B4698CA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0F7F-E16D-4CB5-8FDA-28599B34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15E-7140-4685-BBE9-110C099D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AB18-8FF7-406D-9AB3-D19F1849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CEE5-13BA-46C1-960E-CC329AC1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083C-BE98-4F5D-B60F-F0829D09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FE9F-655A-4023-8392-7B9476BD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F06F-22F8-4191-BFE1-1EBD3BB1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A749-147C-48DB-BD2E-23B550AA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1CF4-59E0-458F-9835-02C5C344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4F5-57D3-4578-8577-139127D6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1E53-9AD7-4A7B-AC70-BB4D9165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04C9-8ABC-4049-8856-CE9EB8E7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7D01-E6ED-43DD-A61E-E1CA6B2B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9919-83E3-4DD9-861D-9FC95CDC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5F21-A8AC-4E59-8C2A-948E0E73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CF55-23BF-44E0-B733-E8C65587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697-20BA-4BCA-A98F-F1D9DDA8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84D0-86D9-41BE-91C8-62E50A15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FAF-9510-4F02-A7E5-C24CF1E3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AE3-05E6-4793-B561-F81C5B3C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333-ED31-45EB-83E1-E4BA9419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7906-9A87-4BFC-B239-4625DC39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2967-A648-4075-90D4-49DEF1B39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D1AC-9C5B-4925-A77A-F33650D7F5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Genetic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udy of genes and the inheritance of tra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ut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genes make a mistake mixing and produce new or different traits in the offsp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9" descr="is?986923577224"/>
          <p:cNvPicPr/>
          <p:nvPr/>
        </p:nvPicPr>
        <p:blipFill>
          <a:blip r:embed="rId1"/>
          <a:stretch/>
        </p:blipFill>
        <p:spPr>
          <a:xfrm>
            <a:off x="685800" y="1752480"/>
            <a:ext cx="3581280" cy="36576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otyp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bination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ample:  TT, Tt, or 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MPj03095240000[1]"/>
          <p:cNvPicPr/>
          <p:nvPr/>
        </p:nvPicPr>
        <p:blipFill>
          <a:blip r:embed="rId1"/>
          <a:stretch/>
        </p:blipFill>
        <p:spPr>
          <a:xfrm>
            <a:off x="685800" y="1600200"/>
            <a:ext cx="3314880" cy="2198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066680" y="43434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We flipped coins to determine the genotype of our critters and pupp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lle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– is considered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mina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– is considered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cess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648320" y="1828800"/>
            <a:ext cx="3733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–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min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or tT –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min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-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ss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unnett Squa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mom and dad’s genotypes to determine the possible traits of their offsp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105520" y="2666880"/>
          <a:ext cx="3581280" cy="3463920"/>
        </p:xfrm>
        <a:graphic>
          <a:graphicData uri="http://schemas.openxmlformats.org/drawingml/2006/table">
            <a:tbl>
              <a:tblPr/>
              <a:tblGrid>
                <a:gridCol w="1790640"/>
                <a:gridCol w="1790640"/>
              </a:tblGrid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enotyp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the traits determined by reading the genoty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 FF = black fu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lack f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enotyp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tra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8" descr="cochese"/>
          <p:cNvPicPr/>
          <p:nvPr/>
        </p:nvPicPr>
        <p:blipFill>
          <a:blip r:embed="rId1"/>
          <a:stretch/>
        </p:blipFill>
        <p:spPr>
          <a:xfrm>
            <a:off x="4876920" y="1447920"/>
            <a:ext cx="3733560" cy="464796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aracteristic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features you exhibit physical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your look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Eye color - g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7" descr="MCj04038930000[1]"/>
          <p:cNvPicPr/>
          <p:nvPr/>
        </p:nvPicPr>
        <p:blipFill>
          <a:blip r:embed="rId1"/>
          <a:stretch/>
        </p:blipFill>
        <p:spPr>
          <a:xfrm>
            <a:off x="5289480" y="2438280"/>
            <a:ext cx="2787840" cy="27432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1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ai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fferent versions of a characteri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blue, green, and brown e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MCDD00650_0000[1]"/>
          <p:cNvPicPr/>
          <p:nvPr/>
        </p:nvPicPr>
        <p:blipFill>
          <a:blip r:embed="rId1"/>
          <a:stretch/>
        </p:blipFill>
        <p:spPr>
          <a:xfrm>
            <a:off x="6629400" y="4114800"/>
            <a:ext cx="1468440" cy="1592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Cj04038930000[1]"/>
          <p:cNvPicPr/>
          <p:nvPr/>
        </p:nvPicPr>
        <p:blipFill>
          <a:blip r:embed="rId2"/>
          <a:stretch/>
        </p:blipFill>
        <p:spPr>
          <a:xfrm>
            <a:off x="4038480" y="426708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MCj04039970000[1]"/>
          <p:cNvPicPr/>
          <p:nvPr/>
        </p:nvPicPr>
        <p:blipFill>
          <a:blip r:embed="rId3"/>
          <a:stretch/>
        </p:blipFill>
        <p:spPr>
          <a:xfrm>
            <a:off x="1219320" y="4191120"/>
            <a:ext cx="1523880" cy="1519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19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heritan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traits are passed down from parent to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MPj03999280000[1]"/>
          <p:cNvPicPr/>
          <p:nvPr/>
        </p:nvPicPr>
        <p:blipFill>
          <a:blip r:embed="rId1"/>
          <a:stretch/>
        </p:blipFill>
        <p:spPr>
          <a:xfrm>
            <a:off x="304920" y="2392200"/>
            <a:ext cx="4495680" cy="3475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ts of information passed down from parent to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chemicals called D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7" descr="MCj03519580000[1]"/>
          <p:cNvPicPr/>
          <p:nvPr/>
        </p:nvPicPr>
        <p:blipFill>
          <a:blip r:embed="rId1"/>
          <a:stretch/>
        </p:blipFill>
        <p:spPr>
          <a:xfrm>
            <a:off x="1371600" y="2209680"/>
            <a:ext cx="1870200" cy="37339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tic Diseas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858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passed on through genes from a parent to the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ample 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arfan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Individual is tall, has long arms and leg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member - JO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MCj04114640000[1]"/>
          <p:cNvPicPr/>
          <p:nvPr/>
        </p:nvPicPr>
        <p:blipFill>
          <a:blip r:embed="rId1"/>
          <a:stretch/>
        </p:blipFill>
        <p:spPr>
          <a:xfrm>
            <a:off x="944640" y="1981080"/>
            <a:ext cx="195084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produc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xu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Sperm fertilizes an egg to produc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exua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1 organism copies itself to produc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7" descr="MCj02811420000[1]"/>
          <p:cNvPicPr/>
          <p:nvPr/>
        </p:nvPicPr>
        <p:blipFill>
          <a:blip r:embed="rId1"/>
          <a:stretch/>
        </p:blipFill>
        <p:spPr>
          <a:xfrm>
            <a:off x="1278000" y="1371600"/>
            <a:ext cx="2836800" cy="2417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MPj01826480000[1]"/>
          <p:cNvPicPr/>
          <p:nvPr/>
        </p:nvPicPr>
        <p:blipFill>
          <a:blip r:embed="rId2"/>
          <a:stretch/>
        </p:blipFill>
        <p:spPr>
          <a:xfrm>
            <a:off x="1066680" y="4089240"/>
            <a:ext cx="3175200" cy="21384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ertiliz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a sperm unites with an eg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9" descr="is?376913075754"/>
          <p:cNvPicPr/>
          <p:nvPr/>
        </p:nvPicPr>
        <p:blipFill>
          <a:blip r:embed="rId1"/>
          <a:stretch/>
        </p:blipFill>
        <p:spPr>
          <a:xfrm>
            <a:off x="4114800" y="1905120"/>
            <a:ext cx="3809880" cy="35812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ffspring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name for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ldr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 male and female 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9" descr="MPj04008320000[1]"/>
          <p:cNvPicPr/>
          <p:nvPr/>
        </p:nvPicPr>
        <p:blipFill>
          <a:blip r:embed="rId1"/>
          <a:stretch/>
        </p:blipFill>
        <p:spPr>
          <a:xfrm>
            <a:off x="4343400" y="1905120"/>
            <a:ext cx="4267080" cy="3809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3:12:41Z</dcterms:created>
  <dc:creator>PALO</dc:creator>
  <dc:description/>
  <dc:language>en-US</dc:language>
  <cp:lastModifiedBy>LEGION2</cp:lastModifiedBy>
  <dcterms:modified xsi:type="dcterms:W3CDTF">2016-01-12T11:07:44Z</dcterms:modified>
  <cp:revision>25</cp:revision>
  <dc:subject/>
  <dc:title>Gene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