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4FAE-DEA5-4E02-9654-4DDBB6C79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y of genes and the inheritance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genes make a mistake mixing and produce new or different traits in th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TT, Tt, or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We flipped coins to determine the genotype of our critters and pupp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dominant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– is considered a recessive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or tT – is 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 - is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mom and dad’s genotypes to determine the possible traits of their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he traits determined by reading the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FF = black f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fur is the phenotype or tr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eatures you exhibit physic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your look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Eye color -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blue, green, and brown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raits are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s of information passed down from parent to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chemicals call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passed on through genes from a parent to the chi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: Marfan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dividual is tall, has long arms and le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- J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– Sperm fertilizes an egg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– occurs when 1 organism copies itself to produc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a sperm unites with an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name for the children of a male and fe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652-A5C6-4766-A821-4919E936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521-9AB4-488F-837B-EB93E7B3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FE9-A6D8-4D2E-91CB-313F431B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90A-567F-4F7B-AF80-FE442B0D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531B-1C2B-4AFF-81E9-BD70ED0D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AF7F-0B1C-4ECA-ABB3-9C6BB2BC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71F5-4425-4509-9B4C-E6A5F6DC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71DE-4D21-4772-B7F4-42647926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32E3-BC1A-4ED1-B47D-3DF089AF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7B97-DAAA-431B-948F-FD3E1C9A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E242-4B88-4227-98A8-C900834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EA6-E350-455B-8AFA-9918455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ACF1-F11F-4977-BC1A-8F1C294B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68E1-6301-49E0-A887-16F3F70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F3A8-AC67-4DAD-9C57-7AD3AE29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0AE0-7C83-4175-9F89-4755F180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7829-4745-47B7-9608-C4FB5BFB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2E2-51B6-49B7-B454-821E7D8F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F28-7458-4F43-B199-E68AF9B1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CEC-F8FE-4E2D-87C1-1DB7FE9F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EEC-BF50-4BA1-BDE5-CF41622D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A22-9B3C-48D2-9F99-AC91AA9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0A8-5C24-4C91-9516-F0BCFE67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FBA7-84B6-4F09-AC53-F9E65D2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2ECC-9ECB-44C8-9471-6A1487CCD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9372-D769-44AB-B34F-6E8CC47C1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Genetic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udy of genes and the inheritance of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u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genes make a mistake mixing and produce new or different traits in the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9" descr="is?986923577224"/>
          <p:cNvPicPr/>
          <p:nvPr/>
        </p:nvPicPr>
        <p:blipFill>
          <a:blip r:embed="rId1"/>
          <a:stretch/>
        </p:blipFill>
        <p:spPr>
          <a:xfrm>
            <a:off x="685800" y="1752480"/>
            <a:ext cx="35812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mbination o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:  TT, Tt, or 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MPj03095240000[1]"/>
          <p:cNvPicPr/>
          <p:nvPr/>
        </p:nvPicPr>
        <p:blipFill>
          <a:blip r:embed="rId1"/>
          <a:stretch/>
        </p:blipFill>
        <p:spPr>
          <a:xfrm>
            <a:off x="685800" y="1600200"/>
            <a:ext cx="3314880" cy="2198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066680" y="43434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We flipped coins to determine the genotype of our critters and pupp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lle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minan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– is considered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648320" y="1828800"/>
            <a:ext cx="3733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or tT –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omi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t - is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s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unnett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om and dad’s genotypes to determine the possible traits of their off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05520" y="2666880"/>
          <a:ext cx="3581280" cy="346392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enotyp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the traits determined by reading the geno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: FF = black fu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lack f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r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8" descr="cochese"/>
          <p:cNvPicPr/>
          <p:nvPr/>
        </p:nvPicPr>
        <p:blipFill>
          <a:blip r:embed="rId1"/>
          <a:stretch/>
        </p:blipFill>
        <p:spPr>
          <a:xfrm>
            <a:off x="4876920" y="1447920"/>
            <a:ext cx="3733560" cy="4647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aracteristic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features you exhibit physical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your look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Eye color - g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7" descr="MCj04038930000[1]"/>
          <p:cNvPicPr/>
          <p:nvPr/>
        </p:nvPicPr>
        <p:blipFill>
          <a:blip r:embed="rId1"/>
          <a:stretch/>
        </p:blipFill>
        <p:spPr>
          <a:xfrm>
            <a:off x="5289480" y="2438280"/>
            <a:ext cx="2787840" cy="2743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3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ai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t versions of a characteris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blue, green, and brown e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MCDD00650_0000[1]"/>
          <p:cNvPicPr/>
          <p:nvPr/>
        </p:nvPicPr>
        <p:blipFill>
          <a:blip r:embed="rId1"/>
          <a:stretch/>
        </p:blipFill>
        <p:spPr>
          <a:xfrm>
            <a:off x="6629400" y="4114800"/>
            <a:ext cx="1468440" cy="159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j04038930000[1]"/>
          <p:cNvPicPr/>
          <p:nvPr/>
        </p:nvPicPr>
        <p:blipFill>
          <a:blip r:embed="rId2"/>
          <a:stretch/>
        </p:blipFill>
        <p:spPr>
          <a:xfrm>
            <a:off x="4038480" y="42670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MCj04039970000[1]"/>
          <p:cNvPicPr/>
          <p:nvPr/>
        </p:nvPicPr>
        <p:blipFill>
          <a:blip r:embed="rId3"/>
          <a:stretch/>
        </p:blipFill>
        <p:spPr>
          <a:xfrm>
            <a:off x="1219320" y="4191120"/>
            <a:ext cx="152388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heritan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traits are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999280000[1]"/>
          <p:cNvPicPr/>
          <p:nvPr/>
        </p:nvPicPr>
        <p:blipFill>
          <a:blip r:embed="rId1"/>
          <a:stretch/>
        </p:blipFill>
        <p:spPr>
          <a:xfrm>
            <a:off x="304920" y="2392200"/>
            <a:ext cx="4495680" cy="347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ts of information passed down from parent to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chemicals called D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MCj03519580000[1]"/>
          <p:cNvPicPr/>
          <p:nvPr/>
        </p:nvPicPr>
        <p:blipFill>
          <a:blip r:embed="rId1"/>
          <a:stretch/>
        </p:blipFill>
        <p:spPr>
          <a:xfrm>
            <a:off x="1371600" y="2209680"/>
            <a:ext cx="187020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tic Disea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passed on through genes from a parent to the chi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ample 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rfan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Individual is tall, has long arms and le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member - JO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Cj04114640000[1]"/>
          <p:cNvPicPr/>
          <p:nvPr/>
        </p:nvPicPr>
        <p:blipFill>
          <a:blip r:embed="rId1"/>
          <a:stretch/>
        </p:blipFill>
        <p:spPr>
          <a:xfrm>
            <a:off x="944640" y="1981080"/>
            <a:ext cx="195084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produ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xu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Sperm fertilizes an egg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exua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1 organism copies itself to produc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7" descr="MCj02811420000[1]"/>
          <p:cNvPicPr/>
          <p:nvPr/>
        </p:nvPicPr>
        <p:blipFill>
          <a:blip r:embed="rId1"/>
          <a:stretch/>
        </p:blipFill>
        <p:spPr>
          <a:xfrm>
            <a:off x="1278000" y="1371600"/>
            <a:ext cx="2836800" cy="241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Pj01826480000[1]"/>
          <p:cNvPicPr/>
          <p:nvPr/>
        </p:nvPicPr>
        <p:blipFill>
          <a:blip r:embed="rId2"/>
          <a:stretch/>
        </p:blipFill>
        <p:spPr>
          <a:xfrm>
            <a:off x="1066680" y="4089240"/>
            <a:ext cx="3175200" cy="21384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rtiliz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when a sperm unites with an eg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9" descr="is?376913075754"/>
          <p:cNvPicPr/>
          <p:nvPr/>
        </p:nvPicPr>
        <p:blipFill>
          <a:blip r:embed="rId1"/>
          <a:stretch/>
        </p:blipFill>
        <p:spPr>
          <a:xfrm>
            <a:off x="4114800" y="1905120"/>
            <a:ext cx="3809880" cy="3581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ffspring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name for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male and female 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9" descr="MPj04008320000[1]"/>
          <p:cNvPicPr/>
          <p:nvPr/>
        </p:nvPicPr>
        <p:blipFill>
          <a:blip r:embed="rId1"/>
          <a:stretch/>
        </p:blipFill>
        <p:spPr>
          <a:xfrm>
            <a:off x="434340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12:41Z</dcterms:created>
  <dc:creator>PALO</dc:creator>
  <dc:description/>
  <dc:language>en-US</dc:language>
  <cp:lastModifiedBy>LEGION2</cp:lastModifiedBy>
  <dcterms:modified xsi:type="dcterms:W3CDTF">2016-01-12T11:07:44Z</dcterms:modified>
  <cp:revision>25</cp:revision>
  <dc:subject/>
  <dc:title>Gen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