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F090-9477-49F0-B77B-24EDBB1C0C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&amp; 2,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&amp; 2,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&amp; 2 –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&amp; 2 –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 the alkali metals are the alkaline earth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 are reactive, but not as reactive as the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 the alkali metals are the alkaline earth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 are reactive, but not as reactive as the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A1A5-73D9-4F3A-BD64-0C462D0F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674-9640-498B-ADFB-62F69BE6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725D-6228-4663-A20E-7EEB6270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54F0-B1B5-4992-BB67-1AE7C2CD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F4F2-C24D-4D7A-B3EA-7C7834A7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AF4-33B5-4B61-BB9B-5455783D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038-6769-4EDE-A289-C4E36DB8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D31-6F55-439C-9711-2CC5770B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A7D3-E06E-4FA4-BB9A-F0D77E04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DC06-110B-45F9-A6D4-07D6F349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7F20-CF30-40CA-BA55-8DE0A01D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7DBC-DC50-461F-8C3B-E4B64391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28F3-9D2D-4540-802C-290739991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s 1 &amp; 2, the Alkali Metals and the Alkaline Earth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 &amp; 2 – The alkali metals and the alkaline earth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49400" y="2386080"/>
          <a:ext cx="5962680" cy="2773440"/>
        </p:xfrm>
        <a:graphic>
          <a:graphicData uri="http://schemas.openxmlformats.org/drawingml/2006/table">
            <a:tbl>
              <a:tblPr/>
              <a:tblGrid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47640" y="1301760"/>
          <a:ext cx="1047960" cy="5168880"/>
        </p:xfrm>
        <a:graphic>
          <a:graphicData uri="http://schemas.openxmlformats.org/drawingml/2006/table">
            <a:tbl>
              <a:tblPr/>
              <a:tblGrid>
                <a:gridCol w="104796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2" name="Line 223"/>
          <p:cNvSpPr/>
          <p:nvPr/>
        </p:nvSpPr>
        <p:spPr>
          <a:xfrm flipH="1" flipV="1">
            <a:off x="1695240" y="1301400"/>
            <a:ext cx="1153800" cy="142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24"/>
          <p:cNvSpPr/>
          <p:nvPr/>
        </p:nvSpPr>
        <p:spPr>
          <a:xfrm flipH="1">
            <a:off x="1695240" y="4748040"/>
            <a:ext cx="1153800" cy="1722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240" y="685800"/>
            <a:ext cx="3192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oups 1 a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231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1 and 2 are always found in nature combined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33520" y="216216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’re called active metals because of their readiness to form new substances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3520" y="3530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ll metals except hydrogen, the first element in Group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33520" y="445464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hydrogen is placed in Group 1, it shares properties with the elements in Group 1 and Group 1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533520" y="2174760"/>
            <a:ext cx="8229600" cy="1499040"/>
            <a:chOff x="533520" y="2174760"/>
            <a:chExt cx="8229600" cy="1499040"/>
          </a:xfrm>
        </p:grpSpPr>
        <p:sp>
          <p:nvSpPr>
            <p:cNvPr id="61" name="Text Box 3"/>
            <p:cNvSpPr/>
            <p:nvPr/>
          </p:nvSpPr>
          <p:spPr>
            <a:xfrm>
              <a:off x="900000" y="2604960"/>
              <a:ext cx="38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ow densities and low melting p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4"/>
            <p:cNvSpPr/>
            <p:nvPr/>
          </p:nvSpPr>
          <p:spPr>
            <a:xfrm>
              <a:off x="533520" y="2174760"/>
              <a:ext cx="82296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ll the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 metals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are silvery solids wi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5"/>
          <p:cNvSpPr/>
          <p:nvPr/>
        </p:nvSpPr>
        <p:spPr>
          <a:xfrm>
            <a:off x="1571040" y="685800"/>
            <a:ext cx="280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 1 elements have a specific family name—alkal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602160"/>
            <a:ext cx="5410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increase in their reactivity, or tendency to combine with other substances, as you move from top to bot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im20"/>
          <p:cNvPicPr/>
          <p:nvPr/>
        </p:nvPicPr>
        <p:blipFill>
          <a:blip r:embed="rId1"/>
          <a:stretch/>
        </p:blipFill>
        <p:spPr>
          <a:xfrm>
            <a:off x="5562720" y="2679840"/>
            <a:ext cx="2800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533520" y="2174760"/>
            <a:ext cx="8381880" cy="2445480"/>
            <a:chOff x="533520" y="2174760"/>
            <a:chExt cx="8381880" cy="2445480"/>
          </a:xfrm>
        </p:grpSpPr>
        <p:sp>
          <p:nvSpPr>
            <p:cNvPr id="70" name="Text Box 5"/>
            <p:cNvSpPr/>
            <p:nvPr/>
          </p:nvSpPr>
          <p:spPr>
            <a:xfrm>
              <a:off x="882720" y="2576520"/>
              <a:ext cx="42228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nd has a higher melting point than the alkali metal in the same peri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6"/>
            <p:cNvSpPr/>
            <p:nvPr/>
          </p:nvSpPr>
          <p:spPr>
            <a:xfrm>
              <a:off x="533520" y="2174760"/>
              <a:ext cx="83818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ach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ne earth metal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is denser and hard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7"/>
          <p:cNvSpPr/>
          <p:nvPr/>
        </p:nvSpPr>
        <p:spPr>
          <a:xfrm>
            <a:off x="1570680" y="685800"/>
            <a:ext cx="4522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ne Earth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 to the alkali metals are the alkaline earth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33520" y="453708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kaline earth metals are reactive, but not as reactive as the alkali 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22"/>
          <p:cNvPicPr/>
          <p:nvPr/>
        </p:nvPicPr>
        <p:blipFill>
          <a:blip r:embed="rId1"/>
          <a:stretch/>
        </p:blipFill>
        <p:spPr>
          <a:xfrm>
            <a:off x="5511960" y="2666880"/>
            <a:ext cx="27939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925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be0e3"/>
                </a:solidFill>
                <a:latin typeface="Arial"/>
              </a:rPr>
              <a:t>Group 1 – The alkali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78" name="Text Box 207"/>
          <p:cNvSpPr/>
          <p:nvPr/>
        </p:nvSpPr>
        <p:spPr>
          <a:xfrm>
            <a:off x="0" y="1390680"/>
            <a:ext cx="43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These metals all have ___ electron in their outer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9"/>
          <p:cNvSpPr/>
          <p:nvPr/>
        </p:nvSpPr>
        <p:spPr>
          <a:xfrm>
            <a:off x="0" y="261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0"/>
          <p:cNvSpPr/>
          <p:nvPr/>
        </p:nvSpPr>
        <p:spPr>
          <a:xfrm>
            <a:off x="0" y="398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all react with water to form an alkali (hence their name) and __________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1"/>
          <p:cNvSpPr/>
          <p:nvPr/>
        </p:nvSpPr>
        <p:spPr>
          <a:xfrm>
            <a:off x="704880" y="6153120"/>
            <a:ext cx="78105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down, one, shell, hydrogen,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12"/>
          <p:cNvGrpSpPr/>
          <p:nvPr/>
        </p:nvGrpSpPr>
        <p:grpSpPr>
          <a:xfrm>
            <a:off x="0" y="4933800"/>
            <a:ext cx="9144000" cy="1066320"/>
            <a:chOff x="0" y="4933800"/>
            <a:chExt cx="9144000" cy="1066320"/>
          </a:xfrm>
        </p:grpSpPr>
        <p:sp>
          <p:nvSpPr>
            <p:cNvPr id="84" name="Text Box 213"/>
            <p:cNvSpPr/>
            <p:nvPr/>
          </p:nvSpPr>
          <p:spPr>
            <a:xfrm>
              <a:off x="0" y="4933800"/>
              <a:ext cx="9144000" cy="1066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water              potassium hydroxide +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K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  2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l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2KOH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+         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14"/>
            <p:cNvSpPr/>
            <p:nvPr/>
          </p:nvSpPr>
          <p:spPr>
            <a:xfrm>
              <a:off x="3048120" y="516240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15"/>
            <p:cNvSpPr/>
            <p:nvPr/>
          </p:nvSpPr>
          <p:spPr>
            <a:xfrm>
              <a:off x="3429000" y="569592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8:17Z</dcterms:created>
  <dc:creator>CIC1</dc:creator>
  <dc:description/>
  <dc:language>en-US</dc:language>
  <cp:lastModifiedBy>RomaK</cp:lastModifiedBy>
  <dcterms:modified xsi:type="dcterms:W3CDTF">2015-09-01T16:25:30Z</dcterms:modified>
  <cp:revision>7</cp:revision>
  <dc:subject/>
  <dc:title>Group 1, the Alkali Metals</dc:title>
</cp:coreProperties>
</file>