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0521-0060-4D56-8D5E-0243AD9538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19B-35AB-496F-AE3C-B73928CB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F3B-E05D-4DD9-90FF-DADF5787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5F3-DE6F-469F-8BF3-F94A83A3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15A-1D89-4451-97DC-A2CC49D6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18A-E26F-410F-8A70-4DA71FC6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64E-CF17-4F53-9699-7E32BAFA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085-1B88-4F9C-B09F-BF14A60B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09C-9982-4EEA-9021-60F4E329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C24-762E-45C7-B0E9-E84904D9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B60-CB9B-4418-A37D-62C33634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A7E-42D4-47FE-97F9-8EB81587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CDE-A678-45C5-89B5-EF8A4BF4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BD1-4E34-4E67-8115-C82F55093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s 1 &amp; 2,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&amp; 2 –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2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61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533520" y="2174760"/>
            <a:ext cx="8381880" cy="2445480"/>
            <a:chOff x="533520" y="2174760"/>
            <a:chExt cx="8381880" cy="2445480"/>
          </a:xfrm>
        </p:grpSpPr>
        <p:sp>
          <p:nvSpPr>
            <p:cNvPr id="70" name="Text Box 5"/>
            <p:cNvSpPr/>
            <p:nvPr/>
          </p:nvSpPr>
          <p:spPr>
            <a:xfrm>
              <a:off x="882720" y="2576520"/>
              <a:ext cx="4222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nd has a higher melting point than the alkali metal in the same peri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533520" y="2174760"/>
              <a:ext cx="8381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ach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ne earth metal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is denser and hard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7"/>
          <p:cNvSpPr/>
          <p:nvPr/>
        </p:nvSpPr>
        <p:spPr>
          <a:xfrm>
            <a:off x="1570680" y="685800"/>
            <a:ext cx="452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ne Ear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to the alkali metals are the alkaline ear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33520" y="45370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aline earth metals are reactive, but not as reactive as the alkali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2"/>
          <p:cNvPicPr/>
          <p:nvPr/>
        </p:nvPicPr>
        <p:blipFill>
          <a:blip r:embed="rId1"/>
          <a:stretch/>
        </p:blipFill>
        <p:spPr>
          <a:xfrm>
            <a:off x="5511960" y="2666880"/>
            <a:ext cx="2793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4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30Z</dcterms:modified>
  <cp:revision>7</cp:revision>
  <dc:subject/>
  <dc:title>Group 1, the Alkali Metals</dc:title>
</cp:coreProperties>
</file>