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60E0-536D-4383-AE61-E8620E7BAD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814-F69B-408E-B0A7-F36B02C5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9B1-7303-4FF2-9756-A9962C37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304-0A28-45E0-9120-1411DE20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150-5697-46CD-AB40-B0567BB9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5F5-170A-4FB7-8B32-28BBCD8C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F4A-307C-4037-9637-463779EA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BD2-213F-41D3-B678-BA0DAC5D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D71-F6B6-4E97-91C1-D71107A4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D2B-814E-4AF0-9996-9D8D193B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CD8-E753-469D-9629-145B3137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683-B886-4979-B525-C77D242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373-D649-4817-8956-BF64438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E041-4E71-42A3-BF58-10FAAC993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LEGION2</cp:lastModifiedBy>
  <dcterms:modified xsi:type="dcterms:W3CDTF">2016-01-12T11:01:12Z</dcterms:modified>
  <cp:revision>7</cp:revision>
  <dc:subject/>
  <dc:title>Genetic Traits</dc:title>
</cp:coreProperties>
</file>