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wmf" ContentType="image/x-wmf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BDFB-0EB3-4F30-A188-9714D38B27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tic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tic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e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e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handedness is due to a single gene with right handedness dominant and left handedness recessive.  However, other scientists have reported that the interaction of two genes is responsible for this tra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handedness is due to a single gene with right handedness dominant and left handedness recessive.  However, other scientists have reported that the interaction of two genes is responsible for this tra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ck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ck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’ the presence of freckles is dominant, the absence of freck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’ the presence of freckles is dominant, the absence of freck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r cu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r cu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geneticists reported that curly hair was dominant and strait hair was recessive.  More recent scientists believe that more than one gene may be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geneticists reported that curly hair was dominant and strait hair was recessive.  More recent scientists believe that more than one gene may be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allergic reactions are induced by things a person comes in contact with, such as dust, particular foods, and pollen, the tendency to have allergies is inherited.  If a parent has allergies, there is a one in four (25%) chance that their child will also have allergy problems.  The risk increases if both parents have aller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allergic reactions are induced by things a person comes in contact with, such as dust, particular foods, and pollen, the tendency to have allergies is inherited.  If a parent has allergies, there is a one in four (25%) chance that their child will also have allergy problems.  The risk increases if both parents have aller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 Clas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 Clas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report that there may be a genetic component to this trait while others have found no evidence to suppor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report that there may be a genetic component to this trait while others have found no evidence to suppor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rlo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h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rlo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h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blindness is due to a recessive allele located on the X chromosome.  Women have two X chromosomes, one of which usually carries the allele for normal color vision.  Therefore, few women are colorblind.  Men only have one X chromosome, so if they carry the allele for colorblindness, they will exhibit this trait.  Thus, colorblindness is seen more frequently in men than in wo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blindness is due to a recessive allele located on the X chromosome.  Women have two X chromosomes, one of which usually carries the allele for normal color vision.  Therefore, few women are colorblind.  Men only have one X chromosome, so if they carry the allele for colorblindness, they will exhibit this trait.  Thus, colorblindness is seen more frequently in men than in wo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of sh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of sh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this trait is due to a single gene for which unattached earlobes is dominant and an attached earlobe is recessive. Other scientists have reported that this trait is probably due to several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this trait is due to a single gene for which unattached earlobes is dominant and an attached earlobe is recessive. Other scientists have reported that this trait is probably due to several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umb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umb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; strait thumb is dominant and hitchhiker's thumb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; strait thumb is dominant and hitchhiker's thumb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ngue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ngue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gue rolling ability may be due to a single gene with the ability to roll the tongue a dominant trait and the lack of tongue rolling ability a recessive trait.However, many twins do not share the trait, so it may not be inheri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gue rolling ability may be due to a single gene with the ability to roll the tongue a dominant trait and the lack of tongue rolling ability a recessive trait.However, many twins do not share the trait, so it may not be inheri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ples are reportedly due to a single gene with dimples dominant (people may exibit a dimple on only one side of the face) and a lack of dimp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ples are reportedly due to a single gene with dimples dominant (people may exibit a dimple on only one side of the face) and a lack of dimp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DC3E-9625-4433-BF39-7F0442B8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512D-C5FF-4D38-B598-179C7095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5F3D-A94B-4B6D-ADBC-63296B8E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FB16-F887-42B2-B994-BB27805D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DA50-B501-4436-86E5-45B1A57C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C02E-F043-4943-9A3D-4EC77B62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F4F5-32BC-4985-9FBF-CC5B2308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B1DE-EAF7-4F72-AA55-3E24C484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2D4-B50E-459E-8442-253B3409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F20D-B5AA-498B-B26F-EB345411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E205-BB6D-4103-820A-4290D3C5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62F7-16E3-4769-9E58-65816F4F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FE35-3BF6-41B5-8F4C-2110EA5E4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wmf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Book Antiqua"/>
              </a:rPr>
              <a:t>Genetic Traits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pe02719_"/>
          <p:cNvPicPr/>
          <p:nvPr/>
        </p:nvPicPr>
        <p:blipFill>
          <a:blip r:embed="rId1"/>
          <a:stretch/>
        </p:blipFill>
        <p:spPr>
          <a:xfrm>
            <a:off x="457200" y="4724280"/>
            <a:ext cx="1738440" cy="168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bd20082_"/>
          <p:cNvPicPr/>
          <p:nvPr/>
        </p:nvPicPr>
        <p:blipFill>
          <a:blip r:embed="rId2"/>
          <a:stretch/>
        </p:blipFill>
        <p:spPr>
          <a:xfrm>
            <a:off x="7272360" y="4608360"/>
            <a:ext cx="1871640" cy="224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403720"/>
          <p:cNvPicPr/>
          <p:nvPr/>
        </p:nvPicPr>
        <p:blipFill>
          <a:blip r:embed="rId3"/>
          <a:stretch/>
        </p:blipFill>
        <p:spPr>
          <a:xfrm>
            <a:off x="7188120" y="0"/>
            <a:ext cx="1955880" cy="2446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j0396128"/>
          <p:cNvPicPr/>
          <p:nvPr/>
        </p:nvPicPr>
        <p:blipFill>
          <a:blip r:embed="rId4"/>
          <a:stretch/>
        </p:blipFill>
        <p:spPr>
          <a:xfrm>
            <a:off x="228600" y="228600"/>
            <a:ext cx="1554120" cy="23414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676520" y="1981080"/>
            <a:ext cx="601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ndednes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j0403720"/>
          <p:cNvPicPr/>
          <p:nvPr/>
        </p:nvPicPr>
        <p:blipFill>
          <a:blip r:embed="rId1"/>
          <a:stretch/>
        </p:blipFill>
        <p:spPr>
          <a:xfrm>
            <a:off x="6477120" y="228600"/>
            <a:ext cx="1434960" cy="1793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j0428643"/>
          <p:cNvPicPr/>
          <p:nvPr/>
        </p:nvPicPr>
        <p:blipFill>
          <a:blip r:embed="rId2"/>
          <a:stretch/>
        </p:blipFill>
        <p:spPr>
          <a:xfrm>
            <a:off x="5105520" y="3429000"/>
            <a:ext cx="3749400" cy="3046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j0411802"/>
          <p:cNvPicPr/>
          <p:nvPr/>
        </p:nvPicPr>
        <p:blipFill>
          <a:blip r:embed="rId3"/>
          <a:stretch/>
        </p:blipFill>
        <p:spPr>
          <a:xfrm>
            <a:off x="457200" y="327672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have reported that handedness is due to a single gene with right handedness dominant and left handedness recessive.  However, other scientists have reported that the interaction of two genes is responsible for this tra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Freck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j0411750"/>
          <p:cNvPicPr/>
          <p:nvPr/>
        </p:nvPicPr>
        <p:blipFill>
          <a:blip r:embed="rId1"/>
          <a:stretch/>
        </p:blipFill>
        <p:spPr>
          <a:xfrm>
            <a:off x="4572000" y="40384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j0402654"/>
          <p:cNvPicPr/>
          <p:nvPr/>
        </p:nvPicPr>
        <p:blipFill>
          <a:blip r:embed="rId2"/>
          <a:stretch/>
        </p:blipFill>
        <p:spPr>
          <a:xfrm>
            <a:off x="685800" y="533520"/>
            <a:ext cx="1728720" cy="25905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is trait is reportedly due to a single gene’ the presence of freckles is dominant, the absence of freckles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ir cur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j0227518"/>
          <p:cNvPicPr/>
          <p:nvPr/>
        </p:nvPicPr>
        <p:blipFill>
          <a:blip r:embed="rId1"/>
          <a:stretch/>
        </p:blipFill>
        <p:spPr>
          <a:xfrm>
            <a:off x="0" y="0"/>
            <a:ext cx="3048120" cy="204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j0411750"/>
          <p:cNvPicPr/>
          <p:nvPr/>
        </p:nvPicPr>
        <p:blipFill>
          <a:blip r:embed="rId2"/>
          <a:stretch/>
        </p:blipFill>
        <p:spPr>
          <a:xfrm>
            <a:off x="6095880" y="38098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arly geneticists reported that curly hair was dominant and strait hair was recessive.  More recent scientists believe that more than one gene may be involv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Allergi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j0422448"/>
          <p:cNvPicPr/>
          <p:nvPr/>
        </p:nvPicPr>
        <p:blipFill>
          <a:blip r:embed="rId1"/>
          <a:stretch/>
        </p:blipFill>
        <p:spPr>
          <a:xfrm>
            <a:off x="0" y="0"/>
            <a:ext cx="1773360" cy="2362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j0397871"/>
          <p:cNvPicPr/>
          <p:nvPr/>
        </p:nvPicPr>
        <p:blipFill>
          <a:blip r:embed="rId2"/>
          <a:stretch/>
        </p:blipFill>
        <p:spPr>
          <a:xfrm>
            <a:off x="4191120" y="4343400"/>
            <a:ext cx="898560" cy="93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j0400574"/>
          <p:cNvPicPr/>
          <p:nvPr/>
        </p:nvPicPr>
        <p:blipFill>
          <a:blip r:embed="rId3"/>
          <a:stretch/>
        </p:blipFill>
        <p:spPr>
          <a:xfrm>
            <a:off x="7391520" y="0"/>
            <a:ext cx="1434960" cy="1793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j0341905"/>
          <p:cNvPicPr/>
          <p:nvPr/>
        </p:nvPicPr>
        <p:blipFill>
          <a:blip r:embed="rId4"/>
          <a:stretch/>
        </p:blipFill>
        <p:spPr>
          <a:xfrm>
            <a:off x="0" y="4419720"/>
            <a:ext cx="1739880" cy="2438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j0350669"/>
          <p:cNvPicPr/>
          <p:nvPr/>
        </p:nvPicPr>
        <p:blipFill>
          <a:blip r:embed="rId5"/>
          <a:stretch/>
        </p:blipFill>
        <p:spPr>
          <a:xfrm>
            <a:off x="3352680" y="609480"/>
            <a:ext cx="1816200" cy="1094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j0411667"/>
          <p:cNvPicPr/>
          <p:nvPr/>
        </p:nvPicPr>
        <p:blipFill>
          <a:blip r:embed="rId6"/>
          <a:stretch/>
        </p:blipFill>
        <p:spPr>
          <a:xfrm>
            <a:off x="655308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Book Antiqua"/>
              </a:rPr>
              <a:t>While allergic reactions are induced by things a person comes in contact with, such as dust, particular foods, and pollen, the tendency to have allergies is inherited.  If a parent has allergies, there is a one in four (25%) chance that their child will also have allergy problems.  The risk increases if both parents have allergies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676520" y="1981080"/>
            <a:ext cx="601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nd Clasp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j0428643"/>
          <p:cNvPicPr/>
          <p:nvPr/>
        </p:nvPicPr>
        <p:blipFill>
          <a:blip r:embed="rId1"/>
          <a:stretch/>
        </p:blipFill>
        <p:spPr>
          <a:xfrm>
            <a:off x="152280" y="228600"/>
            <a:ext cx="3063960" cy="24890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report that there may be a genetic component to this trait while others have found no evidence to support th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76520" y="1981080"/>
            <a:ext cx="563868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Earlob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Attachmen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j0409149"/>
          <p:cNvPicPr/>
          <p:nvPr/>
        </p:nvPicPr>
        <p:blipFill>
          <a:blip r:embed="rId1"/>
          <a:stretch/>
        </p:blipFill>
        <p:spPr>
          <a:xfrm>
            <a:off x="380880" y="609480"/>
            <a:ext cx="2057400" cy="221004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066680" y="19810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Colorblindnes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" descr="j0396128"/>
          <p:cNvPicPr/>
          <p:nvPr/>
        </p:nvPicPr>
        <p:blipFill>
          <a:blip r:embed="rId1"/>
          <a:stretch/>
        </p:blipFill>
        <p:spPr>
          <a:xfrm>
            <a:off x="3733920" y="3124080"/>
            <a:ext cx="1554120" cy="2341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j0406700"/>
          <p:cNvPicPr/>
          <p:nvPr/>
        </p:nvPicPr>
        <p:blipFill>
          <a:blip r:embed="rId2"/>
          <a:stretch/>
        </p:blipFill>
        <p:spPr>
          <a:xfrm>
            <a:off x="6095880" y="4827600"/>
            <a:ext cx="3048120" cy="2030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j0428588"/>
          <p:cNvPicPr/>
          <p:nvPr/>
        </p:nvPicPr>
        <p:blipFill>
          <a:blip r:embed="rId3"/>
          <a:stretch/>
        </p:blipFill>
        <p:spPr>
          <a:xfrm>
            <a:off x="0" y="4967280"/>
            <a:ext cx="2835360" cy="1890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j0409311"/>
          <p:cNvPicPr/>
          <p:nvPr/>
        </p:nvPicPr>
        <p:blipFill>
          <a:blip r:embed="rId4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j0409654"/>
          <p:cNvPicPr/>
          <p:nvPr/>
        </p:nvPicPr>
        <p:blipFill>
          <a:blip r:embed="rId5"/>
          <a:stretch/>
        </p:blipFill>
        <p:spPr>
          <a:xfrm>
            <a:off x="0" y="0"/>
            <a:ext cx="3200400" cy="213516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Colorblindness is due to a recessive allele located on the X chromosome.  Women have two X chromosomes, one of which usually carries the allele for normal color vision.  Therefore, few women are colorblind.  Men only have one X chromosome, so if they carry the allele for colorblindness, they will exhibit this trait.  Thus, colorblindness is seen more frequently in men than in wom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066680" y="19810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End of show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have reported that this trait is due to a single gene for which unattached earlobes is dominant and an attached earlobe is recessive. Other scientists have reported that this trait is probably due to several gen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676520" y="1981080"/>
            <a:ext cx="5638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Thumb Extens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j0402542"/>
          <p:cNvPicPr/>
          <p:nvPr/>
        </p:nvPicPr>
        <p:blipFill>
          <a:blip r:embed="rId1"/>
          <a:stretch/>
        </p:blipFill>
        <p:spPr>
          <a:xfrm>
            <a:off x="0" y="0"/>
            <a:ext cx="2394000" cy="3352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j0402585"/>
          <p:cNvPicPr/>
          <p:nvPr/>
        </p:nvPicPr>
        <p:blipFill>
          <a:blip r:embed="rId2"/>
          <a:stretch/>
        </p:blipFill>
        <p:spPr>
          <a:xfrm>
            <a:off x="6858000" y="44956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is trait is reportedly due to a single gene; strait thumb is dominant and hitchhiker's thumb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676520" y="1981080"/>
            <a:ext cx="5638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Tongue Roll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j0262237"/>
          <p:cNvPicPr/>
          <p:nvPr/>
        </p:nvPicPr>
        <p:blipFill>
          <a:blip r:embed="rId1"/>
          <a:stretch/>
        </p:blipFill>
        <p:spPr>
          <a:xfrm>
            <a:off x="0" y="0"/>
            <a:ext cx="2378160" cy="365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j0409525"/>
          <p:cNvPicPr/>
          <p:nvPr/>
        </p:nvPicPr>
        <p:blipFill>
          <a:blip r:embed="rId2"/>
          <a:stretch/>
        </p:blipFill>
        <p:spPr>
          <a:xfrm>
            <a:off x="5715000" y="45720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ongue rolling ability may be due to a single gene with the ability to roll the tongue a dominant trait and the lack of tongue rolling ability a recessive trait.However, many twins do not share the trait, so it may not be inherit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676520" y="1981080"/>
            <a:ext cx="56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Dimp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j0411750"/>
          <p:cNvPicPr/>
          <p:nvPr/>
        </p:nvPicPr>
        <p:blipFill>
          <a:blip r:embed="rId1"/>
          <a:stretch/>
        </p:blipFill>
        <p:spPr>
          <a:xfrm>
            <a:off x="533520" y="320040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Dimples are reportedly due to a single gene with dimples dominant (people may exibit a dimple on only one side of the face) and a lack of dimples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1:18:45Z</dcterms:created>
  <dc:creator>Pam Tucker</dc:creator>
  <dc:description/>
  <dc:language>en-US</dc:language>
  <cp:lastModifiedBy>LEGION2</cp:lastModifiedBy>
  <dcterms:modified xsi:type="dcterms:W3CDTF">2016-01-12T11:01:12Z</dcterms:modified>
  <cp:revision>7</cp:revision>
  <dc:subject/>
  <dc:title>Genetic Traits</dc:title>
</cp:coreProperties>
</file>