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D36E2-909D-4A7F-9619-0E351F4E0A3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implantation screening: Screening embryos fertilised by IVF before they are implanted into the uter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predict adult-onset diseases such as Huntington’s dis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ymptomatic screening: Screening to estimate the risk of developing cancer or Alzheimer’s disease as an adu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nsic/Identity testing: Screening to eg. determine the father of an individual (paternity te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759-9C2E-4410-9BBD-D676D59E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5FB8-F153-41D8-B418-E34B9C24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E491-210F-4FE4-B4B2-98A04FEC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233-EC41-40BE-A0A7-B1922026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1065-055C-4679-957B-7487261F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15D9-6B46-4D6B-BA94-E45BDA46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F89-760A-4545-9B01-D2DAACA1C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792-9686-4222-B1E3-E3FE6210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04EF-D2CF-46A8-ABB2-88B833A5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E9FB-BB49-4109-B22D-644A4DC3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A311-7A74-4029-AFFB-3AB11E44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A070-EB56-4ABD-8C76-EF58365E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76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317BE-E4D4-4A46-9286-BDBC99F38B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GENETIC SCREENING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enetic screen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fastest moving fields in medical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echnique to determine the genotype or phenotype of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often used to detect faulty or abnormal genes in an organ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examples of genetic t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natal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detect a disorder before a baby is bo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ultrasound test is used to determine if the fetus is at a high or low risk from a genetic disor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orders are diagnosed by examining a small amount of fetal cells. This carries a small risk to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diagnosed early in the pregnancy, there is still the possibility of abor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natal screening is sometimes seen as controvers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born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borns are tested for diseases and early diagnoses allows for immediate trea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lood sample is tested for genetic disor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st of the USA, newborn screening is mandatory, unless parents have a religious objection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residual blood samples are used for genetic research, as long as the samples are kept anonym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rier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nvolves testing prospective parents for diseases that they show no symptoms of, but may carry a recessive gene f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lood sample or cheek cell sample is analysed to determine whether either parent carries a faulty g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specific faulty gene, the chance of the fetus receiving the gene from both parents is 25%, and the chance of being a carrier is 5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oth parents carry a faulty gene, they may decide to have prenatal testing on the fe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ypes of scree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implantation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embryos fertilised by IVF before they are implanted into the uter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predict adult-onset diseases such as Huntington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ymptomatic scree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stimate the risk of developing cancer or Alzheimer’s disease as an ad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nsic/Identity test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to eg. determine the father of an individual (paternity tes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20:04:49Z</dcterms:created>
  <dc:creator>ROSI JELFS</dc:creator>
  <dc:description/>
  <dc:language>en-US</dc:language>
  <cp:lastModifiedBy>LEGION2</cp:lastModifiedBy>
  <dcterms:modified xsi:type="dcterms:W3CDTF">2016-01-12T10:56:23Z</dcterms:modified>
  <cp:revision>15</cp:revision>
  <dc:subject/>
  <dc:title>GENETIC SCREENING</dc:title>
</cp:coreProperties>
</file>