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038A-F3BC-44C4-97B5-CCFB8131D8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ica 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Multiplication of the host cell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cale fermenters by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genetically identical because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Extraction of desired gen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, also known as recombinant DNA technology, means altering the genes in a living organism to produce a Genetically Modified Organism (GMO) with a new genoty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kinds of genetic modification are possible: inserting a foreign gene from one species into another, forming a transgenic organism; altering an existing gene so that its product is changed; or changing gene expression so that it is translated more often or not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teps in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it in a host using a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s many copies of the host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purify the product of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1: Isolating the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Alternative method (using reverse transcript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NA converted into 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mentary strand produced using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tage – more mRNA in cell tha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 2: Inserting gene into v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ctor – molecule of DNA which is used to carry a foreign gene into a  host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nserting vector into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13A-6F20-4477-B8E8-B0FDF615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04B-7EF8-4748-BA1A-D460213B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99E-C1BF-4B4E-80A6-8E0C75DC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D1B-FE05-4386-9369-0CE29E19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036-7539-4083-8802-71B7A993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804-CD5B-4833-9F18-03EE12A0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853-B63F-4F19-9295-0C38D51D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160-063A-40D7-8B70-5D210B5E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E71-BE1C-4D96-9148-000DF85B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44D-2E83-40B7-984F-7630AA12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9DC-B264-4A3D-88B5-3D39B03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2FC-F8BB-4191-8A3B-710F7B80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7BC9-A81A-4230-BEC2-03437976B4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nciples of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plica pla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Image25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3672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4: Multiplication of the host cells by clo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cale fermenters by clo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genetically identical because of asexual rep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5: Extraction of desired gene produc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 is genetic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8376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netic engineering, also known a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combinant DNA technolo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means altering the genes in a living organism to produc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tically Modified Organism (GMO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with a new genotyp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ous kinds of genetic modification are possible: inserting a foreign gene from one species into another, forming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ransgenic organism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; altering an existing gene so that its product is changed; or changing gene expression so that it is translated more often or not at all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asic steps in genetic engineer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ate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sert it in a host using a v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duce as many copies of the host as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e and purify the product of the ge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ep 1: Isolating the ge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Image24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63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1: Alternative method (using reverse transcriptas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verse transcript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RNA converted into c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mentary strand produced using DNA polymer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vantage – more mRNA in cell than D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2: Inserting gene into vect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45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c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– molecule of DNA which is used to carry a foreign gene into a  host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plasmid-text"/>
          <p:cNvPicPr/>
          <p:nvPr/>
        </p:nvPicPr>
        <p:blipFill>
          <a:blip r:embed="rId1"/>
          <a:stretch/>
        </p:blipFill>
        <p:spPr>
          <a:xfrm>
            <a:off x="4788000" y="1052640"/>
            <a:ext cx="3571920" cy="5391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5" descr="pbr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Image24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tep 3: inserting vector into ho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e workshe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4" descr="Image250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3960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20:58:35Z</dcterms:created>
  <dc:creator>Matis</dc:creator>
  <dc:description/>
  <dc:language>en-US</dc:language>
  <cp:lastModifiedBy>LEGION2</cp:lastModifiedBy>
  <dcterms:modified xsi:type="dcterms:W3CDTF">2016-01-12T10:47:48Z</dcterms:modified>
  <cp:revision>9</cp:revision>
  <dc:subject/>
  <dc:title>Principles of genetic engineering</dc:title>
</cp:coreProperties>
</file>