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6604-D335-4578-AD94-6560AB176E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ica 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ica 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Multiplication of the host cell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cale fermenter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genetically identical because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Multiplication of the host cell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cale fermenter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genetically identical because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Extraction of desired gen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Extraction of desired gen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, also known as recombinant DNA technology, means altering the genes in a living organism to produce a Genetically Modified Organism (GMO) with a new genoty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kinds of genetic modification are possible: inserting a foreign gene from one species into another, forming a transgenic organism; altering an existing gene so that its product is changed; or changing gene expression so that it is translated more often or not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, also known as recombinant DNA technology, means altering the genes in a living organism to produce a Genetically Modified Organism (GMO) with a new genoty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kinds of genetic modification are possible: inserting a foreign gene from one species into another, forming a transgenic organism; altering an existing gene so that its product is changed; or changing gene expression so that it is translated more often or not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teps in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it in a host using a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s many copies of the host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purify the product of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teps in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it in a host using a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s many copies of the host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purify the product of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solating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1: Isolating the 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Alternative method (using reverse transcrip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NA converted into 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mentary strand produced using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 – more mRNA in cell tha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Alternative method (using reverse transcrip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NA converted into 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mentary strand produced using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 – more mRNA in cell tha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Inserting gene into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 – molecule of DNA which is used to carry a foreign gene into a 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2: Inserting gene into v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ctor – molecule of DNA which is used to carry a foreign gene into a  host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nserting vector into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nserting vector into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150-21CF-4F2E-869D-EB6B5227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365-6E23-4A1E-96F4-D1CBA22C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E25-7C4F-4371-894E-830C88A3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111-E785-48D9-8BB1-C4F1A9AA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9CA-2337-4D13-B347-8370AD9F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78B-FAC2-487C-A7BB-FC5652CF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259F-B2C8-4B89-BAD5-05FCB4E4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200-9F79-4E01-96A6-B6F6CDCE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4E14-EFC1-40E3-BBD3-F18A9D15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D3A-F3A4-42DF-BDD1-EB8914D6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ED83-FF4B-41D8-8B6C-11618940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49C-4ECD-4BC5-9A0E-0901CFEE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377A-1419-41BE-86A2-BA072F4F6E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nciples of genetic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plica pla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4" descr="Image251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3672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4: Multiplication of the host cells by clon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cale fermenters by clo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genetically identical because of asexual reprod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5: Extraction of desired gene produc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genetic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283760"/>
            <a:ext cx="82296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tic engineering, also known a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combinant DNA technolog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means altering the genes in a living organism to produce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Genetically Modified Organism (GMO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ith a new genotyp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ous kinds of genetic modification are possible: inserting a foreign gene from one species into another, forming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ransgenic organis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; altering an existing gene so that its product is changed; or changing gene expression so that it is translated more often or not at al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asic steps in genetic engineer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ate the ge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sert it in a host using a ve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duce as many copies of the host as possi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parate and purify the product of the ge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ep 1: Isolating the ge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Image24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0636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1: Alternative method (using reverse transcriptase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verse transcript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RNA converted into c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mentary strand produced using DNA polymer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dvantage – more mRNA in cell than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2: Inserting gene into vect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345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ct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– molecule of DNA which is used to carry a foreign gene into a  host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plasmid-text"/>
          <p:cNvPicPr/>
          <p:nvPr/>
        </p:nvPicPr>
        <p:blipFill>
          <a:blip r:embed="rId1"/>
          <a:stretch/>
        </p:blipFill>
        <p:spPr>
          <a:xfrm>
            <a:off x="4788000" y="1052640"/>
            <a:ext cx="3571920" cy="5391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" descr="pbr3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Image24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1752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3: inserting vector into ho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e workshe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4" descr="Image250"/>
          <p:cNvPicPr/>
          <p:nvPr/>
        </p:nvPicPr>
        <p:blipFill>
          <a:blip r:embed="rId1"/>
          <a:stretch/>
        </p:blipFill>
        <p:spPr>
          <a:xfrm>
            <a:off x="468360" y="2421000"/>
            <a:ext cx="8207280" cy="39607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20:58:35Z</dcterms:created>
  <dc:creator>Matis</dc:creator>
  <dc:description/>
  <dc:language>en-US</dc:language>
  <cp:lastModifiedBy>LEGION2</cp:lastModifiedBy>
  <dcterms:modified xsi:type="dcterms:W3CDTF">2016-01-12T10:47:48Z</dcterms:modified>
  <cp:revision>9</cp:revision>
  <dc:subject/>
  <dc:title>Principles of genetic engineering</dc:title>
</cp:coreProperties>
</file>