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gif" ContentType="image/gif"/>
  <Override PartName="/ppt/media/camera.wav" ContentType="audio/x-wav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F3D9-F749-420B-BA2E-A66624A317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 of alleles-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red flowe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   RED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of alleles-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ed flow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   RE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757-7009-44D0-8452-CE85A981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318-8F8D-43F8-BFE2-0493A306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E32-317E-452A-AF89-9A201748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42F-696F-416F-838C-E2E1E7E0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56EA-5838-48E8-9C68-5923C5EB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BD16-FA35-4456-BB63-31D4E7D2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6F13-D353-45ED-9D97-635344E1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D8DF-1CAD-437B-9565-13EE2845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5440-CC2E-4D19-A18F-5CF0931B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B30F-F7C3-4677-A17A-317B561D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0A04-DF24-4666-B301-354396D7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4AD-323D-4339-9E13-047C5800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B06C-52B0-439B-982C-14C75223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EAE7-B179-4346-88B7-38C58B33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13EF-D0D0-4C53-9EC1-0CA3F36F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5771-88E2-43B7-BFBD-3B8F8F44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E980-CFF5-45EC-A7D9-282C5135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398-CACB-47DA-BF5E-A7CD8A73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71D-9EB9-4EE1-9FB5-E36120AD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7E1-D63B-4DD4-BCD1-3C0AC17E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6C5-0B8F-482D-A5E1-04A55A1C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474-EE06-4339-A1C2-C3F0724A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0F4-08CF-45D8-9F04-A9BE7948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44A-41EA-41E0-9EA5-50F034E8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7440-C85F-47ED-8B45-B3B6494CD2B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BAFF-B595-4C9C-BEEF-681930EF06A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tic Cro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21333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7467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21337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327672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7010280" y="609120"/>
            <a:ext cx="1447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33520" y="609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4191120" y="1828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male bl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09480" y="3962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39625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white 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35053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029200" y="2590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2286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2209680" y="4724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60948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33526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34290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48769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629400" y="335268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75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75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838080" y="1447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762120" y="4572000"/>
            <a:ext cx="3352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4724280" y="5715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 flipV="1">
            <a:off x="3657600" y="4114440"/>
            <a:ext cx="8380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member think how lucky you a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Picture 4" descr="creature"/>
          <p:cNvPicPr/>
          <p:nvPr/>
        </p:nvPicPr>
        <p:blipFill>
          <a:blip r:embed="rId1"/>
          <a:stretch/>
        </p:blipFill>
        <p:spPr>
          <a:xfrm>
            <a:off x="2971800" y="1905120"/>
            <a:ext cx="342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52320" y="182880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191120" y="4191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control of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eye"/>
          <p:cNvPicPr/>
          <p:nvPr/>
        </p:nvPicPr>
        <p:blipFill>
          <a:blip r:embed="rId1"/>
          <a:stretch/>
        </p:blipFill>
        <p:spPr>
          <a:xfrm>
            <a:off x="3657600" y="3200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otype and phenotyp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ominance and recessive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er gene is </a:t>
            </a:r>
            <a:r>
              <a:rPr b="1" lang="en-GB" sz="3200" spc="-1" strike="noStrike">
                <a:solidFill>
                  <a:srgbClr val="ff0033"/>
                </a:solidFill>
                <a:latin typeface="Times New Roman"/>
              </a:rPr>
              <a:t>DOMINA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is represented by a capital letter      e.g.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asked gene is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RESSESIV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hown as lower case of the same letter      e.g.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14400" y="2057400"/>
            <a:ext cx="7315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 of alleles-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red flow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yellow fl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l genes occur in pairs – so 2 alleles affect a characteristic – possible combinations 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90720" y="4952880"/>
            <a:ext cx="70102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h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ED             RED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7" descr="A2PLNT26"/>
          <p:cNvPicPr/>
          <p:nvPr/>
        </p:nvPicPr>
        <p:blipFill>
          <a:blip r:embed="rId1"/>
          <a:stretch/>
        </p:blipFill>
        <p:spPr>
          <a:xfrm>
            <a:off x="7162920" y="1523880"/>
            <a:ext cx="152388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4267080" y="5486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6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2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30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1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8862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2133720" y="54864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2057400" y="5562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</a:rPr>
              <a:t>red              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289548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7:00:18Z</dcterms:created>
  <dc:creator>Rik G</dc:creator>
  <dc:description/>
  <dc:language>en-US</dc:language>
  <cp:lastModifiedBy>RomaK</cp:lastModifiedBy>
  <dcterms:modified xsi:type="dcterms:W3CDTF">2015-09-04T11:32:07Z</dcterms:modified>
  <cp:revision>25</cp:revision>
  <dc:subject/>
  <dc:title>Genetic Crosses</dc:title>
</cp:coreProperties>
</file>