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gif" ContentType="image/gif"/>
  <Override PartName="/ppt/media/camera.wav" ContentType="audio/x-wav"/>
  <Override PartName="/ppt/media/type.wav" ContentType="audio/x-wav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F110-D217-4F59-AD5F-4182032B0D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Cro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ow possible outcomes of genes the new generation will ha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us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 diagram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nnett Squa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possible outcomes of genes the new generation will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nett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        yellow               yellow             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50%         yellow 5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        yellow               yellow            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50%         yellow 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nnett Squ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other method of showing cro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nett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method of showing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mete genotypes are inser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ent genotypes are inserted    B=black       b=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     male bl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 white 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cro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 white and 2 black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0:50 chance with these pa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 genotypes are inse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 genotypes are inserted    B=black       b=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     male bl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 white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white and 2 black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:50 chance with these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 black rats are mated, they have 13 offspring. All of which are black, what are the genotypes of the pa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ale is re-mated with a white female, the offspring a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 black   and  7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re the genotypes of the original pa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s have 2 coat colours – black B, white b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th    BB    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could be 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male BB    Male 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lack rats are mated, they have 13 offspring. All of which are black, what are the genotypes of the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le is re-mated with a white female, the offspring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black   and  7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re the genotypes of the original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s have 2 coat colours – black B, white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   BB    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ould be 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BB    Male 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member think how lucky you ar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ink how lucky you 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rmin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Phenotype Parent  Gamete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nt  recessive 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Phenotype Parent  Gamete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t  recessive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 control of characteris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characteristics are controlled by a minimum of 2 genes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se genes give the characteristic a different of presenting itself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genes that control the same feature are called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control of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haracteristics are controlled by a minimum of 2 gen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genes give the characteristic a different of presenting it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genes that control the same feature are called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ssible alleles – blue , brown, green, hazel etc    (each colour needs its own gen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possible to have pairs of different alleles, alleles are usually given a le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alleles – blue , brown, green, hazel etc    (each colour needs its own ge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possible to have pairs of different alleles, alleles are usually given a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and 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is the letter or term used to describe the allele of an individual gene or  pair of ge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 – is how the gene (or pair) shows itself, how it appea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and 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is the letter or term used to describe the allele of an individual gene or  pair of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 – is how the gene (or pair) shows itself, how it app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nce and recessiven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alleles for a feature are able to mask the influence of other (weaker) gene when they are pai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onger gene is DOMINANT and is represented by a capital letter      e.g. 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asked gene is RESSESIVE shown as lower case of the same letter      e.g.   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ce and recessive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lleles for a feature are able to mask the influence of other (weaker) gene when they are pa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gene is DOMINANT and is represented by a capital letter      e.g.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ked gene is RESSESIVE shown as lower case of the same letter      e.g.  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otype of alleles-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= red flower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= yellow flo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ll genes occur in pairs – so 2 alleles affect a characteristic – possible combinations are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            RED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YEL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of alleles-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red flow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yellow fl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genes occur in pairs – so 2 alleles affect a characteristic – possible combinations ar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            RED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ll 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         yellow          red              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3 red    :   1 yel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                    r                      R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         yellow          red             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red    :   1 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1816-87D7-4267-8DBC-CBFAA7FC8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8648-EAF0-42B4-B83B-DD77DC3C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7854-1F2E-4E85-BFDC-28D72C8C3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C1A6-9BA9-4CF6-9804-E1429C6A5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905F-1FF2-49D3-BBF4-C7BA677C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9D51-51D9-481C-A94A-54CA948D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652C-A0C9-4A77-B4FA-C8AA86D5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B253-CF5D-42B3-91C6-273C1E5B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D4E4-9132-4BDD-AEAC-D6D3365F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8255-EBA9-469A-8CC1-B185E29B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4BA9-E96C-4443-B66D-89BCCBC6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2500-D35E-4980-838F-7B405F8E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9D5F-0936-47DB-85D1-661437FB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6AAA-6998-4520-BE8B-ACC6C80A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E376-E578-46B6-81B6-232A99C1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43D7-18F7-4752-8EB4-9C28EB4CD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3C44-A9C6-4D11-B083-664F14437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71A4-CEE1-460B-A6D6-3A577015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3356-CEE8-4B57-8F97-6B0D16E6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53C1-B352-43CD-BA2D-A0CC81E3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0AA9-8646-44E2-B7FE-02328F94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B7FE-E2E8-45D9-9B04-B99B34B0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9564-FE58-41C5-9D1E-A63910FF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2EC6-A5F8-49D1-8D02-37550A35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33F6-FA83-4522-80BE-0584D48402F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61B1-B7DA-43CF-89E2-15C64E9A68A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whoosh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whoosh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whoosh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audio" Target="../media/whoosh.wav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tic Cro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920" y="2133360"/>
            <a:ext cx="6400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how possible outcomes of genes the new generation will ha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u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ene diagram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unnett Squ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895480" y="1447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9718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70572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457200" y="1981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45720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45720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1828800" y="2895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10"/>
          <p:cNvSpPr/>
          <p:nvPr/>
        </p:nvSpPr>
        <p:spPr>
          <a:xfrm flipH="1">
            <a:off x="2438280" y="25146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11"/>
          <p:cNvSpPr/>
          <p:nvPr/>
        </p:nvSpPr>
        <p:spPr>
          <a:xfrm>
            <a:off x="3505320" y="243828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12"/>
          <p:cNvSpPr/>
          <p:nvPr/>
        </p:nvSpPr>
        <p:spPr>
          <a:xfrm flipH="1">
            <a:off x="6095520" y="23623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72388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457200" y="4572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15"/>
          <p:cNvSpPr/>
          <p:nvPr/>
        </p:nvSpPr>
        <p:spPr>
          <a:xfrm>
            <a:off x="2286000" y="35053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16"/>
          <p:cNvSpPr/>
          <p:nvPr/>
        </p:nvSpPr>
        <p:spPr>
          <a:xfrm flipH="1">
            <a:off x="2590920" y="3276720"/>
            <a:ext cx="32004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2133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2514600" y="3505320"/>
            <a:ext cx="495288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ine 19"/>
          <p:cNvSpPr/>
          <p:nvPr/>
        </p:nvSpPr>
        <p:spPr>
          <a:xfrm>
            <a:off x="784872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746748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21"/>
          <p:cNvSpPr/>
          <p:nvPr/>
        </p:nvSpPr>
        <p:spPr>
          <a:xfrm>
            <a:off x="411480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22"/>
          <p:cNvSpPr/>
          <p:nvPr/>
        </p:nvSpPr>
        <p:spPr>
          <a:xfrm>
            <a:off x="5867280" y="3429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23"/>
          <p:cNvSpPr/>
          <p:nvPr/>
        </p:nvSpPr>
        <p:spPr>
          <a:xfrm flipH="1">
            <a:off x="4191120" y="3200400"/>
            <a:ext cx="35812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24"/>
          <p:cNvSpPr/>
          <p:nvPr/>
        </p:nvSpPr>
        <p:spPr>
          <a:xfrm>
            <a:off x="4191120" y="3352680"/>
            <a:ext cx="14475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556272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380988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27"/>
          <p:cNvSpPr/>
          <p:nvPr/>
        </p:nvSpPr>
        <p:spPr>
          <a:xfrm>
            <a:off x="4572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28"/>
          <p:cNvSpPr/>
          <p:nvPr/>
        </p:nvSpPr>
        <p:spPr>
          <a:xfrm>
            <a:off x="213372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33"/>
                </a:solidFill>
                <a:latin typeface="Times New Roman"/>
              </a:rPr>
              <a:t>Red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yellow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yellow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29"/>
          <p:cNvSpPr/>
          <p:nvPr/>
        </p:nvSpPr>
        <p:spPr>
          <a:xfrm>
            <a:off x="3276720" y="5943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d 50%         yellow 5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Punnett Squa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other method of showing cro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31240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6"/>
          <p:cNvSpPr/>
          <p:nvPr/>
        </p:nvSpPr>
        <p:spPr>
          <a:xfrm>
            <a:off x="2666880" y="327672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2590920" y="5562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8"/>
          <p:cNvSpPr/>
          <p:nvPr/>
        </p:nvSpPr>
        <p:spPr>
          <a:xfrm>
            <a:off x="2590920" y="4419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44956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10"/>
          <p:cNvSpPr/>
          <p:nvPr/>
        </p:nvSpPr>
        <p:spPr>
          <a:xfrm>
            <a:off x="6019920" y="2895480"/>
            <a:ext cx="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 genotypes are inse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31240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2666880" y="327672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2590920" y="5562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590920" y="4419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44956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Line 9"/>
          <p:cNvSpPr/>
          <p:nvPr/>
        </p:nvSpPr>
        <p:spPr>
          <a:xfrm>
            <a:off x="6019920" y="2895480"/>
            <a:ext cx="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7010280" y="609120"/>
            <a:ext cx="1447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533520" y="609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 genotypes are inserted    B=black       b=wh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4191120" y="1828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male bl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609480" y="3962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838080" y="396252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white 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350532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5029200" y="2590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2286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18"/>
          <p:cNvSpPr/>
          <p:nvPr/>
        </p:nvSpPr>
        <p:spPr>
          <a:xfrm>
            <a:off x="2209680" y="4724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609480" y="1676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at are the cro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20"/>
          <p:cNvSpPr/>
          <p:nvPr/>
        </p:nvSpPr>
        <p:spPr>
          <a:xfrm>
            <a:off x="335268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23"/>
          <p:cNvSpPr/>
          <p:nvPr/>
        </p:nvSpPr>
        <p:spPr>
          <a:xfrm>
            <a:off x="34290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24"/>
          <p:cNvSpPr/>
          <p:nvPr/>
        </p:nvSpPr>
        <p:spPr>
          <a:xfrm>
            <a:off x="487692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26"/>
          <p:cNvSpPr/>
          <p:nvPr/>
        </p:nvSpPr>
        <p:spPr>
          <a:xfrm>
            <a:off x="6629400" y="335268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2 white and 2 black offsp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50:50 chance with these par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3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3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75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75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3962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2 black rats are mated, they have 13 offspring. All of which are black, what are the genotypes of the par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1640" y="22856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male is re-mated with a white female, the offspring a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6 black   and  7 wh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were the genotypes of the original par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838080" y="1447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ats have 2 coat colours – black B, white 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762120" y="4572000"/>
            <a:ext cx="33526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oth    BB    B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ne could be B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4724280" y="5715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emale BB    Male B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Line 11"/>
          <p:cNvSpPr/>
          <p:nvPr/>
        </p:nvSpPr>
        <p:spPr>
          <a:xfrm flipH="1" flipV="1">
            <a:off x="3657600" y="4114440"/>
            <a:ext cx="8380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3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8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3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3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member think how lucky you are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5" name="Picture 4" descr="creature"/>
          <p:cNvPicPr/>
          <p:nvPr/>
        </p:nvPicPr>
        <p:blipFill>
          <a:blip r:embed="rId1"/>
          <a:stretch/>
        </p:blipFill>
        <p:spPr>
          <a:xfrm>
            <a:off x="2971800" y="1905120"/>
            <a:ext cx="3429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52320" y="1828800"/>
            <a:ext cx="266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enotype Phenotype Parent  Gamete Off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minant  recessive alle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4191120" y="41911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control of characterist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characteristics are controlled by a minimum of 2 gene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se genes give the characteristic a different of presenting itsel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fferent genes that control the same feature are called ALLE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ssible alleles – blue , brown, green, hazel etc    (each colour needs its own ge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is possible to have pairs of different alleles, alleles are usually given a l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5" descr="eye"/>
          <p:cNvPicPr/>
          <p:nvPr/>
        </p:nvPicPr>
        <p:blipFill>
          <a:blip r:embed="rId1"/>
          <a:stretch/>
        </p:blipFill>
        <p:spPr>
          <a:xfrm>
            <a:off x="3657600" y="3200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otype and phenotyp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enotype is the letter or term used to describe the allele of an individual gene or  pair of g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henotype – is how the gene (or pair) shows itself, how it appea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Dominance and recessiven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me alleles for a feature are able to mask the influence of other (weaker) gene when they are pai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ronger gene is </a:t>
            </a:r>
            <a:r>
              <a:rPr b="1" lang="en-GB" sz="3200" spc="-1" strike="noStrike">
                <a:solidFill>
                  <a:srgbClr val="ff0033"/>
                </a:solidFill>
                <a:latin typeface="Times New Roman"/>
              </a:rPr>
              <a:t>DOMINAN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and is represented by a capital letter      e.g.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masked gene is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RESSESIV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hown as lower case of the same letter      e.g.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914400" y="2057400"/>
            <a:ext cx="7315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Genotype of alleles-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= red flowe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= yellow flo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ll genes occur in pairs – so 2 alleles affect a characteristic – possible combinations ar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990720" y="4952880"/>
            <a:ext cx="701028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genotyp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R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r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henotyp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RED             RED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YEL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7" descr="A2PLNT26"/>
          <p:cNvPicPr/>
          <p:nvPr/>
        </p:nvPicPr>
        <p:blipFill>
          <a:blip r:embed="rId1"/>
          <a:stretch/>
        </p:blipFill>
        <p:spPr>
          <a:xfrm>
            <a:off x="7162920" y="1523880"/>
            <a:ext cx="1523880" cy="14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895480" y="1447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9718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70572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457200" y="1981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5720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45720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1828800" y="2895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10"/>
          <p:cNvSpPr/>
          <p:nvPr/>
        </p:nvSpPr>
        <p:spPr>
          <a:xfrm flipH="1">
            <a:off x="2438280" y="25146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3505320" y="243828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12"/>
          <p:cNvSpPr/>
          <p:nvPr/>
        </p:nvSpPr>
        <p:spPr>
          <a:xfrm flipH="1">
            <a:off x="6095520" y="23623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13"/>
          <p:cNvSpPr/>
          <p:nvPr/>
        </p:nvSpPr>
        <p:spPr>
          <a:xfrm>
            <a:off x="72388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457200" y="4572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15"/>
          <p:cNvSpPr/>
          <p:nvPr/>
        </p:nvSpPr>
        <p:spPr>
          <a:xfrm>
            <a:off x="2286000" y="35053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2590920" y="3276720"/>
            <a:ext cx="32004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2133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14600" y="3505320"/>
            <a:ext cx="495288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784872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746748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411480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5867280" y="3429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23"/>
          <p:cNvSpPr/>
          <p:nvPr/>
        </p:nvSpPr>
        <p:spPr>
          <a:xfrm flipH="1">
            <a:off x="4191120" y="3200400"/>
            <a:ext cx="35812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4191120" y="3352680"/>
            <a:ext cx="14475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556272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380988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27"/>
          <p:cNvSpPr/>
          <p:nvPr/>
        </p:nvSpPr>
        <p:spPr>
          <a:xfrm>
            <a:off x="4572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28"/>
          <p:cNvSpPr/>
          <p:nvPr/>
        </p:nvSpPr>
        <p:spPr>
          <a:xfrm>
            <a:off x="4267080" y="54864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ll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2895480" y="1447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9718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70572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457200" y="1981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45720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45720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1828800" y="2895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16"/>
          <p:cNvSpPr/>
          <p:nvPr/>
        </p:nvSpPr>
        <p:spPr>
          <a:xfrm flipH="1">
            <a:off x="2438280" y="25146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17"/>
          <p:cNvSpPr/>
          <p:nvPr/>
        </p:nvSpPr>
        <p:spPr>
          <a:xfrm>
            <a:off x="3505320" y="243828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18"/>
          <p:cNvSpPr/>
          <p:nvPr/>
        </p:nvSpPr>
        <p:spPr>
          <a:xfrm flipH="1">
            <a:off x="6095520" y="23623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19"/>
          <p:cNvSpPr/>
          <p:nvPr/>
        </p:nvSpPr>
        <p:spPr>
          <a:xfrm>
            <a:off x="72388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457200" y="4572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21"/>
          <p:cNvSpPr/>
          <p:nvPr/>
        </p:nvSpPr>
        <p:spPr>
          <a:xfrm>
            <a:off x="2286000" y="35053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22"/>
          <p:cNvSpPr/>
          <p:nvPr/>
        </p:nvSpPr>
        <p:spPr>
          <a:xfrm flipH="1">
            <a:off x="2590920" y="3276720"/>
            <a:ext cx="32004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2133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24"/>
          <p:cNvSpPr/>
          <p:nvPr/>
        </p:nvSpPr>
        <p:spPr>
          <a:xfrm>
            <a:off x="2514600" y="3505320"/>
            <a:ext cx="495288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25"/>
          <p:cNvSpPr/>
          <p:nvPr/>
        </p:nvSpPr>
        <p:spPr>
          <a:xfrm>
            <a:off x="784872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746748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28"/>
          <p:cNvSpPr/>
          <p:nvPr/>
        </p:nvSpPr>
        <p:spPr>
          <a:xfrm>
            <a:off x="411480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29"/>
          <p:cNvSpPr/>
          <p:nvPr/>
        </p:nvSpPr>
        <p:spPr>
          <a:xfrm>
            <a:off x="5867280" y="3429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30"/>
          <p:cNvSpPr/>
          <p:nvPr/>
        </p:nvSpPr>
        <p:spPr>
          <a:xfrm flipH="1">
            <a:off x="4191120" y="3200400"/>
            <a:ext cx="35812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31"/>
          <p:cNvSpPr/>
          <p:nvPr/>
        </p:nvSpPr>
        <p:spPr>
          <a:xfrm>
            <a:off x="4191120" y="3352680"/>
            <a:ext cx="14475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32"/>
          <p:cNvSpPr/>
          <p:nvPr/>
        </p:nvSpPr>
        <p:spPr>
          <a:xfrm>
            <a:off x="556272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33"/>
          <p:cNvSpPr/>
          <p:nvPr/>
        </p:nvSpPr>
        <p:spPr>
          <a:xfrm>
            <a:off x="388620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34"/>
          <p:cNvSpPr/>
          <p:nvPr/>
        </p:nvSpPr>
        <p:spPr>
          <a:xfrm>
            <a:off x="4572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35"/>
          <p:cNvSpPr/>
          <p:nvPr/>
        </p:nvSpPr>
        <p:spPr>
          <a:xfrm>
            <a:off x="2133720" y="548640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36"/>
          <p:cNvSpPr/>
          <p:nvPr/>
        </p:nvSpPr>
        <p:spPr>
          <a:xfrm>
            <a:off x="2057400" y="55627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Red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GB" sz="2800" spc="-1" strike="noStrike">
                <a:solidFill>
                  <a:srgbClr val="ff0033"/>
                </a:solidFill>
                <a:latin typeface="Times New Roman"/>
              </a:rPr>
              <a:t>red              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2895480" y="6095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 red    :   1 yel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2T17:00:18Z</dcterms:created>
  <dc:creator>Rik G</dc:creator>
  <dc:description/>
  <dc:language>en-US</dc:language>
  <cp:lastModifiedBy>RomaK</cp:lastModifiedBy>
  <dcterms:modified xsi:type="dcterms:W3CDTF">2015-09-04T11:32:07Z</dcterms:modified>
  <cp:revision>25</cp:revision>
  <dc:subject/>
  <dc:title>Genetic Crosses</dc:title>
</cp:coreProperties>
</file>