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gif" ContentType="image/gif"/>
  <Override PartName="/ppt/media/camera.wav" ContentType="audio/x-wav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2421-C151-48E7-9B60-A082A433F5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 of alleles-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red flowe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   RED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of alleles-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red flow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   RE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3B2-C708-4254-B5F0-029AD34E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2984-5D79-41A8-B00C-9E26FF09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5C54-B364-4165-A965-54BE3B0F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E11-A948-4587-99A1-269D76D5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E785-FEED-40E2-A814-611E701A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400C-61DC-45C2-9347-1254CEA1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DBB8-EDF0-4594-877D-EE28E92C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1E8B-6992-44A1-9705-535E49DF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CC51-F1E8-4424-B59C-84174250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1676-A327-4BF6-92AC-05129542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ED94-DCBC-47C4-B195-CFF014F6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6124-4A2F-4629-80C4-FBC969E8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FAA9-13B6-426C-9B85-552966F5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055A-0D87-4686-B4C8-09657A46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7782-518A-456D-A3F1-AB30FCC2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3324-7698-456B-8B70-D913E2E9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140E-5A97-44DD-BC75-1DA14FD4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BCF-A42D-4474-A05C-FA48AA9C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197-4CBD-4934-AE87-C7DD3AFE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789C-8784-43DC-9366-EEB650BA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FD4-C78F-4315-9D70-F0099CD9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C0B5-3975-412A-989F-C327B36B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3C68-9285-4F6B-8501-D9BA1B07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4F1B-61A1-4114-938B-EDAFF6BC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84A4-333F-4479-B857-082BF642245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4ED0-0471-4A8F-AB19-80D27946E7D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tic Cro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21333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7467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21337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327672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7010280" y="609120"/>
            <a:ext cx="1447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33520" y="609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4191120" y="1828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male bl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09480" y="3962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39625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white 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35053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029200" y="2590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2286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2209680" y="4724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609480" y="1676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33526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34290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48769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629400" y="335268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75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75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1640" y="22856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838080" y="1447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762120" y="4572000"/>
            <a:ext cx="3352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4724280" y="5715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 flipH="1" flipV="1">
            <a:off x="3657600" y="4114440"/>
            <a:ext cx="8380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member think how lucky you are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Picture 4" descr="creature"/>
          <p:cNvPicPr/>
          <p:nvPr/>
        </p:nvPicPr>
        <p:blipFill>
          <a:blip r:embed="rId1"/>
          <a:stretch/>
        </p:blipFill>
        <p:spPr>
          <a:xfrm>
            <a:off x="2971800" y="1905120"/>
            <a:ext cx="342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52320" y="1828800"/>
            <a:ext cx="266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191120" y="4191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control of character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eye"/>
          <p:cNvPicPr/>
          <p:nvPr/>
        </p:nvPicPr>
        <p:blipFill>
          <a:blip r:embed="rId1"/>
          <a:stretch/>
        </p:blipFill>
        <p:spPr>
          <a:xfrm>
            <a:off x="3657600" y="3200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otype and phenotyp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ominance and recessive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er gene is </a:t>
            </a:r>
            <a:r>
              <a:rPr b="1" lang="en-GB" sz="3200" spc="-1" strike="noStrike">
                <a:solidFill>
                  <a:srgbClr val="ff0033"/>
                </a:solidFill>
                <a:latin typeface="Times New Roman"/>
              </a:rPr>
              <a:t>DOMINA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is represented by a capital letter      e.g.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asked gene is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RESSESIV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hown as lower case of the same letter      e.g.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14400" y="2057400"/>
            <a:ext cx="7315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 of alleles-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red flow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yellow fl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l genes occur in pairs – so 2 alleles affect a characteristic – possible combinations a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90720" y="4952880"/>
            <a:ext cx="701028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h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ED             RED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7" descr="A2PLNT26"/>
          <p:cNvPicPr/>
          <p:nvPr/>
        </p:nvPicPr>
        <p:blipFill>
          <a:blip r:embed="rId1"/>
          <a:stretch/>
        </p:blipFill>
        <p:spPr>
          <a:xfrm>
            <a:off x="7162920" y="1523880"/>
            <a:ext cx="152388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4267080" y="5486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16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2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4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25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29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30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31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388620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4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35"/>
          <p:cNvSpPr/>
          <p:nvPr/>
        </p:nvSpPr>
        <p:spPr>
          <a:xfrm>
            <a:off x="2133720" y="54864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2057400" y="5562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ff0033"/>
                </a:solidFill>
                <a:latin typeface="Times New Roman"/>
              </a:rPr>
              <a:t>red              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289548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7:00:18Z</dcterms:created>
  <dc:creator>Rik G</dc:creator>
  <dc:description/>
  <dc:language>en-US</dc:language>
  <cp:lastModifiedBy>RomaK</cp:lastModifiedBy>
  <dcterms:modified xsi:type="dcterms:W3CDTF">2015-09-04T11:32:07Z</dcterms:modified>
  <cp:revision>25</cp:revision>
  <dc:subject/>
  <dc:title>Genetic Crosses</dc:title>
</cp:coreProperties>
</file>