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gif" ContentType="image/gif"/>
  <Override PartName="/ppt/media/camera.wav" ContentType="audio/x-wav"/>
  <Override PartName="/ppt/media/type.wav" ContentType="audio/x-wav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9B9E-3F71-4CF1-9C01-B1776B44C0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tic Cros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how possible outcomes of genes the new generation will ha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 us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 diagram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nnett Squa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Cr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possible outcomes of genes the new generation will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iagra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nett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ed         yellow               yellow             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ed 50%         yellow 5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                    r                      r                       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        yellow               yellow             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50%         yellow 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nnett Squ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other method of showing cros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nett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method of showing cr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mete genotypes are inser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ent genotypes are inserted    B=black       b=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     male bl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 white fema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 cros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 white and 2 black offsp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0:50 chance with these pa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 genotypes are inser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 genotypes are inserted    B=black       b=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     male bl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 white 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cr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white and 2 black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:50 chance with these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 black rats are mated, they have 13 offspring. All of which are black, what are the genotypes of the pa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ale is re-mated with a white female, the offspring a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 black   and  7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were the genotypes of the original pa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s have 2 coat colours – black B, white b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oth    BB    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could be 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male BB    Male 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lack rats are mated, they have 13 offspring. All of which are black, what are the genotypes of the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le is re-mated with a white female, the offspring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black   and  7 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re the genotypes of the original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s have 2 coat colours – black B, white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   BB    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ould be 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BB    Male 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member think how lucky you ar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ink how lucky you a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rmin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 Phenotype Parent  Gamete Offsp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minant  recessive alle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 Phenotype Parent  Gamete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inant  recessive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 control of characteris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characteristics are controlled by a minimum of 2 genes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se genes give the characteristic a different of presenting itself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t genes that control the same feature are called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control of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characteristics are controlled by a minimum of 2 gen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genes give the characteristic a different of presenting it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genes that control the same feature are called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YE 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ssible alleles – blue , brown, green, hazel etc    (each colour needs its own gen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possible to have pairs of different alleles, alleles are usually given a let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alleles – blue , brown, green, hazel etc    (each colour needs its own ge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possible to have pairs of different alleles, alleles are usually given a l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 and 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 is the letter or term used to describe the allele of an individual gene or  pair of ge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 – is how the gene (or pair) shows itself, how it appea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 and 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 is the letter or term used to describe the allele of an individual gene or  pair of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 – is how the gene (or pair) shows itself, how it app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minance and recessiven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me alleles for a feature are able to mask the influence of other (weaker) gene when they are pai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onger gene is DOMINANT and is represented by a capital letter      e.g. 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asked gene is RESSESIVE shown as lower case of the same letter      e.g.   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inance and recessive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lleles for a feature are able to mask the influence of other (weaker) gene when they are pa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er gene is DOMINANT and is represented by a capital letter      e.g.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sked gene is RESSESIVE shown as lower case of the same letter      e.g.  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otype of alleles-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 = red flower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 = yellow flow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ll genes occur in pairs – so 2 alleles affect a characteristic – possible combinations are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otyp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ED             RED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YELL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 of alleles-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red flow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yellow fl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genes occur in pairs – so 2 alleles affect a characteristic – possible combinations ar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            RED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ll 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                    R                      r                       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ed          yellow          red              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3 red    :   1 yell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                    r                      R                      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         yellow          red              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red    :   1 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E5A1-EDFB-4329-8520-0B667C288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2C24-CA81-4E7F-9A64-06CCE7E6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00E9-5BD4-44DE-9202-E17C425EF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3B5B-C4B0-4A58-9FD8-CBD834255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F625-B145-46FC-8E4F-0A90E99B5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A225-A68C-41B1-BA7F-4C202173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B628-0C20-48F7-BB73-1116BFF6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45136-88CE-44EF-BEDE-96C7A939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7476-0B29-4F2E-9217-3EAB49C5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14E9-8472-4B7B-8DE0-054A4C25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C416-6FB3-4264-9383-72ED22F3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F248-E969-432C-98EF-312828B1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1B54-E93E-4CB1-8B72-51EB125B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6BA2-E222-4393-ADFF-43BB149F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DE97-DB0B-433F-BF1C-F8F87824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C72B-B54E-4274-8547-867771873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496A-163A-46FC-8C39-2C363ADDC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735F-CB48-4FCE-A888-59F40915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EC1E-7824-4453-BC43-059CD0A7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1538-B9D0-4CE9-9360-C1370B68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93F7-7978-48DE-A5D3-CF8FBF24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5D5E-D785-4B3C-AFD5-15909C9B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E25A-C033-4AF7-9D96-4E541B88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BDB0-9142-4FD8-A5E4-89ED05B1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1027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7F1D-1CBC-4829-AFD7-AC926322499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A8F3-602D-463F-8EA8-486C11D62F1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whoosh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whoosh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whoosh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whoosh.wav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whoosh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whoosh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whoosh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whoosh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whoosh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whoosh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whoosh.wav"/><Relationship Id="rId22" Type="http://schemas.openxmlformats.org/officeDocument/2006/relationships/audio" Target="../media/whoosh.wav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tic Cro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47920" y="2133360"/>
            <a:ext cx="6400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how possible outcomes of genes the new generation will ha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us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ene diagram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unnett Squa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 diagram – Flower colou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895480" y="1447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9718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670572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457200" y="19810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457200" y="1447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457200" y="28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1828800" y="28954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Line 10"/>
          <p:cNvSpPr/>
          <p:nvPr/>
        </p:nvSpPr>
        <p:spPr>
          <a:xfrm flipH="1">
            <a:off x="2438280" y="2514600"/>
            <a:ext cx="6098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Line 11"/>
          <p:cNvSpPr/>
          <p:nvPr/>
        </p:nvSpPr>
        <p:spPr>
          <a:xfrm>
            <a:off x="3505320" y="2438280"/>
            <a:ext cx="3808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Line 12"/>
          <p:cNvSpPr/>
          <p:nvPr/>
        </p:nvSpPr>
        <p:spPr>
          <a:xfrm flipH="1">
            <a:off x="6095520" y="23623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Line 13"/>
          <p:cNvSpPr/>
          <p:nvPr/>
        </p:nvSpPr>
        <p:spPr>
          <a:xfrm>
            <a:off x="72388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457200" y="4572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15"/>
          <p:cNvSpPr/>
          <p:nvPr/>
        </p:nvSpPr>
        <p:spPr>
          <a:xfrm>
            <a:off x="2286000" y="35053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16"/>
          <p:cNvSpPr/>
          <p:nvPr/>
        </p:nvSpPr>
        <p:spPr>
          <a:xfrm flipH="1">
            <a:off x="2590920" y="3276720"/>
            <a:ext cx="32004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213372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Line 18"/>
          <p:cNvSpPr/>
          <p:nvPr/>
        </p:nvSpPr>
        <p:spPr>
          <a:xfrm>
            <a:off x="2514600" y="3505320"/>
            <a:ext cx="495288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Line 19"/>
          <p:cNvSpPr/>
          <p:nvPr/>
        </p:nvSpPr>
        <p:spPr>
          <a:xfrm>
            <a:off x="784872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20"/>
          <p:cNvSpPr/>
          <p:nvPr/>
        </p:nvSpPr>
        <p:spPr>
          <a:xfrm>
            <a:off x="746748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Line 21"/>
          <p:cNvSpPr/>
          <p:nvPr/>
        </p:nvSpPr>
        <p:spPr>
          <a:xfrm>
            <a:off x="411480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22"/>
          <p:cNvSpPr/>
          <p:nvPr/>
        </p:nvSpPr>
        <p:spPr>
          <a:xfrm>
            <a:off x="5867280" y="34290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23"/>
          <p:cNvSpPr/>
          <p:nvPr/>
        </p:nvSpPr>
        <p:spPr>
          <a:xfrm flipH="1">
            <a:off x="4191120" y="3200400"/>
            <a:ext cx="358128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24"/>
          <p:cNvSpPr/>
          <p:nvPr/>
        </p:nvSpPr>
        <p:spPr>
          <a:xfrm>
            <a:off x="4191120" y="3352680"/>
            <a:ext cx="144756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25"/>
          <p:cNvSpPr/>
          <p:nvPr/>
        </p:nvSpPr>
        <p:spPr>
          <a:xfrm>
            <a:off x="556272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26"/>
          <p:cNvSpPr/>
          <p:nvPr/>
        </p:nvSpPr>
        <p:spPr>
          <a:xfrm>
            <a:off x="380988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27"/>
          <p:cNvSpPr/>
          <p:nvPr/>
        </p:nvSpPr>
        <p:spPr>
          <a:xfrm>
            <a:off x="45720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28"/>
          <p:cNvSpPr/>
          <p:nvPr/>
        </p:nvSpPr>
        <p:spPr>
          <a:xfrm>
            <a:off x="213372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33"/>
                </a:solidFill>
                <a:latin typeface="Times New Roman"/>
              </a:rPr>
              <a:t>Red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yellow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yellow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29"/>
          <p:cNvSpPr/>
          <p:nvPr/>
        </p:nvSpPr>
        <p:spPr>
          <a:xfrm>
            <a:off x="3276720" y="59436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d 50%         yellow 5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Punnett Squa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other method of showing cro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Line 5"/>
          <p:cNvSpPr/>
          <p:nvPr/>
        </p:nvSpPr>
        <p:spPr>
          <a:xfrm>
            <a:off x="3124080" y="2971800"/>
            <a:ext cx="0" cy="259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Line 6"/>
          <p:cNvSpPr/>
          <p:nvPr/>
        </p:nvSpPr>
        <p:spPr>
          <a:xfrm>
            <a:off x="2666880" y="3276720"/>
            <a:ext cx="3353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2590920" y="55627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Line 8"/>
          <p:cNvSpPr/>
          <p:nvPr/>
        </p:nvSpPr>
        <p:spPr>
          <a:xfrm>
            <a:off x="2590920" y="44197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Line 9"/>
          <p:cNvSpPr/>
          <p:nvPr/>
        </p:nvSpPr>
        <p:spPr>
          <a:xfrm>
            <a:off x="4495680" y="2971800"/>
            <a:ext cx="0" cy="259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Line 10"/>
          <p:cNvSpPr/>
          <p:nvPr/>
        </p:nvSpPr>
        <p:spPr>
          <a:xfrm>
            <a:off x="6019920" y="2895480"/>
            <a:ext cx="0" cy="2667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amete genotypes are inse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3124080" y="2971800"/>
            <a:ext cx="0" cy="259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2666880" y="3276720"/>
            <a:ext cx="3353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6"/>
          <p:cNvSpPr/>
          <p:nvPr/>
        </p:nvSpPr>
        <p:spPr>
          <a:xfrm>
            <a:off x="2590920" y="55627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590920" y="44197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8"/>
          <p:cNvSpPr/>
          <p:nvPr/>
        </p:nvSpPr>
        <p:spPr>
          <a:xfrm>
            <a:off x="4495680" y="2971800"/>
            <a:ext cx="0" cy="259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Line 9"/>
          <p:cNvSpPr/>
          <p:nvPr/>
        </p:nvSpPr>
        <p:spPr>
          <a:xfrm>
            <a:off x="6019920" y="2895480"/>
            <a:ext cx="0" cy="2667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7010280" y="609120"/>
            <a:ext cx="1447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533520" y="6094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arent genotypes are inserted    B=black       b=wh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4191120" y="18288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male bl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609480" y="3962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14"/>
          <p:cNvSpPr/>
          <p:nvPr/>
        </p:nvSpPr>
        <p:spPr>
          <a:xfrm>
            <a:off x="838080" y="396252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white fem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3505320" y="2590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5029200" y="2590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17"/>
          <p:cNvSpPr/>
          <p:nvPr/>
        </p:nvSpPr>
        <p:spPr>
          <a:xfrm>
            <a:off x="228600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18"/>
          <p:cNvSpPr/>
          <p:nvPr/>
        </p:nvSpPr>
        <p:spPr>
          <a:xfrm>
            <a:off x="2209680" y="47242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19"/>
          <p:cNvSpPr/>
          <p:nvPr/>
        </p:nvSpPr>
        <p:spPr>
          <a:xfrm>
            <a:off x="609480" y="1676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at are the cro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20"/>
          <p:cNvSpPr/>
          <p:nvPr/>
        </p:nvSpPr>
        <p:spPr>
          <a:xfrm>
            <a:off x="335268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21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 Box 23"/>
          <p:cNvSpPr/>
          <p:nvPr/>
        </p:nvSpPr>
        <p:spPr>
          <a:xfrm>
            <a:off x="34290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24"/>
          <p:cNvSpPr/>
          <p:nvPr/>
        </p:nvSpPr>
        <p:spPr>
          <a:xfrm>
            <a:off x="487692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26"/>
          <p:cNvSpPr/>
          <p:nvPr/>
        </p:nvSpPr>
        <p:spPr>
          <a:xfrm>
            <a:off x="6629400" y="335268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2 white and 2 black offsp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50:50 chance with these par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3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3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75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75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39625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2 black rats are mated, they have 13 offspring. All of which are black, what are the genotypes of the par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1640" y="228564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male is re-mated with a white female, the offspring a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6 black   and  7 wh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at were the genotypes of the original par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838080" y="14479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ats have 2 coat colours – black B, white 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762120" y="4572000"/>
            <a:ext cx="33526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oth    BB    B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ne could be B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4724280" y="5715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emale BB    Male B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Line 11"/>
          <p:cNvSpPr/>
          <p:nvPr/>
        </p:nvSpPr>
        <p:spPr>
          <a:xfrm flipH="1" flipV="1">
            <a:off x="3657600" y="4114440"/>
            <a:ext cx="83808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5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8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3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8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3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3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emember think how lucky you are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35" name="Picture 4" descr="creature"/>
          <p:cNvPicPr/>
          <p:nvPr/>
        </p:nvPicPr>
        <p:blipFill>
          <a:blip r:embed="rId1"/>
          <a:stretch/>
        </p:blipFill>
        <p:spPr>
          <a:xfrm>
            <a:off x="2971800" y="1905120"/>
            <a:ext cx="34290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Terminolo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352320" y="1828800"/>
            <a:ext cx="2667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enotype Phenotype Parent  Gamete Offsp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ominant  recessive alle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4191120" y="419112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 control of characteristic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characteristics are controlled by a minimum of 2 gene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se genes give the characteristic a different of presenting itsel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fferent genes that control the same feature are called ALLE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YE COLOU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ossible alleles – blue , brown, green, hazel etc    (each colour needs its own gen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is possible to have pairs of different alleles, alleles are usually given a le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5" descr="eye"/>
          <p:cNvPicPr/>
          <p:nvPr/>
        </p:nvPicPr>
        <p:blipFill>
          <a:blip r:embed="rId1"/>
          <a:stretch/>
        </p:blipFill>
        <p:spPr>
          <a:xfrm>
            <a:off x="3657600" y="32004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otype and phenotyp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enotype is the letter or term used to describe the allele of an individual gene or  pair of ge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henotype – is how the gene (or pair) shows itself, how it appea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Dominance and recessiven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ome alleles for a feature are able to mask the influence of other (weaker) gene when they are pai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ronger gene is </a:t>
            </a:r>
            <a:r>
              <a:rPr b="1" lang="en-GB" sz="3200" spc="-1" strike="noStrike">
                <a:solidFill>
                  <a:srgbClr val="ff0033"/>
                </a:solidFill>
                <a:latin typeface="Times New Roman"/>
              </a:rPr>
              <a:t>DOMINAN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and is represented by a capital letter      e.g.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masked gene is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RESSESIV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hown as lower case of the same letter      e.g.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 diagram – Flower colou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914400" y="2057400"/>
            <a:ext cx="73152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Genotype of alleles-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= red flowe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= yellow flo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ll genes occur in pairs – so 2 alleles affect a characteristic – possible combinations ar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990720" y="4952880"/>
            <a:ext cx="701028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genotype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R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r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henotype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RED             RED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YEL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7" descr="A2PLNT26"/>
          <p:cNvPicPr/>
          <p:nvPr/>
        </p:nvPicPr>
        <p:blipFill>
          <a:blip r:embed="rId1"/>
          <a:stretch/>
        </p:blipFill>
        <p:spPr>
          <a:xfrm>
            <a:off x="7162920" y="1523880"/>
            <a:ext cx="1523880" cy="14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 diagram – Flower colou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895480" y="1447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9718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70572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457200" y="19810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457200" y="1447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457200" y="28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1828800" y="28954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10"/>
          <p:cNvSpPr/>
          <p:nvPr/>
        </p:nvSpPr>
        <p:spPr>
          <a:xfrm flipH="1">
            <a:off x="2438280" y="2514600"/>
            <a:ext cx="6098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11"/>
          <p:cNvSpPr/>
          <p:nvPr/>
        </p:nvSpPr>
        <p:spPr>
          <a:xfrm>
            <a:off x="3505320" y="2438280"/>
            <a:ext cx="3808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Line 12"/>
          <p:cNvSpPr/>
          <p:nvPr/>
        </p:nvSpPr>
        <p:spPr>
          <a:xfrm flipH="1">
            <a:off x="6095520" y="23623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13"/>
          <p:cNvSpPr/>
          <p:nvPr/>
        </p:nvSpPr>
        <p:spPr>
          <a:xfrm>
            <a:off x="72388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457200" y="4572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15"/>
          <p:cNvSpPr/>
          <p:nvPr/>
        </p:nvSpPr>
        <p:spPr>
          <a:xfrm>
            <a:off x="2286000" y="35053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16"/>
          <p:cNvSpPr/>
          <p:nvPr/>
        </p:nvSpPr>
        <p:spPr>
          <a:xfrm flipH="1">
            <a:off x="2590920" y="3276720"/>
            <a:ext cx="32004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213372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2514600" y="3505320"/>
            <a:ext cx="495288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784872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20"/>
          <p:cNvSpPr/>
          <p:nvPr/>
        </p:nvSpPr>
        <p:spPr>
          <a:xfrm>
            <a:off x="7467480" y="4648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411480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Line 22"/>
          <p:cNvSpPr/>
          <p:nvPr/>
        </p:nvSpPr>
        <p:spPr>
          <a:xfrm>
            <a:off x="5867280" y="34290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23"/>
          <p:cNvSpPr/>
          <p:nvPr/>
        </p:nvSpPr>
        <p:spPr>
          <a:xfrm flipH="1">
            <a:off x="4191120" y="3200400"/>
            <a:ext cx="358128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24"/>
          <p:cNvSpPr/>
          <p:nvPr/>
        </p:nvSpPr>
        <p:spPr>
          <a:xfrm>
            <a:off x="4191120" y="3352680"/>
            <a:ext cx="144756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25"/>
          <p:cNvSpPr/>
          <p:nvPr/>
        </p:nvSpPr>
        <p:spPr>
          <a:xfrm>
            <a:off x="556272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26"/>
          <p:cNvSpPr/>
          <p:nvPr/>
        </p:nvSpPr>
        <p:spPr>
          <a:xfrm>
            <a:off x="380988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27"/>
          <p:cNvSpPr/>
          <p:nvPr/>
        </p:nvSpPr>
        <p:spPr>
          <a:xfrm>
            <a:off x="45720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28"/>
          <p:cNvSpPr/>
          <p:nvPr/>
        </p:nvSpPr>
        <p:spPr>
          <a:xfrm>
            <a:off x="4267080" y="54864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ll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 diagram – Flower colou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2895480" y="1447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9718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670572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457200" y="19810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457200" y="1447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457200" y="28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1828800" y="28954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Line 16"/>
          <p:cNvSpPr/>
          <p:nvPr/>
        </p:nvSpPr>
        <p:spPr>
          <a:xfrm flipH="1">
            <a:off x="2438280" y="2514600"/>
            <a:ext cx="6098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17"/>
          <p:cNvSpPr/>
          <p:nvPr/>
        </p:nvSpPr>
        <p:spPr>
          <a:xfrm>
            <a:off x="3505320" y="2438280"/>
            <a:ext cx="3808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18"/>
          <p:cNvSpPr/>
          <p:nvPr/>
        </p:nvSpPr>
        <p:spPr>
          <a:xfrm flipH="1">
            <a:off x="6095520" y="23623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Line 19"/>
          <p:cNvSpPr/>
          <p:nvPr/>
        </p:nvSpPr>
        <p:spPr>
          <a:xfrm>
            <a:off x="72388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457200" y="4572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Line 21"/>
          <p:cNvSpPr/>
          <p:nvPr/>
        </p:nvSpPr>
        <p:spPr>
          <a:xfrm>
            <a:off x="2286000" y="35053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22"/>
          <p:cNvSpPr/>
          <p:nvPr/>
        </p:nvSpPr>
        <p:spPr>
          <a:xfrm flipH="1">
            <a:off x="2590920" y="3276720"/>
            <a:ext cx="32004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213372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24"/>
          <p:cNvSpPr/>
          <p:nvPr/>
        </p:nvSpPr>
        <p:spPr>
          <a:xfrm>
            <a:off x="2514600" y="3505320"/>
            <a:ext cx="495288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25"/>
          <p:cNvSpPr/>
          <p:nvPr/>
        </p:nvSpPr>
        <p:spPr>
          <a:xfrm>
            <a:off x="784872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27"/>
          <p:cNvSpPr/>
          <p:nvPr/>
        </p:nvSpPr>
        <p:spPr>
          <a:xfrm>
            <a:off x="7467480" y="4648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Line 28"/>
          <p:cNvSpPr/>
          <p:nvPr/>
        </p:nvSpPr>
        <p:spPr>
          <a:xfrm>
            <a:off x="411480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Line 29"/>
          <p:cNvSpPr/>
          <p:nvPr/>
        </p:nvSpPr>
        <p:spPr>
          <a:xfrm>
            <a:off x="5867280" y="34290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30"/>
          <p:cNvSpPr/>
          <p:nvPr/>
        </p:nvSpPr>
        <p:spPr>
          <a:xfrm flipH="1">
            <a:off x="4191120" y="3200400"/>
            <a:ext cx="358128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31"/>
          <p:cNvSpPr/>
          <p:nvPr/>
        </p:nvSpPr>
        <p:spPr>
          <a:xfrm>
            <a:off x="4191120" y="3352680"/>
            <a:ext cx="144756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32"/>
          <p:cNvSpPr/>
          <p:nvPr/>
        </p:nvSpPr>
        <p:spPr>
          <a:xfrm>
            <a:off x="556272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33"/>
          <p:cNvSpPr/>
          <p:nvPr/>
        </p:nvSpPr>
        <p:spPr>
          <a:xfrm>
            <a:off x="388620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34"/>
          <p:cNvSpPr/>
          <p:nvPr/>
        </p:nvSpPr>
        <p:spPr>
          <a:xfrm>
            <a:off x="45720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35"/>
          <p:cNvSpPr/>
          <p:nvPr/>
        </p:nvSpPr>
        <p:spPr>
          <a:xfrm>
            <a:off x="2133720" y="548640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36"/>
          <p:cNvSpPr/>
          <p:nvPr/>
        </p:nvSpPr>
        <p:spPr>
          <a:xfrm>
            <a:off x="2057400" y="55627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Red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GB" sz="2800" spc="-1" strike="noStrike">
                <a:solidFill>
                  <a:srgbClr val="ff0033"/>
                </a:solidFill>
                <a:latin typeface="Times New Roman"/>
              </a:rPr>
              <a:t>red              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37"/>
          <p:cNvSpPr/>
          <p:nvPr/>
        </p:nvSpPr>
        <p:spPr>
          <a:xfrm>
            <a:off x="2895480" y="6095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3 red    :   1 yel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2T17:00:18Z</dcterms:created>
  <dc:creator>Rik G</dc:creator>
  <dc:description/>
  <dc:language>en-US</dc:language>
  <cp:lastModifiedBy>RomaK</cp:lastModifiedBy>
  <dcterms:modified xsi:type="dcterms:W3CDTF">2015-09-04T11:32:07Z</dcterms:modified>
  <cp:revision>25</cp:revision>
  <dc:subject/>
  <dc:title>Genetic Crosses</dc:title>
</cp:coreProperties>
</file>