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D87A-04D2-4891-9947-5F87297502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1: The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: I can describe the structure of DNA, I can explain the difference between an allele, a gene and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1: The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: I can describe the structure of DNA, I can explain the difference between an allele, a gene and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are sections of DNA that contain coded information that determines the nature and development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are sections of DNA that contain coded information that determines the nature and development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fferent form of a particular gene, positioned in the same relative position (locus) on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locus – position on the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(diff versions of the ge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fferent form of a particular gene, positioned in the same relative position (locus) on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locus – position on the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(diff versions of the ge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romosomes which contain the same genes but may contain different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romosomes which contain the same genes but may contain different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diester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diester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gar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nucleot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gar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nucleot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different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different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52AD-A3AF-4A2C-897B-6E5D0966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BB5-647B-4BD6-9FFF-4C8A3FC2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8CB-4A6A-44E9-8B82-C21EE0C7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288-108D-4BEA-A3E9-1CD0528B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06E-69EF-47A1-BB77-E9ACDE67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3AF-AC44-48B5-8ED6-9DCDE75E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03B-CEE2-4283-955E-C7AC9BC5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083D-B946-4127-967C-3803941A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8D96-8F82-44D8-9EED-63D5D55F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046-23E8-44C1-928F-D54FB7EA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D210-CBF5-4625-B2FC-E8E9C46C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C54-88DA-4A88-ABE1-0878A6BA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6DCC-30AC-41FD-8D5E-BA7DCEB167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559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Lesson 1: The structure of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Objectiv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: I can describe the structure of DNA, I can explain the difference between an allele, a gene and homologous chromoso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ouble hel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4" descr="DNA, BBC"/>
          <p:cNvPicPr/>
          <p:nvPr/>
        </p:nvPicPr>
        <p:blipFill>
          <a:blip r:embed="rId1"/>
          <a:stretch/>
        </p:blipFill>
        <p:spPr>
          <a:xfrm>
            <a:off x="4140360" y="1700280"/>
            <a:ext cx="4452840" cy="4343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dna"/>
          <p:cNvPicPr/>
          <p:nvPr/>
        </p:nvPicPr>
        <p:blipFill>
          <a:blip r:embed="rId2"/>
          <a:stretch/>
        </p:blipFill>
        <p:spPr>
          <a:xfrm>
            <a:off x="0" y="1268280"/>
            <a:ext cx="4465800" cy="45849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4914720" y="136044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7238880" y="595008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935240" y="580536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7095960" y="141300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s are sections of DNA that contain coded information that determines the nature and development of organis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le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different form of a particular gene, positioned in the same relative position (locus) on homologous chromoso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Oval 4"/>
          <p:cNvSpPr/>
          <p:nvPr/>
        </p:nvSpPr>
        <p:spPr>
          <a:xfrm>
            <a:off x="2771640" y="3716280"/>
            <a:ext cx="287640" cy="295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3132000" y="3716280"/>
            <a:ext cx="287640" cy="295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643400" y="314172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mologous chromos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7"/>
          <p:cNvSpPr/>
          <p:nvPr/>
        </p:nvSpPr>
        <p:spPr>
          <a:xfrm>
            <a:off x="2771640" y="5805360"/>
            <a:ext cx="265320" cy="266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4572000" y="5877000"/>
            <a:ext cx="264960" cy="266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9"/>
          <p:cNvSpPr/>
          <p:nvPr/>
        </p:nvSpPr>
        <p:spPr>
          <a:xfrm>
            <a:off x="4932360" y="5877000"/>
            <a:ext cx="264960" cy="266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3132000" y="5805360"/>
            <a:ext cx="265320" cy="266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5292720" y="5877000"/>
            <a:ext cx="264960" cy="26676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5651640" y="5877000"/>
            <a:ext cx="264960" cy="266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79280" y="5013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ene locus – position on the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1619280" y="5734080"/>
            <a:ext cx="108108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4706640" y="530064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eles (diff versions of the ge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mologous chromoso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" descr="homologous_chromosomes"/>
          <p:cNvPicPr/>
          <p:nvPr/>
        </p:nvPicPr>
        <p:blipFill>
          <a:blip r:embed="rId1"/>
          <a:stretch/>
        </p:blipFill>
        <p:spPr>
          <a:xfrm>
            <a:off x="2771640" y="2492280"/>
            <a:ext cx="5543640" cy="4157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chromosomes which contain the same genes but may contain different alle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nucleot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Oval 4"/>
          <p:cNvSpPr/>
          <p:nvPr/>
        </p:nvSpPr>
        <p:spPr>
          <a:xfrm>
            <a:off x="1803240" y="1268280"/>
            <a:ext cx="1384560" cy="139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2349360" y="3790800"/>
            <a:ext cx="1454400" cy="1392480"/>
          </a:xfrm>
          <a:prstGeom prst="pentagon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5506920" y="3898800"/>
            <a:ext cx="2286000" cy="84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3765600" y="4340160"/>
            <a:ext cx="17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2349360" y="2692080"/>
            <a:ext cx="108000" cy="16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250080" y="17254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2490120" y="532620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5449320" y="482292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osphodiester bo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5" descr="sf3x14a"/>
          <p:cNvPicPr/>
          <p:nvPr/>
        </p:nvPicPr>
        <p:blipFill>
          <a:blip r:embed="rId1"/>
          <a:stretch/>
        </p:blipFill>
        <p:spPr>
          <a:xfrm>
            <a:off x="539640" y="1467000"/>
            <a:ext cx="8209080" cy="48574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3"/>
          <p:cNvGrpSpPr/>
          <p:nvPr/>
        </p:nvGrpSpPr>
        <p:grpSpPr>
          <a:xfrm>
            <a:off x="2700360" y="333360"/>
            <a:ext cx="1852560" cy="1393920"/>
            <a:chOff x="2700360" y="333360"/>
            <a:chExt cx="1852560" cy="1393920"/>
          </a:xfrm>
        </p:grpSpPr>
        <p:sp>
          <p:nvSpPr>
            <p:cNvPr id="88" name="Oval 8"/>
            <p:cNvSpPr/>
            <p:nvPr/>
          </p:nvSpPr>
          <p:spPr>
            <a:xfrm>
              <a:off x="2700360" y="33336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9"/>
            <p:cNvSpPr/>
            <p:nvPr/>
          </p:nvSpPr>
          <p:spPr>
            <a:xfrm>
              <a:off x="2869200" y="123156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3845880" y="127008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1"/>
            <p:cNvSpPr/>
            <p:nvPr/>
          </p:nvSpPr>
          <p:spPr>
            <a:xfrm>
              <a:off x="3307320" y="142704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 flipV="1">
              <a:off x="2869200" y="83988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4"/>
          <p:cNvGrpSpPr/>
          <p:nvPr/>
        </p:nvGrpSpPr>
        <p:grpSpPr>
          <a:xfrm>
            <a:off x="2627280" y="1916280"/>
            <a:ext cx="1852560" cy="1393560"/>
            <a:chOff x="2627280" y="1916280"/>
            <a:chExt cx="1852560" cy="1393560"/>
          </a:xfrm>
        </p:grpSpPr>
        <p:sp>
          <p:nvSpPr>
            <p:cNvPr id="94" name="Oval 15"/>
            <p:cNvSpPr/>
            <p:nvPr/>
          </p:nvSpPr>
          <p:spPr>
            <a:xfrm>
              <a:off x="2627280" y="191628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6"/>
            <p:cNvSpPr/>
            <p:nvPr/>
          </p:nvSpPr>
          <p:spPr>
            <a:xfrm>
              <a:off x="2796120" y="281412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7"/>
            <p:cNvSpPr/>
            <p:nvPr/>
          </p:nvSpPr>
          <p:spPr>
            <a:xfrm>
              <a:off x="3772800" y="285264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>
              <a:off x="3234240" y="300960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 flipV="1">
              <a:off x="2796120" y="242280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0"/>
          <p:cNvGrpSpPr/>
          <p:nvPr/>
        </p:nvGrpSpPr>
        <p:grpSpPr>
          <a:xfrm>
            <a:off x="2627280" y="3500280"/>
            <a:ext cx="1852560" cy="1393920"/>
            <a:chOff x="2627280" y="3500280"/>
            <a:chExt cx="1852560" cy="1393920"/>
          </a:xfrm>
        </p:grpSpPr>
        <p:sp>
          <p:nvSpPr>
            <p:cNvPr id="100" name="Oval 21"/>
            <p:cNvSpPr/>
            <p:nvPr/>
          </p:nvSpPr>
          <p:spPr>
            <a:xfrm>
              <a:off x="2627280" y="350028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2"/>
            <p:cNvSpPr/>
            <p:nvPr/>
          </p:nvSpPr>
          <p:spPr>
            <a:xfrm>
              <a:off x="2796120" y="439848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3772800" y="443700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>
              <a:off x="3234240" y="459396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 flipV="1">
              <a:off x="2796120" y="400680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6"/>
          <p:cNvGrpSpPr/>
          <p:nvPr/>
        </p:nvGrpSpPr>
        <p:grpSpPr>
          <a:xfrm>
            <a:off x="2627280" y="5084640"/>
            <a:ext cx="1852560" cy="1393920"/>
            <a:chOff x="2627280" y="5084640"/>
            <a:chExt cx="1852560" cy="1393920"/>
          </a:xfrm>
        </p:grpSpPr>
        <p:sp>
          <p:nvSpPr>
            <p:cNvPr id="106" name="Oval 27"/>
            <p:cNvSpPr/>
            <p:nvPr/>
          </p:nvSpPr>
          <p:spPr>
            <a:xfrm>
              <a:off x="2627280" y="508464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8"/>
            <p:cNvSpPr/>
            <p:nvPr/>
          </p:nvSpPr>
          <p:spPr>
            <a:xfrm>
              <a:off x="2796120" y="598284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9"/>
            <p:cNvSpPr/>
            <p:nvPr/>
          </p:nvSpPr>
          <p:spPr>
            <a:xfrm>
              <a:off x="3772800" y="602136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>
              <a:off x="3234240" y="617832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1"/>
            <p:cNvSpPr/>
            <p:nvPr/>
          </p:nvSpPr>
          <p:spPr>
            <a:xfrm flipV="1">
              <a:off x="2796120" y="559116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32"/>
          <p:cNvSpPr/>
          <p:nvPr/>
        </p:nvSpPr>
        <p:spPr>
          <a:xfrm flipV="1">
            <a:off x="2843280" y="1700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3"/>
          <p:cNvSpPr/>
          <p:nvPr/>
        </p:nvSpPr>
        <p:spPr>
          <a:xfrm flipV="1">
            <a:off x="2843280" y="328428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4"/>
          <p:cNvSpPr/>
          <p:nvPr/>
        </p:nvSpPr>
        <p:spPr>
          <a:xfrm flipV="1">
            <a:off x="2771640" y="486864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2556000" y="2637000"/>
            <a:ext cx="863640" cy="396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6"/>
          <p:cNvSpPr/>
          <p:nvPr/>
        </p:nvSpPr>
        <p:spPr>
          <a:xfrm flipH="1">
            <a:off x="1619280" y="450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-26640" y="4076640"/>
            <a:ext cx="20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gar phosph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2340000" y="260280"/>
            <a:ext cx="2448000" cy="1584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9"/>
          <p:cNvSpPr/>
          <p:nvPr/>
        </p:nvSpPr>
        <p:spPr>
          <a:xfrm flipH="1">
            <a:off x="1332000" y="1052640"/>
            <a:ext cx="1008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0"/>
          <p:cNvSpPr/>
          <p:nvPr/>
        </p:nvSpPr>
        <p:spPr>
          <a:xfrm>
            <a:off x="-720" y="8366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1"/>
          <p:cNvSpPr/>
          <p:nvPr/>
        </p:nvSpPr>
        <p:spPr>
          <a:xfrm>
            <a:off x="4932360" y="333360"/>
            <a:ext cx="944640" cy="6120000"/>
          </a:xfrm>
          <a:custGeom>
            <a:avLst/>
            <a:gdLst>
              <a:gd name="textAreaLeft" fmla="*/ 0 w 944640"/>
              <a:gd name="textAreaRight" fmla="*/ 340920 w 944640"/>
              <a:gd name="textAreaTop" fmla="*/ 159480 h 6120000"/>
              <a:gd name="textAreaBottom" fmla="*/ 5960520 h 612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2"/>
          <p:cNvSpPr/>
          <p:nvPr/>
        </p:nvSpPr>
        <p:spPr>
          <a:xfrm>
            <a:off x="5889600" y="2997360"/>
            <a:ext cx="310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ynucleot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 different b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" name="Group 38"/>
          <p:cNvGrpSpPr/>
          <p:nvPr/>
        </p:nvGrpSpPr>
        <p:grpSpPr>
          <a:xfrm>
            <a:off x="611280" y="1197000"/>
            <a:ext cx="2231640" cy="2231640"/>
            <a:chOff x="611280" y="1197000"/>
            <a:chExt cx="2231640" cy="2231640"/>
          </a:xfrm>
        </p:grpSpPr>
        <p:sp>
          <p:nvSpPr>
            <p:cNvPr id="125" name="AutoShape 6"/>
            <p:cNvSpPr/>
            <p:nvPr/>
          </p:nvSpPr>
          <p:spPr>
            <a:xfrm>
              <a:off x="847800" y="2635560"/>
              <a:ext cx="635400" cy="7930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2225880" y="2696760"/>
              <a:ext cx="617040" cy="4798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>
              <a:off x="1423080" y="2925360"/>
              <a:ext cx="75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 flipV="1">
              <a:off x="847800" y="2007360"/>
              <a:ext cx="47160" cy="9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0"/>
            <p:cNvSpPr/>
            <p:nvPr/>
          </p:nvSpPr>
          <p:spPr>
            <a:xfrm>
              <a:off x="611280" y="1197000"/>
              <a:ext cx="603720" cy="79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5"/>
          <p:cNvGrpSpPr/>
          <p:nvPr/>
        </p:nvGrpSpPr>
        <p:grpSpPr>
          <a:xfrm>
            <a:off x="5435640" y="1306440"/>
            <a:ext cx="2506320" cy="1834920"/>
            <a:chOff x="5435640" y="1306440"/>
            <a:chExt cx="2506320" cy="1834920"/>
          </a:xfrm>
        </p:grpSpPr>
        <p:sp>
          <p:nvSpPr>
            <p:cNvPr id="131" name="Oval 20"/>
            <p:cNvSpPr/>
            <p:nvPr/>
          </p:nvSpPr>
          <p:spPr>
            <a:xfrm>
              <a:off x="5435640" y="1306440"/>
              <a:ext cx="593280" cy="651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1"/>
            <p:cNvSpPr/>
            <p:nvPr/>
          </p:nvSpPr>
          <p:spPr>
            <a:xfrm>
              <a:off x="5668200" y="2489400"/>
              <a:ext cx="624600" cy="65196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6963840" y="2583720"/>
              <a:ext cx="978120" cy="3945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6233400" y="2727720"/>
              <a:ext cx="747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V="1">
              <a:off x="5668200" y="1973160"/>
              <a:ext cx="4608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755640" y="4043520"/>
            <a:ext cx="2476080" cy="2049120"/>
            <a:chOff x="755640" y="4043520"/>
            <a:chExt cx="2476080" cy="2049120"/>
          </a:xfrm>
        </p:grpSpPr>
        <p:sp>
          <p:nvSpPr>
            <p:cNvPr id="137" name="Oval 25"/>
            <p:cNvSpPr/>
            <p:nvPr/>
          </p:nvSpPr>
          <p:spPr>
            <a:xfrm>
              <a:off x="755640" y="4043520"/>
              <a:ext cx="573120" cy="727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6"/>
            <p:cNvSpPr/>
            <p:nvPr/>
          </p:nvSpPr>
          <p:spPr>
            <a:xfrm>
              <a:off x="980280" y="5364360"/>
              <a:ext cx="602640" cy="728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7"/>
            <p:cNvSpPr/>
            <p:nvPr/>
          </p:nvSpPr>
          <p:spPr>
            <a:xfrm>
              <a:off x="2287800" y="5420160"/>
              <a:ext cx="9439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1526040" y="5630400"/>
              <a:ext cx="7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 flipV="1">
              <a:off x="980280" y="4787280"/>
              <a:ext cx="4464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6"/>
          <p:cNvGrpSpPr/>
          <p:nvPr/>
        </p:nvGrpSpPr>
        <p:grpSpPr>
          <a:xfrm>
            <a:off x="5435640" y="3860640"/>
            <a:ext cx="2376000" cy="2086920"/>
            <a:chOff x="5435640" y="3860640"/>
            <a:chExt cx="2376000" cy="2086920"/>
          </a:xfrm>
        </p:grpSpPr>
        <p:sp>
          <p:nvSpPr>
            <p:cNvPr id="143" name="Oval 30"/>
            <p:cNvSpPr/>
            <p:nvPr/>
          </p:nvSpPr>
          <p:spPr>
            <a:xfrm>
              <a:off x="5435640" y="3860640"/>
              <a:ext cx="673200" cy="74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>
              <a:off x="5699520" y="5205960"/>
              <a:ext cx="708120" cy="74160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2"/>
            <p:cNvSpPr/>
            <p:nvPr/>
          </p:nvSpPr>
          <p:spPr>
            <a:xfrm>
              <a:off x="7235640" y="5260680"/>
              <a:ext cx="576000" cy="451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3"/>
            <p:cNvSpPr/>
            <p:nvPr/>
          </p:nvSpPr>
          <p:spPr>
            <a:xfrm>
              <a:off x="6340680" y="5477400"/>
              <a:ext cx="84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4"/>
            <p:cNvSpPr/>
            <p:nvPr/>
          </p:nvSpPr>
          <p:spPr>
            <a:xfrm flipV="1">
              <a:off x="5699520" y="4619160"/>
              <a:ext cx="52560" cy="87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4" descr="ladder"/>
          <p:cNvPicPr/>
          <p:nvPr/>
        </p:nvPicPr>
        <p:blipFill>
          <a:blip r:embed="rId1"/>
          <a:stretch/>
        </p:blipFill>
        <p:spPr>
          <a:xfrm>
            <a:off x="468360" y="549360"/>
            <a:ext cx="1655640" cy="3314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DNA, BBC"/>
          <p:cNvPicPr/>
          <p:nvPr/>
        </p:nvPicPr>
        <p:blipFill>
          <a:blip r:embed="rId2"/>
          <a:stretch/>
        </p:blipFill>
        <p:spPr>
          <a:xfrm>
            <a:off x="2050920" y="549360"/>
            <a:ext cx="5454720" cy="57020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12:18:10Z</dcterms:created>
  <dc:creator>Matis</dc:creator>
  <dc:description/>
  <dc:language>en-US</dc:language>
  <cp:lastModifiedBy>LEGION2</cp:lastModifiedBy>
  <dcterms:modified xsi:type="dcterms:W3CDTF">2016-01-12T10:43:08Z</dcterms:modified>
  <cp:revision>9</cp:revision>
  <dc:subject/>
  <dc:title>Genetic code</dc:title>
</cp:coreProperties>
</file>